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9.jpeg" ContentType="image/jpeg"/>
  <Override PartName="/ppt/media/image4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6.wmf" ContentType="image/x-wmf"/>
  <Override PartName="/ppt/media/image13.png" ContentType="image/png"/>
  <Override PartName="/ppt/media/image37.jpeg" ContentType="image/jpeg"/>
  <Override PartName="/ppt/media/image31.jpeg" ContentType="image/jpeg"/>
  <Override PartName="/ppt/media/image34.jpeg" ContentType="image/jpeg"/>
  <Override PartName="/ppt/media/image35.wmf" ContentType="image/x-wmf"/>
  <Override PartName="/ppt/media/image15.png" ContentType="image/png"/>
  <Override PartName="/ppt/media/image30.jpeg" ContentType="image/jpeg"/>
  <Override PartName="/ppt/media/image7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5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B89-A6EB-427B-8D54-FF1A81F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03B-A567-4D91-BD7B-E77CE27A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65E-7351-441E-B51E-D96995BB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AB8-74BE-4B32-A619-B21125D9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A5D-42FF-43AB-B4D7-5B047EA2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3D3D-4077-4DD2-884C-00BF775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2514-F658-472A-928C-1F6FF57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815-FC81-431B-9519-13261345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D3E9-5F4F-4794-AD10-FE186606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F3A-4E45-47F8-AC32-5993F19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465B-6F86-4875-802F-17E93F6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462-B2E6-42EF-9AE2-DA0A735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F20-78AA-45BB-95A8-2A3201DF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929-5EE2-4245-9339-2CFEFD7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7DE-6948-4865-9C76-10B05A99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BB03-89CD-4228-9BD0-11B588A3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94A1-0196-4074-BB4D-182C2B1C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7B73-D499-484B-8B65-EDB92212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78EA-C4C0-47AE-9E48-3BDFD21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5A29-276B-4BD4-963C-CDB2F14B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F563-28FE-4BAA-B27D-158267FF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2E5C-169F-4CAF-8B71-768139F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41C-15AB-4C29-9C05-4EB4D3B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79B88-6A8F-428C-BA07-BBDF543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570F-4E58-4E06-82AC-D1EACF7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6A61-331E-4419-B0CD-0499E8F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3C83-F8C5-4F8A-AE80-8F42D7B2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7771-B95F-4645-A877-5006F6D8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C46D-B5DB-4600-BA95-54670735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2CDA-09F6-4D35-BCC2-AF5B6C70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6828-D189-4C6E-A6EA-19044F00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429F-62C3-4190-97CC-C16EFAE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4ABD-DC19-4733-92BA-C85C8C8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AFB-4C54-40C4-908F-388CF41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7F40-3A62-44E5-B325-B238BF09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8B7E-9A39-48A0-8642-D206623C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62C9-750F-49D4-86C7-BCFF0E4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C6BD-223D-4020-A1B6-51E093A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E5B3-3ADB-41FC-A4C3-057A4E0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2D67-9B3A-4557-8257-58822E3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3BA4-BB0A-4569-969E-C013A100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01196-1406-454A-A8F3-B9BA80F2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0040-B3DE-41F2-8C61-F49C9E2F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DACFF-134D-4262-8668-40B49510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F0C-77E1-4320-8E5A-83A9EE71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A322-2AB9-4F9C-9701-D6854EC8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CBEF-3D59-465E-98C1-8209FCE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C844-8792-4F45-8D88-2DC042E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C4851-B2F1-4F23-90B3-A73F698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AC49-992B-44B5-90E7-D3F6524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20BC-D272-4ABD-A2E4-1405733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EDE97-C372-4EE5-8E78-5662609D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C502-10A7-4EE8-A9CA-2B02226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4DD5-00B8-4485-BCBD-F057BD67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8B653-D09C-4DC4-A7BE-CCE3EAD0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287-1718-4333-8944-59160BC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B217-FB35-438E-9329-3E1B1A60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BFEA6-D511-492A-B846-1D837622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0A14-C763-437B-98AF-041321D8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30BD9-F080-4A8F-A1D1-8F79F65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32F1-7691-43B6-8E07-43A3707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91BE3-5596-46E4-AF32-588B768F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0D26-4E18-4D89-A3EA-A6BCA5F2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9AF8-5F95-44ED-AF73-1773777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82B9-23ED-4BA5-A323-D9772D4F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99B05-703D-4AFC-88E0-4FD3DA0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0AC-05F6-4D06-9467-8EB2ABC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C02B-E807-40A3-8816-2694E8F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DCAB-9B6F-4AFB-8493-5A73A25B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2516-B2FD-4E62-9D9D-29DE7447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F4E-DD09-4D35-8B15-A76396E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110-2A67-410C-BBF7-0842A64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zabadkézi sokszög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erékszögű háromszög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Derékszögű háromszög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Egyenes összekötő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F8A-9233-4BD2-9C9D-BC0CDAB48681}" type="slidenum"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erékszögű háromszög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soportba foglalás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Szabadkézi sokszög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zabadkézi sokszög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Szabadkézi sokszög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Szabadkézi sokszög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Egyenes összekötő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2BF7-AE7F-440E-B1D8-243D5DFA1839}" type="slidenum">
              <a:rPr b="0" lang="hu-H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zabadkézi sokszög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zabadkézi sokszög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Derékszögű háromszög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Derékszögű háromszög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Egyenes összekötő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Sávnyíl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ávnyíl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73A5-B7C0-4B0B-8357-A0A120843380}" type="slidenum"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CDD-2FB7-4807-9399-F1B5F9599E17}" type="slidenum"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6D3-F664-4C9C-92BF-C83085F505C3}" type="slidenum"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zabadkézi sokszög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zabadkézi sokszög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Derékszögű háromszög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Derékszögű háromszög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Egyenes összekötő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Sávnyíl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ávnyíl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95B4-4542-4ED0-9DBB-786E740C3C46}" type="slidenum"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213840" y="5429160"/>
            <a:ext cx="25290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64646"/>
                </a:solidFill>
                <a:latin typeface="Lucida Sans Unicode"/>
              </a:rPr>
              <a:t>Tyukász Gáb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64646"/>
                </a:solidFill>
                <a:latin typeface="Lucida Sans Unicode"/>
              </a:rPr>
              <a:t>Csernó Baláz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64646"/>
                </a:solidFill>
                <a:latin typeface="Lucida Sans Unicode"/>
              </a:rPr>
              <a:t>Győr 200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Cím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464646"/>
                </a:solidFill>
                <a:latin typeface="Lucida Sans Unicode"/>
              </a:rPr>
              <a:t>UW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ím 2"/>
          <p:cNvSpPr/>
          <p:nvPr/>
        </p:nvSpPr>
        <p:spPr>
          <a:xfrm>
            <a:off x="53964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64646"/>
                </a:solidFill>
                <a:latin typeface="Lucida Sans Unicode"/>
              </a:rPr>
              <a:t>Ultra Wide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ím 2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4646"/>
                </a:solidFill>
                <a:latin typeface="Lucida Sans Unicode"/>
              </a:rPr>
              <a:t>IEEE 802.15.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ReceiverBP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971640" y="1052640"/>
            <a:ext cx="6338880" cy="139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5"/>
          <p:cNvGraphicFramePr/>
          <p:nvPr/>
        </p:nvGraphicFramePr>
        <p:xfrm>
          <a:off x="755640" y="2565360"/>
          <a:ext cx="7732800" cy="39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565360"/>
                    <a:ext cx="7732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7"/>
          <p:cNvSpPr/>
          <p:nvPr/>
        </p:nvSpPr>
        <p:spPr>
          <a:xfrm>
            <a:off x="5508720" y="5229360"/>
            <a:ext cx="1439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7236000" y="1341360"/>
            <a:ext cx="143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74312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395280" y="404640"/>
            <a:ext cx="8229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100" spc="-1" strike="noStrike">
                <a:solidFill>
                  <a:srgbClr val="464646"/>
                </a:solidFill>
                <a:latin typeface="Lucida Sans Unicode"/>
              </a:rPr>
              <a:t>UWB átvit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418680" y="1866960"/>
            <a:ext cx="7920360" cy="4017240"/>
            <a:chOff x="418680" y="1866960"/>
            <a:chExt cx="7920360" cy="4017240"/>
          </a:xfrm>
        </p:grpSpPr>
        <p:pic>
          <p:nvPicPr>
            <p:cNvPr id="316" name="Picture 5" descr=""/>
            <p:cNvPicPr/>
            <p:nvPr/>
          </p:nvPicPr>
          <p:blipFill>
            <a:blip r:embed="rId2"/>
            <a:stretch/>
          </p:blipFill>
          <p:spPr>
            <a:xfrm>
              <a:off x="4091040" y="1866960"/>
              <a:ext cx="240012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6" descr=""/>
            <p:cNvPicPr/>
            <p:nvPr/>
          </p:nvPicPr>
          <p:blipFill>
            <a:blip r:embed="rId3"/>
            <a:stretch/>
          </p:blipFill>
          <p:spPr>
            <a:xfrm>
              <a:off x="6491160" y="3657600"/>
              <a:ext cx="184788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AutoShape 7"/>
            <p:cNvSpPr/>
            <p:nvPr/>
          </p:nvSpPr>
          <p:spPr>
            <a:xfrm>
              <a:off x="3417840" y="2376360"/>
              <a:ext cx="533520" cy="609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 flipV="1">
              <a:off x="6566040" y="2370960"/>
              <a:ext cx="852480" cy="114300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76212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9"/>
            <p:cNvSpPr/>
            <p:nvPr/>
          </p:nvSpPr>
          <p:spPr>
            <a:xfrm>
              <a:off x="6993000" y="4695840"/>
              <a:ext cx="761760" cy="0"/>
            </a:xfrm>
            <a:prstGeom prst="line">
              <a:avLst/>
            </a:prstGeom>
            <a:ln w="28440">
              <a:solidFill>
                <a:srgbClr val="da1f2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7013520" y="4734000"/>
              <a:ext cx="68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da1f28"/>
                  </a:solidFill>
                  <a:latin typeface="Times New Roman"/>
                </a:rPr>
                <a:t>4 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3455280" y="3840120"/>
              <a:ext cx="273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6600cc"/>
                  </a:solidFill>
                  <a:latin typeface="Arial"/>
                </a:rPr>
                <a:t>2-compon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6600cc"/>
                  </a:solidFill>
                  <a:latin typeface="Arial"/>
                </a:rPr>
                <a:t>UWB IR Gen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4625640" y="2832120"/>
              <a:ext cx="236520" cy="10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3"/>
            <p:cNvGrpSpPr/>
            <p:nvPr/>
          </p:nvGrpSpPr>
          <p:grpSpPr>
            <a:xfrm>
              <a:off x="1662120" y="1924200"/>
              <a:ext cx="1562040" cy="1590480"/>
              <a:chOff x="1662120" y="1924200"/>
              <a:chExt cx="1562040" cy="1590480"/>
            </a:xfrm>
          </p:grpSpPr>
          <p:pic>
            <p:nvPicPr>
              <p:cNvPr id="325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2120" y="1924200"/>
                <a:ext cx="1562040" cy="15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15"/>
              <p:cNvSpPr/>
              <p:nvPr/>
            </p:nvSpPr>
            <p:spPr>
              <a:xfrm>
                <a:off x="2041560" y="3041640"/>
                <a:ext cx="68400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da1f28"/>
                    </a:solidFill>
                    <a:latin typeface="Times New Roman"/>
                  </a:rPr>
                  <a:t>4 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16"/>
              <p:cNvSpPr/>
              <p:nvPr/>
            </p:nvSpPr>
            <p:spPr>
              <a:xfrm>
                <a:off x="2249640" y="2982960"/>
                <a:ext cx="422280" cy="0"/>
              </a:xfrm>
              <a:prstGeom prst="line">
                <a:avLst/>
              </a:prstGeom>
              <a:ln w="28440">
                <a:solidFill>
                  <a:srgbClr val="da1f28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AutoShape 17"/>
            <p:cNvSpPr/>
            <p:nvPr/>
          </p:nvSpPr>
          <p:spPr>
            <a:xfrm rot="16200000">
              <a:off x="2269800" y="3605040"/>
              <a:ext cx="533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2184840" y="55468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PG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19"/>
            <p:cNvGrpSpPr/>
            <p:nvPr/>
          </p:nvGrpSpPr>
          <p:grpSpPr>
            <a:xfrm>
              <a:off x="418680" y="4697280"/>
              <a:ext cx="1470600" cy="459720"/>
              <a:chOff x="418680" y="4697280"/>
              <a:chExt cx="1470600" cy="459720"/>
            </a:xfrm>
          </p:grpSpPr>
          <p:sp>
            <p:nvSpPr>
              <p:cNvPr id="331" name="Text Box 20"/>
              <p:cNvSpPr/>
              <p:nvPr/>
            </p:nvSpPr>
            <p:spPr>
              <a:xfrm>
                <a:off x="418680" y="4697280"/>
                <a:ext cx="99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1"/>
              <p:cNvSpPr/>
              <p:nvPr/>
            </p:nvSpPr>
            <p:spPr>
              <a:xfrm>
                <a:off x="1401840" y="4876920"/>
                <a:ext cx="487440" cy="0"/>
              </a:xfrm>
              <a:prstGeom prst="line">
                <a:avLst/>
              </a:prstGeom>
              <a:ln w="76320">
                <a:solidFill>
                  <a:srgbClr val="2da2b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22" descr=""/>
            <p:cNvPicPr/>
            <p:nvPr/>
          </p:nvPicPr>
          <p:blipFill>
            <a:blip r:embed="rId5"/>
            <a:stretch/>
          </p:blipFill>
          <p:spPr>
            <a:xfrm>
              <a:off x="1889280" y="4286160"/>
              <a:ext cx="1542960" cy="118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585720" y="652320"/>
            <a:ext cx="8120160" cy="858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arte"/>
          <p:cNvPicPr/>
          <p:nvPr/>
        </p:nvPicPr>
        <p:blipFill>
          <a:blip r:embed="rId2"/>
          <a:stretch/>
        </p:blipFill>
        <p:spPr>
          <a:xfrm>
            <a:off x="5637240" y="4276800"/>
            <a:ext cx="1600200" cy="1127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module"/>
          <p:cNvPicPr/>
          <p:nvPr/>
        </p:nvPicPr>
        <p:blipFill>
          <a:blip r:embed="rId3"/>
          <a:stretch/>
        </p:blipFill>
        <p:spPr>
          <a:xfrm>
            <a:off x="1674720" y="1990800"/>
            <a:ext cx="2979720" cy="2392200"/>
          </a:xfrm>
          <a:prstGeom prst="rect">
            <a:avLst/>
          </a:prstGeom>
          <a:ln w="0">
            <a:noFill/>
          </a:ln>
        </p:spPr>
      </p:pic>
      <p:sp>
        <p:nvSpPr>
          <p:cNvPr id="337" name="Line 6"/>
          <p:cNvSpPr/>
          <p:nvPr/>
        </p:nvSpPr>
        <p:spPr>
          <a:xfrm>
            <a:off x="1227240" y="2521080"/>
            <a:ext cx="457200" cy="0"/>
          </a:xfrm>
          <a:prstGeom prst="line">
            <a:avLst/>
          </a:prstGeom>
          <a:ln w="76320">
            <a:solidFill>
              <a:srgbClr val="2da2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3884760" y="2219400"/>
            <a:ext cx="380880" cy="45720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 flipV="1">
            <a:off x="4330800" y="2258640"/>
            <a:ext cx="838080" cy="228600"/>
          </a:xfrm>
          <a:prstGeom prst="line">
            <a:avLst/>
          </a:prstGeom>
          <a:ln w="381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5033880" y="190512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cc"/>
                </a:solidFill>
                <a:latin typeface="Arial"/>
              </a:rPr>
              <a:t>Square-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cc"/>
                </a:solidFill>
                <a:latin typeface="Arial"/>
              </a:rPr>
              <a:t>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"/>
          <p:cNvGraphicFramePr/>
          <p:nvPr/>
        </p:nvGraphicFramePr>
        <p:xfrm>
          <a:off x="4664160" y="4390920"/>
          <a:ext cx="482400" cy="7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64160" y="4390920"/>
                    <a:ext cx="48240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Line 11"/>
          <p:cNvSpPr/>
          <p:nvPr/>
        </p:nvSpPr>
        <p:spPr>
          <a:xfrm>
            <a:off x="4265640" y="4383000"/>
            <a:ext cx="365040" cy="412920"/>
          </a:xfrm>
          <a:prstGeom prst="line">
            <a:avLst/>
          </a:prstGeom>
          <a:ln w="76320">
            <a:solidFill>
              <a:srgbClr val="2da2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6033240" y="5468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7747920" y="45831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7232760" y="4780080"/>
            <a:ext cx="487080" cy="0"/>
          </a:xfrm>
          <a:prstGeom prst="line">
            <a:avLst/>
          </a:prstGeom>
          <a:ln w="76320">
            <a:solidFill>
              <a:srgbClr val="2da2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5129280" y="4795920"/>
            <a:ext cx="487440" cy="0"/>
          </a:xfrm>
          <a:prstGeom prst="line">
            <a:avLst/>
          </a:prstGeom>
          <a:ln w="76320">
            <a:solidFill>
              <a:srgbClr val="2da2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Depicted OOK Reverse"/>
          <p:cNvPicPr/>
          <p:nvPr/>
        </p:nvPicPr>
        <p:blipFill>
          <a:blip r:embed="rId2"/>
          <a:stretch/>
        </p:blipFill>
        <p:spPr>
          <a:xfrm>
            <a:off x="324000" y="2133720"/>
            <a:ext cx="8610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Depicted PPM Reverse"/>
          <p:cNvPicPr/>
          <p:nvPr/>
        </p:nvPicPr>
        <p:blipFill>
          <a:blip r:embed="rId2"/>
          <a:stretch/>
        </p:blipFill>
        <p:spPr>
          <a:xfrm>
            <a:off x="324000" y="2060640"/>
            <a:ext cx="86104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8"/>
          <p:cNvSpPr/>
          <p:nvPr/>
        </p:nvSpPr>
        <p:spPr>
          <a:xfrm>
            <a:off x="826920" y="1268280"/>
            <a:ext cx="6553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UWB a jelátviteli technikájának köszönhetően kis hatótávolságban    nagy sávszélességű átvitel biztosíthat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technológia a tervezők szerint 480 Mbit/s átvitelsebességre is képes lehet néhány méteren belül. Ez jóval gyorsabbnak ígérkezett az akkori vezeték nélküli megoldások átviteli sebességéné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: az IEEE 802.15.3 számú szabvány foglalja magába az uwb WPAN (Wireless Personal Area Network) hálózat specifikációit. Egyes cikkek piconet hálózatnak is említik az UWB-vel kialakított hálózatok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abvány rögzítette a frekvenciatartományokat 3.1 GHz és 10.6 GHz között. És biztosították a más ebben a frekvenciatartományban működő rendszerekkel való interferencia mentességet. A rendszer képes automatikusan más frekvenciára váltani, ha interferenciát érzékel, azaz ha zavarja egy másik rendszer adásá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ím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100" spc="-1" strike="noStrike">
                <a:solidFill>
                  <a:srgbClr val="464646"/>
                </a:solidFill>
                <a:latin typeface="Lucida Sans Unicode"/>
              </a:rPr>
              <a:t>Bevezeté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ím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1044720" y="1622520"/>
            <a:ext cx="7053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Cím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wusb_overview1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man Old Style"/>
              </a:rPr>
              <a:t>Maximum sávszélesség of 7.5 GHz, from 3.1 – 10.6 GHz</a:t>
            </a:r>
            <a:r>
              <a:rPr b="0" lang="hu-HU" sz="27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7" name="Cím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uwb2"/>
          <p:cNvPicPr/>
          <p:nvPr/>
        </p:nvPicPr>
        <p:blipFill>
          <a:blip r:embed="rId2"/>
          <a:stretch/>
        </p:blipFill>
        <p:spPr>
          <a:xfrm>
            <a:off x="395280" y="2133720"/>
            <a:ext cx="5832360" cy="2425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3059280" y="4653000"/>
            <a:ext cx="55958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57200" y="2335320"/>
            <a:ext cx="8229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Cím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200720" cy="1368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7200720" cy="1368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720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1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190680" cy="495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2504880" cy="457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4"/>
          <a:stretch/>
        </p:blipFill>
        <p:spPr>
          <a:xfrm>
            <a:off x="684360" y="1628640"/>
            <a:ext cx="6192720" cy="25416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3"/>
          <p:cNvSpPr/>
          <p:nvPr/>
        </p:nvSpPr>
        <p:spPr>
          <a:xfrm>
            <a:off x="4788000" y="486900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4140360" y="4437000"/>
            <a:ext cx="4679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 0.5ns -os UWB impulzus spektrum kihasználását. Az FCC azt mondja ki, hogy egy impulzus sávszélességének minimum 500 Mhz-nek kell lennie. Vagy egy másik megközelítéssel, az impulzushoz tartozó spektrum, középfrekvenciájának 10 dB-es pontjai közötti töredék sávszélességnek nagyobbnak kell lennie, mint a középfrekvencia 2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bben az esetben ez a számításokból is látszik, hogy bőven teljes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bands"/>
          <p:cNvPicPr/>
          <p:nvPr/>
        </p:nvPicPr>
        <p:blipFill>
          <a:blip r:embed="rId1"/>
          <a:stretch/>
        </p:blipFill>
        <p:spPr>
          <a:xfrm>
            <a:off x="2743200" y="1905120"/>
            <a:ext cx="6029280" cy="440352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228600" y="3581280"/>
            <a:ext cx="32623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Péld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ns Gaussian Pu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Frequenc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= 3.35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dB BW= 500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x Power (ave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= - 14.3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64880" y="2203560"/>
            <a:ext cx="221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Cé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mpulse Puls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500MHz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3:17:45Z</dcterms:created>
  <dc:creator>cserno</dc:creator>
  <dc:description/>
  <dc:language>en-US</dc:language>
  <cp:lastModifiedBy>Vári Péter</cp:lastModifiedBy>
  <dcterms:modified xsi:type="dcterms:W3CDTF">2014-11-02T20:36:05Z</dcterms:modified>
  <cp:revision>14</cp:revision>
  <dc:subject/>
  <dc:title>WiMAX</dc:title>
</cp:coreProperties>
</file>