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DC4D-723C-4CC5-87D5-48A755D43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8685-646F-4B07-AEBC-918D6BC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4625-A2E2-4A7D-86EE-92175E6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0B05-9782-4EF5-BBD7-40D483C15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49C1-4BC1-4D53-A256-7F37312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C1E9-3D62-4A2A-A548-9E66082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E3E1-77ED-44D3-87CC-6C367391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0E2E-5459-4556-BED4-9B528CF1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A6A0-C24D-4C57-8DEE-7A288E47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2DC0-2FE7-4B00-B55B-59D6987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F848-EACE-4764-81A1-918FB4DA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527A-6E19-4447-BEB5-6DE9227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6CE5-3147-4E67-812E-612AEBAF68F6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3440" y="2149920"/>
            <a:ext cx="898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 CE"/>
              </a:rPr>
              <a:t>SZÉLESSÁVÚ ADATÁTVITEL RÁDIÓS HOZZÁFÉRÉSI ESZKÖZÖKKEL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 CE"/>
              </a:rPr>
              <a:t>(RLAN, WiFi, WMAN, WiMAX, ...)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2,4 GHz-es sáv távközlési használat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8656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sávhasználatot meghatározó műszaki szabályozás csak a kötelezően betartandó teljesítményszinteket limitálja, az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alkalmazott technológiára nem tesz megkötést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Az előírások betartása mellett bármilyen rádiótávközlési átviteli alkalmazás megvalósítható. A teljesítmény-korlátozási előírásból adódóan a 2,4 GHz-es távközlési alkalmazások általában 150 m-nél kisebb távolságú átvitelre használhatók előnyösen.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Jellegzetes alkalmazások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Bluetooth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, általában 10 m-nél kisebb távolságra;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HomeRF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, általában 50 m-nél kisebb távolságra;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WiFi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, az RLAN egy jellegzetes megoldása, amelyik az IEEE 802.11 szabvány előírásainak tesz eleget, általában 150 m-nél kisebb távolságra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2,4 GHz-es RLAN-ok előnyösen épületeken belüli hozzáférési rendszerekhez használható. Külső téri RLAN (azaz ORLAN) nincs ugyan tiltva, de műszakilag rendkívül előnytelen ebben a frekvenciasávban (a CEPT deklarációja szerint nem rendeltetésszerű rádióhasználatnak minősíthető)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c0593"/>
                </a:solidFill>
                <a:uFillTx/>
                <a:latin typeface="Arial"/>
              </a:rPr>
              <a:t>Külső téri átvitelre az 5470 – 5725 MHz sávú ORLAN és WMAN eszközök javasolható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2,4 GHz-es sáv távközlési használata </a:t>
            </a:r>
            <a:br>
              <a:rPr sz="2800"/>
            </a:b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2400 – 2483,5 MHz es sávban használt rádióállomások üzemeltetési feltételei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EIRP maximum 100 mW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Spektrális teljesítmény sűrűség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FHSS (hoping) esetén: max. -10 dBW/100 kHz,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FHSS-től eltérő rendszer esetén: max. -20 dBW/1 MHz,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Berendezésre meghatározott adatsebesség: min. 250 kbit/s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ntenna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integrált (nincs antenna-csatlakozó), vagy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dedikált (a berendezés tartozékát képező külső antenna)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üzemeltetési feltételek között </a:t>
            </a:r>
            <a:r>
              <a:rPr b="1" lang="hu-HU" sz="1800" spc="-1" strike="noStrike">
                <a:solidFill>
                  <a:srgbClr val="00cc00"/>
                </a:solidFill>
                <a:latin typeface="Arial"/>
              </a:rPr>
              <a:t>nincs előírás a csatornaosztásra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és a kitöltési tényezőre, minthogy ezekre a mennyiségekre a magyar és európai szabályozás nem ír elő korlátozást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2,4 GHz-es sáv távközlési haszn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6533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WiFi a IEEE 802.11 szabvány előírásait teljesíti. Ebben a szabványban a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csatornaosztás definiálva van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8480" y="1542960"/>
            <a:ext cx="4302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2,4 GHz-es sáv távközlési haszn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harmonizált sávú működés feltételei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harmonizált sávú működés szempontjából a sáv két részből áll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2400 – 2454 MHz, 2454 – 2483,5 MHz.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1) A 2400 – 2454 MHz-es sávban az üzemeltetési feltételek teljesülése esetén harmonizált sávú a működés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2) A 2454 – 2483,5 MHz-es sávban az alacsony teljesítményjellemzők mellett harmonizált sávú a működés, de egy bizonyos teljesítményszint fölött nem harmonizált sávú működés definiálandó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harmonizált és nem-harmonizált működési tartományt elválasztó teljesítmények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EIRP: 10 mW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Teljesítménysűrűség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FHSS esetén: -20 dBW/100 kHz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FHSS-től eltérő rendszer esetén: -30 dBW/1 MHz </a:t>
            </a: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harmonizáltság akkor teljesül, ha mindkét teljesítmény-típusú mennyiség a saját elválasztó értéke alatt marad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5a0f"/>
                </a:solidFill>
                <a:latin typeface="Arial"/>
              </a:rPr>
              <a:t>A harmonizált sávú működés tartomány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5a0f"/>
                </a:solidFill>
                <a:latin typeface="Arial"/>
              </a:rPr>
              <a:t>1. és 2. osztályú berendezések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,5 GHz-es sávú WMAN és WiMAX használat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Frekvenciasávok: 3410 – 3494 MHz és 3510 – 3594 MHz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sávhasználat szabályai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3,5 GHz-es frekvenciasáv állandó és változó telephelyű pont-többpont struktúrájú digitális rádiórendszerek céljára használható. A pont-többpont rendszer terminál állomásai jelen esetben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csakis végfelhasználói terminálok lehetnek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frekvenciasáv nem használható mobil infrastruktúra céljára, tehát mobil távközlő rendszerek (pl.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mobil telefon rendszerek, vagy RLAN hálózatok) bázisállomásait ilyen módon nem szabad összekapcsolni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más állomásokkal a mobil távközlő rendszer működtetése véget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3,5 GHz-es sáv FDD használatú, 5 darab kétirányú (duplex) blokkra van felosztva. Az egyenként 14 MHz-es sávszélességű blokkok között 3,5 MHz-es szélességű szétválasztás van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Nincs megkötés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z egyes blokkokon belül a csatornaosztásra és csatorna sávszélességekre,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p-mp rendszerek megvalósításához felhasznált technikai, ill. hozzáférési megoldásokra (az FDD-kategórián belül)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Az állomások maximális megengedett lesugárzási EIRP-sűrűsége: 14 dBW/MHz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,5 GHz-es sávú WMAN és WiMAX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7440" y="679320"/>
            <a:ext cx="47595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,5 GHz-es sávú WMAN és WiMAX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pont-többpont rendszerek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központi állomásai egyedi engedélyeztetésre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kötelezettek. A frekvenciahasználati jogosultsággal rendelkezők a központi állomásokat egyedi rádióengedély birtokában üzemeltethetik. Ugyancsak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egyedi engedélyre kötelezett az átjátszó állomások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üzemeltetése. A p-mp rendszerek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terminál állomásai nem engedély-kötelezettek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és bejelentésre, nyilvántartásba vételre sincsenek kötelezve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2) A 3,5 GHz-es sávú pont-többpont állomások az állandóhelyű rádiószolgálat keretében működnek, a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rádióalkalmazási prioritás </a:t>
            </a:r>
            <a:r>
              <a:rPr b="0" lang="hu-HU" sz="1800" spc="-1" strike="noStrike" u="sng">
                <a:solidFill>
                  <a:srgbClr val="00cc00"/>
                </a:solidFill>
                <a:uFillTx/>
                <a:latin typeface="Arial"/>
              </a:rPr>
              <a:t>elsődleges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Ez nem csak fix telepítésű, hanem hordozható (portabilis) terminálokra is érvényes, amelyekre azért állandó helyűek, mert működés közben nem mozognak. Hordozható terminálokkal u.n.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’nomadikus’ hozzáférés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valósítható meg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3) A 3410 – 3600 MHz-es állandóhelyű rádiószolgálati sáv alsó szomszédságában rádió-lokációs frekvenciasáv van. A katonai szervezetek jogosultsággal rendelkeznek a 2700 – 3410 MHz-es sávban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radar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berendezéseket üzemeltetni. Ezeknek a nagy teljesítményű berendezéseknek nem szándékos zavarkisugárzása lehet az állandóhelyű sávnak az alsó tartományára. A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radarokból származó zavarást a pont-többpont rendszerek típusválasztásánál és telepítésnél figyelembe kell venni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f5a0f"/>
                </a:solidFill>
                <a:latin typeface="Arial"/>
              </a:rPr>
              <a:t>Hu preferált blokkos egyezményei a 3,5 GHz-es sávban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1160" y="814320"/>
            <a:ext cx="8399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Szélessávú hozzáférési rendszerek </a:t>
            </a:r>
            <a:endParaRPr b="0" lang="en-US" sz="28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34720" y="1186920"/>
            <a:ext cx="8569080" cy="28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Hozzáférési rendszerek: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olyan távközlési rendszerek tekintendők hozzáférési rendszereknek, amelyeknek terminál állomásait végfelhasználók használják, tehát a terminál állomások egyúttal végfelhasználói állomások. </a:t>
            </a: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zélessávú hozzáférési rendszerek: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olyan hozzáférési rendszerek tekintendők szélessávúnak, amelyeknél az adatátviteli sebesség eléri, ill. meghaladja az alábbi (minimum) értékeket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47800" y="3144960"/>
            <a:ext cx="73627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sáv kiosztás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jogosultak a saját 2x14 MHz blokkjukat szuverén módon felhasználhatják.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Lehetőség van a felhasznált sávszélesség növelésére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azáltal, hogy a jogosult – bizonyos konkrét állomások esetén a szétválasztás frekvenciasávját is használja. Ehhez azonban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szükség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van a szomszédos blokk (vagy blokkok) jogosultjának (vagy jogosultjainak)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beleegyezésére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(azaz koordinációra). Koordináció által a a sávszélesség a két szélső blokkokban 2x17,5 MHz-re, a három belső blokkban 2x21 MHz-re növelhető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4600" y="3027240"/>
            <a:ext cx="375912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90960" y="4692600"/>
            <a:ext cx="51530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WMAN és WiMAX a 3,5 GHz-es sávban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3,5 GHz-es pont-többpont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rádióstruktúra használata technológia-független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Így lehetőség van arra is, hogy a p-mp hálózatok az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IEEE 802.16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szabvány,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illetve az ETSI HiperMAN szabvány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szerint valósuljanak meg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Ilyen módon a 3,5 GHz-es sávban a jogosultak WMAN hálózatokat is létrehozhatnak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3,5 GHz-es sáv WiMAX-sávként van deklarálva. A profil-követelmények teljesülése esetén WiMAX is létrehozható. A 3,5 GHz-es WMAN és WiMAX működés csakis FDD duplexitású lehet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Minthogy a 3,5 GHz-es sáv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engedélyköteles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, ezért az itt megvalósított WMAN és WiMAX hálózatok is engedély kötelesek. Éppen ebben rejlik a 3,5 GHz-es WiMAX használat nagy jelentősége.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Minőségi garancia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ugyanis szabad hozzáférésű sávra nem biztosítható, ehhez engedélyköteles frekvenciasávra van szükség. A 3,5 GHz-es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WiMAX rendszerek egyaránt lehetnek fixen telepítettek, vagy nomadikusa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5,2 GHz-es sávú RLAN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Frekvenciasáv: 5150 – 5350 MHz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5,2 GHz-es sáv a szélessávú adatátviteli hozzáférési rendszerek körében csakis épületen belüli (beltéri) használatra megengedett. Épületen kívüli (kültéri) használat tilos!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alapvető követelmények szempontjából a 200 MHz széles sávot két 100 MHz-es alsávra kell bontani, a két alsáv szabályozása különbözik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Dinamikus frekvencia kiválasztás DFS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dóteljesítmény szabályozás TPC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1720" y="3173400"/>
            <a:ext cx="58356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5,2 GHz-es sávú RLAN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teljes 5150 – 5350 MHz frekvenciasávra vonatkozik az alább szabályozás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1) Az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állomások mentesek az egyedi engedélyezés kötelezettsége alól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(</a:t>
            </a:r>
            <a:r>
              <a:rPr b="0" i="1" lang="hu-HU" sz="1800" spc="-1" strike="noStrike">
                <a:solidFill>
                  <a:srgbClr val="0c0593"/>
                </a:solidFill>
                <a:latin typeface="Arial"/>
              </a:rPr>
              <a:t>3a pont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). Üzemeltetésükhöz nem kell rádióengedély és nincs díjfizetési kötelezettség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2)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A rádióalkalmazási prioritás harmadlagos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, tehát az állomások berendezései nem igényelhetnek zavarvédelmet más eszközök rádiózavarásával szemben. (Minthogy azonban az RLAN-használat épületek belsejére korlátozódik és a beltéri zavartatás valószínűsége rendkívül csekély, ezért tényleges zavarás a gyakorlatban aligha fordul elő.)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3) A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sávban működő berendezések mindig a 2. osztályba sorolandók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A forgalomba hozatalra megadott eljárásrend vonatkozik. A 2. osztályba sorolt berendezéseknél az eljárásrend fontos eleme a típus-bejelentés kötelezettsége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5,6 GHz-es sávú RLAN és WMAN használat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Frekvenciasáv: 5470 – 5725 MHz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5,6 GHz-es sáv a szélessávú adatátviteli hozzáférési rendszerek körében az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épületen belüli (beltéri) és épületen kívüli használat egyaránt megengedett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A beltéri használat általában RLAN berendezésekkel történik. A kültéri használat jellegzetes eszközei a kültéri RLAN-ok (ORLAN-ok), valamint WMAN-o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műszaki szabályozás paraméterei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Max. EIRP = 1 W (TPC mellett), 0,5 W (TPC nélkül)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Max. EIRP-sűrűség = 50 mW/1 MHz (TPC mellett), 25 mW/1 MHz (TPC nélkül)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DFS = kötelező, TPC = ajánlott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</a:t>
            </a: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állomások mentesek az egyedi engedélyezés kötelezettsége alól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Üzemeltetésükhöz nem kell rádióengedély és nincs díjfizetési kötelezettség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5,6 GHz-es sávú RLAN és WMAN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cc00"/>
                </a:solidFill>
                <a:latin typeface="Arial"/>
              </a:rPr>
              <a:t>Az 5,6 GHz-es frekvenciasávban a rádióalkalmazási prioritás harmadlagos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 Ennek következtében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tiltva van, hogy RLAN, ill. WMAN berendezések káros zavarást okozzanak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az 5600 – 5650 MHz-es sávban működő elsődleges prioritású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meteorológiai radaroknak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z RLAN és WMAN berendezéseknek el kell viselni azt a káros zavarást, amit más berendezések okoznak, főképpen a meteorológiai radarok kisugárzása az 5600 – 5650 MHz-es sávban, továbbá 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környezetben működő más RLAN és WMAN rendszerek sugárzásai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cc00"/>
                </a:solidFill>
                <a:latin typeface="Arial"/>
              </a:rPr>
              <a:t>A sávban működő berendezések mindig a 2. osztályba sorolandók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. A forgalomba hozatalra megadott eljárásrend vonatkozik. A 2. osztályba sorolt berendezéseknél kiemelendő a típus-bejelentés kötelezettsége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5,6 GHz-es sávú RLAN és WMAN 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Sávhasználati jellegzetességek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z 5470 – 5725 MHz-es sáv műszaki előírása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technológia-semleges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, bármely technológia megengedhető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A gyakorlati megoldások azt mutatják, hogy kizárólag OFDMA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hozzáférési rendszerű berendezések kerülnek forgalomba, ámbár elvileg más megoldások is lehetségesek lennének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WMAN berendezéseket gyakran nevezik (helytelenül) WiMAX-nak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. Az 5470 –5725 MHz-es berendezések nem teljesíthetik a WiMAX-profil követelményeit, minthogy a nevezett frekvenciasáv kiesik a profil által meghatározott frekvenciákból.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Az 5,6 GHz-es frekvencián működő berendezések nem kaphatnak WiMAX-azonosító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z 5470 – 5725 MHz-es WMAN berendezések – a köznyelvi szóhasználat ellenére – nem tartoznak a WiMAX kategóriába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Magyarországon három meteorológiai radar működik. Ezek zavarhatják a földrajzilag hozzájuk közel telepített külső téri RLAN (ORLAN) és WMAN berendezéseket. A zavartatás jogszerű. A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zavar elhárítása érdekében célszerű, ha az RLAN és WMAN berendezések nem használják azokat a 5600 – 5625 MHz-es csatornákat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tapasztalat szerint az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5600 – 5625 MHz-es sávban az ORLAN és WMAN berendezések zavaró hatással lehetnek a meteorológiai radarokra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. </a:t>
            </a:r>
            <a:r>
              <a:rPr b="0" lang="hu-HU" sz="1600" spc="-1" strike="noStrike" u="sng">
                <a:solidFill>
                  <a:srgbClr val="0c0593"/>
                </a:solidFill>
                <a:uFillTx/>
                <a:latin typeface="Arial"/>
              </a:rPr>
              <a:t>Ez a zavarás szigorúan tilos!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Zavarás észlelése esetén a hatóság eljár a zavar megszüntetése érdekében. Ez a zavaró ORLAN vagy WMAN állomás üzemvitelének a felfüggesztésével járha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kétirányú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zavar kiküszöbölhető azáltal, ha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a meteorológiai állomások környezetében az ORLAN és WMAN berendezéseknél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letiltjuk a 5600 – 5625 MHz-es sávú csatornáka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z 5,8 GHz-es sáv haszn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Frekvenciasáv: 5725 – 5850 MHz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cc00"/>
                </a:solidFill>
                <a:latin typeface="Arial"/>
              </a:rPr>
              <a:t>A WiMAX használat időleges tiltása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frekvenciasáv nemzetközileg az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engedélymentes WiMAX-működés sávja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lesz. A sáv jelenleg más típusú eszközök céljára van hasznosítva. A WiMAX használat előfeltétele, hogy megtörténjék a kétfajta rádióalkalmazás együttélési lehetőségének és feltételeinek vizsgálata, az u.n. kompatibilitási vizsgálat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Ismeretes, hogy a WiMAX működést előíró IEEE 802.16 és ETSI HiperMAN szabvány OFDM/OFDMA rendszerű modulációs és hozzáférési módot ír elő, ami elég robosztus eljárás a kisszintű zavarokkal szembeni védelemhez. A nagyszintű zavarokat az ilyen rendszer nem feltétlenül védi ki, amint ezt a kompatibilitási vizsgálatok mutatják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mennyiben a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kompatibilitási vizsgálat olyan eredménnyel zárul, hogy a sáv kijelölhető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WiMAX részére (esetleg bizonyos feltételek mellett), akkor a WiMAX használat szabályozási státusza az alábbi lesz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Rádiószolgálati prioritás harmadlagos, tehát a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WiMAX berendezések nem kapnak interferencia védelmet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Egyedi engedélyezési kötelezettség alól mentességet kap a WiMAX, tehát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az állomások rádióengedély nélkül üzemelhetnek és nem lesz frekvenciadíj sem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A WiMAX berendezések a 2. osztályba sorolandók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. Ez – többek között – azt jelenti, hogy a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berendezés-típusokat a hatóságnál be kell jelenteni és nyilvántartásba kell venni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z 5,8 GHz-es sáv haszn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sáv jelenlegi használata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A jelenlegi sávhasználat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frekvenciatartománya 5725 – 5875 MHz-re terjed, tehát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szélesebb, mint a WiMAX célú használat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5725 – 5850 MHz-es sávja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z 5725 – 5875 MHz-es sávhasználat </a:t>
            </a:r>
            <a:r>
              <a:rPr b="0" lang="hu-HU" sz="1600" spc="-1" strike="noStrike">
                <a:solidFill>
                  <a:srgbClr val="00cc00"/>
                </a:solidFill>
                <a:latin typeface="Arial"/>
              </a:rPr>
              <a:t>három kereskedelmi jellegű alkalmazást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valamint katonai felhasználást foglal magába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Ipari - tudományos - orvosi eszközök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(ISM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). Ez az alkalmazási kör az egész világra kiterjed. A WiMAX és ISM berendezések közti kompatibilitást nemzetközileg megvizsgálták. Az ISM által keltett zavarok kicsik, WiMAX viszonylatban a kompatibilitás megfelelő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Kis hatótávolságú eszközök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(SRD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). Ez az alkalmazási kör Európára terjed ki. A WiMAX és SRD eszközök közti kompatibilitást nemzetközileg megvizsgálták. Az SRD által keltett zavarok kicsik, WiMAX viszonylatban a kompatibilitás megfelelő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Kiterjesztett spektrumú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pont-pont rádiórelék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. Ilyen alkalmazást Európában csak Magyarország használ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Katonai felhasználás: Radarok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. Nemzetközi szinten végzett kompatibilitás vizsgálatok azt mutatják, hogy a WiMAX és bizonyos típusú radarok között inkompatibilitás van. </a:t>
            </a:r>
            <a:r>
              <a:rPr b="0" lang="hu-HU" sz="1400" spc="-1" strike="noStrike">
                <a:solidFill>
                  <a:srgbClr val="00cc00"/>
                </a:solidFill>
                <a:latin typeface="Arial"/>
              </a:rPr>
              <a:t>Repülőgép eltúnik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. Az 5725 – 5850 MHz-es sávban működő WiMAX berendezések káros interferenciával lehetnek a katonai radarberendezések bizonyos kategóriáira. Emiatt az európai kontinentális NATO országokra egységesen kimondható hogy a tárgyi frekvenciasávban WiMAX egyelőre nem használható. Ez a helyzet mindaddig fennáll, amíg a polgári és katonai rendszerek közti összeférhetőség probémája nem rendeződik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1840" y="228600"/>
            <a:ext cx="84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 CE"/>
              </a:rPr>
              <a:t>Szélessávú rádiós hozzáférési rendszerek megnevezései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1158480"/>
            <a:ext cx="847548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Bluetooth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WPAN (lásd ott) egy jellegzetes megoldása az IEEE 802.15 szabvány szerint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FWA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Fixed Wireless Access, Állandóhelyű rádiós hozzáférés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Olyan pont-többpont rendszer,, amelynél a végberendezések egyúttal végfelhasználói berendezések, ahol végetér a rádiós kommunikáció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HiperMAN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High Performance Radio MAN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z ETSI (Európai Távközlési Szabványosítási Intézet) által kidolgozott szabvány WMAN-ra (lásd ott). HiperMAN szabvány alapján WiMAX (lásd ott) is létrehozható (6. ábra)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LAN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Local Area Network, Helyi hálózat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Egymás közelébe telepített számítógépek együttes működését biztosító távközlő hálózat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MAN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Metropolitan Area Network, Városi hálózat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Olyan számítógépes hálózat, amelynek lefedési területe egy nagyváros méretével összevethető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ORLAN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Outer RLAN, Külső téri RLAN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Olyan RLAN (lásd ott), ami épületen kívüli, külső téri rádióhullám terjedéssel biztosít távközlési összeköttetést. Gyakran nem tesznek különbséget RLAN és ORLAN között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Frekvenciasáv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080" y="2338200"/>
            <a:ext cx="827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2,4 GHz-es sáv 2400 – 2483,5 MHz;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5,2 GHz-es sáv 5150 – 5350 MHz;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5,6 GHz-es sáv 5470 – 5725 MHz.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WiMAX típusú szélessávú hozzáférési rendszerek sávjai: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3,5 GHz-es sáv 3410 – 3494 / 3510 – 3594 MHz;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5,8 GHz-es sáv 5725 – 5875 MHz.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RLAN 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Radio LAN, Rádiós helyi hálózat)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LAN rendszer (lásd ott) rádiós megoldása. Jellegzetes átviteli távolság: 150 m vagy kisebb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WAN 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Wireless Access Network, Rádiós hozzáférési hálózat)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Nagy területű (tipikusan országos) mobilitást biztosító hozzáférési hálózat. Ide tartoznak a mobil rádiótelefon rendszerek, valamint a WiMAX (lásd ott) egyik szabvány-hátterének jelenleg folyamatban lévő továbbfejlesztése, az IEEE 802.16e szabvány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Jellegzetes lefedés: bolyongási lehetőség következtében országos hatáskörű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 WPAN – RLAN – WMAN – WAN hierarchia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872320" y="3584520"/>
            <a:ext cx="296208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6800" y="189000"/>
            <a:ext cx="8699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 CE"/>
              </a:rPr>
              <a:t>Szélessávú rádiós hozzáférési rendszerek megnevezései</a:t>
            </a: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3520" y="189000"/>
            <a:ext cx="879012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 CE"/>
              </a:rPr>
              <a:t>Szélessávú rádiós hozzáférési rendszerek megnevezései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WAS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Wireless Access System, Rádiós hozzáférési rendszer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Rádiós összeköttetés végfelhasználói terminállal. A WAS a rádiós hozzáférési rendszerek legáltalánosabb kategóriája. Valamennyi speciális rádiós hozzáférési rendszer innen származtatható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WiFi (Wireless Fidelity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Olyan RLAN kereskedelmi neve, ami az IEEE 802.11 szabványnak felel meg és a 2,4 GHz-es sávban (2400 – 2483,5 MHz) működik. Ritkán az 5 GHz-es sávban (5150 – 5350 MHz &amp; 5470 – 5725 MHz) működő és IEEE 802.11 szabványnak megfelelő RLAN-okat is így nevezik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WiMAX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(Worldwide Interoperability for Microwave Access, Világméretben csereszabatos mikrohullámú hozzáférés)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Olyan WMAN amire a csereszabatosságot biztosító u.n. WiMAX-profil teljesül, és a kijelölt laboratórium tanúsítványt ad. Jelenleg egyedül a spanyolországi Cetecom laboratórium rendelkezik tanúsítási jogosultsággal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tanúsítvánnyal rendelkező WiMAX-termékek listája az alábbi web-címen érhető el: http://www.wimaxforum.org/kshowcase/view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z IEEE 801.16d, IEEE 801.16-2004 és IEEE 802.18e szabványoknak megfelelő berendezéseknél megvan annak a lehetősége, hogy teljesítsék a WiMAX-profil előírásokat Az ETSI HiperMAN szabványnak is van olyan opciója, ami lehetővé teszi a WiMAX követelmények teljesítését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WiMAX-profil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zon járulékos tulajdonságok együttese, amelyekkel valamely WMAN rendszernek rendelkeznie kell, hogy teljesítse a WiMAX minősítéshez szükséges műszaki feltételeket. A WiMAX-profil paramétereit a WiMAX Fórum nemzetközi szervezet határozza meg. 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4640" y="189000"/>
            <a:ext cx="873936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 CE"/>
              </a:rPr>
              <a:t>Szélessávú rádiós hozzáférési rendszerek megnevezései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WLAN (Wireless LAN, Rádiós LAN)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WLAN az RLAN-nak gyakran használt kereskedelmi elnevezése. A WLAN és RLAN között teljes az azonosság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WMAN (Wireless MAN, Rádiós MAN)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MAN rendszer rádiós megoldása. WMAN-t megvalósító szabványok: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IEEE 802.16, valamint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ETSI HiperMAN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Mindkét szabványnak van olyan alesete, ami nem elégíti ki a WiMAX követelményeket (pl. IEEE 802.16a) és van olyan alesete, ami teljesíti a WiMAX-profil előírásait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Jellegzetes átviteli távolság: 50 km vagy kisebb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WPAN 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(Wireless Personal Access Network, Rádiós személyi hozzáférési hálózat):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Személyi eszközök közötti rövidtávú átviteli összeköttetés. Jellegzetes átviteli távolság: 10 m vagy kisebb. Jellegzetes szabvány: IEEE 802.15. Jellegzetes megoldás: Bluetooth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f5a0f"/>
                </a:solidFill>
                <a:latin typeface="Arial"/>
              </a:rPr>
              <a:t>WMAN és WiMAX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905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Változ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4600" y="787320"/>
            <a:ext cx="88074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újabb szabályozás alapján a 3,5 GHz-es sávú pont-többpont rendszerek terminál állomásai nem csupán végfelhasználói állomások lehetnek, hanem egyéb terminál-felhasználások is engedélyezettek.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Ilyen módon a 3,5 GHz-es pont-többpont rendszerek terminál állomásai </a:t>
            </a:r>
            <a:r>
              <a:rPr b="0" lang="hu-HU" sz="2400" spc="-1" strike="noStrike">
                <a:solidFill>
                  <a:srgbClr val="00cc00"/>
                </a:solidFill>
                <a:latin typeface="Arial CE"/>
              </a:rPr>
              <a:t>kiinduló pontjai lehetnek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 újabb rádióhálózatoknak. Ennek jellegzetes megoldása, amennyiben a terminál állomás egyúttal egy RLAN-hálózat bázisállomását (hot spot) képezi.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5,8 GHz-es sávban az eddig lehetővé tett kiterjesztett spektrumú pont-pont összeköttetéseken túlmenően </a:t>
            </a:r>
            <a:r>
              <a:rPr b="0" lang="hu-HU" sz="2400" spc="-1" strike="noStrike">
                <a:solidFill>
                  <a:srgbClr val="00cc00"/>
                </a:solidFill>
                <a:latin typeface="Arial CE"/>
              </a:rPr>
              <a:t>OFDM technikájú pont-pont összeköttetések is telepíthetővé váltak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, tervezési kötelezettség nélkül és rádióengedély-mentes módon.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Egyedi engedélyezési kötelezettség alól mentesített rádióalkalmazások: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Olyan rádióalkalmazások, amelyek a használt állomásokra, ill. összeköttetésekre vonatkozóan nem igényelnek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frekvenciakijelölési határozatot,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rádióengedélyt,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hatósági regisztrációt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egyedi engedélyezési kötelezettség alóli mentesség egyúttal a frekvenciadíj alóli mentességet is jelenti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z egyedi engedélyezési kötelezettség alóli mentesség esetén is be kell tartani a sávhasználat műszaki normáit, mindenek előtt a kisugárzásra előírt teljesítmény korlátozást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Engedélyeztetés</a:t>
            </a:r>
            <a:endParaRPr b="0" lang="en-US" sz="28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48160" y="4457880"/>
            <a:ext cx="4514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Berendezés típus nyilvántar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1315080"/>
            <a:ext cx="8391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 CE"/>
              </a:rPr>
              <a:t>Berendezés típus nyilvántartásba vételének kötelezettsége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(ill. mentessége):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Magyarországon használt szélessávú adatátviteli berendezéseket általában </a:t>
            </a: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hatósági típusnyilvántartásba kell venni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. Egy szűk kategóriája van a berendezéseknek, amelyek mentességet kapnak a hatósági nyilvántartásba vétel alól. </a:t>
            </a: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A mentesítés feltételeit az EU határozta meg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. A típus nyilvántartásba vétele alól azok a berendezés típusok mentesek, amelyek az EU által meghatározott u.n. </a:t>
            </a:r>
            <a:r>
              <a:rPr b="0" i="1" lang="hu-HU" sz="1600" spc="-1" strike="noStrike">
                <a:solidFill>
                  <a:srgbClr val="0c0593"/>
                </a:solidFill>
                <a:latin typeface="Arial CE"/>
              </a:rPr>
              <a:t>harmonizált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frekvenciasávokban működnek és betartják a harmonizált működés feltételeit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 CE"/>
              </a:rPr>
              <a:t>(*) A 2454 – 2483,5 MHz-es sávban alacsony teljesítményjellemzők mellett a szélessávú rádiós hozzáférési eszközök mentesek a berendezés típusának bejelentési kötelezettségétől, a teljesítmény-jellemzők egy megszabott határértékét túllépve azonban kötelezővé válik a típus nyilvántartásba vétele.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19440" y="3121200"/>
            <a:ext cx="40579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Berendezés típus nyilvántar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8440" y="752400"/>
            <a:ext cx="856944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Osztályba sorolás: </a:t>
            </a:r>
            <a:r>
              <a:rPr b="0" lang="en-US" sz="1800" spc="-1" strike="noStrike">
                <a:solidFill>
                  <a:srgbClr val="0c0593"/>
                </a:solidFill>
                <a:latin typeface="Arial"/>
              </a:rPr>
              <a:t>A rádiós hozzáférési berendezések 1. vagy 2. osztályba sorolhatók. Az osztályba sorolás feltételei teljes mértékben megegyeznek a típusregisztrációs kötelezettség, vagy mentesség feltételeivel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85840" y="2460600"/>
            <a:ext cx="32227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Haszn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0120" y="954000"/>
            <a:ext cx="853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z elsődleges rádiószolgálat állomása: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) </a:t>
            </a:r>
            <a:r>
              <a:rPr b="0" lang="hu-HU" sz="1800" spc="-1" strike="noStrike">
                <a:solidFill>
                  <a:srgbClr val="00cc00"/>
                </a:solidFill>
                <a:latin typeface="Arial CE"/>
              </a:rPr>
              <a:t>nem okozhat káros zavarást az azonos vagy más elsődleges rádiószolgálat(ok</a:t>
            </a: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) olyan rádióállomásainak, amelyek részére a frekvenciákat korábban már kijelölték;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b) </a:t>
            </a:r>
            <a:r>
              <a:rPr b="0" lang="hu-HU" sz="1800" spc="-1" strike="noStrike">
                <a:solidFill>
                  <a:srgbClr val="00cc00"/>
                </a:solidFill>
                <a:latin typeface="Arial CE"/>
              </a:rPr>
              <a:t>nem tarthat igényt védelemre az azonos vagy más elsődleges rádiószolgálat(ok</a:t>
            </a: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) olyan rádióállomásai által okozott káros zavarásokkal szemben, amelyek részére a frekvenciákat már korábban kijelölték.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Másodlagos rádiószolgálat állomása: RLAN-nál nem értelmezendő.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 harmadlagos rádióalkalmazások rádióállomásai: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) </a:t>
            </a:r>
            <a:r>
              <a:rPr b="0" lang="hu-HU" sz="1800" spc="-1" strike="noStrike">
                <a:solidFill>
                  <a:srgbClr val="00cc00"/>
                </a:solidFill>
                <a:latin typeface="Arial CE"/>
              </a:rPr>
              <a:t>nem okozhat káros zavarást az elsődleges és másodlagos rádiószolgálat rádióállomásainak;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b) </a:t>
            </a:r>
            <a:r>
              <a:rPr b="0" lang="hu-HU" sz="1800" spc="-1" strike="noStrike">
                <a:solidFill>
                  <a:srgbClr val="00cc00"/>
                </a:solidFill>
                <a:latin typeface="Arial CE"/>
              </a:rPr>
              <a:t>nem tarthat igényt védelemre más rádióállomások által okozott káros zavarásokkal szemben</a:t>
            </a: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.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Csakis engedély-köteles állomásokra lehet interferencia védelmet biztosítani ! Amennyiben nincs egyedi engedély kötelezettség, úgy a rádióhasználat nem kaphat interferencia védelmet.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2,4 GHz-es sávú RLAN használat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800" y="1483920"/>
            <a:ext cx="7826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Frekvenciasáv: 2400 – 2483,5 MHz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 CE"/>
              </a:rPr>
              <a:t>A sáv általános használata és zavarviszonyai: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sávot kijelölték ipari, tudományos és orvosi eszközök működtetésére. Az ipari használat jellegzetes példája: </a:t>
            </a: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mikrohullámú sütő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. Az ipari berendezések mikrohullámú zavarkisugárzása a sávhasználat alapvető meghatározója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2,4 GHz-es sávot kijelölték továbbá kis hatótávolságú eszközök (távirányítók, riasztók, stb.) működtetésére. zavarszintet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Ebben a frekvenciasávban megengedett a kis hatótávolságú rádiótávközlés is. Tudatában kell azonban lenni annak, hogy a távközlő eszközök működtetése során mindig lehet zavaró interferenciára számítani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A távközlési sávhasználat prioritási foka harmadlagos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. Ez azt jelenti, hogy a berendezések nem tarthatnak igényt interferencia-védelemre más eszközök zavarásával szemben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A 2,4 GHz-es távközlés az egyszerűség és könnyű megvalósíthatóság miatt népszerű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. Az elterjedt használat és az állomások nagy száma következtében mostanra már a 2,4 GHz-es távközlési összeköttetések kölcsönös egymásra hatása vált a zavarok elsődleges okozójává.  </a:t>
            </a:r>
            <a:r>
              <a:rPr b="0" lang="hu-HU" sz="1600" spc="-1" strike="noStrike">
                <a:solidFill>
                  <a:srgbClr val="00cc00"/>
                </a:solidFill>
                <a:latin typeface="Arial CE"/>
              </a:rPr>
              <a:t>(Szeged, vagy WIERA esete)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7-11-23T00:29:50Z</dcterms:modified>
  <cp:revision>94</cp:revision>
  <dc:subject/>
  <dc:title>MOBIL TÁVKÖZLÉS ANTENNA RENDSZEREI</dc:title>
</cp:coreProperties>
</file>