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4.png" ContentType="image/png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20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43.wmf" ContentType="image/x-wmf"/>
  <Override PartName="/ppt/media/image44.png" ContentType="image/png"/>
  <Override PartName="/ppt/media/image45.wmf" ContentType="image/x-wmf"/>
  <Override PartName="/ppt/media/image46.png" ContentType="image/png"/>
  <Override PartName="/ppt/media/image29.wmf" ContentType="image/x-wmf"/>
  <Override PartName="/ppt/media/image47.wmf" ContentType="image/x-wmf"/>
  <Override PartName="/ppt/media/image42.wmf" ContentType="image/x-wmf"/>
  <Override PartName="/ppt/media/image9.png" ContentType="image/png"/>
  <Override PartName="/ppt/media/image17.wmf" ContentType="image/x-wmf"/>
  <Override PartName="/ppt/media/image13.wmf" ContentType="image/x-wmf"/>
  <Override PartName="/ppt/media/image49.wmf" ContentType="image/x-wmf"/>
  <Override PartName="/ppt/media/image41.wmf" ContentType="image/x-wmf"/>
  <Override PartName="/ppt/media/image8.png" ContentType="image/png"/>
  <Override PartName="/ppt/media/image16.wmf" ContentType="image/x-wmf"/>
  <Override PartName="/ppt/media/image37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36.wmf" ContentType="image/x-wmf"/>
  <Override PartName="/ppt/media/image11.png" ContentType="image/png"/>
  <Override PartName="/ppt/media/image48.png" ContentType="image/png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4C58-2096-4F5B-8C86-8F94EDD2F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3640" y="3651480"/>
            <a:ext cx="856908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C287-1FC6-4FEE-9B6D-6AF21AA5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3640" y="365148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4560" y="365148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092A-06F6-45A3-9FB5-CFD36CD62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920" y="98100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560" y="98100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3640" y="365148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920" y="365148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560" y="365148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DA44-7109-46B0-A6A7-91A7F600A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AF9E0-FA54-43E9-80D6-3A979C3D1C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914BC-9D15-4C77-9971-2C49E7EE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BFF84-CF8B-4208-BAA5-E6340716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213A1-1D5A-4264-96AA-019A9A18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95EF7-22B9-43D4-80E5-E9DC6E963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84360" y="189000"/>
            <a:ext cx="7772400" cy="24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196BE-F10A-49FD-874D-0E938FC7C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3640" y="365148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AC38D-E2F3-4899-B7D1-65B1A2F1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3913-481F-4216-B33E-A78F4111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4560" y="365148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BBE3B-C8F7-4892-8897-C4B9C825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3640" y="3651480"/>
            <a:ext cx="856908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DA271-56EC-4215-9E07-90DD8164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640" y="3651480"/>
            <a:ext cx="856908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09BA4-5DA7-4481-B0D5-7E3F5589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3640" y="365148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4560" y="365148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E5AA5-A5AA-4636-871F-341DBEA9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20920" y="98100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18560" y="98100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3640" y="365148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20920" y="365148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18560" y="365148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64629-44E6-425D-A048-0120466114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7A6B-A2F3-4FA6-BB3F-DD925A5F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65B7-8037-42E4-8929-7E96B03C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D493-B0B9-44BA-9E2A-D4A4C0CF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360" y="189000"/>
            <a:ext cx="7772400" cy="24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AC7A-4C08-4987-99FA-2533385D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3640" y="365148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B5D7-370F-4A41-991C-D0F9A020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4560" y="365148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2399-FEAA-47F9-AF04-F8AD9761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3640" y="3651480"/>
            <a:ext cx="856908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3F0D-76FE-4805-B0E8-9101BB04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D458-CF80-4364-B44F-18C197037BF8}" type="datetime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672F-2FC0-494C-980A-5ED7CE07E1E4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9ca"/>
            </a:gs>
            <a:gs pos="50000">
              <a:srgbClr val="dadbef"/>
            </a:gs>
            <a:gs pos="100000">
              <a:srgbClr val="8489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480" y="6381720"/>
            <a:ext cx="9137520" cy="29196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50000">
                <a:srgbClr val="ffffff"/>
              </a:gs>
              <a:gs pos="100000">
                <a:srgbClr val="cccccc"/>
              </a:gs>
            </a:gsLst>
            <a:lin ang="2700000"/>
          </a:gradFill>
          <a:ln w="12600">
            <a:solidFill>
              <a:srgbClr val="8489ca"/>
            </a:solidFill>
            <a:miter/>
          </a:ln>
          <a:effectLst>
            <a:outerShdw dist="53966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0" y="6308640"/>
            <a:ext cx="9143640" cy="388800"/>
            <a:chOff x="0" y="6308640"/>
            <a:chExt cx="9143640" cy="388800"/>
          </a:xfrm>
        </p:grpSpPr>
        <p:sp>
          <p:nvSpPr>
            <p:cNvPr id="43" name="Freeform 4"/>
            <p:cNvSpPr/>
            <p:nvPr/>
          </p:nvSpPr>
          <p:spPr>
            <a:xfrm>
              <a:off x="0" y="6308640"/>
              <a:ext cx="9143640" cy="11592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0" y="6441120"/>
              <a:ext cx="9143640" cy="11592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0" y="6573240"/>
              <a:ext cx="9143640" cy="11592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e8e8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0" y="6316560"/>
              <a:ext cx="9143640" cy="11592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0" y="6449040"/>
              <a:ext cx="9143640" cy="11592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0" y="6581520"/>
              <a:ext cx="9143640" cy="11592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0"/>
          <p:cNvGrpSpPr/>
          <p:nvPr/>
        </p:nvGrpSpPr>
        <p:grpSpPr>
          <a:xfrm>
            <a:off x="0" y="6200640"/>
            <a:ext cx="1440720" cy="654840"/>
            <a:chOff x="0" y="6200640"/>
            <a:chExt cx="1440720" cy="654840"/>
          </a:xfrm>
        </p:grpSpPr>
        <p:sp>
          <p:nvSpPr>
            <p:cNvPr id="50" name="Rectangle 11"/>
            <p:cNvSpPr/>
            <p:nvPr/>
          </p:nvSpPr>
          <p:spPr>
            <a:xfrm>
              <a:off x="83880" y="6200640"/>
              <a:ext cx="1275480" cy="646920"/>
            </a:xfrm>
            <a:prstGeom prst="rect">
              <a:avLst/>
            </a:prstGeom>
            <a:gradFill rotWithShape="0">
              <a:gsLst>
                <a:gs pos="0">
                  <a:srgbClr val="cccccc"/>
                </a:gs>
                <a:gs pos="50000">
                  <a:srgbClr val="ffffff"/>
                </a:gs>
                <a:gs pos="100000">
                  <a:srgbClr val="cccccc"/>
                </a:gs>
              </a:gsLst>
              <a:lin ang="5400000"/>
            </a:gradFill>
            <a:ln w="12600">
              <a:solidFill>
                <a:srgbClr val="dadada"/>
              </a:solidFill>
              <a:miter/>
            </a:ln>
            <a:effectLst>
              <a:outerShdw dist="28496" dir="17774481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0" y="6249240"/>
              <a:ext cx="144072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000000"/>
                  </a:solidFill>
                  <a:latin typeface="Book Antiqua"/>
                </a:rPr>
                <a:t>Honfy Józse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800" spc="-1" strike="noStrike">
                  <a:solidFill>
                    <a:srgbClr val="000000"/>
                  </a:solidFill>
                  <a:latin typeface="Book Antiqua"/>
                </a:rPr>
                <a:t>egyetemi adjunktu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800" spc="-1" strike="noStrike">
                  <a:solidFill>
                    <a:srgbClr val="000000"/>
                  </a:solidFill>
                  <a:latin typeface="Book Antiqua"/>
                </a:rPr>
                <a:t>SZÉCHENYI I. EGYETE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800" spc="-1" strike="noStrike">
                  <a:solidFill>
                    <a:srgbClr val="000000"/>
                  </a:solidFill>
                  <a:latin typeface="Book Antiqua"/>
                </a:rPr>
                <a:t>Távközlési Tanszé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86e7b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86e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4479840" y="3108240"/>
            <a:ext cx="52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4724280" y="32004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3C58-3D99-48BD-9E59-D3DB683E1ED6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5"/>
          </p:nvPr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D166-CB20-4B4D-BE27-2ADF678C39A1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19"/>
          <p:cNvGrpSpPr/>
          <p:nvPr/>
        </p:nvGrpSpPr>
        <p:grpSpPr>
          <a:xfrm>
            <a:off x="0" y="6469200"/>
            <a:ext cx="9143640" cy="388440"/>
            <a:chOff x="0" y="6469200"/>
            <a:chExt cx="9143640" cy="388440"/>
          </a:xfrm>
        </p:grpSpPr>
        <p:sp>
          <p:nvSpPr>
            <p:cNvPr id="59" name="Freeform 20"/>
            <p:cNvSpPr/>
            <p:nvPr/>
          </p:nvSpPr>
          <p:spPr>
            <a:xfrm>
              <a:off x="0" y="6469200"/>
              <a:ext cx="9143640" cy="11592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0" y="6601320"/>
              <a:ext cx="9143640" cy="11592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0" y="6733800"/>
              <a:ext cx="9143640" cy="11592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e8e8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0" y="6477120"/>
              <a:ext cx="9143640" cy="11592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0" y="6609600"/>
              <a:ext cx="9143640" cy="11592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0" y="6741720"/>
              <a:ext cx="9143640" cy="11592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26"/>
          <p:cNvGrpSpPr/>
          <p:nvPr/>
        </p:nvGrpSpPr>
        <p:grpSpPr>
          <a:xfrm>
            <a:off x="0" y="6200640"/>
            <a:ext cx="1440720" cy="648000"/>
            <a:chOff x="0" y="6200640"/>
            <a:chExt cx="1440720" cy="648000"/>
          </a:xfrm>
        </p:grpSpPr>
        <p:sp>
          <p:nvSpPr>
            <p:cNvPr id="66" name="Rectangle 27"/>
            <p:cNvSpPr/>
            <p:nvPr/>
          </p:nvSpPr>
          <p:spPr>
            <a:xfrm>
              <a:off x="83880" y="6200640"/>
              <a:ext cx="1275480" cy="648000"/>
            </a:xfrm>
            <a:prstGeom prst="rect">
              <a:avLst/>
            </a:prstGeom>
            <a:gradFill rotWithShape="0">
              <a:gsLst>
                <a:gs pos="0">
                  <a:srgbClr val="cccccc"/>
                </a:gs>
                <a:gs pos="50000">
                  <a:srgbClr val="ffffff"/>
                </a:gs>
                <a:gs pos="100000">
                  <a:srgbClr val="cccccc"/>
                </a:gs>
              </a:gsLst>
              <a:lin ang="5400000"/>
            </a:gradFill>
            <a:ln w="12600">
              <a:solidFill>
                <a:srgbClr val="dadada"/>
              </a:solidFill>
              <a:miter/>
            </a:ln>
            <a:effectLst>
              <a:outerShdw dist="28496" dir="17774481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8"/>
            <p:cNvSpPr/>
            <p:nvPr/>
          </p:nvSpPr>
          <p:spPr>
            <a:xfrm>
              <a:off x="0" y="6249240"/>
              <a:ext cx="14407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800" spc="-1" strike="noStrike">
                  <a:solidFill>
                    <a:srgbClr val="000000"/>
                  </a:solidFill>
                  <a:latin typeface="Arial Narrow"/>
                </a:rPr>
                <a:t>Vári Pé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800" spc="-1" strike="noStrike">
                  <a:solidFill>
                    <a:srgbClr val="000000"/>
                  </a:solidFill>
                  <a:latin typeface="Arial Narrow"/>
                </a:rPr>
                <a:t>Külső oktató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800" spc="-1" strike="noStrike">
                  <a:solidFill>
                    <a:srgbClr val="000000"/>
                  </a:solidFill>
                  <a:latin typeface="Arial Narrow"/>
                </a:rPr>
                <a:t>SZÉCHENYI I. EGYETE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800" spc="-1" strike="noStrike">
                  <a:solidFill>
                    <a:srgbClr val="000000"/>
                  </a:solidFill>
                  <a:latin typeface="Arial Narrow"/>
                </a:rPr>
                <a:t>Távközlési Tanszé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image" Target="../media/image35.wmf"/><Relationship Id="rId12" Type="http://schemas.openxmlformats.org/officeDocument/2006/relationships/image" Target="../media/image36.wmf"/><Relationship Id="rId13" Type="http://schemas.openxmlformats.org/officeDocument/2006/relationships/image" Target="../media/image37.wmf"/><Relationship Id="rId14" Type="http://schemas.openxmlformats.org/officeDocument/2006/relationships/image" Target="../media/image38.wmf"/><Relationship Id="rId15" Type="http://schemas.openxmlformats.org/officeDocument/2006/relationships/image" Target="../media/image39.wmf"/><Relationship Id="rId16" Type="http://schemas.openxmlformats.org/officeDocument/2006/relationships/image" Target="../media/image40.wmf"/><Relationship Id="rId17" Type="http://schemas.openxmlformats.org/officeDocument/2006/relationships/image" Target="../media/image41.wmf"/><Relationship Id="rId18" Type="http://schemas.openxmlformats.org/officeDocument/2006/relationships/image" Target="../media/image42.wmf"/><Relationship Id="rId19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852280"/>
            <a:ext cx="7772400" cy="74772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8c90be">
                <a:alpha val="50000"/>
              </a:srgbClr>
            </a:outerShdw>
          </a:effectLst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ef5a0f"/>
                </a:solidFill>
                <a:latin typeface="Arial"/>
              </a:rPr>
              <a:t>Digitális modulációk</a:t>
            </a:r>
            <a:endParaRPr b="1" lang="en-US" sz="36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81185" dir="18521970" blurRad="0" rotWithShape="0">
              <a:srgbClr val="8c90be">
                <a:alpha val="50000"/>
              </a:srgbClr>
            </a:outerShdw>
          </a:effectLst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Győ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52E5-FBE8-4EB0-8174-4529CE982246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7F86-55D4-44AC-AC1E-90508299E264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PSK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0320" y="11250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igitális moduláció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PSK (Phase Shift Keying), fázis billentyűzés: a vivő fázisa hordozza az információ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többszintű PSK: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bit átvihető 2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fázisértékk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9" descr=""/>
          <p:cNvPicPr/>
          <p:nvPr/>
        </p:nvPicPr>
        <p:blipFill>
          <a:blip r:embed="rId1"/>
          <a:stretch/>
        </p:blipFill>
        <p:spPr>
          <a:xfrm>
            <a:off x="684360" y="3944880"/>
            <a:ext cx="3886200" cy="21002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0"/>
          <p:cNvSpPr/>
          <p:nvPr/>
        </p:nvSpPr>
        <p:spPr>
          <a:xfrm>
            <a:off x="912960" y="3259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563fc7"/>
                </a:solidFill>
                <a:latin typeface="Times New Roman"/>
              </a:rPr>
              <a:t>kétszintű PSK: BP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4951440" y="318276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563fc7"/>
                </a:solidFill>
                <a:latin typeface="Times New Roman"/>
              </a:rPr>
              <a:t>négyszintű PSK: QP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2" descr=""/>
          <p:cNvPicPr/>
          <p:nvPr/>
        </p:nvPicPr>
        <p:blipFill>
          <a:blip r:embed="rId2"/>
          <a:stretch/>
        </p:blipFill>
        <p:spPr>
          <a:xfrm>
            <a:off x="4494240" y="3944880"/>
            <a:ext cx="411480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átum helye 3"/>
          <p:cNvSpPr/>
          <p:nvPr/>
        </p:nvSpPr>
        <p:spPr>
          <a:xfrm>
            <a:off x="8002440" y="6381720"/>
            <a:ext cx="8906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6C07-3069-446A-98BE-3E9D18FB9755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Dia számának helye 4"/>
          <p:cNvSpPr/>
          <p:nvPr/>
        </p:nvSpPr>
        <p:spPr>
          <a:xfrm>
            <a:off x="4618080" y="6381720"/>
            <a:ext cx="3380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66DA-92A8-4342-8A11-79FF31274BA0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471"/>
          <p:cNvGrpSpPr/>
          <p:nvPr/>
        </p:nvGrpSpPr>
        <p:grpSpPr>
          <a:xfrm>
            <a:off x="3176640" y="4996080"/>
            <a:ext cx="433440" cy="1239480"/>
            <a:chOff x="3176640" y="4996080"/>
            <a:chExt cx="433440" cy="1239480"/>
          </a:xfrm>
        </p:grpSpPr>
        <p:grpSp>
          <p:nvGrpSpPr>
            <p:cNvPr id="169" name="Group 472"/>
            <p:cNvGrpSpPr/>
            <p:nvPr/>
          </p:nvGrpSpPr>
          <p:grpSpPr>
            <a:xfrm>
              <a:off x="3176640" y="4996080"/>
              <a:ext cx="144720" cy="1239480"/>
              <a:chOff x="3176640" y="4996080"/>
              <a:chExt cx="144720" cy="1239480"/>
            </a:xfrm>
          </p:grpSpPr>
          <p:grpSp>
            <p:nvGrpSpPr>
              <p:cNvPr id="170" name="Group 473"/>
              <p:cNvGrpSpPr/>
              <p:nvPr/>
            </p:nvGrpSpPr>
            <p:grpSpPr>
              <a:xfrm>
                <a:off x="3176640" y="4996080"/>
                <a:ext cx="72360" cy="639720"/>
                <a:chOff x="3176640" y="4996080"/>
                <a:chExt cx="72360" cy="639720"/>
              </a:xfrm>
            </p:grpSpPr>
            <p:sp>
              <p:nvSpPr>
                <p:cNvPr id="171" name="Arc 474"/>
                <p:cNvSpPr/>
                <p:nvPr/>
              </p:nvSpPr>
              <p:spPr>
                <a:xfrm flipH="1">
                  <a:off x="3176640" y="4996080"/>
                  <a:ext cx="36000" cy="639720"/>
                </a:xfrm>
                <a:custGeom>
                  <a:avLst/>
                  <a:gdLst>
                    <a:gd name="textAreaLeft" fmla="*/ 360 w 36000"/>
                    <a:gd name="textAreaRight" fmla="*/ 36720 w 3600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Arc 475"/>
                <p:cNvSpPr/>
                <p:nvPr/>
              </p:nvSpPr>
              <p:spPr>
                <a:xfrm>
                  <a:off x="3212640" y="4996080"/>
                  <a:ext cx="36360" cy="63972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476"/>
              <p:cNvGrpSpPr/>
              <p:nvPr/>
            </p:nvGrpSpPr>
            <p:grpSpPr>
              <a:xfrm>
                <a:off x="3248640" y="5595840"/>
                <a:ext cx="72720" cy="639720"/>
                <a:chOff x="3248640" y="5595840"/>
                <a:chExt cx="72720" cy="639720"/>
              </a:xfrm>
            </p:grpSpPr>
            <p:sp>
              <p:nvSpPr>
                <p:cNvPr id="174" name="Arc 477"/>
                <p:cNvSpPr/>
                <p:nvPr/>
              </p:nvSpPr>
              <p:spPr>
                <a:xfrm flipH="1" flipV="1">
                  <a:off x="3248280" y="5595480"/>
                  <a:ext cx="36360" cy="639720"/>
                </a:xfrm>
                <a:custGeom>
                  <a:avLst/>
                  <a:gdLst>
                    <a:gd name="textAreaLeft" fmla="*/ -360 w 36360"/>
                    <a:gd name="textAreaRight" fmla="*/ 36360 w 3636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Arc 478"/>
                <p:cNvSpPr/>
                <p:nvPr/>
              </p:nvSpPr>
              <p:spPr>
                <a:xfrm flipV="1">
                  <a:off x="3285360" y="5595480"/>
                  <a:ext cx="36000" cy="63972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6" name="Group 479"/>
            <p:cNvGrpSpPr/>
            <p:nvPr/>
          </p:nvGrpSpPr>
          <p:grpSpPr>
            <a:xfrm>
              <a:off x="3465360" y="4996080"/>
              <a:ext cx="144720" cy="1239480"/>
              <a:chOff x="3465360" y="4996080"/>
              <a:chExt cx="144720" cy="1239480"/>
            </a:xfrm>
          </p:grpSpPr>
          <p:grpSp>
            <p:nvGrpSpPr>
              <p:cNvPr id="177" name="Group 480"/>
              <p:cNvGrpSpPr/>
              <p:nvPr/>
            </p:nvGrpSpPr>
            <p:grpSpPr>
              <a:xfrm>
                <a:off x="3465360" y="4996080"/>
                <a:ext cx="72360" cy="639720"/>
                <a:chOff x="3465360" y="4996080"/>
                <a:chExt cx="72360" cy="639720"/>
              </a:xfrm>
            </p:grpSpPr>
            <p:sp>
              <p:nvSpPr>
                <p:cNvPr id="178" name="Arc 481"/>
                <p:cNvSpPr/>
                <p:nvPr/>
              </p:nvSpPr>
              <p:spPr>
                <a:xfrm flipH="1">
                  <a:off x="3465360" y="4996080"/>
                  <a:ext cx="36000" cy="639720"/>
                </a:xfrm>
                <a:custGeom>
                  <a:avLst/>
                  <a:gdLst>
                    <a:gd name="textAreaLeft" fmla="*/ 360 w 36000"/>
                    <a:gd name="textAreaRight" fmla="*/ 36720 w 3600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Arc 482"/>
                <p:cNvSpPr/>
                <p:nvPr/>
              </p:nvSpPr>
              <p:spPr>
                <a:xfrm>
                  <a:off x="3501360" y="4996080"/>
                  <a:ext cx="36360" cy="63972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Group 483"/>
              <p:cNvGrpSpPr/>
              <p:nvPr/>
            </p:nvGrpSpPr>
            <p:grpSpPr>
              <a:xfrm>
                <a:off x="3537360" y="5595840"/>
                <a:ext cx="72720" cy="639720"/>
                <a:chOff x="3537360" y="5595840"/>
                <a:chExt cx="72720" cy="639720"/>
              </a:xfrm>
            </p:grpSpPr>
            <p:sp>
              <p:nvSpPr>
                <p:cNvPr id="181" name="Arc 484"/>
                <p:cNvSpPr/>
                <p:nvPr/>
              </p:nvSpPr>
              <p:spPr>
                <a:xfrm flipH="1" flipV="1">
                  <a:off x="3537000" y="5595480"/>
                  <a:ext cx="36360" cy="639720"/>
                </a:xfrm>
                <a:custGeom>
                  <a:avLst/>
                  <a:gdLst>
                    <a:gd name="textAreaLeft" fmla="*/ -360 w 36360"/>
                    <a:gd name="textAreaRight" fmla="*/ 36360 w 3636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Arc 485"/>
                <p:cNvSpPr/>
                <p:nvPr/>
              </p:nvSpPr>
              <p:spPr>
                <a:xfrm flipV="1">
                  <a:off x="3574080" y="5595480"/>
                  <a:ext cx="36000" cy="63972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3" name="Group 486"/>
            <p:cNvGrpSpPr/>
            <p:nvPr/>
          </p:nvGrpSpPr>
          <p:grpSpPr>
            <a:xfrm>
              <a:off x="3321360" y="4996080"/>
              <a:ext cx="144720" cy="1239480"/>
              <a:chOff x="3321360" y="4996080"/>
              <a:chExt cx="144720" cy="1239480"/>
            </a:xfrm>
          </p:grpSpPr>
          <p:grpSp>
            <p:nvGrpSpPr>
              <p:cNvPr id="184" name="Group 487"/>
              <p:cNvGrpSpPr/>
              <p:nvPr/>
            </p:nvGrpSpPr>
            <p:grpSpPr>
              <a:xfrm>
                <a:off x="3321360" y="4996080"/>
                <a:ext cx="72360" cy="639720"/>
                <a:chOff x="3321360" y="4996080"/>
                <a:chExt cx="72360" cy="639720"/>
              </a:xfrm>
            </p:grpSpPr>
            <p:sp>
              <p:nvSpPr>
                <p:cNvPr id="185" name="Arc 488"/>
                <p:cNvSpPr/>
                <p:nvPr/>
              </p:nvSpPr>
              <p:spPr>
                <a:xfrm flipH="1">
                  <a:off x="3321360" y="4996080"/>
                  <a:ext cx="36000" cy="639720"/>
                </a:xfrm>
                <a:custGeom>
                  <a:avLst/>
                  <a:gdLst>
                    <a:gd name="textAreaLeft" fmla="*/ 360 w 36000"/>
                    <a:gd name="textAreaRight" fmla="*/ 36720 w 3600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Arc 489"/>
                <p:cNvSpPr/>
                <p:nvPr/>
              </p:nvSpPr>
              <p:spPr>
                <a:xfrm>
                  <a:off x="3357360" y="4996080"/>
                  <a:ext cx="36360" cy="63972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Group 490"/>
              <p:cNvGrpSpPr/>
              <p:nvPr/>
            </p:nvGrpSpPr>
            <p:grpSpPr>
              <a:xfrm>
                <a:off x="3393360" y="5595840"/>
                <a:ext cx="72720" cy="639720"/>
                <a:chOff x="3393360" y="5595840"/>
                <a:chExt cx="72720" cy="639720"/>
              </a:xfrm>
            </p:grpSpPr>
            <p:sp>
              <p:nvSpPr>
                <p:cNvPr id="188" name="Arc 491"/>
                <p:cNvSpPr/>
                <p:nvPr/>
              </p:nvSpPr>
              <p:spPr>
                <a:xfrm flipH="1" flipV="1">
                  <a:off x="3393000" y="5595480"/>
                  <a:ext cx="36360" cy="639720"/>
                </a:xfrm>
                <a:custGeom>
                  <a:avLst/>
                  <a:gdLst>
                    <a:gd name="textAreaLeft" fmla="*/ -360 w 36360"/>
                    <a:gd name="textAreaRight" fmla="*/ 36360 w 3636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Arc 492"/>
                <p:cNvSpPr/>
                <p:nvPr/>
              </p:nvSpPr>
              <p:spPr>
                <a:xfrm flipV="1">
                  <a:off x="3430080" y="5595480"/>
                  <a:ext cx="36000" cy="63972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0" name="Rectangle 493"/>
          <p:cNvSpPr/>
          <p:nvPr/>
        </p:nvSpPr>
        <p:spPr>
          <a:xfrm>
            <a:off x="3176640" y="404640"/>
            <a:ext cx="433440" cy="590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94"/>
          <p:cNvSpPr/>
          <p:nvPr/>
        </p:nvSpPr>
        <p:spPr>
          <a:xfrm>
            <a:off x="4473720" y="404640"/>
            <a:ext cx="433080" cy="5904000"/>
          </a:xfrm>
          <a:prstGeom prst="rect">
            <a:avLst/>
          </a:prstGeom>
          <a:solidFill>
            <a:srgbClr val="d5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95"/>
          <p:cNvSpPr/>
          <p:nvPr/>
        </p:nvSpPr>
        <p:spPr>
          <a:xfrm>
            <a:off x="3825720" y="404640"/>
            <a:ext cx="433440" cy="590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96"/>
          <p:cNvSpPr/>
          <p:nvPr/>
        </p:nvSpPr>
        <p:spPr>
          <a:xfrm>
            <a:off x="5769000" y="404640"/>
            <a:ext cx="433440" cy="590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97"/>
          <p:cNvSpPr/>
          <p:nvPr/>
        </p:nvSpPr>
        <p:spPr>
          <a:xfrm>
            <a:off x="5121360" y="404640"/>
            <a:ext cx="433440" cy="5904000"/>
          </a:xfrm>
          <a:prstGeom prst="rect">
            <a:avLst/>
          </a:prstGeom>
          <a:solidFill>
            <a:srgbClr val="d5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98"/>
          <p:cNvSpPr/>
          <p:nvPr/>
        </p:nvSpPr>
        <p:spPr>
          <a:xfrm>
            <a:off x="6418440" y="404640"/>
            <a:ext cx="433080" cy="5904000"/>
          </a:xfrm>
          <a:prstGeom prst="rect">
            <a:avLst/>
          </a:prstGeom>
          <a:solidFill>
            <a:srgbClr val="d5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99"/>
          <p:cNvSpPr/>
          <p:nvPr/>
        </p:nvSpPr>
        <p:spPr>
          <a:xfrm>
            <a:off x="7713720" y="404640"/>
            <a:ext cx="433440" cy="590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00"/>
          <p:cNvSpPr/>
          <p:nvPr/>
        </p:nvSpPr>
        <p:spPr>
          <a:xfrm>
            <a:off x="8361360" y="404640"/>
            <a:ext cx="433440" cy="590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01"/>
          <p:cNvSpPr/>
          <p:nvPr/>
        </p:nvSpPr>
        <p:spPr>
          <a:xfrm>
            <a:off x="7066080" y="404640"/>
            <a:ext cx="433440" cy="590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502"/>
          <p:cNvGrpSpPr/>
          <p:nvPr/>
        </p:nvGrpSpPr>
        <p:grpSpPr>
          <a:xfrm>
            <a:off x="4473720" y="676440"/>
            <a:ext cx="433080" cy="1239480"/>
            <a:chOff x="4473720" y="676440"/>
            <a:chExt cx="433080" cy="1239480"/>
          </a:xfrm>
        </p:grpSpPr>
        <p:grpSp>
          <p:nvGrpSpPr>
            <p:cNvPr id="200" name="Group 503"/>
            <p:cNvGrpSpPr/>
            <p:nvPr/>
          </p:nvGrpSpPr>
          <p:grpSpPr>
            <a:xfrm>
              <a:off x="4473720" y="676440"/>
              <a:ext cx="216720" cy="1239480"/>
              <a:chOff x="4473720" y="676440"/>
              <a:chExt cx="216720" cy="1239480"/>
            </a:xfrm>
          </p:grpSpPr>
          <p:grpSp>
            <p:nvGrpSpPr>
              <p:cNvPr id="201" name="Group 504"/>
              <p:cNvGrpSpPr/>
              <p:nvPr/>
            </p:nvGrpSpPr>
            <p:grpSpPr>
              <a:xfrm>
                <a:off x="4473720" y="1276200"/>
                <a:ext cx="108360" cy="639720"/>
                <a:chOff x="4473720" y="1276200"/>
                <a:chExt cx="108360" cy="639720"/>
              </a:xfrm>
            </p:grpSpPr>
            <p:sp>
              <p:nvSpPr>
                <p:cNvPr id="202" name="Arc 505"/>
                <p:cNvSpPr/>
                <p:nvPr/>
              </p:nvSpPr>
              <p:spPr>
                <a:xfrm flipH="1" flipV="1">
                  <a:off x="4473720" y="1275840"/>
                  <a:ext cx="54000" cy="639720"/>
                </a:xfrm>
                <a:custGeom>
                  <a:avLst/>
                  <a:gdLst>
                    <a:gd name="textAreaLeft" fmla="*/ 360 w 54000"/>
                    <a:gd name="textAreaRight" fmla="*/ 54720 w 5400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Arc 506"/>
                <p:cNvSpPr/>
                <p:nvPr/>
              </p:nvSpPr>
              <p:spPr>
                <a:xfrm flipV="1">
                  <a:off x="4527720" y="1275840"/>
                  <a:ext cx="54360" cy="639720"/>
                </a:xfrm>
                <a:custGeom>
                  <a:avLst/>
                  <a:gdLst>
                    <a:gd name="textAreaLeft" fmla="*/ 0 w 54360"/>
                    <a:gd name="textAreaRight" fmla="*/ 54720 w 5436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Group 507"/>
              <p:cNvGrpSpPr/>
              <p:nvPr/>
            </p:nvGrpSpPr>
            <p:grpSpPr>
              <a:xfrm>
                <a:off x="4581720" y="676440"/>
                <a:ext cx="108720" cy="639720"/>
                <a:chOff x="4581720" y="676440"/>
                <a:chExt cx="108720" cy="639720"/>
              </a:xfrm>
            </p:grpSpPr>
            <p:sp>
              <p:nvSpPr>
                <p:cNvPr id="205" name="Arc 508"/>
                <p:cNvSpPr/>
                <p:nvPr/>
              </p:nvSpPr>
              <p:spPr>
                <a:xfrm flipH="1">
                  <a:off x="4581360" y="676440"/>
                  <a:ext cx="54360" cy="639720"/>
                </a:xfrm>
                <a:custGeom>
                  <a:avLst/>
                  <a:gdLst>
                    <a:gd name="textAreaLeft" fmla="*/ -360 w 54360"/>
                    <a:gd name="textAreaRight" fmla="*/ 54360 w 5436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Arc 509"/>
                <p:cNvSpPr/>
                <p:nvPr/>
              </p:nvSpPr>
              <p:spPr>
                <a:xfrm>
                  <a:off x="4636440" y="676440"/>
                  <a:ext cx="54000" cy="63972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7" name="Group 510"/>
            <p:cNvGrpSpPr/>
            <p:nvPr/>
          </p:nvGrpSpPr>
          <p:grpSpPr>
            <a:xfrm>
              <a:off x="4690440" y="676440"/>
              <a:ext cx="216360" cy="1239480"/>
              <a:chOff x="4690440" y="676440"/>
              <a:chExt cx="216360" cy="1239480"/>
            </a:xfrm>
          </p:grpSpPr>
          <p:grpSp>
            <p:nvGrpSpPr>
              <p:cNvPr id="208" name="Group 511"/>
              <p:cNvGrpSpPr/>
              <p:nvPr/>
            </p:nvGrpSpPr>
            <p:grpSpPr>
              <a:xfrm>
                <a:off x="4690440" y="1276200"/>
                <a:ext cx="108360" cy="639720"/>
                <a:chOff x="4690440" y="1276200"/>
                <a:chExt cx="108360" cy="639720"/>
              </a:xfrm>
            </p:grpSpPr>
            <p:sp>
              <p:nvSpPr>
                <p:cNvPr id="209" name="Arc 512"/>
                <p:cNvSpPr/>
                <p:nvPr/>
              </p:nvSpPr>
              <p:spPr>
                <a:xfrm flipH="1" flipV="1">
                  <a:off x="4690440" y="1275840"/>
                  <a:ext cx="54000" cy="639720"/>
                </a:xfrm>
                <a:custGeom>
                  <a:avLst/>
                  <a:gdLst>
                    <a:gd name="textAreaLeft" fmla="*/ 360 w 54000"/>
                    <a:gd name="textAreaRight" fmla="*/ 54720 w 5400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Arc 513"/>
                <p:cNvSpPr/>
                <p:nvPr/>
              </p:nvSpPr>
              <p:spPr>
                <a:xfrm flipV="1">
                  <a:off x="4744440" y="1275840"/>
                  <a:ext cx="54360" cy="639720"/>
                </a:xfrm>
                <a:custGeom>
                  <a:avLst/>
                  <a:gdLst>
                    <a:gd name="textAreaLeft" fmla="*/ 0 w 54360"/>
                    <a:gd name="textAreaRight" fmla="*/ 54720 w 5436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Group 514"/>
              <p:cNvGrpSpPr/>
              <p:nvPr/>
            </p:nvGrpSpPr>
            <p:grpSpPr>
              <a:xfrm>
                <a:off x="4798080" y="676440"/>
                <a:ext cx="108720" cy="639720"/>
                <a:chOff x="4798080" y="676440"/>
                <a:chExt cx="108720" cy="639720"/>
              </a:xfrm>
            </p:grpSpPr>
            <p:sp>
              <p:nvSpPr>
                <p:cNvPr id="212" name="Arc 515"/>
                <p:cNvSpPr/>
                <p:nvPr/>
              </p:nvSpPr>
              <p:spPr>
                <a:xfrm flipH="1">
                  <a:off x="4797720" y="676440"/>
                  <a:ext cx="54360" cy="639720"/>
                </a:xfrm>
                <a:custGeom>
                  <a:avLst/>
                  <a:gdLst>
                    <a:gd name="textAreaLeft" fmla="*/ -360 w 54360"/>
                    <a:gd name="textAreaRight" fmla="*/ 54360 w 5436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Arc 516"/>
                <p:cNvSpPr/>
                <p:nvPr/>
              </p:nvSpPr>
              <p:spPr>
                <a:xfrm>
                  <a:off x="4852800" y="676440"/>
                  <a:ext cx="54000" cy="63972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4" name="Group 517"/>
          <p:cNvGrpSpPr/>
          <p:nvPr/>
        </p:nvGrpSpPr>
        <p:grpSpPr>
          <a:xfrm>
            <a:off x="5121360" y="676440"/>
            <a:ext cx="433080" cy="1239480"/>
            <a:chOff x="5121360" y="676440"/>
            <a:chExt cx="433080" cy="1239480"/>
          </a:xfrm>
        </p:grpSpPr>
        <p:grpSp>
          <p:nvGrpSpPr>
            <p:cNvPr id="215" name="Group 518"/>
            <p:cNvGrpSpPr/>
            <p:nvPr/>
          </p:nvGrpSpPr>
          <p:grpSpPr>
            <a:xfrm>
              <a:off x="5121360" y="676440"/>
              <a:ext cx="216720" cy="1239480"/>
              <a:chOff x="5121360" y="676440"/>
              <a:chExt cx="216720" cy="1239480"/>
            </a:xfrm>
          </p:grpSpPr>
          <p:grpSp>
            <p:nvGrpSpPr>
              <p:cNvPr id="216" name="Group 519"/>
              <p:cNvGrpSpPr/>
              <p:nvPr/>
            </p:nvGrpSpPr>
            <p:grpSpPr>
              <a:xfrm>
                <a:off x="5121360" y="1276200"/>
                <a:ext cx="108360" cy="639720"/>
                <a:chOff x="5121360" y="1276200"/>
                <a:chExt cx="108360" cy="639720"/>
              </a:xfrm>
            </p:grpSpPr>
            <p:sp>
              <p:nvSpPr>
                <p:cNvPr id="217" name="Arc 520"/>
                <p:cNvSpPr/>
                <p:nvPr/>
              </p:nvSpPr>
              <p:spPr>
                <a:xfrm flipH="1" flipV="1">
                  <a:off x="5121360" y="1275840"/>
                  <a:ext cx="54000" cy="639720"/>
                </a:xfrm>
                <a:custGeom>
                  <a:avLst/>
                  <a:gdLst>
                    <a:gd name="textAreaLeft" fmla="*/ 360 w 54000"/>
                    <a:gd name="textAreaRight" fmla="*/ 54720 w 5400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Arc 521"/>
                <p:cNvSpPr/>
                <p:nvPr/>
              </p:nvSpPr>
              <p:spPr>
                <a:xfrm flipV="1">
                  <a:off x="5175360" y="1275840"/>
                  <a:ext cx="54360" cy="639720"/>
                </a:xfrm>
                <a:custGeom>
                  <a:avLst/>
                  <a:gdLst>
                    <a:gd name="textAreaLeft" fmla="*/ 0 w 54360"/>
                    <a:gd name="textAreaRight" fmla="*/ 54720 w 5436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Group 522"/>
              <p:cNvGrpSpPr/>
              <p:nvPr/>
            </p:nvGrpSpPr>
            <p:grpSpPr>
              <a:xfrm>
                <a:off x="5229360" y="676440"/>
                <a:ext cx="108720" cy="639720"/>
                <a:chOff x="5229360" y="676440"/>
                <a:chExt cx="108720" cy="639720"/>
              </a:xfrm>
            </p:grpSpPr>
            <p:sp>
              <p:nvSpPr>
                <p:cNvPr id="220" name="Arc 523"/>
                <p:cNvSpPr/>
                <p:nvPr/>
              </p:nvSpPr>
              <p:spPr>
                <a:xfrm flipH="1">
                  <a:off x="5229000" y="676440"/>
                  <a:ext cx="54360" cy="639720"/>
                </a:xfrm>
                <a:custGeom>
                  <a:avLst/>
                  <a:gdLst>
                    <a:gd name="textAreaLeft" fmla="*/ -360 w 54360"/>
                    <a:gd name="textAreaRight" fmla="*/ 54360 w 5436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Arc 524"/>
                <p:cNvSpPr/>
                <p:nvPr/>
              </p:nvSpPr>
              <p:spPr>
                <a:xfrm>
                  <a:off x="5284080" y="676440"/>
                  <a:ext cx="54000" cy="63972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2" name="Group 525"/>
            <p:cNvGrpSpPr/>
            <p:nvPr/>
          </p:nvGrpSpPr>
          <p:grpSpPr>
            <a:xfrm>
              <a:off x="5338080" y="676440"/>
              <a:ext cx="216360" cy="1239480"/>
              <a:chOff x="5338080" y="676440"/>
              <a:chExt cx="216360" cy="1239480"/>
            </a:xfrm>
          </p:grpSpPr>
          <p:grpSp>
            <p:nvGrpSpPr>
              <p:cNvPr id="223" name="Group 526"/>
              <p:cNvGrpSpPr/>
              <p:nvPr/>
            </p:nvGrpSpPr>
            <p:grpSpPr>
              <a:xfrm>
                <a:off x="5338080" y="1276200"/>
                <a:ext cx="108360" cy="639720"/>
                <a:chOff x="5338080" y="1276200"/>
                <a:chExt cx="108360" cy="639720"/>
              </a:xfrm>
            </p:grpSpPr>
            <p:sp>
              <p:nvSpPr>
                <p:cNvPr id="224" name="Arc 527"/>
                <p:cNvSpPr/>
                <p:nvPr/>
              </p:nvSpPr>
              <p:spPr>
                <a:xfrm flipH="1" flipV="1">
                  <a:off x="5338080" y="1275840"/>
                  <a:ext cx="54000" cy="639720"/>
                </a:xfrm>
                <a:custGeom>
                  <a:avLst/>
                  <a:gdLst>
                    <a:gd name="textAreaLeft" fmla="*/ 360 w 54000"/>
                    <a:gd name="textAreaRight" fmla="*/ 54720 w 5400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Arc 528"/>
                <p:cNvSpPr/>
                <p:nvPr/>
              </p:nvSpPr>
              <p:spPr>
                <a:xfrm flipV="1">
                  <a:off x="5392080" y="1275840"/>
                  <a:ext cx="54360" cy="639720"/>
                </a:xfrm>
                <a:custGeom>
                  <a:avLst/>
                  <a:gdLst>
                    <a:gd name="textAreaLeft" fmla="*/ 0 w 54360"/>
                    <a:gd name="textAreaRight" fmla="*/ 54720 w 5436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Group 529"/>
              <p:cNvGrpSpPr/>
              <p:nvPr/>
            </p:nvGrpSpPr>
            <p:grpSpPr>
              <a:xfrm>
                <a:off x="5445720" y="676440"/>
                <a:ext cx="108720" cy="639720"/>
                <a:chOff x="5445720" y="676440"/>
                <a:chExt cx="108720" cy="639720"/>
              </a:xfrm>
            </p:grpSpPr>
            <p:sp>
              <p:nvSpPr>
                <p:cNvPr id="227" name="Arc 530"/>
                <p:cNvSpPr/>
                <p:nvPr/>
              </p:nvSpPr>
              <p:spPr>
                <a:xfrm flipH="1">
                  <a:off x="5445360" y="676440"/>
                  <a:ext cx="54360" cy="639720"/>
                </a:xfrm>
                <a:custGeom>
                  <a:avLst/>
                  <a:gdLst>
                    <a:gd name="textAreaLeft" fmla="*/ -360 w 54360"/>
                    <a:gd name="textAreaRight" fmla="*/ 54360 w 5436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Arc 531"/>
                <p:cNvSpPr/>
                <p:nvPr/>
              </p:nvSpPr>
              <p:spPr>
                <a:xfrm>
                  <a:off x="5500440" y="676440"/>
                  <a:ext cx="54000" cy="63972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29" name="Group 532"/>
          <p:cNvGrpSpPr/>
          <p:nvPr/>
        </p:nvGrpSpPr>
        <p:grpSpPr>
          <a:xfrm>
            <a:off x="6418440" y="676440"/>
            <a:ext cx="433080" cy="1239480"/>
            <a:chOff x="6418440" y="676440"/>
            <a:chExt cx="433080" cy="1239480"/>
          </a:xfrm>
        </p:grpSpPr>
        <p:grpSp>
          <p:nvGrpSpPr>
            <p:cNvPr id="230" name="Group 533"/>
            <p:cNvGrpSpPr/>
            <p:nvPr/>
          </p:nvGrpSpPr>
          <p:grpSpPr>
            <a:xfrm>
              <a:off x="6418440" y="676440"/>
              <a:ext cx="216720" cy="1239480"/>
              <a:chOff x="6418440" y="676440"/>
              <a:chExt cx="216720" cy="1239480"/>
            </a:xfrm>
          </p:grpSpPr>
          <p:grpSp>
            <p:nvGrpSpPr>
              <p:cNvPr id="231" name="Group 534"/>
              <p:cNvGrpSpPr/>
              <p:nvPr/>
            </p:nvGrpSpPr>
            <p:grpSpPr>
              <a:xfrm>
                <a:off x="6418440" y="1276200"/>
                <a:ext cx="108360" cy="639720"/>
                <a:chOff x="6418440" y="1276200"/>
                <a:chExt cx="108360" cy="639720"/>
              </a:xfrm>
            </p:grpSpPr>
            <p:sp>
              <p:nvSpPr>
                <p:cNvPr id="232" name="Arc 535"/>
                <p:cNvSpPr/>
                <p:nvPr/>
              </p:nvSpPr>
              <p:spPr>
                <a:xfrm flipH="1" flipV="1">
                  <a:off x="6418440" y="1275840"/>
                  <a:ext cx="54000" cy="639720"/>
                </a:xfrm>
                <a:custGeom>
                  <a:avLst/>
                  <a:gdLst>
                    <a:gd name="textAreaLeft" fmla="*/ 360 w 54000"/>
                    <a:gd name="textAreaRight" fmla="*/ 54720 w 5400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Arc 536"/>
                <p:cNvSpPr/>
                <p:nvPr/>
              </p:nvSpPr>
              <p:spPr>
                <a:xfrm flipV="1">
                  <a:off x="6472440" y="1275840"/>
                  <a:ext cx="54360" cy="639720"/>
                </a:xfrm>
                <a:custGeom>
                  <a:avLst/>
                  <a:gdLst>
                    <a:gd name="textAreaLeft" fmla="*/ 0 w 54360"/>
                    <a:gd name="textAreaRight" fmla="*/ 54720 w 5436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" name="Group 537"/>
              <p:cNvGrpSpPr/>
              <p:nvPr/>
            </p:nvGrpSpPr>
            <p:grpSpPr>
              <a:xfrm>
                <a:off x="6526440" y="676440"/>
                <a:ext cx="108720" cy="639720"/>
                <a:chOff x="6526440" y="676440"/>
                <a:chExt cx="108720" cy="639720"/>
              </a:xfrm>
            </p:grpSpPr>
            <p:sp>
              <p:nvSpPr>
                <p:cNvPr id="235" name="Arc 538"/>
                <p:cNvSpPr/>
                <p:nvPr/>
              </p:nvSpPr>
              <p:spPr>
                <a:xfrm flipH="1">
                  <a:off x="6526080" y="676440"/>
                  <a:ext cx="54360" cy="639720"/>
                </a:xfrm>
                <a:custGeom>
                  <a:avLst/>
                  <a:gdLst>
                    <a:gd name="textAreaLeft" fmla="*/ -360 w 54360"/>
                    <a:gd name="textAreaRight" fmla="*/ 54360 w 5436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Arc 539"/>
                <p:cNvSpPr/>
                <p:nvPr/>
              </p:nvSpPr>
              <p:spPr>
                <a:xfrm>
                  <a:off x="6581160" y="676440"/>
                  <a:ext cx="54000" cy="63972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7" name="Group 540"/>
            <p:cNvGrpSpPr/>
            <p:nvPr/>
          </p:nvGrpSpPr>
          <p:grpSpPr>
            <a:xfrm>
              <a:off x="6635160" y="676440"/>
              <a:ext cx="216360" cy="1239480"/>
              <a:chOff x="6635160" y="676440"/>
              <a:chExt cx="216360" cy="1239480"/>
            </a:xfrm>
          </p:grpSpPr>
          <p:grpSp>
            <p:nvGrpSpPr>
              <p:cNvPr id="238" name="Group 541"/>
              <p:cNvGrpSpPr/>
              <p:nvPr/>
            </p:nvGrpSpPr>
            <p:grpSpPr>
              <a:xfrm>
                <a:off x="6635160" y="1276200"/>
                <a:ext cx="108360" cy="639720"/>
                <a:chOff x="6635160" y="1276200"/>
                <a:chExt cx="108360" cy="639720"/>
              </a:xfrm>
            </p:grpSpPr>
            <p:sp>
              <p:nvSpPr>
                <p:cNvPr id="239" name="Arc 542"/>
                <p:cNvSpPr/>
                <p:nvPr/>
              </p:nvSpPr>
              <p:spPr>
                <a:xfrm flipH="1" flipV="1">
                  <a:off x="6635160" y="1275840"/>
                  <a:ext cx="54000" cy="639720"/>
                </a:xfrm>
                <a:custGeom>
                  <a:avLst/>
                  <a:gdLst>
                    <a:gd name="textAreaLeft" fmla="*/ 360 w 54000"/>
                    <a:gd name="textAreaRight" fmla="*/ 54720 w 5400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Arc 543"/>
                <p:cNvSpPr/>
                <p:nvPr/>
              </p:nvSpPr>
              <p:spPr>
                <a:xfrm flipV="1">
                  <a:off x="6689160" y="1275840"/>
                  <a:ext cx="54360" cy="639720"/>
                </a:xfrm>
                <a:custGeom>
                  <a:avLst/>
                  <a:gdLst>
                    <a:gd name="textAreaLeft" fmla="*/ 0 w 54360"/>
                    <a:gd name="textAreaRight" fmla="*/ 54720 w 5436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" name="Group 544"/>
              <p:cNvGrpSpPr/>
              <p:nvPr/>
            </p:nvGrpSpPr>
            <p:grpSpPr>
              <a:xfrm>
                <a:off x="6742800" y="676440"/>
                <a:ext cx="108720" cy="639720"/>
                <a:chOff x="6742800" y="676440"/>
                <a:chExt cx="108720" cy="639720"/>
              </a:xfrm>
            </p:grpSpPr>
            <p:sp>
              <p:nvSpPr>
                <p:cNvPr id="242" name="Arc 545"/>
                <p:cNvSpPr/>
                <p:nvPr/>
              </p:nvSpPr>
              <p:spPr>
                <a:xfrm flipH="1">
                  <a:off x="6742440" y="676440"/>
                  <a:ext cx="54360" cy="639720"/>
                </a:xfrm>
                <a:custGeom>
                  <a:avLst/>
                  <a:gdLst>
                    <a:gd name="textAreaLeft" fmla="*/ -360 w 54360"/>
                    <a:gd name="textAreaRight" fmla="*/ 54360 w 5436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Arc 546"/>
                <p:cNvSpPr/>
                <p:nvPr/>
              </p:nvSpPr>
              <p:spPr>
                <a:xfrm>
                  <a:off x="6797520" y="676440"/>
                  <a:ext cx="54000" cy="63972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4" name="Group 547"/>
          <p:cNvGrpSpPr/>
          <p:nvPr/>
        </p:nvGrpSpPr>
        <p:grpSpPr>
          <a:xfrm>
            <a:off x="7713720" y="2835360"/>
            <a:ext cx="433080" cy="1239480"/>
            <a:chOff x="7713720" y="2835360"/>
            <a:chExt cx="433080" cy="1239480"/>
          </a:xfrm>
        </p:grpSpPr>
        <p:grpSp>
          <p:nvGrpSpPr>
            <p:cNvPr id="245" name="Group 548"/>
            <p:cNvGrpSpPr/>
            <p:nvPr/>
          </p:nvGrpSpPr>
          <p:grpSpPr>
            <a:xfrm>
              <a:off x="7713720" y="2835360"/>
              <a:ext cx="216720" cy="1239480"/>
              <a:chOff x="7713720" y="2835360"/>
              <a:chExt cx="216720" cy="1239480"/>
            </a:xfrm>
          </p:grpSpPr>
          <p:grpSp>
            <p:nvGrpSpPr>
              <p:cNvPr id="246" name="Group 549"/>
              <p:cNvGrpSpPr/>
              <p:nvPr/>
            </p:nvGrpSpPr>
            <p:grpSpPr>
              <a:xfrm>
                <a:off x="7713720" y="3435120"/>
                <a:ext cx="108360" cy="639720"/>
                <a:chOff x="7713720" y="3435120"/>
                <a:chExt cx="108360" cy="639720"/>
              </a:xfrm>
            </p:grpSpPr>
            <p:sp>
              <p:nvSpPr>
                <p:cNvPr id="247" name="Arc 550"/>
                <p:cNvSpPr/>
                <p:nvPr/>
              </p:nvSpPr>
              <p:spPr>
                <a:xfrm flipH="1" flipV="1">
                  <a:off x="7713720" y="3434760"/>
                  <a:ext cx="54000" cy="639720"/>
                </a:xfrm>
                <a:custGeom>
                  <a:avLst/>
                  <a:gdLst>
                    <a:gd name="textAreaLeft" fmla="*/ 360 w 54000"/>
                    <a:gd name="textAreaRight" fmla="*/ 54720 w 5400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Arc 551"/>
                <p:cNvSpPr/>
                <p:nvPr/>
              </p:nvSpPr>
              <p:spPr>
                <a:xfrm flipV="1">
                  <a:off x="7767720" y="3434760"/>
                  <a:ext cx="54360" cy="639720"/>
                </a:xfrm>
                <a:custGeom>
                  <a:avLst/>
                  <a:gdLst>
                    <a:gd name="textAreaLeft" fmla="*/ 0 w 54360"/>
                    <a:gd name="textAreaRight" fmla="*/ 54720 w 5436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" name="Group 552"/>
              <p:cNvGrpSpPr/>
              <p:nvPr/>
            </p:nvGrpSpPr>
            <p:grpSpPr>
              <a:xfrm>
                <a:off x="7821720" y="2835360"/>
                <a:ext cx="108720" cy="639720"/>
                <a:chOff x="7821720" y="2835360"/>
                <a:chExt cx="108720" cy="639720"/>
              </a:xfrm>
            </p:grpSpPr>
            <p:sp>
              <p:nvSpPr>
                <p:cNvPr id="250" name="Arc 553"/>
                <p:cNvSpPr/>
                <p:nvPr/>
              </p:nvSpPr>
              <p:spPr>
                <a:xfrm flipH="1">
                  <a:off x="7821360" y="2835360"/>
                  <a:ext cx="54360" cy="639720"/>
                </a:xfrm>
                <a:custGeom>
                  <a:avLst/>
                  <a:gdLst>
                    <a:gd name="textAreaLeft" fmla="*/ -360 w 54360"/>
                    <a:gd name="textAreaRight" fmla="*/ 54360 w 5436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Arc 554"/>
                <p:cNvSpPr/>
                <p:nvPr/>
              </p:nvSpPr>
              <p:spPr>
                <a:xfrm>
                  <a:off x="7876440" y="2835360"/>
                  <a:ext cx="54000" cy="63972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2" name="Group 555"/>
            <p:cNvGrpSpPr/>
            <p:nvPr/>
          </p:nvGrpSpPr>
          <p:grpSpPr>
            <a:xfrm>
              <a:off x="7930440" y="2835360"/>
              <a:ext cx="216360" cy="1239480"/>
              <a:chOff x="7930440" y="2835360"/>
              <a:chExt cx="216360" cy="1239480"/>
            </a:xfrm>
          </p:grpSpPr>
          <p:grpSp>
            <p:nvGrpSpPr>
              <p:cNvPr id="253" name="Group 556"/>
              <p:cNvGrpSpPr/>
              <p:nvPr/>
            </p:nvGrpSpPr>
            <p:grpSpPr>
              <a:xfrm>
                <a:off x="7930440" y="3435120"/>
                <a:ext cx="108360" cy="639720"/>
                <a:chOff x="7930440" y="3435120"/>
                <a:chExt cx="108360" cy="639720"/>
              </a:xfrm>
            </p:grpSpPr>
            <p:sp>
              <p:nvSpPr>
                <p:cNvPr id="254" name="Arc 557"/>
                <p:cNvSpPr/>
                <p:nvPr/>
              </p:nvSpPr>
              <p:spPr>
                <a:xfrm flipH="1" flipV="1">
                  <a:off x="7930440" y="3434760"/>
                  <a:ext cx="54000" cy="639720"/>
                </a:xfrm>
                <a:custGeom>
                  <a:avLst/>
                  <a:gdLst>
                    <a:gd name="textAreaLeft" fmla="*/ 360 w 54000"/>
                    <a:gd name="textAreaRight" fmla="*/ 54720 w 5400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Arc 558"/>
                <p:cNvSpPr/>
                <p:nvPr/>
              </p:nvSpPr>
              <p:spPr>
                <a:xfrm flipV="1">
                  <a:off x="7984440" y="3434760"/>
                  <a:ext cx="54360" cy="639720"/>
                </a:xfrm>
                <a:custGeom>
                  <a:avLst/>
                  <a:gdLst>
                    <a:gd name="textAreaLeft" fmla="*/ 0 w 54360"/>
                    <a:gd name="textAreaRight" fmla="*/ 54720 w 5436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Group 559"/>
              <p:cNvGrpSpPr/>
              <p:nvPr/>
            </p:nvGrpSpPr>
            <p:grpSpPr>
              <a:xfrm>
                <a:off x="8038080" y="2835360"/>
                <a:ext cx="108720" cy="639720"/>
                <a:chOff x="8038080" y="2835360"/>
                <a:chExt cx="108720" cy="639720"/>
              </a:xfrm>
            </p:grpSpPr>
            <p:sp>
              <p:nvSpPr>
                <p:cNvPr id="257" name="Arc 560"/>
                <p:cNvSpPr/>
                <p:nvPr/>
              </p:nvSpPr>
              <p:spPr>
                <a:xfrm flipH="1">
                  <a:off x="8037720" y="2835360"/>
                  <a:ext cx="54360" cy="639720"/>
                </a:xfrm>
                <a:custGeom>
                  <a:avLst/>
                  <a:gdLst>
                    <a:gd name="textAreaLeft" fmla="*/ -360 w 54360"/>
                    <a:gd name="textAreaRight" fmla="*/ 54360 w 5436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Arc 561"/>
                <p:cNvSpPr/>
                <p:nvPr/>
              </p:nvSpPr>
              <p:spPr>
                <a:xfrm>
                  <a:off x="8092800" y="2835360"/>
                  <a:ext cx="54000" cy="63972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59" name="Group 562"/>
          <p:cNvGrpSpPr/>
          <p:nvPr/>
        </p:nvGrpSpPr>
        <p:grpSpPr>
          <a:xfrm>
            <a:off x="7066080" y="2835360"/>
            <a:ext cx="433080" cy="1239480"/>
            <a:chOff x="7066080" y="2835360"/>
            <a:chExt cx="433080" cy="1239480"/>
          </a:xfrm>
        </p:grpSpPr>
        <p:grpSp>
          <p:nvGrpSpPr>
            <p:cNvPr id="260" name="Group 563"/>
            <p:cNvGrpSpPr/>
            <p:nvPr/>
          </p:nvGrpSpPr>
          <p:grpSpPr>
            <a:xfrm>
              <a:off x="7066080" y="2835360"/>
              <a:ext cx="216720" cy="1239480"/>
              <a:chOff x="7066080" y="2835360"/>
              <a:chExt cx="216720" cy="1239480"/>
            </a:xfrm>
          </p:grpSpPr>
          <p:grpSp>
            <p:nvGrpSpPr>
              <p:cNvPr id="261" name="Group 564"/>
              <p:cNvGrpSpPr/>
              <p:nvPr/>
            </p:nvGrpSpPr>
            <p:grpSpPr>
              <a:xfrm>
                <a:off x="7066080" y="3435120"/>
                <a:ext cx="108360" cy="639720"/>
                <a:chOff x="7066080" y="3435120"/>
                <a:chExt cx="108360" cy="639720"/>
              </a:xfrm>
            </p:grpSpPr>
            <p:sp>
              <p:nvSpPr>
                <p:cNvPr id="262" name="Arc 565"/>
                <p:cNvSpPr/>
                <p:nvPr/>
              </p:nvSpPr>
              <p:spPr>
                <a:xfrm flipH="1" flipV="1">
                  <a:off x="7066080" y="3434760"/>
                  <a:ext cx="54000" cy="639720"/>
                </a:xfrm>
                <a:custGeom>
                  <a:avLst/>
                  <a:gdLst>
                    <a:gd name="textAreaLeft" fmla="*/ 360 w 54000"/>
                    <a:gd name="textAreaRight" fmla="*/ 54720 w 5400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Arc 566"/>
                <p:cNvSpPr/>
                <p:nvPr/>
              </p:nvSpPr>
              <p:spPr>
                <a:xfrm flipV="1">
                  <a:off x="7120080" y="3434760"/>
                  <a:ext cx="54360" cy="639720"/>
                </a:xfrm>
                <a:custGeom>
                  <a:avLst/>
                  <a:gdLst>
                    <a:gd name="textAreaLeft" fmla="*/ 0 w 54360"/>
                    <a:gd name="textAreaRight" fmla="*/ 54720 w 5436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" name="Group 567"/>
              <p:cNvGrpSpPr/>
              <p:nvPr/>
            </p:nvGrpSpPr>
            <p:grpSpPr>
              <a:xfrm>
                <a:off x="7174080" y="2835360"/>
                <a:ext cx="108720" cy="639720"/>
                <a:chOff x="7174080" y="2835360"/>
                <a:chExt cx="108720" cy="639720"/>
              </a:xfrm>
            </p:grpSpPr>
            <p:sp>
              <p:nvSpPr>
                <p:cNvPr id="265" name="Arc 568"/>
                <p:cNvSpPr/>
                <p:nvPr/>
              </p:nvSpPr>
              <p:spPr>
                <a:xfrm flipH="1">
                  <a:off x="7173720" y="2835360"/>
                  <a:ext cx="54360" cy="639720"/>
                </a:xfrm>
                <a:custGeom>
                  <a:avLst/>
                  <a:gdLst>
                    <a:gd name="textAreaLeft" fmla="*/ -360 w 54360"/>
                    <a:gd name="textAreaRight" fmla="*/ 54360 w 5436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Arc 569"/>
                <p:cNvSpPr/>
                <p:nvPr/>
              </p:nvSpPr>
              <p:spPr>
                <a:xfrm>
                  <a:off x="7228800" y="2835360"/>
                  <a:ext cx="54000" cy="63972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570"/>
            <p:cNvGrpSpPr/>
            <p:nvPr/>
          </p:nvGrpSpPr>
          <p:grpSpPr>
            <a:xfrm>
              <a:off x="7282800" y="2835360"/>
              <a:ext cx="216360" cy="1239480"/>
              <a:chOff x="7282800" y="2835360"/>
              <a:chExt cx="216360" cy="1239480"/>
            </a:xfrm>
          </p:grpSpPr>
          <p:grpSp>
            <p:nvGrpSpPr>
              <p:cNvPr id="268" name="Group 571"/>
              <p:cNvGrpSpPr/>
              <p:nvPr/>
            </p:nvGrpSpPr>
            <p:grpSpPr>
              <a:xfrm>
                <a:off x="7282800" y="3435120"/>
                <a:ext cx="108360" cy="639720"/>
                <a:chOff x="7282800" y="3435120"/>
                <a:chExt cx="108360" cy="639720"/>
              </a:xfrm>
            </p:grpSpPr>
            <p:sp>
              <p:nvSpPr>
                <p:cNvPr id="269" name="Arc 572"/>
                <p:cNvSpPr/>
                <p:nvPr/>
              </p:nvSpPr>
              <p:spPr>
                <a:xfrm flipH="1" flipV="1">
                  <a:off x="7282800" y="3434760"/>
                  <a:ext cx="54000" cy="639720"/>
                </a:xfrm>
                <a:custGeom>
                  <a:avLst/>
                  <a:gdLst>
                    <a:gd name="textAreaLeft" fmla="*/ 360 w 54000"/>
                    <a:gd name="textAreaRight" fmla="*/ 54720 w 5400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Arc 573"/>
                <p:cNvSpPr/>
                <p:nvPr/>
              </p:nvSpPr>
              <p:spPr>
                <a:xfrm flipV="1">
                  <a:off x="7336800" y="3434760"/>
                  <a:ext cx="54360" cy="639720"/>
                </a:xfrm>
                <a:custGeom>
                  <a:avLst/>
                  <a:gdLst>
                    <a:gd name="textAreaLeft" fmla="*/ 0 w 54360"/>
                    <a:gd name="textAreaRight" fmla="*/ 54720 w 5436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" name="Group 574"/>
              <p:cNvGrpSpPr/>
              <p:nvPr/>
            </p:nvGrpSpPr>
            <p:grpSpPr>
              <a:xfrm>
                <a:off x="7390440" y="2835360"/>
                <a:ext cx="108720" cy="639720"/>
                <a:chOff x="7390440" y="2835360"/>
                <a:chExt cx="108720" cy="639720"/>
              </a:xfrm>
            </p:grpSpPr>
            <p:sp>
              <p:nvSpPr>
                <p:cNvPr id="272" name="Arc 575"/>
                <p:cNvSpPr/>
                <p:nvPr/>
              </p:nvSpPr>
              <p:spPr>
                <a:xfrm flipH="1">
                  <a:off x="7390080" y="2835360"/>
                  <a:ext cx="54360" cy="639720"/>
                </a:xfrm>
                <a:custGeom>
                  <a:avLst/>
                  <a:gdLst>
                    <a:gd name="textAreaLeft" fmla="*/ -360 w 54360"/>
                    <a:gd name="textAreaRight" fmla="*/ 54360 w 5436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Arc 576"/>
                <p:cNvSpPr/>
                <p:nvPr/>
              </p:nvSpPr>
              <p:spPr>
                <a:xfrm>
                  <a:off x="7445160" y="2835360"/>
                  <a:ext cx="54000" cy="63972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577"/>
          <p:cNvGrpSpPr/>
          <p:nvPr/>
        </p:nvGrpSpPr>
        <p:grpSpPr>
          <a:xfrm>
            <a:off x="5769000" y="2835360"/>
            <a:ext cx="433080" cy="1239480"/>
            <a:chOff x="5769000" y="2835360"/>
            <a:chExt cx="433080" cy="1239480"/>
          </a:xfrm>
        </p:grpSpPr>
        <p:grpSp>
          <p:nvGrpSpPr>
            <p:cNvPr id="275" name="Group 578"/>
            <p:cNvGrpSpPr/>
            <p:nvPr/>
          </p:nvGrpSpPr>
          <p:grpSpPr>
            <a:xfrm>
              <a:off x="5769000" y="2835360"/>
              <a:ext cx="216720" cy="1239480"/>
              <a:chOff x="5769000" y="2835360"/>
              <a:chExt cx="216720" cy="1239480"/>
            </a:xfrm>
          </p:grpSpPr>
          <p:grpSp>
            <p:nvGrpSpPr>
              <p:cNvPr id="276" name="Group 579"/>
              <p:cNvGrpSpPr/>
              <p:nvPr/>
            </p:nvGrpSpPr>
            <p:grpSpPr>
              <a:xfrm>
                <a:off x="5769000" y="3435120"/>
                <a:ext cx="108360" cy="639720"/>
                <a:chOff x="5769000" y="3435120"/>
                <a:chExt cx="108360" cy="639720"/>
              </a:xfrm>
            </p:grpSpPr>
            <p:sp>
              <p:nvSpPr>
                <p:cNvPr id="277" name="Arc 580"/>
                <p:cNvSpPr/>
                <p:nvPr/>
              </p:nvSpPr>
              <p:spPr>
                <a:xfrm flipH="1" flipV="1">
                  <a:off x="5769000" y="3434760"/>
                  <a:ext cx="54000" cy="639720"/>
                </a:xfrm>
                <a:custGeom>
                  <a:avLst/>
                  <a:gdLst>
                    <a:gd name="textAreaLeft" fmla="*/ 360 w 54000"/>
                    <a:gd name="textAreaRight" fmla="*/ 54720 w 5400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Arc 581"/>
                <p:cNvSpPr/>
                <p:nvPr/>
              </p:nvSpPr>
              <p:spPr>
                <a:xfrm flipV="1">
                  <a:off x="5823000" y="3434760"/>
                  <a:ext cx="54360" cy="639720"/>
                </a:xfrm>
                <a:custGeom>
                  <a:avLst/>
                  <a:gdLst>
                    <a:gd name="textAreaLeft" fmla="*/ 0 w 54360"/>
                    <a:gd name="textAreaRight" fmla="*/ 54720 w 5436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" name="Group 582"/>
              <p:cNvGrpSpPr/>
              <p:nvPr/>
            </p:nvGrpSpPr>
            <p:grpSpPr>
              <a:xfrm>
                <a:off x="5877000" y="2835360"/>
                <a:ext cx="108720" cy="639720"/>
                <a:chOff x="5877000" y="2835360"/>
                <a:chExt cx="108720" cy="639720"/>
              </a:xfrm>
            </p:grpSpPr>
            <p:sp>
              <p:nvSpPr>
                <p:cNvPr id="280" name="Arc 583"/>
                <p:cNvSpPr/>
                <p:nvPr/>
              </p:nvSpPr>
              <p:spPr>
                <a:xfrm flipH="1">
                  <a:off x="5876640" y="2835360"/>
                  <a:ext cx="54360" cy="639720"/>
                </a:xfrm>
                <a:custGeom>
                  <a:avLst/>
                  <a:gdLst>
                    <a:gd name="textAreaLeft" fmla="*/ -360 w 54360"/>
                    <a:gd name="textAreaRight" fmla="*/ 54360 w 5436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Arc 584"/>
                <p:cNvSpPr/>
                <p:nvPr/>
              </p:nvSpPr>
              <p:spPr>
                <a:xfrm>
                  <a:off x="5931720" y="2835360"/>
                  <a:ext cx="54000" cy="63972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585"/>
            <p:cNvGrpSpPr/>
            <p:nvPr/>
          </p:nvGrpSpPr>
          <p:grpSpPr>
            <a:xfrm>
              <a:off x="5985720" y="2835360"/>
              <a:ext cx="216360" cy="1239480"/>
              <a:chOff x="5985720" y="2835360"/>
              <a:chExt cx="216360" cy="1239480"/>
            </a:xfrm>
          </p:grpSpPr>
          <p:grpSp>
            <p:nvGrpSpPr>
              <p:cNvPr id="283" name="Group 586"/>
              <p:cNvGrpSpPr/>
              <p:nvPr/>
            </p:nvGrpSpPr>
            <p:grpSpPr>
              <a:xfrm>
                <a:off x="5985720" y="3435120"/>
                <a:ext cx="108360" cy="639720"/>
                <a:chOff x="5985720" y="3435120"/>
                <a:chExt cx="108360" cy="639720"/>
              </a:xfrm>
            </p:grpSpPr>
            <p:sp>
              <p:nvSpPr>
                <p:cNvPr id="284" name="Arc 587"/>
                <p:cNvSpPr/>
                <p:nvPr/>
              </p:nvSpPr>
              <p:spPr>
                <a:xfrm flipH="1" flipV="1">
                  <a:off x="5985720" y="3434760"/>
                  <a:ext cx="54000" cy="639720"/>
                </a:xfrm>
                <a:custGeom>
                  <a:avLst/>
                  <a:gdLst>
                    <a:gd name="textAreaLeft" fmla="*/ 360 w 54000"/>
                    <a:gd name="textAreaRight" fmla="*/ 54720 w 5400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Arc 588"/>
                <p:cNvSpPr/>
                <p:nvPr/>
              </p:nvSpPr>
              <p:spPr>
                <a:xfrm flipV="1">
                  <a:off x="6039720" y="3434760"/>
                  <a:ext cx="54360" cy="639720"/>
                </a:xfrm>
                <a:custGeom>
                  <a:avLst/>
                  <a:gdLst>
                    <a:gd name="textAreaLeft" fmla="*/ 0 w 54360"/>
                    <a:gd name="textAreaRight" fmla="*/ 54720 w 5436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589"/>
              <p:cNvGrpSpPr/>
              <p:nvPr/>
            </p:nvGrpSpPr>
            <p:grpSpPr>
              <a:xfrm>
                <a:off x="6093360" y="2835360"/>
                <a:ext cx="108720" cy="639720"/>
                <a:chOff x="6093360" y="2835360"/>
                <a:chExt cx="108720" cy="639720"/>
              </a:xfrm>
            </p:grpSpPr>
            <p:sp>
              <p:nvSpPr>
                <p:cNvPr id="287" name="Arc 590"/>
                <p:cNvSpPr/>
                <p:nvPr/>
              </p:nvSpPr>
              <p:spPr>
                <a:xfrm flipH="1">
                  <a:off x="6093000" y="2835360"/>
                  <a:ext cx="54360" cy="639720"/>
                </a:xfrm>
                <a:custGeom>
                  <a:avLst/>
                  <a:gdLst>
                    <a:gd name="textAreaLeft" fmla="*/ -360 w 54360"/>
                    <a:gd name="textAreaRight" fmla="*/ 54360 w 5436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Arc 591"/>
                <p:cNvSpPr/>
                <p:nvPr/>
              </p:nvSpPr>
              <p:spPr>
                <a:xfrm>
                  <a:off x="6148080" y="2835360"/>
                  <a:ext cx="54000" cy="63972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9" name="Group 592"/>
          <p:cNvGrpSpPr/>
          <p:nvPr/>
        </p:nvGrpSpPr>
        <p:grpSpPr>
          <a:xfrm>
            <a:off x="3825720" y="2835360"/>
            <a:ext cx="433080" cy="1239480"/>
            <a:chOff x="3825720" y="2835360"/>
            <a:chExt cx="433080" cy="1239480"/>
          </a:xfrm>
        </p:grpSpPr>
        <p:grpSp>
          <p:nvGrpSpPr>
            <p:cNvPr id="290" name="Group 593"/>
            <p:cNvGrpSpPr/>
            <p:nvPr/>
          </p:nvGrpSpPr>
          <p:grpSpPr>
            <a:xfrm>
              <a:off x="3825720" y="2835360"/>
              <a:ext cx="216720" cy="1239480"/>
              <a:chOff x="3825720" y="2835360"/>
              <a:chExt cx="216720" cy="1239480"/>
            </a:xfrm>
          </p:grpSpPr>
          <p:grpSp>
            <p:nvGrpSpPr>
              <p:cNvPr id="291" name="Group 594"/>
              <p:cNvGrpSpPr/>
              <p:nvPr/>
            </p:nvGrpSpPr>
            <p:grpSpPr>
              <a:xfrm>
                <a:off x="3825720" y="3435120"/>
                <a:ext cx="108360" cy="639720"/>
                <a:chOff x="3825720" y="3435120"/>
                <a:chExt cx="108360" cy="639720"/>
              </a:xfrm>
            </p:grpSpPr>
            <p:sp>
              <p:nvSpPr>
                <p:cNvPr id="292" name="Arc 595"/>
                <p:cNvSpPr/>
                <p:nvPr/>
              </p:nvSpPr>
              <p:spPr>
                <a:xfrm flipH="1" flipV="1">
                  <a:off x="3825720" y="3434760"/>
                  <a:ext cx="54000" cy="639720"/>
                </a:xfrm>
                <a:custGeom>
                  <a:avLst/>
                  <a:gdLst>
                    <a:gd name="textAreaLeft" fmla="*/ 360 w 54000"/>
                    <a:gd name="textAreaRight" fmla="*/ 54720 w 5400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Arc 596"/>
                <p:cNvSpPr/>
                <p:nvPr/>
              </p:nvSpPr>
              <p:spPr>
                <a:xfrm flipV="1">
                  <a:off x="3879720" y="3434760"/>
                  <a:ext cx="54360" cy="639720"/>
                </a:xfrm>
                <a:custGeom>
                  <a:avLst/>
                  <a:gdLst>
                    <a:gd name="textAreaLeft" fmla="*/ 0 w 54360"/>
                    <a:gd name="textAreaRight" fmla="*/ 54720 w 5436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" name="Group 597"/>
              <p:cNvGrpSpPr/>
              <p:nvPr/>
            </p:nvGrpSpPr>
            <p:grpSpPr>
              <a:xfrm>
                <a:off x="3933720" y="2835360"/>
                <a:ext cx="108720" cy="639720"/>
                <a:chOff x="3933720" y="2835360"/>
                <a:chExt cx="108720" cy="639720"/>
              </a:xfrm>
            </p:grpSpPr>
            <p:sp>
              <p:nvSpPr>
                <p:cNvPr id="295" name="Arc 598"/>
                <p:cNvSpPr/>
                <p:nvPr/>
              </p:nvSpPr>
              <p:spPr>
                <a:xfrm flipH="1">
                  <a:off x="3933360" y="2835360"/>
                  <a:ext cx="54360" cy="639720"/>
                </a:xfrm>
                <a:custGeom>
                  <a:avLst/>
                  <a:gdLst>
                    <a:gd name="textAreaLeft" fmla="*/ -360 w 54360"/>
                    <a:gd name="textAreaRight" fmla="*/ 54360 w 5436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Arc 599"/>
                <p:cNvSpPr/>
                <p:nvPr/>
              </p:nvSpPr>
              <p:spPr>
                <a:xfrm>
                  <a:off x="3988440" y="2835360"/>
                  <a:ext cx="54000" cy="63972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7" name="Group 600"/>
            <p:cNvGrpSpPr/>
            <p:nvPr/>
          </p:nvGrpSpPr>
          <p:grpSpPr>
            <a:xfrm>
              <a:off x="4042440" y="2835360"/>
              <a:ext cx="216360" cy="1239480"/>
              <a:chOff x="4042440" y="2835360"/>
              <a:chExt cx="216360" cy="1239480"/>
            </a:xfrm>
          </p:grpSpPr>
          <p:grpSp>
            <p:nvGrpSpPr>
              <p:cNvPr id="298" name="Group 601"/>
              <p:cNvGrpSpPr/>
              <p:nvPr/>
            </p:nvGrpSpPr>
            <p:grpSpPr>
              <a:xfrm>
                <a:off x="4042440" y="3435120"/>
                <a:ext cx="108360" cy="639720"/>
                <a:chOff x="4042440" y="3435120"/>
                <a:chExt cx="108360" cy="639720"/>
              </a:xfrm>
            </p:grpSpPr>
            <p:sp>
              <p:nvSpPr>
                <p:cNvPr id="299" name="Arc 602"/>
                <p:cNvSpPr/>
                <p:nvPr/>
              </p:nvSpPr>
              <p:spPr>
                <a:xfrm flipH="1" flipV="1">
                  <a:off x="4042440" y="3434760"/>
                  <a:ext cx="54000" cy="639720"/>
                </a:xfrm>
                <a:custGeom>
                  <a:avLst/>
                  <a:gdLst>
                    <a:gd name="textAreaLeft" fmla="*/ 360 w 54000"/>
                    <a:gd name="textAreaRight" fmla="*/ 54720 w 5400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Arc 603"/>
                <p:cNvSpPr/>
                <p:nvPr/>
              </p:nvSpPr>
              <p:spPr>
                <a:xfrm flipV="1">
                  <a:off x="4096440" y="3434760"/>
                  <a:ext cx="54360" cy="639720"/>
                </a:xfrm>
                <a:custGeom>
                  <a:avLst/>
                  <a:gdLst>
                    <a:gd name="textAreaLeft" fmla="*/ 0 w 54360"/>
                    <a:gd name="textAreaRight" fmla="*/ 54720 w 5436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" name="Group 604"/>
              <p:cNvGrpSpPr/>
              <p:nvPr/>
            </p:nvGrpSpPr>
            <p:grpSpPr>
              <a:xfrm>
                <a:off x="4150080" y="2835360"/>
                <a:ext cx="108720" cy="639720"/>
                <a:chOff x="4150080" y="2835360"/>
                <a:chExt cx="108720" cy="639720"/>
              </a:xfrm>
            </p:grpSpPr>
            <p:sp>
              <p:nvSpPr>
                <p:cNvPr id="302" name="Arc 605"/>
                <p:cNvSpPr/>
                <p:nvPr/>
              </p:nvSpPr>
              <p:spPr>
                <a:xfrm flipH="1">
                  <a:off x="4149720" y="2835360"/>
                  <a:ext cx="54360" cy="639720"/>
                </a:xfrm>
                <a:custGeom>
                  <a:avLst/>
                  <a:gdLst>
                    <a:gd name="textAreaLeft" fmla="*/ -360 w 54360"/>
                    <a:gd name="textAreaRight" fmla="*/ 54360 w 5436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Arc 606"/>
                <p:cNvSpPr/>
                <p:nvPr/>
              </p:nvSpPr>
              <p:spPr>
                <a:xfrm>
                  <a:off x="4204800" y="2835360"/>
                  <a:ext cx="54000" cy="63972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4" name="Group 607"/>
          <p:cNvGrpSpPr/>
          <p:nvPr/>
        </p:nvGrpSpPr>
        <p:grpSpPr>
          <a:xfrm>
            <a:off x="3176640" y="2835360"/>
            <a:ext cx="433080" cy="1239480"/>
            <a:chOff x="3176640" y="2835360"/>
            <a:chExt cx="433080" cy="1239480"/>
          </a:xfrm>
        </p:grpSpPr>
        <p:grpSp>
          <p:nvGrpSpPr>
            <p:cNvPr id="305" name="Group 608"/>
            <p:cNvGrpSpPr/>
            <p:nvPr/>
          </p:nvGrpSpPr>
          <p:grpSpPr>
            <a:xfrm>
              <a:off x="3176640" y="2835360"/>
              <a:ext cx="216720" cy="1239480"/>
              <a:chOff x="3176640" y="2835360"/>
              <a:chExt cx="216720" cy="1239480"/>
            </a:xfrm>
          </p:grpSpPr>
          <p:grpSp>
            <p:nvGrpSpPr>
              <p:cNvPr id="306" name="Group 609"/>
              <p:cNvGrpSpPr/>
              <p:nvPr/>
            </p:nvGrpSpPr>
            <p:grpSpPr>
              <a:xfrm>
                <a:off x="3176640" y="3435120"/>
                <a:ext cx="108360" cy="639720"/>
                <a:chOff x="3176640" y="3435120"/>
                <a:chExt cx="108360" cy="639720"/>
              </a:xfrm>
            </p:grpSpPr>
            <p:sp>
              <p:nvSpPr>
                <p:cNvPr id="307" name="Arc 610"/>
                <p:cNvSpPr/>
                <p:nvPr/>
              </p:nvSpPr>
              <p:spPr>
                <a:xfrm flipH="1" flipV="1">
                  <a:off x="3176640" y="3434760"/>
                  <a:ext cx="54000" cy="639720"/>
                </a:xfrm>
                <a:custGeom>
                  <a:avLst/>
                  <a:gdLst>
                    <a:gd name="textAreaLeft" fmla="*/ 360 w 54000"/>
                    <a:gd name="textAreaRight" fmla="*/ 54720 w 5400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Arc 611"/>
                <p:cNvSpPr/>
                <p:nvPr/>
              </p:nvSpPr>
              <p:spPr>
                <a:xfrm flipV="1">
                  <a:off x="3230640" y="3434760"/>
                  <a:ext cx="54360" cy="639720"/>
                </a:xfrm>
                <a:custGeom>
                  <a:avLst/>
                  <a:gdLst>
                    <a:gd name="textAreaLeft" fmla="*/ 0 w 54360"/>
                    <a:gd name="textAreaRight" fmla="*/ 54720 w 5436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Group 612"/>
              <p:cNvGrpSpPr/>
              <p:nvPr/>
            </p:nvGrpSpPr>
            <p:grpSpPr>
              <a:xfrm>
                <a:off x="3284640" y="2835360"/>
                <a:ext cx="108720" cy="639720"/>
                <a:chOff x="3284640" y="2835360"/>
                <a:chExt cx="108720" cy="639720"/>
              </a:xfrm>
            </p:grpSpPr>
            <p:sp>
              <p:nvSpPr>
                <p:cNvPr id="310" name="Arc 613"/>
                <p:cNvSpPr/>
                <p:nvPr/>
              </p:nvSpPr>
              <p:spPr>
                <a:xfrm flipH="1">
                  <a:off x="3284280" y="2835360"/>
                  <a:ext cx="54360" cy="639720"/>
                </a:xfrm>
                <a:custGeom>
                  <a:avLst/>
                  <a:gdLst>
                    <a:gd name="textAreaLeft" fmla="*/ -360 w 54360"/>
                    <a:gd name="textAreaRight" fmla="*/ 54360 w 5436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Arc 614"/>
                <p:cNvSpPr/>
                <p:nvPr/>
              </p:nvSpPr>
              <p:spPr>
                <a:xfrm>
                  <a:off x="3339360" y="2835360"/>
                  <a:ext cx="54000" cy="63972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615"/>
            <p:cNvGrpSpPr/>
            <p:nvPr/>
          </p:nvGrpSpPr>
          <p:grpSpPr>
            <a:xfrm>
              <a:off x="3393360" y="2835360"/>
              <a:ext cx="216360" cy="1239480"/>
              <a:chOff x="3393360" y="2835360"/>
              <a:chExt cx="216360" cy="1239480"/>
            </a:xfrm>
          </p:grpSpPr>
          <p:grpSp>
            <p:nvGrpSpPr>
              <p:cNvPr id="313" name="Group 616"/>
              <p:cNvGrpSpPr/>
              <p:nvPr/>
            </p:nvGrpSpPr>
            <p:grpSpPr>
              <a:xfrm>
                <a:off x="3393360" y="3435120"/>
                <a:ext cx="108360" cy="639720"/>
                <a:chOff x="3393360" y="3435120"/>
                <a:chExt cx="108360" cy="639720"/>
              </a:xfrm>
            </p:grpSpPr>
            <p:sp>
              <p:nvSpPr>
                <p:cNvPr id="314" name="Arc 617"/>
                <p:cNvSpPr/>
                <p:nvPr/>
              </p:nvSpPr>
              <p:spPr>
                <a:xfrm flipH="1" flipV="1">
                  <a:off x="3393360" y="3434760"/>
                  <a:ext cx="54000" cy="639720"/>
                </a:xfrm>
                <a:custGeom>
                  <a:avLst/>
                  <a:gdLst>
                    <a:gd name="textAreaLeft" fmla="*/ 360 w 54000"/>
                    <a:gd name="textAreaRight" fmla="*/ 54720 w 5400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Arc 618"/>
                <p:cNvSpPr/>
                <p:nvPr/>
              </p:nvSpPr>
              <p:spPr>
                <a:xfrm flipV="1">
                  <a:off x="3447360" y="3434760"/>
                  <a:ext cx="54360" cy="639720"/>
                </a:xfrm>
                <a:custGeom>
                  <a:avLst/>
                  <a:gdLst>
                    <a:gd name="textAreaLeft" fmla="*/ 0 w 54360"/>
                    <a:gd name="textAreaRight" fmla="*/ 54720 w 5436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Group 619"/>
              <p:cNvGrpSpPr/>
              <p:nvPr/>
            </p:nvGrpSpPr>
            <p:grpSpPr>
              <a:xfrm>
                <a:off x="3501000" y="2835360"/>
                <a:ext cx="108720" cy="639720"/>
                <a:chOff x="3501000" y="2835360"/>
                <a:chExt cx="108720" cy="639720"/>
              </a:xfrm>
            </p:grpSpPr>
            <p:sp>
              <p:nvSpPr>
                <p:cNvPr id="317" name="Arc 620"/>
                <p:cNvSpPr/>
                <p:nvPr/>
              </p:nvSpPr>
              <p:spPr>
                <a:xfrm flipH="1">
                  <a:off x="3500640" y="2835360"/>
                  <a:ext cx="54360" cy="639720"/>
                </a:xfrm>
                <a:custGeom>
                  <a:avLst/>
                  <a:gdLst>
                    <a:gd name="textAreaLeft" fmla="*/ -360 w 54360"/>
                    <a:gd name="textAreaRight" fmla="*/ 54360 w 5436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Arc 621"/>
                <p:cNvSpPr/>
                <p:nvPr/>
              </p:nvSpPr>
              <p:spPr>
                <a:xfrm>
                  <a:off x="3555720" y="2835360"/>
                  <a:ext cx="54000" cy="63972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9" name="Group 622"/>
          <p:cNvGrpSpPr/>
          <p:nvPr/>
        </p:nvGrpSpPr>
        <p:grpSpPr>
          <a:xfrm>
            <a:off x="3825720" y="4996080"/>
            <a:ext cx="433440" cy="1239480"/>
            <a:chOff x="3825720" y="4996080"/>
            <a:chExt cx="433440" cy="1239480"/>
          </a:xfrm>
        </p:grpSpPr>
        <p:grpSp>
          <p:nvGrpSpPr>
            <p:cNvPr id="320" name="Group 623"/>
            <p:cNvGrpSpPr/>
            <p:nvPr/>
          </p:nvGrpSpPr>
          <p:grpSpPr>
            <a:xfrm>
              <a:off x="3825720" y="4996080"/>
              <a:ext cx="144720" cy="1239480"/>
              <a:chOff x="3825720" y="4996080"/>
              <a:chExt cx="144720" cy="1239480"/>
            </a:xfrm>
          </p:grpSpPr>
          <p:grpSp>
            <p:nvGrpSpPr>
              <p:cNvPr id="321" name="Group 624"/>
              <p:cNvGrpSpPr/>
              <p:nvPr/>
            </p:nvGrpSpPr>
            <p:grpSpPr>
              <a:xfrm>
                <a:off x="3825720" y="4996080"/>
                <a:ext cx="72360" cy="639720"/>
                <a:chOff x="3825720" y="4996080"/>
                <a:chExt cx="72360" cy="639720"/>
              </a:xfrm>
            </p:grpSpPr>
            <p:sp>
              <p:nvSpPr>
                <p:cNvPr id="322" name="Arc 625"/>
                <p:cNvSpPr/>
                <p:nvPr/>
              </p:nvSpPr>
              <p:spPr>
                <a:xfrm flipH="1">
                  <a:off x="3825720" y="4996080"/>
                  <a:ext cx="36000" cy="639720"/>
                </a:xfrm>
                <a:custGeom>
                  <a:avLst/>
                  <a:gdLst>
                    <a:gd name="textAreaLeft" fmla="*/ 360 w 36000"/>
                    <a:gd name="textAreaRight" fmla="*/ 36720 w 3600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Arc 626"/>
                <p:cNvSpPr/>
                <p:nvPr/>
              </p:nvSpPr>
              <p:spPr>
                <a:xfrm>
                  <a:off x="3861720" y="4996080"/>
                  <a:ext cx="36360" cy="63972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Group 627"/>
              <p:cNvGrpSpPr/>
              <p:nvPr/>
            </p:nvGrpSpPr>
            <p:grpSpPr>
              <a:xfrm>
                <a:off x="3897720" y="5595840"/>
                <a:ext cx="72720" cy="639720"/>
                <a:chOff x="3897720" y="5595840"/>
                <a:chExt cx="72720" cy="639720"/>
              </a:xfrm>
            </p:grpSpPr>
            <p:sp>
              <p:nvSpPr>
                <p:cNvPr id="325" name="Arc 628"/>
                <p:cNvSpPr/>
                <p:nvPr/>
              </p:nvSpPr>
              <p:spPr>
                <a:xfrm flipH="1" flipV="1">
                  <a:off x="3897360" y="5595480"/>
                  <a:ext cx="36360" cy="639720"/>
                </a:xfrm>
                <a:custGeom>
                  <a:avLst/>
                  <a:gdLst>
                    <a:gd name="textAreaLeft" fmla="*/ -360 w 36360"/>
                    <a:gd name="textAreaRight" fmla="*/ 36360 w 3636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Arc 629"/>
                <p:cNvSpPr/>
                <p:nvPr/>
              </p:nvSpPr>
              <p:spPr>
                <a:xfrm flipV="1">
                  <a:off x="3934440" y="5595480"/>
                  <a:ext cx="36000" cy="63972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7" name="Group 630"/>
            <p:cNvGrpSpPr/>
            <p:nvPr/>
          </p:nvGrpSpPr>
          <p:grpSpPr>
            <a:xfrm>
              <a:off x="4114440" y="4996080"/>
              <a:ext cx="144720" cy="1239480"/>
              <a:chOff x="4114440" y="4996080"/>
              <a:chExt cx="144720" cy="1239480"/>
            </a:xfrm>
          </p:grpSpPr>
          <p:grpSp>
            <p:nvGrpSpPr>
              <p:cNvPr id="328" name="Group 631"/>
              <p:cNvGrpSpPr/>
              <p:nvPr/>
            </p:nvGrpSpPr>
            <p:grpSpPr>
              <a:xfrm>
                <a:off x="4114440" y="4996080"/>
                <a:ext cx="72360" cy="639720"/>
                <a:chOff x="4114440" y="4996080"/>
                <a:chExt cx="72360" cy="639720"/>
              </a:xfrm>
            </p:grpSpPr>
            <p:sp>
              <p:nvSpPr>
                <p:cNvPr id="329" name="Arc 632"/>
                <p:cNvSpPr/>
                <p:nvPr/>
              </p:nvSpPr>
              <p:spPr>
                <a:xfrm flipH="1">
                  <a:off x="4114440" y="4996080"/>
                  <a:ext cx="36000" cy="639720"/>
                </a:xfrm>
                <a:custGeom>
                  <a:avLst/>
                  <a:gdLst>
                    <a:gd name="textAreaLeft" fmla="*/ 360 w 36000"/>
                    <a:gd name="textAreaRight" fmla="*/ 36720 w 3600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Arc 633"/>
                <p:cNvSpPr/>
                <p:nvPr/>
              </p:nvSpPr>
              <p:spPr>
                <a:xfrm>
                  <a:off x="4150440" y="4996080"/>
                  <a:ext cx="36360" cy="63972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Group 634"/>
              <p:cNvGrpSpPr/>
              <p:nvPr/>
            </p:nvGrpSpPr>
            <p:grpSpPr>
              <a:xfrm>
                <a:off x="4186440" y="5595840"/>
                <a:ext cx="72720" cy="639720"/>
                <a:chOff x="4186440" y="5595840"/>
                <a:chExt cx="72720" cy="639720"/>
              </a:xfrm>
            </p:grpSpPr>
            <p:sp>
              <p:nvSpPr>
                <p:cNvPr id="332" name="Arc 635"/>
                <p:cNvSpPr/>
                <p:nvPr/>
              </p:nvSpPr>
              <p:spPr>
                <a:xfrm flipH="1" flipV="1">
                  <a:off x="4186080" y="5595480"/>
                  <a:ext cx="36360" cy="639720"/>
                </a:xfrm>
                <a:custGeom>
                  <a:avLst/>
                  <a:gdLst>
                    <a:gd name="textAreaLeft" fmla="*/ -360 w 36360"/>
                    <a:gd name="textAreaRight" fmla="*/ 36360 w 3636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Arc 636"/>
                <p:cNvSpPr/>
                <p:nvPr/>
              </p:nvSpPr>
              <p:spPr>
                <a:xfrm flipV="1">
                  <a:off x="4223160" y="5595480"/>
                  <a:ext cx="36000" cy="63972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637"/>
            <p:cNvGrpSpPr/>
            <p:nvPr/>
          </p:nvGrpSpPr>
          <p:grpSpPr>
            <a:xfrm>
              <a:off x="3970440" y="4996080"/>
              <a:ext cx="144720" cy="1239480"/>
              <a:chOff x="3970440" y="4996080"/>
              <a:chExt cx="144720" cy="1239480"/>
            </a:xfrm>
          </p:grpSpPr>
          <p:grpSp>
            <p:nvGrpSpPr>
              <p:cNvPr id="335" name="Group 638"/>
              <p:cNvGrpSpPr/>
              <p:nvPr/>
            </p:nvGrpSpPr>
            <p:grpSpPr>
              <a:xfrm>
                <a:off x="3970440" y="4996080"/>
                <a:ext cx="72360" cy="639720"/>
                <a:chOff x="3970440" y="4996080"/>
                <a:chExt cx="72360" cy="639720"/>
              </a:xfrm>
            </p:grpSpPr>
            <p:sp>
              <p:nvSpPr>
                <p:cNvPr id="336" name="Arc 639"/>
                <p:cNvSpPr/>
                <p:nvPr/>
              </p:nvSpPr>
              <p:spPr>
                <a:xfrm flipH="1">
                  <a:off x="3970440" y="4996080"/>
                  <a:ext cx="36000" cy="639720"/>
                </a:xfrm>
                <a:custGeom>
                  <a:avLst/>
                  <a:gdLst>
                    <a:gd name="textAreaLeft" fmla="*/ 360 w 36000"/>
                    <a:gd name="textAreaRight" fmla="*/ 36720 w 3600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Arc 640"/>
                <p:cNvSpPr/>
                <p:nvPr/>
              </p:nvSpPr>
              <p:spPr>
                <a:xfrm>
                  <a:off x="4006440" y="4996080"/>
                  <a:ext cx="36360" cy="63972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" name="Group 641"/>
              <p:cNvGrpSpPr/>
              <p:nvPr/>
            </p:nvGrpSpPr>
            <p:grpSpPr>
              <a:xfrm>
                <a:off x="4042440" y="5595840"/>
                <a:ext cx="72720" cy="639720"/>
                <a:chOff x="4042440" y="5595840"/>
                <a:chExt cx="72720" cy="639720"/>
              </a:xfrm>
            </p:grpSpPr>
            <p:sp>
              <p:nvSpPr>
                <p:cNvPr id="339" name="Arc 642"/>
                <p:cNvSpPr/>
                <p:nvPr/>
              </p:nvSpPr>
              <p:spPr>
                <a:xfrm flipH="1" flipV="1">
                  <a:off x="4042080" y="5595480"/>
                  <a:ext cx="36360" cy="639720"/>
                </a:xfrm>
                <a:custGeom>
                  <a:avLst/>
                  <a:gdLst>
                    <a:gd name="textAreaLeft" fmla="*/ -360 w 36360"/>
                    <a:gd name="textAreaRight" fmla="*/ 36360 w 3636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Arc 643"/>
                <p:cNvSpPr/>
                <p:nvPr/>
              </p:nvSpPr>
              <p:spPr>
                <a:xfrm flipV="1">
                  <a:off x="4079160" y="5595480"/>
                  <a:ext cx="36000" cy="63972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41" name="Group 644"/>
          <p:cNvGrpSpPr/>
          <p:nvPr/>
        </p:nvGrpSpPr>
        <p:grpSpPr>
          <a:xfrm>
            <a:off x="7066080" y="4996080"/>
            <a:ext cx="433440" cy="1239480"/>
            <a:chOff x="7066080" y="4996080"/>
            <a:chExt cx="433440" cy="1239480"/>
          </a:xfrm>
        </p:grpSpPr>
        <p:grpSp>
          <p:nvGrpSpPr>
            <p:cNvPr id="342" name="Group 645"/>
            <p:cNvGrpSpPr/>
            <p:nvPr/>
          </p:nvGrpSpPr>
          <p:grpSpPr>
            <a:xfrm>
              <a:off x="7066080" y="4996080"/>
              <a:ext cx="144720" cy="1239480"/>
              <a:chOff x="7066080" y="4996080"/>
              <a:chExt cx="144720" cy="1239480"/>
            </a:xfrm>
          </p:grpSpPr>
          <p:grpSp>
            <p:nvGrpSpPr>
              <p:cNvPr id="343" name="Group 646"/>
              <p:cNvGrpSpPr/>
              <p:nvPr/>
            </p:nvGrpSpPr>
            <p:grpSpPr>
              <a:xfrm>
                <a:off x="7066080" y="4996080"/>
                <a:ext cx="72360" cy="639720"/>
                <a:chOff x="7066080" y="4996080"/>
                <a:chExt cx="72360" cy="639720"/>
              </a:xfrm>
            </p:grpSpPr>
            <p:sp>
              <p:nvSpPr>
                <p:cNvPr id="344" name="Arc 647"/>
                <p:cNvSpPr/>
                <p:nvPr/>
              </p:nvSpPr>
              <p:spPr>
                <a:xfrm flipH="1">
                  <a:off x="7066080" y="4996080"/>
                  <a:ext cx="36000" cy="639720"/>
                </a:xfrm>
                <a:custGeom>
                  <a:avLst/>
                  <a:gdLst>
                    <a:gd name="textAreaLeft" fmla="*/ 360 w 36000"/>
                    <a:gd name="textAreaRight" fmla="*/ 36720 w 3600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Arc 648"/>
                <p:cNvSpPr/>
                <p:nvPr/>
              </p:nvSpPr>
              <p:spPr>
                <a:xfrm>
                  <a:off x="7102080" y="4996080"/>
                  <a:ext cx="36360" cy="63972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6" name="Group 649"/>
              <p:cNvGrpSpPr/>
              <p:nvPr/>
            </p:nvGrpSpPr>
            <p:grpSpPr>
              <a:xfrm>
                <a:off x="7138080" y="5595840"/>
                <a:ext cx="72720" cy="639720"/>
                <a:chOff x="7138080" y="5595840"/>
                <a:chExt cx="72720" cy="639720"/>
              </a:xfrm>
            </p:grpSpPr>
            <p:sp>
              <p:nvSpPr>
                <p:cNvPr id="347" name="Arc 650"/>
                <p:cNvSpPr/>
                <p:nvPr/>
              </p:nvSpPr>
              <p:spPr>
                <a:xfrm flipH="1" flipV="1">
                  <a:off x="7137720" y="5595480"/>
                  <a:ext cx="36360" cy="639720"/>
                </a:xfrm>
                <a:custGeom>
                  <a:avLst/>
                  <a:gdLst>
                    <a:gd name="textAreaLeft" fmla="*/ -360 w 36360"/>
                    <a:gd name="textAreaRight" fmla="*/ 36360 w 3636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Arc 651"/>
                <p:cNvSpPr/>
                <p:nvPr/>
              </p:nvSpPr>
              <p:spPr>
                <a:xfrm flipV="1">
                  <a:off x="7174800" y="5595480"/>
                  <a:ext cx="36000" cy="63972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9" name="Group 652"/>
            <p:cNvGrpSpPr/>
            <p:nvPr/>
          </p:nvGrpSpPr>
          <p:grpSpPr>
            <a:xfrm>
              <a:off x="7354800" y="4996080"/>
              <a:ext cx="144720" cy="1239480"/>
              <a:chOff x="7354800" y="4996080"/>
              <a:chExt cx="144720" cy="1239480"/>
            </a:xfrm>
          </p:grpSpPr>
          <p:grpSp>
            <p:nvGrpSpPr>
              <p:cNvPr id="350" name="Group 653"/>
              <p:cNvGrpSpPr/>
              <p:nvPr/>
            </p:nvGrpSpPr>
            <p:grpSpPr>
              <a:xfrm>
                <a:off x="7354800" y="4996080"/>
                <a:ext cx="72360" cy="639720"/>
                <a:chOff x="7354800" y="4996080"/>
                <a:chExt cx="72360" cy="639720"/>
              </a:xfrm>
            </p:grpSpPr>
            <p:sp>
              <p:nvSpPr>
                <p:cNvPr id="351" name="Arc 654"/>
                <p:cNvSpPr/>
                <p:nvPr/>
              </p:nvSpPr>
              <p:spPr>
                <a:xfrm flipH="1">
                  <a:off x="7354800" y="4996080"/>
                  <a:ext cx="36000" cy="639720"/>
                </a:xfrm>
                <a:custGeom>
                  <a:avLst/>
                  <a:gdLst>
                    <a:gd name="textAreaLeft" fmla="*/ 360 w 36000"/>
                    <a:gd name="textAreaRight" fmla="*/ 36720 w 3600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Arc 655"/>
                <p:cNvSpPr/>
                <p:nvPr/>
              </p:nvSpPr>
              <p:spPr>
                <a:xfrm>
                  <a:off x="7390800" y="4996080"/>
                  <a:ext cx="36360" cy="63972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3" name="Group 656"/>
              <p:cNvGrpSpPr/>
              <p:nvPr/>
            </p:nvGrpSpPr>
            <p:grpSpPr>
              <a:xfrm>
                <a:off x="7426800" y="5595840"/>
                <a:ext cx="72720" cy="639720"/>
                <a:chOff x="7426800" y="5595840"/>
                <a:chExt cx="72720" cy="639720"/>
              </a:xfrm>
            </p:grpSpPr>
            <p:sp>
              <p:nvSpPr>
                <p:cNvPr id="354" name="Arc 657"/>
                <p:cNvSpPr/>
                <p:nvPr/>
              </p:nvSpPr>
              <p:spPr>
                <a:xfrm flipH="1" flipV="1">
                  <a:off x="7426440" y="5595480"/>
                  <a:ext cx="36360" cy="639720"/>
                </a:xfrm>
                <a:custGeom>
                  <a:avLst/>
                  <a:gdLst>
                    <a:gd name="textAreaLeft" fmla="*/ -360 w 36360"/>
                    <a:gd name="textAreaRight" fmla="*/ 36360 w 3636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Arc 658"/>
                <p:cNvSpPr/>
                <p:nvPr/>
              </p:nvSpPr>
              <p:spPr>
                <a:xfrm flipV="1">
                  <a:off x="7463520" y="5595480"/>
                  <a:ext cx="36000" cy="63972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6" name="Group 659"/>
            <p:cNvGrpSpPr/>
            <p:nvPr/>
          </p:nvGrpSpPr>
          <p:grpSpPr>
            <a:xfrm>
              <a:off x="7210800" y="4996080"/>
              <a:ext cx="144720" cy="1239480"/>
              <a:chOff x="7210800" y="4996080"/>
              <a:chExt cx="144720" cy="1239480"/>
            </a:xfrm>
          </p:grpSpPr>
          <p:grpSp>
            <p:nvGrpSpPr>
              <p:cNvPr id="357" name="Group 660"/>
              <p:cNvGrpSpPr/>
              <p:nvPr/>
            </p:nvGrpSpPr>
            <p:grpSpPr>
              <a:xfrm>
                <a:off x="7210800" y="4996080"/>
                <a:ext cx="72360" cy="639720"/>
                <a:chOff x="7210800" y="4996080"/>
                <a:chExt cx="72360" cy="639720"/>
              </a:xfrm>
            </p:grpSpPr>
            <p:sp>
              <p:nvSpPr>
                <p:cNvPr id="358" name="Arc 661"/>
                <p:cNvSpPr/>
                <p:nvPr/>
              </p:nvSpPr>
              <p:spPr>
                <a:xfrm flipH="1">
                  <a:off x="7210800" y="4996080"/>
                  <a:ext cx="36000" cy="639720"/>
                </a:xfrm>
                <a:custGeom>
                  <a:avLst/>
                  <a:gdLst>
                    <a:gd name="textAreaLeft" fmla="*/ 360 w 36000"/>
                    <a:gd name="textAreaRight" fmla="*/ 36720 w 3600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Arc 662"/>
                <p:cNvSpPr/>
                <p:nvPr/>
              </p:nvSpPr>
              <p:spPr>
                <a:xfrm>
                  <a:off x="7246800" y="4996080"/>
                  <a:ext cx="36360" cy="63972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" name="Group 663"/>
              <p:cNvGrpSpPr/>
              <p:nvPr/>
            </p:nvGrpSpPr>
            <p:grpSpPr>
              <a:xfrm>
                <a:off x="7282800" y="5595840"/>
                <a:ext cx="72720" cy="639720"/>
                <a:chOff x="7282800" y="5595840"/>
                <a:chExt cx="72720" cy="639720"/>
              </a:xfrm>
            </p:grpSpPr>
            <p:sp>
              <p:nvSpPr>
                <p:cNvPr id="361" name="Arc 664"/>
                <p:cNvSpPr/>
                <p:nvPr/>
              </p:nvSpPr>
              <p:spPr>
                <a:xfrm flipH="1" flipV="1">
                  <a:off x="7282440" y="5595480"/>
                  <a:ext cx="36360" cy="639720"/>
                </a:xfrm>
                <a:custGeom>
                  <a:avLst/>
                  <a:gdLst>
                    <a:gd name="textAreaLeft" fmla="*/ -360 w 36360"/>
                    <a:gd name="textAreaRight" fmla="*/ 36360 w 3636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Arc 665"/>
                <p:cNvSpPr/>
                <p:nvPr/>
              </p:nvSpPr>
              <p:spPr>
                <a:xfrm flipV="1">
                  <a:off x="7319520" y="5595480"/>
                  <a:ext cx="36000" cy="63972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63" name="Group 666"/>
          <p:cNvGrpSpPr/>
          <p:nvPr/>
        </p:nvGrpSpPr>
        <p:grpSpPr>
          <a:xfrm>
            <a:off x="4473720" y="2835360"/>
            <a:ext cx="432720" cy="1239480"/>
            <a:chOff x="4473720" y="2835360"/>
            <a:chExt cx="432720" cy="1239480"/>
          </a:xfrm>
        </p:grpSpPr>
        <p:grpSp>
          <p:nvGrpSpPr>
            <p:cNvPr id="364" name="Group 667"/>
            <p:cNvGrpSpPr/>
            <p:nvPr/>
          </p:nvGrpSpPr>
          <p:grpSpPr>
            <a:xfrm>
              <a:off x="4473720" y="2835360"/>
              <a:ext cx="144360" cy="1239480"/>
              <a:chOff x="4473720" y="2835360"/>
              <a:chExt cx="144360" cy="1239480"/>
            </a:xfrm>
          </p:grpSpPr>
          <p:grpSp>
            <p:nvGrpSpPr>
              <p:cNvPr id="365" name="Group 668"/>
              <p:cNvGrpSpPr/>
              <p:nvPr/>
            </p:nvGrpSpPr>
            <p:grpSpPr>
              <a:xfrm>
                <a:off x="4473720" y="3435120"/>
                <a:ext cx="72360" cy="639720"/>
                <a:chOff x="4473720" y="3435120"/>
                <a:chExt cx="72360" cy="639720"/>
              </a:xfrm>
            </p:grpSpPr>
            <p:sp>
              <p:nvSpPr>
                <p:cNvPr id="366" name="Arc 669"/>
                <p:cNvSpPr/>
                <p:nvPr/>
              </p:nvSpPr>
              <p:spPr>
                <a:xfrm flipH="1" flipV="1">
                  <a:off x="4473720" y="3434760"/>
                  <a:ext cx="36000" cy="639720"/>
                </a:xfrm>
                <a:custGeom>
                  <a:avLst/>
                  <a:gdLst>
                    <a:gd name="textAreaLeft" fmla="*/ 360 w 36000"/>
                    <a:gd name="textAreaRight" fmla="*/ 36720 w 3600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Arc 670"/>
                <p:cNvSpPr/>
                <p:nvPr/>
              </p:nvSpPr>
              <p:spPr>
                <a:xfrm flipV="1">
                  <a:off x="4509720" y="3434760"/>
                  <a:ext cx="36360" cy="63972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8" name="Group 671"/>
              <p:cNvGrpSpPr/>
              <p:nvPr/>
            </p:nvGrpSpPr>
            <p:grpSpPr>
              <a:xfrm>
                <a:off x="4545360" y="2835360"/>
                <a:ext cx="72720" cy="639720"/>
                <a:chOff x="4545360" y="2835360"/>
                <a:chExt cx="72720" cy="639720"/>
              </a:xfrm>
            </p:grpSpPr>
            <p:sp>
              <p:nvSpPr>
                <p:cNvPr id="369" name="Arc 672"/>
                <p:cNvSpPr/>
                <p:nvPr/>
              </p:nvSpPr>
              <p:spPr>
                <a:xfrm flipH="1">
                  <a:off x="4545000" y="2835360"/>
                  <a:ext cx="36360" cy="639720"/>
                </a:xfrm>
                <a:custGeom>
                  <a:avLst/>
                  <a:gdLst>
                    <a:gd name="textAreaLeft" fmla="*/ -360 w 36360"/>
                    <a:gd name="textAreaRight" fmla="*/ 36360 w 3636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Arc 673"/>
                <p:cNvSpPr/>
                <p:nvPr/>
              </p:nvSpPr>
              <p:spPr>
                <a:xfrm>
                  <a:off x="4582080" y="2835360"/>
                  <a:ext cx="36000" cy="63972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1" name="Group 674"/>
            <p:cNvGrpSpPr/>
            <p:nvPr/>
          </p:nvGrpSpPr>
          <p:grpSpPr>
            <a:xfrm>
              <a:off x="4762080" y="2835360"/>
              <a:ext cx="144360" cy="1239480"/>
              <a:chOff x="4762080" y="2835360"/>
              <a:chExt cx="144360" cy="1239480"/>
            </a:xfrm>
          </p:grpSpPr>
          <p:grpSp>
            <p:nvGrpSpPr>
              <p:cNvPr id="372" name="Group 675"/>
              <p:cNvGrpSpPr/>
              <p:nvPr/>
            </p:nvGrpSpPr>
            <p:grpSpPr>
              <a:xfrm>
                <a:off x="4762080" y="3435120"/>
                <a:ext cx="72360" cy="639720"/>
                <a:chOff x="4762080" y="3435120"/>
                <a:chExt cx="72360" cy="639720"/>
              </a:xfrm>
            </p:grpSpPr>
            <p:sp>
              <p:nvSpPr>
                <p:cNvPr id="373" name="Arc 676"/>
                <p:cNvSpPr/>
                <p:nvPr/>
              </p:nvSpPr>
              <p:spPr>
                <a:xfrm flipH="1" flipV="1">
                  <a:off x="4762080" y="3434760"/>
                  <a:ext cx="36000" cy="639720"/>
                </a:xfrm>
                <a:custGeom>
                  <a:avLst/>
                  <a:gdLst>
                    <a:gd name="textAreaLeft" fmla="*/ 360 w 36000"/>
                    <a:gd name="textAreaRight" fmla="*/ 36720 w 3600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Arc 677"/>
                <p:cNvSpPr/>
                <p:nvPr/>
              </p:nvSpPr>
              <p:spPr>
                <a:xfrm flipV="1">
                  <a:off x="4798080" y="3434760"/>
                  <a:ext cx="36360" cy="63972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5" name="Group 678"/>
              <p:cNvGrpSpPr/>
              <p:nvPr/>
            </p:nvGrpSpPr>
            <p:grpSpPr>
              <a:xfrm>
                <a:off x="4833720" y="2835360"/>
                <a:ext cx="72720" cy="639720"/>
                <a:chOff x="4833720" y="2835360"/>
                <a:chExt cx="72720" cy="639720"/>
              </a:xfrm>
            </p:grpSpPr>
            <p:sp>
              <p:nvSpPr>
                <p:cNvPr id="376" name="Arc 679"/>
                <p:cNvSpPr/>
                <p:nvPr/>
              </p:nvSpPr>
              <p:spPr>
                <a:xfrm flipH="1">
                  <a:off x="4833360" y="2835360"/>
                  <a:ext cx="36360" cy="639720"/>
                </a:xfrm>
                <a:custGeom>
                  <a:avLst/>
                  <a:gdLst>
                    <a:gd name="textAreaLeft" fmla="*/ -360 w 36360"/>
                    <a:gd name="textAreaRight" fmla="*/ 36360 w 3636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Arc 680"/>
                <p:cNvSpPr/>
                <p:nvPr/>
              </p:nvSpPr>
              <p:spPr>
                <a:xfrm>
                  <a:off x="4870440" y="2835360"/>
                  <a:ext cx="36000" cy="63972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8" name="Group 681"/>
            <p:cNvGrpSpPr/>
            <p:nvPr/>
          </p:nvGrpSpPr>
          <p:grpSpPr>
            <a:xfrm>
              <a:off x="4618080" y="2835360"/>
              <a:ext cx="144360" cy="1239480"/>
              <a:chOff x="4618080" y="2835360"/>
              <a:chExt cx="144360" cy="1239480"/>
            </a:xfrm>
          </p:grpSpPr>
          <p:grpSp>
            <p:nvGrpSpPr>
              <p:cNvPr id="379" name="Group 682"/>
              <p:cNvGrpSpPr/>
              <p:nvPr/>
            </p:nvGrpSpPr>
            <p:grpSpPr>
              <a:xfrm>
                <a:off x="4618080" y="3435120"/>
                <a:ext cx="72360" cy="639720"/>
                <a:chOff x="4618080" y="3435120"/>
                <a:chExt cx="72360" cy="639720"/>
              </a:xfrm>
            </p:grpSpPr>
            <p:sp>
              <p:nvSpPr>
                <p:cNvPr id="380" name="Arc 683"/>
                <p:cNvSpPr/>
                <p:nvPr/>
              </p:nvSpPr>
              <p:spPr>
                <a:xfrm flipH="1" flipV="1">
                  <a:off x="4618080" y="3434760"/>
                  <a:ext cx="36000" cy="639720"/>
                </a:xfrm>
                <a:custGeom>
                  <a:avLst/>
                  <a:gdLst>
                    <a:gd name="textAreaLeft" fmla="*/ 360 w 36000"/>
                    <a:gd name="textAreaRight" fmla="*/ 36720 w 3600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Arc 684"/>
                <p:cNvSpPr/>
                <p:nvPr/>
              </p:nvSpPr>
              <p:spPr>
                <a:xfrm flipV="1">
                  <a:off x="4654080" y="3434760"/>
                  <a:ext cx="36360" cy="63972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2" name="Group 685"/>
              <p:cNvGrpSpPr/>
              <p:nvPr/>
            </p:nvGrpSpPr>
            <p:grpSpPr>
              <a:xfrm>
                <a:off x="4689720" y="2835360"/>
                <a:ext cx="72720" cy="639720"/>
                <a:chOff x="4689720" y="2835360"/>
                <a:chExt cx="72720" cy="639720"/>
              </a:xfrm>
            </p:grpSpPr>
            <p:sp>
              <p:nvSpPr>
                <p:cNvPr id="383" name="Arc 686"/>
                <p:cNvSpPr/>
                <p:nvPr/>
              </p:nvSpPr>
              <p:spPr>
                <a:xfrm flipH="1">
                  <a:off x="4689360" y="2835360"/>
                  <a:ext cx="36360" cy="639720"/>
                </a:xfrm>
                <a:custGeom>
                  <a:avLst/>
                  <a:gdLst>
                    <a:gd name="textAreaLeft" fmla="*/ -360 w 36360"/>
                    <a:gd name="textAreaRight" fmla="*/ 36360 w 3636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Arc 687"/>
                <p:cNvSpPr/>
                <p:nvPr/>
              </p:nvSpPr>
              <p:spPr>
                <a:xfrm>
                  <a:off x="4726440" y="2835360"/>
                  <a:ext cx="36000" cy="63972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85" name="Group 688"/>
          <p:cNvGrpSpPr/>
          <p:nvPr/>
        </p:nvGrpSpPr>
        <p:grpSpPr>
          <a:xfrm>
            <a:off x="5121360" y="2835360"/>
            <a:ext cx="433440" cy="1239480"/>
            <a:chOff x="5121360" y="2835360"/>
            <a:chExt cx="433440" cy="1239480"/>
          </a:xfrm>
        </p:grpSpPr>
        <p:grpSp>
          <p:nvGrpSpPr>
            <p:cNvPr id="386" name="Group 689"/>
            <p:cNvGrpSpPr/>
            <p:nvPr/>
          </p:nvGrpSpPr>
          <p:grpSpPr>
            <a:xfrm>
              <a:off x="5121360" y="2835360"/>
              <a:ext cx="144720" cy="1239480"/>
              <a:chOff x="5121360" y="2835360"/>
              <a:chExt cx="144720" cy="1239480"/>
            </a:xfrm>
          </p:grpSpPr>
          <p:grpSp>
            <p:nvGrpSpPr>
              <p:cNvPr id="387" name="Group 690"/>
              <p:cNvGrpSpPr/>
              <p:nvPr/>
            </p:nvGrpSpPr>
            <p:grpSpPr>
              <a:xfrm>
                <a:off x="5121360" y="3435120"/>
                <a:ext cx="72360" cy="639720"/>
                <a:chOff x="5121360" y="3435120"/>
                <a:chExt cx="72360" cy="639720"/>
              </a:xfrm>
            </p:grpSpPr>
            <p:sp>
              <p:nvSpPr>
                <p:cNvPr id="388" name="Arc 691"/>
                <p:cNvSpPr/>
                <p:nvPr/>
              </p:nvSpPr>
              <p:spPr>
                <a:xfrm flipH="1" flipV="1">
                  <a:off x="5121360" y="3434760"/>
                  <a:ext cx="36000" cy="639720"/>
                </a:xfrm>
                <a:custGeom>
                  <a:avLst/>
                  <a:gdLst>
                    <a:gd name="textAreaLeft" fmla="*/ 360 w 36000"/>
                    <a:gd name="textAreaRight" fmla="*/ 36720 w 3600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Arc 692"/>
                <p:cNvSpPr/>
                <p:nvPr/>
              </p:nvSpPr>
              <p:spPr>
                <a:xfrm flipV="1">
                  <a:off x="5157360" y="3434760"/>
                  <a:ext cx="36360" cy="63972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0" name="Group 693"/>
              <p:cNvGrpSpPr/>
              <p:nvPr/>
            </p:nvGrpSpPr>
            <p:grpSpPr>
              <a:xfrm>
                <a:off x="5193360" y="2835360"/>
                <a:ext cx="72720" cy="639720"/>
                <a:chOff x="5193360" y="2835360"/>
                <a:chExt cx="72720" cy="639720"/>
              </a:xfrm>
            </p:grpSpPr>
            <p:sp>
              <p:nvSpPr>
                <p:cNvPr id="391" name="Arc 694"/>
                <p:cNvSpPr/>
                <p:nvPr/>
              </p:nvSpPr>
              <p:spPr>
                <a:xfrm flipH="1">
                  <a:off x="5193000" y="2835360"/>
                  <a:ext cx="36360" cy="639720"/>
                </a:xfrm>
                <a:custGeom>
                  <a:avLst/>
                  <a:gdLst>
                    <a:gd name="textAreaLeft" fmla="*/ -360 w 36360"/>
                    <a:gd name="textAreaRight" fmla="*/ 36360 w 3636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Arc 695"/>
                <p:cNvSpPr/>
                <p:nvPr/>
              </p:nvSpPr>
              <p:spPr>
                <a:xfrm>
                  <a:off x="5230080" y="2835360"/>
                  <a:ext cx="36000" cy="63972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3" name="Group 696"/>
            <p:cNvGrpSpPr/>
            <p:nvPr/>
          </p:nvGrpSpPr>
          <p:grpSpPr>
            <a:xfrm>
              <a:off x="5410080" y="2835360"/>
              <a:ext cx="144720" cy="1239480"/>
              <a:chOff x="5410080" y="2835360"/>
              <a:chExt cx="144720" cy="1239480"/>
            </a:xfrm>
          </p:grpSpPr>
          <p:grpSp>
            <p:nvGrpSpPr>
              <p:cNvPr id="394" name="Group 697"/>
              <p:cNvGrpSpPr/>
              <p:nvPr/>
            </p:nvGrpSpPr>
            <p:grpSpPr>
              <a:xfrm>
                <a:off x="5410080" y="3435120"/>
                <a:ext cx="72360" cy="639720"/>
                <a:chOff x="5410080" y="3435120"/>
                <a:chExt cx="72360" cy="639720"/>
              </a:xfrm>
            </p:grpSpPr>
            <p:sp>
              <p:nvSpPr>
                <p:cNvPr id="395" name="Arc 698"/>
                <p:cNvSpPr/>
                <p:nvPr/>
              </p:nvSpPr>
              <p:spPr>
                <a:xfrm flipH="1" flipV="1">
                  <a:off x="5410080" y="3434760"/>
                  <a:ext cx="36000" cy="639720"/>
                </a:xfrm>
                <a:custGeom>
                  <a:avLst/>
                  <a:gdLst>
                    <a:gd name="textAreaLeft" fmla="*/ 360 w 36000"/>
                    <a:gd name="textAreaRight" fmla="*/ 36720 w 3600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Arc 699"/>
                <p:cNvSpPr/>
                <p:nvPr/>
              </p:nvSpPr>
              <p:spPr>
                <a:xfrm flipV="1">
                  <a:off x="5446080" y="3434760"/>
                  <a:ext cx="36360" cy="63972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7" name="Group 700"/>
              <p:cNvGrpSpPr/>
              <p:nvPr/>
            </p:nvGrpSpPr>
            <p:grpSpPr>
              <a:xfrm>
                <a:off x="5482080" y="2835360"/>
                <a:ext cx="72720" cy="639720"/>
                <a:chOff x="5482080" y="2835360"/>
                <a:chExt cx="72720" cy="639720"/>
              </a:xfrm>
            </p:grpSpPr>
            <p:sp>
              <p:nvSpPr>
                <p:cNvPr id="398" name="Arc 701"/>
                <p:cNvSpPr/>
                <p:nvPr/>
              </p:nvSpPr>
              <p:spPr>
                <a:xfrm flipH="1">
                  <a:off x="5481720" y="2835360"/>
                  <a:ext cx="36360" cy="639720"/>
                </a:xfrm>
                <a:custGeom>
                  <a:avLst/>
                  <a:gdLst>
                    <a:gd name="textAreaLeft" fmla="*/ -360 w 36360"/>
                    <a:gd name="textAreaRight" fmla="*/ 36360 w 3636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Arc 702"/>
                <p:cNvSpPr/>
                <p:nvPr/>
              </p:nvSpPr>
              <p:spPr>
                <a:xfrm>
                  <a:off x="5518800" y="2835360"/>
                  <a:ext cx="36000" cy="63972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0" name="Group 703"/>
            <p:cNvGrpSpPr/>
            <p:nvPr/>
          </p:nvGrpSpPr>
          <p:grpSpPr>
            <a:xfrm>
              <a:off x="5266080" y="2835360"/>
              <a:ext cx="144720" cy="1239480"/>
              <a:chOff x="5266080" y="2835360"/>
              <a:chExt cx="144720" cy="1239480"/>
            </a:xfrm>
          </p:grpSpPr>
          <p:grpSp>
            <p:nvGrpSpPr>
              <p:cNvPr id="401" name="Group 704"/>
              <p:cNvGrpSpPr/>
              <p:nvPr/>
            </p:nvGrpSpPr>
            <p:grpSpPr>
              <a:xfrm>
                <a:off x="5266080" y="3435120"/>
                <a:ext cx="72360" cy="639720"/>
                <a:chOff x="5266080" y="3435120"/>
                <a:chExt cx="72360" cy="639720"/>
              </a:xfrm>
            </p:grpSpPr>
            <p:sp>
              <p:nvSpPr>
                <p:cNvPr id="402" name="Arc 705"/>
                <p:cNvSpPr/>
                <p:nvPr/>
              </p:nvSpPr>
              <p:spPr>
                <a:xfrm flipH="1" flipV="1">
                  <a:off x="5266080" y="3434760"/>
                  <a:ext cx="36000" cy="639720"/>
                </a:xfrm>
                <a:custGeom>
                  <a:avLst/>
                  <a:gdLst>
                    <a:gd name="textAreaLeft" fmla="*/ 360 w 36000"/>
                    <a:gd name="textAreaRight" fmla="*/ 36720 w 3600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Arc 706"/>
                <p:cNvSpPr/>
                <p:nvPr/>
              </p:nvSpPr>
              <p:spPr>
                <a:xfrm flipV="1">
                  <a:off x="5302080" y="3434760"/>
                  <a:ext cx="36360" cy="63972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4" name="Group 707"/>
              <p:cNvGrpSpPr/>
              <p:nvPr/>
            </p:nvGrpSpPr>
            <p:grpSpPr>
              <a:xfrm>
                <a:off x="5338080" y="2835360"/>
                <a:ext cx="72720" cy="639720"/>
                <a:chOff x="5338080" y="2835360"/>
                <a:chExt cx="72720" cy="639720"/>
              </a:xfrm>
            </p:grpSpPr>
            <p:sp>
              <p:nvSpPr>
                <p:cNvPr id="405" name="Arc 708"/>
                <p:cNvSpPr/>
                <p:nvPr/>
              </p:nvSpPr>
              <p:spPr>
                <a:xfrm flipH="1">
                  <a:off x="5337720" y="2835360"/>
                  <a:ext cx="36360" cy="639720"/>
                </a:xfrm>
                <a:custGeom>
                  <a:avLst/>
                  <a:gdLst>
                    <a:gd name="textAreaLeft" fmla="*/ -360 w 36360"/>
                    <a:gd name="textAreaRight" fmla="*/ 36360 w 3636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Arc 709"/>
                <p:cNvSpPr/>
                <p:nvPr/>
              </p:nvSpPr>
              <p:spPr>
                <a:xfrm>
                  <a:off x="5374800" y="2835360"/>
                  <a:ext cx="36000" cy="63972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07" name="Group 710"/>
          <p:cNvGrpSpPr/>
          <p:nvPr/>
        </p:nvGrpSpPr>
        <p:grpSpPr>
          <a:xfrm>
            <a:off x="6418440" y="2835360"/>
            <a:ext cx="432720" cy="1239480"/>
            <a:chOff x="6418440" y="2835360"/>
            <a:chExt cx="432720" cy="1239480"/>
          </a:xfrm>
        </p:grpSpPr>
        <p:grpSp>
          <p:nvGrpSpPr>
            <p:cNvPr id="408" name="Group 711"/>
            <p:cNvGrpSpPr/>
            <p:nvPr/>
          </p:nvGrpSpPr>
          <p:grpSpPr>
            <a:xfrm>
              <a:off x="6418440" y="2835360"/>
              <a:ext cx="144360" cy="1239480"/>
              <a:chOff x="6418440" y="2835360"/>
              <a:chExt cx="144360" cy="1239480"/>
            </a:xfrm>
          </p:grpSpPr>
          <p:grpSp>
            <p:nvGrpSpPr>
              <p:cNvPr id="409" name="Group 712"/>
              <p:cNvGrpSpPr/>
              <p:nvPr/>
            </p:nvGrpSpPr>
            <p:grpSpPr>
              <a:xfrm>
                <a:off x="6418440" y="3435120"/>
                <a:ext cx="72360" cy="639720"/>
                <a:chOff x="6418440" y="3435120"/>
                <a:chExt cx="72360" cy="639720"/>
              </a:xfrm>
            </p:grpSpPr>
            <p:sp>
              <p:nvSpPr>
                <p:cNvPr id="410" name="Arc 713"/>
                <p:cNvSpPr/>
                <p:nvPr/>
              </p:nvSpPr>
              <p:spPr>
                <a:xfrm flipH="1" flipV="1">
                  <a:off x="6418440" y="3434760"/>
                  <a:ext cx="36000" cy="639720"/>
                </a:xfrm>
                <a:custGeom>
                  <a:avLst/>
                  <a:gdLst>
                    <a:gd name="textAreaLeft" fmla="*/ 360 w 36000"/>
                    <a:gd name="textAreaRight" fmla="*/ 36720 w 3600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Arc 714"/>
                <p:cNvSpPr/>
                <p:nvPr/>
              </p:nvSpPr>
              <p:spPr>
                <a:xfrm flipV="1">
                  <a:off x="6454440" y="3434760"/>
                  <a:ext cx="36360" cy="63972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2" name="Group 715"/>
              <p:cNvGrpSpPr/>
              <p:nvPr/>
            </p:nvGrpSpPr>
            <p:grpSpPr>
              <a:xfrm>
                <a:off x="6490080" y="2835360"/>
                <a:ext cx="72720" cy="639720"/>
                <a:chOff x="6490080" y="2835360"/>
                <a:chExt cx="72720" cy="639720"/>
              </a:xfrm>
            </p:grpSpPr>
            <p:sp>
              <p:nvSpPr>
                <p:cNvPr id="413" name="Arc 716"/>
                <p:cNvSpPr/>
                <p:nvPr/>
              </p:nvSpPr>
              <p:spPr>
                <a:xfrm flipH="1">
                  <a:off x="6489720" y="2835360"/>
                  <a:ext cx="36360" cy="639720"/>
                </a:xfrm>
                <a:custGeom>
                  <a:avLst/>
                  <a:gdLst>
                    <a:gd name="textAreaLeft" fmla="*/ -360 w 36360"/>
                    <a:gd name="textAreaRight" fmla="*/ 36360 w 3636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Arc 717"/>
                <p:cNvSpPr/>
                <p:nvPr/>
              </p:nvSpPr>
              <p:spPr>
                <a:xfrm>
                  <a:off x="6526800" y="2835360"/>
                  <a:ext cx="36000" cy="63972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5" name="Group 718"/>
            <p:cNvGrpSpPr/>
            <p:nvPr/>
          </p:nvGrpSpPr>
          <p:grpSpPr>
            <a:xfrm>
              <a:off x="6706800" y="2835360"/>
              <a:ext cx="144360" cy="1239480"/>
              <a:chOff x="6706800" y="2835360"/>
              <a:chExt cx="144360" cy="1239480"/>
            </a:xfrm>
          </p:grpSpPr>
          <p:grpSp>
            <p:nvGrpSpPr>
              <p:cNvPr id="416" name="Group 719"/>
              <p:cNvGrpSpPr/>
              <p:nvPr/>
            </p:nvGrpSpPr>
            <p:grpSpPr>
              <a:xfrm>
                <a:off x="6706800" y="3435120"/>
                <a:ext cx="72360" cy="639720"/>
                <a:chOff x="6706800" y="3435120"/>
                <a:chExt cx="72360" cy="639720"/>
              </a:xfrm>
            </p:grpSpPr>
            <p:sp>
              <p:nvSpPr>
                <p:cNvPr id="417" name="Arc 720"/>
                <p:cNvSpPr/>
                <p:nvPr/>
              </p:nvSpPr>
              <p:spPr>
                <a:xfrm flipH="1" flipV="1">
                  <a:off x="6706800" y="3434760"/>
                  <a:ext cx="36000" cy="639720"/>
                </a:xfrm>
                <a:custGeom>
                  <a:avLst/>
                  <a:gdLst>
                    <a:gd name="textAreaLeft" fmla="*/ 360 w 36000"/>
                    <a:gd name="textAreaRight" fmla="*/ 36720 w 3600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Arc 721"/>
                <p:cNvSpPr/>
                <p:nvPr/>
              </p:nvSpPr>
              <p:spPr>
                <a:xfrm flipV="1">
                  <a:off x="6742800" y="3434760"/>
                  <a:ext cx="36360" cy="63972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9" name="Group 722"/>
              <p:cNvGrpSpPr/>
              <p:nvPr/>
            </p:nvGrpSpPr>
            <p:grpSpPr>
              <a:xfrm>
                <a:off x="6778440" y="2835360"/>
                <a:ext cx="72720" cy="639720"/>
                <a:chOff x="6778440" y="2835360"/>
                <a:chExt cx="72720" cy="639720"/>
              </a:xfrm>
            </p:grpSpPr>
            <p:sp>
              <p:nvSpPr>
                <p:cNvPr id="420" name="Arc 723"/>
                <p:cNvSpPr/>
                <p:nvPr/>
              </p:nvSpPr>
              <p:spPr>
                <a:xfrm flipH="1">
                  <a:off x="6778080" y="2835360"/>
                  <a:ext cx="36360" cy="639720"/>
                </a:xfrm>
                <a:custGeom>
                  <a:avLst/>
                  <a:gdLst>
                    <a:gd name="textAreaLeft" fmla="*/ -360 w 36360"/>
                    <a:gd name="textAreaRight" fmla="*/ 36360 w 3636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Arc 724"/>
                <p:cNvSpPr/>
                <p:nvPr/>
              </p:nvSpPr>
              <p:spPr>
                <a:xfrm>
                  <a:off x="6815160" y="2835360"/>
                  <a:ext cx="36000" cy="63972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2" name="Group 725"/>
            <p:cNvGrpSpPr/>
            <p:nvPr/>
          </p:nvGrpSpPr>
          <p:grpSpPr>
            <a:xfrm>
              <a:off x="6562800" y="2835360"/>
              <a:ext cx="144360" cy="1239480"/>
              <a:chOff x="6562800" y="2835360"/>
              <a:chExt cx="144360" cy="1239480"/>
            </a:xfrm>
          </p:grpSpPr>
          <p:grpSp>
            <p:nvGrpSpPr>
              <p:cNvPr id="423" name="Group 726"/>
              <p:cNvGrpSpPr/>
              <p:nvPr/>
            </p:nvGrpSpPr>
            <p:grpSpPr>
              <a:xfrm>
                <a:off x="6562800" y="3435120"/>
                <a:ext cx="72360" cy="639720"/>
                <a:chOff x="6562800" y="3435120"/>
                <a:chExt cx="72360" cy="639720"/>
              </a:xfrm>
            </p:grpSpPr>
            <p:sp>
              <p:nvSpPr>
                <p:cNvPr id="424" name="Arc 727"/>
                <p:cNvSpPr/>
                <p:nvPr/>
              </p:nvSpPr>
              <p:spPr>
                <a:xfrm flipH="1" flipV="1">
                  <a:off x="6562800" y="3434760"/>
                  <a:ext cx="36000" cy="639720"/>
                </a:xfrm>
                <a:custGeom>
                  <a:avLst/>
                  <a:gdLst>
                    <a:gd name="textAreaLeft" fmla="*/ 360 w 36000"/>
                    <a:gd name="textAreaRight" fmla="*/ 36720 w 3600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Arc 728"/>
                <p:cNvSpPr/>
                <p:nvPr/>
              </p:nvSpPr>
              <p:spPr>
                <a:xfrm flipV="1">
                  <a:off x="6598800" y="3434760"/>
                  <a:ext cx="36360" cy="63972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6" name="Group 729"/>
              <p:cNvGrpSpPr/>
              <p:nvPr/>
            </p:nvGrpSpPr>
            <p:grpSpPr>
              <a:xfrm>
                <a:off x="6634440" y="2835360"/>
                <a:ext cx="72720" cy="639720"/>
                <a:chOff x="6634440" y="2835360"/>
                <a:chExt cx="72720" cy="639720"/>
              </a:xfrm>
            </p:grpSpPr>
            <p:sp>
              <p:nvSpPr>
                <p:cNvPr id="427" name="Arc 730"/>
                <p:cNvSpPr/>
                <p:nvPr/>
              </p:nvSpPr>
              <p:spPr>
                <a:xfrm flipH="1">
                  <a:off x="6634080" y="2835360"/>
                  <a:ext cx="36360" cy="639720"/>
                </a:xfrm>
                <a:custGeom>
                  <a:avLst/>
                  <a:gdLst>
                    <a:gd name="textAreaLeft" fmla="*/ -360 w 36360"/>
                    <a:gd name="textAreaRight" fmla="*/ 36360 w 3636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Arc 731"/>
                <p:cNvSpPr/>
                <p:nvPr/>
              </p:nvSpPr>
              <p:spPr>
                <a:xfrm>
                  <a:off x="6671160" y="2835360"/>
                  <a:ext cx="36000" cy="63972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29" name="Group 732"/>
          <p:cNvGrpSpPr/>
          <p:nvPr/>
        </p:nvGrpSpPr>
        <p:grpSpPr>
          <a:xfrm>
            <a:off x="8361360" y="2835360"/>
            <a:ext cx="433080" cy="1239480"/>
            <a:chOff x="8361360" y="2835360"/>
            <a:chExt cx="433080" cy="1239480"/>
          </a:xfrm>
        </p:grpSpPr>
        <p:grpSp>
          <p:nvGrpSpPr>
            <p:cNvPr id="430" name="Group 733"/>
            <p:cNvGrpSpPr/>
            <p:nvPr/>
          </p:nvGrpSpPr>
          <p:grpSpPr>
            <a:xfrm>
              <a:off x="8361360" y="2835360"/>
              <a:ext cx="216720" cy="1239480"/>
              <a:chOff x="8361360" y="2835360"/>
              <a:chExt cx="216720" cy="1239480"/>
            </a:xfrm>
          </p:grpSpPr>
          <p:grpSp>
            <p:nvGrpSpPr>
              <p:cNvPr id="431" name="Group 734"/>
              <p:cNvGrpSpPr/>
              <p:nvPr/>
            </p:nvGrpSpPr>
            <p:grpSpPr>
              <a:xfrm>
                <a:off x="8361360" y="3435120"/>
                <a:ext cx="108360" cy="639720"/>
                <a:chOff x="8361360" y="3435120"/>
                <a:chExt cx="108360" cy="639720"/>
              </a:xfrm>
            </p:grpSpPr>
            <p:sp>
              <p:nvSpPr>
                <p:cNvPr id="432" name="Arc 735"/>
                <p:cNvSpPr/>
                <p:nvPr/>
              </p:nvSpPr>
              <p:spPr>
                <a:xfrm flipH="1" flipV="1">
                  <a:off x="8361360" y="3434760"/>
                  <a:ext cx="54000" cy="639720"/>
                </a:xfrm>
                <a:custGeom>
                  <a:avLst/>
                  <a:gdLst>
                    <a:gd name="textAreaLeft" fmla="*/ 360 w 54000"/>
                    <a:gd name="textAreaRight" fmla="*/ 54720 w 5400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Arc 736"/>
                <p:cNvSpPr/>
                <p:nvPr/>
              </p:nvSpPr>
              <p:spPr>
                <a:xfrm flipV="1">
                  <a:off x="8415360" y="3434760"/>
                  <a:ext cx="54360" cy="639720"/>
                </a:xfrm>
                <a:custGeom>
                  <a:avLst/>
                  <a:gdLst>
                    <a:gd name="textAreaLeft" fmla="*/ 0 w 54360"/>
                    <a:gd name="textAreaRight" fmla="*/ 54720 w 5436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4" name="Group 737"/>
              <p:cNvGrpSpPr/>
              <p:nvPr/>
            </p:nvGrpSpPr>
            <p:grpSpPr>
              <a:xfrm>
                <a:off x="8469360" y="2835360"/>
                <a:ext cx="108720" cy="639720"/>
                <a:chOff x="8469360" y="2835360"/>
                <a:chExt cx="108720" cy="639720"/>
              </a:xfrm>
            </p:grpSpPr>
            <p:sp>
              <p:nvSpPr>
                <p:cNvPr id="435" name="Arc 738"/>
                <p:cNvSpPr/>
                <p:nvPr/>
              </p:nvSpPr>
              <p:spPr>
                <a:xfrm flipH="1">
                  <a:off x="8469000" y="2835360"/>
                  <a:ext cx="54360" cy="639720"/>
                </a:xfrm>
                <a:custGeom>
                  <a:avLst/>
                  <a:gdLst>
                    <a:gd name="textAreaLeft" fmla="*/ -360 w 54360"/>
                    <a:gd name="textAreaRight" fmla="*/ 54360 w 5436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Arc 739"/>
                <p:cNvSpPr/>
                <p:nvPr/>
              </p:nvSpPr>
              <p:spPr>
                <a:xfrm>
                  <a:off x="8524080" y="2835360"/>
                  <a:ext cx="54000" cy="63972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7" name="Group 740"/>
            <p:cNvGrpSpPr/>
            <p:nvPr/>
          </p:nvGrpSpPr>
          <p:grpSpPr>
            <a:xfrm>
              <a:off x="8578080" y="2835360"/>
              <a:ext cx="216360" cy="1239480"/>
              <a:chOff x="8578080" y="2835360"/>
              <a:chExt cx="216360" cy="1239480"/>
            </a:xfrm>
          </p:grpSpPr>
          <p:grpSp>
            <p:nvGrpSpPr>
              <p:cNvPr id="438" name="Group 741"/>
              <p:cNvGrpSpPr/>
              <p:nvPr/>
            </p:nvGrpSpPr>
            <p:grpSpPr>
              <a:xfrm>
                <a:off x="8578080" y="3435120"/>
                <a:ext cx="108360" cy="639720"/>
                <a:chOff x="8578080" y="3435120"/>
                <a:chExt cx="108360" cy="639720"/>
              </a:xfrm>
            </p:grpSpPr>
            <p:sp>
              <p:nvSpPr>
                <p:cNvPr id="439" name="Arc 742"/>
                <p:cNvSpPr/>
                <p:nvPr/>
              </p:nvSpPr>
              <p:spPr>
                <a:xfrm flipH="1" flipV="1">
                  <a:off x="8578080" y="3434760"/>
                  <a:ext cx="54000" cy="639720"/>
                </a:xfrm>
                <a:custGeom>
                  <a:avLst/>
                  <a:gdLst>
                    <a:gd name="textAreaLeft" fmla="*/ 360 w 54000"/>
                    <a:gd name="textAreaRight" fmla="*/ 54720 w 5400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Arc 743"/>
                <p:cNvSpPr/>
                <p:nvPr/>
              </p:nvSpPr>
              <p:spPr>
                <a:xfrm flipV="1">
                  <a:off x="8632080" y="3434760"/>
                  <a:ext cx="54360" cy="639720"/>
                </a:xfrm>
                <a:custGeom>
                  <a:avLst/>
                  <a:gdLst>
                    <a:gd name="textAreaLeft" fmla="*/ 0 w 54360"/>
                    <a:gd name="textAreaRight" fmla="*/ 54720 w 5436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1" name="Group 744"/>
              <p:cNvGrpSpPr/>
              <p:nvPr/>
            </p:nvGrpSpPr>
            <p:grpSpPr>
              <a:xfrm>
                <a:off x="8685720" y="2835360"/>
                <a:ext cx="108720" cy="639720"/>
                <a:chOff x="8685720" y="2835360"/>
                <a:chExt cx="108720" cy="639720"/>
              </a:xfrm>
            </p:grpSpPr>
            <p:sp>
              <p:nvSpPr>
                <p:cNvPr id="442" name="Arc 745"/>
                <p:cNvSpPr/>
                <p:nvPr/>
              </p:nvSpPr>
              <p:spPr>
                <a:xfrm flipH="1">
                  <a:off x="8685360" y="2835360"/>
                  <a:ext cx="54360" cy="639720"/>
                </a:xfrm>
                <a:custGeom>
                  <a:avLst/>
                  <a:gdLst>
                    <a:gd name="textAreaLeft" fmla="*/ -360 w 54360"/>
                    <a:gd name="textAreaRight" fmla="*/ 54360 w 5436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Arc 746"/>
                <p:cNvSpPr/>
                <p:nvPr/>
              </p:nvSpPr>
              <p:spPr>
                <a:xfrm>
                  <a:off x="8740440" y="2835360"/>
                  <a:ext cx="54000" cy="63972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44" name="Group 747"/>
          <p:cNvGrpSpPr/>
          <p:nvPr/>
        </p:nvGrpSpPr>
        <p:grpSpPr>
          <a:xfrm>
            <a:off x="4473720" y="4995720"/>
            <a:ext cx="432720" cy="1239480"/>
            <a:chOff x="4473720" y="4995720"/>
            <a:chExt cx="432720" cy="1239480"/>
          </a:xfrm>
        </p:grpSpPr>
        <p:grpSp>
          <p:nvGrpSpPr>
            <p:cNvPr id="445" name="Group 748"/>
            <p:cNvGrpSpPr/>
            <p:nvPr/>
          </p:nvGrpSpPr>
          <p:grpSpPr>
            <a:xfrm>
              <a:off x="4473720" y="4995720"/>
              <a:ext cx="144360" cy="1239480"/>
              <a:chOff x="4473720" y="4995720"/>
              <a:chExt cx="144360" cy="1239480"/>
            </a:xfrm>
          </p:grpSpPr>
          <p:grpSp>
            <p:nvGrpSpPr>
              <p:cNvPr id="446" name="Group 749"/>
              <p:cNvGrpSpPr/>
              <p:nvPr/>
            </p:nvGrpSpPr>
            <p:grpSpPr>
              <a:xfrm>
                <a:off x="4473720" y="5595480"/>
                <a:ext cx="72360" cy="639720"/>
                <a:chOff x="4473720" y="5595480"/>
                <a:chExt cx="72360" cy="639720"/>
              </a:xfrm>
            </p:grpSpPr>
            <p:sp>
              <p:nvSpPr>
                <p:cNvPr id="447" name="Arc 750"/>
                <p:cNvSpPr/>
                <p:nvPr/>
              </p:nvSpPr>
              <p:spPr>
                <a:xfrm flipH="1" flipV="1">
                  <a:off x="4473720" y="5595120"/>
                  <a:ext cx="36000" cy="639720"/>
                </a:xfrm>
                <a:custGeom>
                  <a:avLst/>
                  <a:gdLst>
                    <a:gd name="textAreaLeft" fmla="*/ 360 w 36000"/>
                    <a:gd name="textAreaRight" fmla="*/ 36720 w 3600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Arc 751"/>
                <p:cNvSpPr/>
                <p:nvPr/>
              </p:nvSpPr>
              <p:spPr>
                <a:xfrm flipV="1">
                  <a:off x="4509720" y="5595120"/>
                  <a:ext cx="36360" cy="63972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9" name="Group 752"/>
              <p:cNvGrpSpPr/>
              <p:nvPr/>
            </p:nvGrpSpPr>
            <p:grpSpPr>
              <a:xfrm>
                <a:off x="4545360" y="4995720"/>
                <a:ext cx="72720" cy="639720"/>
                <a:chOff x="4545360" y="4995720"/>
                <a:chExt cx="72720" cy="639720"/>
              </a:xfrm>
            </p:grpSpPr>
            <p:sp>
              <p:nvSpPr>
                <p:cNvPr id="450" name="Arc 753"/>
                <p:cNvSpPr/>
                <p:nvPr/>
              </p:nvSpPr>
              <p:spPr>
                <a:xfrm flipH="1">
                  <a:off x="4545000" y="4995720"/>
                  <a:ext cx="36360" cy="639720"/>
                </a:xfrm>
                <a:custGeom>
                  <a:avLst/>
                  <a:gdLst>
                    <a:gd name="textAreaLeft" fmla="*/ -360 w 36360"/>
                    <a:gd name="textAreaRight" fmla="*/ 36360 w 3636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Arc 754"/>
                <p:cNvSpPr/>
                <p:nvPr/>
              </p:nvSpPr>
              <p:spPr>
                <a:xfrm>
                  <a:off x="4582080" y="4995720"/>
                  <a:ext cx="36000" cy="63972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2" name="Group 755"/>
            <p:cNvGrpSpPr/>
            <p:nvPr/>
          </p:nvGrpSpPr>
          <p:grpSpPr>
            <a:xfrm>
              <a:off x="4762080" y="4995720"/>
              <a:ext cx="144360" cy="1239480"/>
              <a:chOff x="4762080" y="4995720"/>
              <a:chExt cx="144360" cy="1239480"/>
            </a:xfrm>
          </p:grpSpPr>
          <p:grpSp>
            <p:nvGrpSpPr>
              <p:cNvPr id="453" name="Group 756"/>
              <p:cNvGrpSpPr/>
              <p:nvPr/>
            </p:nvGrpSpPr>
            <p:grpSpPr>
              <a:xfrm>
                <a:off x="4762080" y="5595480"/>
                <a:ext cx="72360" cy="639720"/>
                <a:chOff x="4762080" y="5595480"/>
                <a:chExt cx="72360" cy="639720"/>
              </a:xfrm>
            </p:grpSpPr>
            <p:sp>
              <p:nvSpPr>
                <p:cNvPr id="454" name="Arc 757"/>
                <p:cNvSpPr/>
                <p:nvPr/>
              </p:nvSpPr>
              <p:spPr>
                <a:xfrm flipH="1" flipV="1">
                  <a:off x="4762080" y="5595120"/>
                  <a:ext cx="36000" cy="639720"/>
                </a:xfrm>
                <a:custGeom>
                  <a:avLst/>
                  <a:gdLst>
                    <a:gd name="textAreaLeft" fmla="*/ 360 w 36000"/>
                    <a:gd name="textAreaRight" fmla="*/ 36720 w 3600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Arc 758"/>
                <p:cNvSpPr/>
                <p:nvPr/>
              </p:nvSpPr>
              <p:spPr>
                <a:xfrm flipV="1">
                  <a:off x="4798080" y="5595120"/>
                  <a:ext cx="36360" cy="63972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6" name="Group 759"/>
              <p:cNvGrpSpPr/>
              <p:nvPr/>
            </p:nvGrpSpPr>
            <p:grpSpPr>
              <a:xfrm>
                <a:off x="4833720" y="4995720"/>
                <a:ext cx="72720" cy="639720"/>
                <a:chOff x="4833720" y="4995720"/>
                <a:chExt cx="72720" cy="639720"/>
              </a:xfrm>
            </p:grpSpPr>
            <p:sp>
              <p:nvSpPr>
                <p:cNvPr id="457" name="Arc 760"/>
                <p:cNvSpPr/>
                <p:nvPr/>
              </p:nvSpPr>
              <p:spPr>
                <a:xfrm flipH="1">
                  <a:off x="4833360" y="4995720"/>
                  <a:ext cx="36360" cy="639720"/>
                </a:xfrm>
                <a:custGeom>
                  <a:avLst/>
                  <a:gdLst>
                    <a:gd name="textAreaLeft" fmla="*/ -360 w 36360"/>
                    <a:gd name="textAreaRight" fmla="*/ 36360 w 3636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Arc 761"/>
                <p:cNvSpPr/>
                <p:nvPr/>
              </p:nvSpPr>
              <p:spPr>
                <a:xfrm>
                  <a:off x="4870440" y="4995720"/>
                  <a:ext cx="36000" cy="63972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9" name="Group 762"/>
            <p:cNvGrpSpPr/>
            <p:nvPr/>
          </p:nvGrpSpPr>
          <p:grpSpPr>
            <a:xfrm>
              <a:off x="4618080" y="4995720"/>
              <a:ext cx="144360" cy="1239480"/>
              <a:chOff x="4618080" y="4995720"/>
              <a:chExt cx="144360" cy="1239480"/>
            </a:xfrm>
          </p:grpSpPr>
          <p:grpSp>
            <p:nvGrpSpPr>
              <p:cNvPr id="460" name="Group 763"/>
              <p:cNvGrpSpPr/>
              <p:nvPr/>
            </p:nvGrpSpPr>
            <p:grpSpPr>
              <a:xfrm>
                <a:off x="4618080" y="5595480"/>
                <a:ext cx="72360" cy="639720"/>
                <a:chOff x="4618080" y="5595480"/>
                <a:chExt cx="72360" cy="639720"/>
              </a:xfrm>
            </p:grpSpPr>
            <p:sp>
              <p:nvSpPr>
                <p:cNvPr id="461" name="Arc 764"/>
                <p:cNvSpPr/>
                <p:nvPr/>
              </p:nvSpPr>
              <p:spPr>
                <a:xfrm flipH="1" flipV="1">
                  <a:off x="4618080" y="5595120"/>
                  <a:ext cx="36000" cy="639720"/>
                </a:xfrm>
                <a:custGeom>
                  <a:avLst/>
                  <a:gdLst>
                    <a:gd name="textAreaLeft" fmla="*/ 360 w 36000"/>
                    <a:gd name="textAreaRight" fmla="*/ 36720 w 3600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Arc 765"/>
                <p:cNvSpPr/>
                <p:nvPr/>
              </p:nvSpPr>
              <p:spPr>
                <a:xfrm flipV="1">
                  <a:off x="4654080" y="5595120"/>
                  <a:ext cx="36360" cy="63972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3" name="Group 766"/>
              <p:cNvGrpSpPr/>
              <p:nvPr/>
            </p:nvGrpSpPr>
            <p:grpSpPr>
              <a:xfrm>
                <a:off x="4689720" y="4995720"/>
                <a:ext cx="72720" cy="639720"/>
                <a:chOff x="4689720" y="4995720"/>
                <a:chExt cx="72720" cy="639720"/>
              </a:xfrm>
            </p:grpSpPr>
            <p:sp>
              <p:nvSpPr>
                <p:cNvPr id="464" name="Arc 767"/>
                <p:cNvSpPr/>
                <p:nvPr/>
              </p:nvSpPr>
              <p:spPr>
                <a:xfrm flipH="1">
                  <a:off x="4689360" y="4995720"/>
                  <a:ext cx="36360" cy="639720"/>
                </a:xfrm>
                <a:custGeom>
                  <a:avLst/>
                  <a:gdLst>
                    <a:gd name="textAreaLeft" fmla="*/ -360 w 36360"/>
                    <a:gd name="textAreaRight" fmla="*/ 36360 w 3636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Arc 768"/>
                <p:cNvSpPr/>
                <p:nvPr/>
              </p:nvSpPr>
              <p:spPr>
                <a:xfrm>
                  <a:off x="4726440" y="4995720"/>
                  <a:ext cx="36000" cy="63972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66" name="Group 769"/>
          <p:cNvGrpSpPr/>
          <p:nvPr/>
        </p:nvGrpSpPr>
        <p:grpSpPr>
          <a:xfrm>
            <a:off x="5121360" y="4995720"/>
            <a:ext cx="433440" cy="1239480"/>
            <a:chOff x="5121360" y="4995720"/>
            <a:chExt cx="433440" cy="1239480"/>
          </a:xfrm>
        </p:grpSpPr>
        <p:grpSp>
          <p:nvGrpSpPr>
            <p:cNvPr id="467" name="Group 770"/>
            <p:cNvGrpSpPr/>
            <p:nvPr/>
          </p:nvGrpSpPr>
          <p:grpSpPr>
            <a:xfrm>
              <a:off x="5121360" y="4995720"/>
              <a:ext cx="144720" cy="1239480"/>
              <a:chOff x="5121360" y="4995720"/>
              <a:chExt cx="144720" cy="1239480"/>
            </a:xfrm>
          </p:grpSpPr>
          <p:grpSp>
            <p:nvGrpSpPr>
              <p:cNvPr id="468" name="Group 771"/>
              <p:cNvGrpSpPr/>
              <p:nvPr/>
            </p:nvGrpSpPr>
            <p:grpSpPr>
              <a:xfrm>
                <a:off x="5121360" y="5595480"/>
                <a:ext cx="72360" cy="639720"/>
                <a:chOff x="5121360" y="5595480"/>
                <a:chExt cx="72360" cy="639720"/>
              </a:xfrm>
            </p:grpSpPr>
            <p:sp>
              <p:nvSpPr>
                <p:cNvPr id="469" name="Arc 772"/>
                <p:cNvSpPr/>
                <p:nvPr/>
              </p:nvSpPr>
              <p:spPr>
                <a:xfrm flipH="1" flipV="1">
                  <a:off x="5121360" y="5595120"/>
                  <a:ext cx="36000" cy="639720"/>
                </a:xfrm>
                <a:custGeom>
                  <a:avLst/>
                  <a:gdLst>
                    <a:gd name="textAreaLeft" fmla="*/ 360 w 36000"/>
                    <a:gd name="textAreaRight" fmla="*/ 36720 w 3600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Arc 773"/>
                <p:cNvSpPr/>
                <p:nvPr/>
              </p:nvSpPr>
              <p:spPr>
                <a:xfrm flipV="1">
                  <a:off x="5157360" y="5595120"/>
                  <a:ext cx="36360" cy="63972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1" name="Group 774"/>
              <p:cNvGrpSpPr/>
              <p:nvPr/>
            </p:nvGrpSpPr>
            <p:grpSpPr>
              <a:xfrm>
                <a:off x="5193360" y="4995720"/>
                <a:ext cx="72720" cy="639720"/>
                <a:chOff x="5193360" y="4995720"/>
                <a:chExt cx="72720" cy="639720"/>
              </a:xfrm>
            </p:grpSpPr>
            <p:sp>
              <p:nvSpPr>
                <p:cNvPr id="472" name="Arc 775"/>
                <p:cNvSpPr/>
                <p:nvPr/>
              </p:nvSpPr>
              <p:spPr>
                <a:xfrm flipH="1">
                  <a:off x="5193000" y="4995720"/>
                  <a:ext cx="36360" cy="639720"/>
                </a:xfrm>
                <a:custGeom>
                  <a:avLst/>
                  <a:gdLst>
                    <a:gd name="textAreaLeft" fmla="*/ -360 w 36360"/>
                    <a:gd name="textAreaRight" fmla="*/ 36360 w 3636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Arc 776"/>
                <p:cNvSpPr/>
                <p:nvPr/>
              </p:nvSpPr>
              <p:spPr>
                <a:xfrm>
                  <a:off x="5230080" y="4995720"/>
                  <a:ext cx="36000" cy="63972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4" name="Group 777"/>
            <p:cNvGrpSpPr/>
            <p:nvPr/>
          </p:nvGrpSpPr>
          <p:grpSpPr>
            <a:xfrm>
              <a:off x="5410080" y="4995720"/>
              <a:ext cx="144720" cy="1239480"/>
              <a:chOff x="5410080" y="4995720"/>
              <a:chExt cx="144720" cy="1239480"/>
            </a:xfrm>
          </p:grpSpPr>
          <p:grpSp>
            <p:nvGrpSpPr>
              <p:cNvPr id="475" name="Group 778"/>
              <p:cNvGrpSpPr/>
              <p:nvPr/>
            </p:nvGrpSpPr>
            <p:grpSpPr>
              <a:xfrm>
                <a:off x="5410080" y="5595480"/>
                <a:ext cx="72360" cy="639720"/>
                <a:chOff x="5410080" y="5595480"/>
                <a:chExt cx="72360" cy="639720"/>
              </a:xfrm>
            </p:grpSpPr>
            <p:sp>
              <p:nvSpPr>
                <p:cNvPr id="476" name="Arc 779"/>
                <p:cNvSpPr/>
                <p:nvPr/>
              </p:nvSpPr>
              <p:spPr>
                <a:xfrm flipH="1" flipV="1">
                  <a:off x="5410080" y="5595120"/>
                  <a:ext cx="36000" cy="639720"/>
                </a:xfrm>
                <a:custGeom>
                  <a:avLst/>
                  <a:gdLst>
                    <a:gd name="textAreaLeft" fmla="*/ 360 w 36000"/>
                    <a:gd name="textAreaRight" fmla="*/ 36720 w 3600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Arc 780"/>
                <p:cNvSpPr/>
                <p:nvPr/>
              </p:nvSpPr>
              <p:spPr>
                <a:xfrm flipV="1">
                  <a:off x="5446080" y="5595120"/>
                  <a:ext cx="36360" cy="63972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8" name="Group 781"/>
              <p:cNvGrpSpPr/>
              <p:nvPr/>
            </p:nvGrpSpPr>
            <p:grpSpPr>
              <a:xfrm>
                <a:off x="5482080" y="4995720"/>
                <a:ext cx="72720" cy="639720"/>
                <a:chOff x="5482080" y="4995720"/>
                <a:chExt cx="72720" cy="639720"/>
              </a:xfrm>
            </p:grpSpPr>
            <p:sp>
              <p:nvSpPr>
                <p:cNvPr id="479" name="Arc 782"/>
                <p:cNvSpPr/>
                <p:nvPr/>
              </p:nvSpPr>
              <p:spPr>
                <a:xfrm flipH="1">
                  <a:off x="5481720" y="4995720"/>
                  <a:ext cx="36360" cy="639720"/>
                </a:xfrm>
                <a:custGeom>
                  <a:avLst/>
                  <a:gdLst>
                    <a:gd name="textAreaLeft" fmla="*/ -360 w 36360"/>
                    <a:gd name="textAreaRight" fmla="*/ 36360 w 3636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Arc 783"/>
                <p:cNvSpPr/>
                <p:nvPr/>
              </p:nvSpPr>
              <p:spPr>
                <a:xfrm>
                  <a:off x="5518800" y="4995720"/>
                  <a:ext cx="36000" cy="63972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1" name="Group 784"/>
            <p:cNvGrpSpPr/>
            <p:nvPr/>
          </p:nvGrpSpPr>
          <p:grpSpPr>
            <a:xfrm>
              <a:off x="5266080" y="4995720"/>
              <a:ext cx="144720" cy="1239480"/>
              <a:chOff x="5266080" y="4995720"/>
              <a:chExt cx="144720" cy="1239480"/>
            </a:xfrm>
          </p:grpSpPr>
          <p:grpSp>
            <p:nvGrpSpPr>
              <p:cNvPr id="482" name="Group 785"/>
              <p:cNvGrpSpPr/>
              <p:nvPr/>
            </p:nvGrpSpPr>
            <p:grpSpPr>
              <a:xfrm>
                <a:off x="5266080" y="5595480"/>
                <a:ext cx="72360" cy="639720"/>
                <a:chOff x="5266080" y="5595480"/>
                <a:chExt cx="72360" cy="639720"/>
              </a:xfrm>
            </p:grpSpPr>
            <p:sp>
              <p:nvSpPr>
                <p:cNvPr id="483" name="Arc 786"/>
                <p:cNvSpPr/>
                <p:nvPr/>
              </p:nvSpPr>
              <p:spPr>
                <a:xfrm flipH="1" flipV="1">
                  <a:off x="5266080" y="5595120"/>
                  <a:ext cx="36000" cy="639720"/>
                </a:xfrm>
                <a:custGeom>
                  <a:avLst/>
                  <a:gdLst>
                    <a:gd name="textAreaLeft" fmla="*/ 360 w 36000"/>
                    <a:gd name="textAreaRight" fmla="*/ 36720 w 3600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Arc 787"/>
                <p:cNvSpPr/>
                <p:nvPr/>
              </p:nvSpPr>
              <p:spPr>
                <a:xfrm flipV="1">
                  <a:off x="5302080" y="5595120"/>
                  <a:ext cx="36360" cy="63972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5" name="Group 788"/>
              <p:cNvGrpSpPr/>
              <p:nvPr/>
            </p:nvGrpSpPr>
            <p:grpSpPr>
              <a:xfrm>
                <a:off x="5338080" y="4995720"/>
                <a:ext cx="72720" cy="639720"/>
                <a:chOff x="5338080" y="4995720"/>
                <a:chExt cx="72720" cy="639720"/>
              </a:xfrm>
            </p:grpSpPr>
            <p:sp>
              <p:nvSpPr>
                <p:cNvPr id="486" name="Arc 789"/>
                <p:cNvSpPr/>
                <p:nvPr/>
              </p:nvSpPr>
              <p:spPr>
                <a:xfrm flipH="1">
                  <a:off x="5337720" y="4995720"/>
                  <a:ext cx="36360" cy="639720"/>
                </a:xfrm>
                <a:custGeom>
                  <a:avLst/>
                  <a:gdLst>
                    <a:gd name="textAreaLeft" fmla="*/ -360 w 36360"/>
                    <a:gd name="textAreaRight" fmla="*/ 36360 w 3636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Arc 790"/>
                <p:cNvSpPr/>
                <p:nvPr/>
              </p:nvSpPr>
              <p:spPr>
                <a:xfrm>
                  <a:off x="5374800" y="4995720"/>
                  <a:ext cx="36000" cy="63972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88" name="Group 791"/>
          <p:cNvGrpSpPr/>
          <p:nvPr/>
        </p:nvGrpSpPr>
        <p:grpSpPr>
          <a:xfrm>
            <a:off x="6418440" y="4995720"/>
            <a:ext cx="432720" cy="1239480"/>
            <a:chOff x="6418440" y="4995720"/>
            <a:chExt cx="432720" cy="1239480"/>
          </a:xfrm>
        </p:grpSpPr>
        <p:grpSp>
          <p:nvGrpSpPr>
            <p:cNvPr id="489" name="Group 792"/>
            <p:cNvGrpSpPr/>
            <p:nvPr/>
          </p:nvGrpSpPr>
          <p:grpSpPr>
            <a:xfrm>
              <a:off x="6418440" y="4995720"/>
              <a:ext cx="144360" cy="1239480"/>
              <a:chOff x="6418440" y="4995720"/>
              <a:chExt cx="144360" cy="1239480"/>
            </a:xfrm>
          </p:grpSpPr>
          <p:grpSp>
            <p:nvGrpSpPr>
              <p:cNvPr id="490" name="Group 793"/>
              <p:cNvGrpSpPr/>
              <p:nvPr/>
            </p:nvGrpSpPr>
            <p:grpSpPr>
              <a:xfrm>
                <a:off x="6418440" y="5595480"/>
                <a:ext cx="72360" cy="639720"/>
                <a:chOff x="6418440" y="5595480"/>
                <a:chExt cx="72360" cy="639720"/>
              </a:xfrm>
            </p:grpSpPr>
            <p:sp>
              <p:nvSpPr>
                <p:cNvPr id="491" name="Arc 794"/>
                <p:cNvSpPr/>
                <p:nvPr/>
              </p:nvSpPr>
              <p:spPr>
                <a:xfrm flipH="1" flipV="1">
                  <a:off x="6418440" y="5595120"/>
                  <a:ext cx="36000" cy="639720"/>
                </a:xfrm>
                <a:custGeom>
                  <a:avLst/>
                  <a:gdLst>
                    <a:gd name="textAreaLeft" fmla="*/ 360 w 36000"/>
                    <a:gd name="textAreaRight" fmla="*/ 36720 w 3600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Arc 795"/>
                <p:cNvSpPr/>
                <p:nvPr/>
              </p:nvSpPr>
              <p:spPr>
                <a:xfrm flipV="1">
                  <a:off x="6454440" y="5595120"/>
                  <a:ext cx="36360" cy="63972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3" name="Group 796"/>
              <p:cNvGrpSpPr/>
              <p:nvPr/>
            </p:nvGrpSpPr>
            <p:grpSpPr>
              <a:xfrm>
                <a:off x="6490080" y="4995720"/>
                <a:ext cx="72720" cy="639720"/>
                <a:chOff x="6490080" y="4995720"/>
                <a:chExt cx="72720" cy="639720"/>
              </a:xfrm>
            </p:grpSpPr>
            <p:sp>
              <p:nvSpPr>
                <p:cNvPr id="494" name="Arc 797"/>
                <p:cNvSpPr/>
                <p:nvPr/>
              </p:nvSpPr>
              <p:spPr>
                <a:xfrm flipH="1">
                  <a:off x="6489720" y="4995720"/>
                  <a:ext cx="36360" cy="639720"/>
                </a:xfrm>
                <a:custGeom>
                  <a:avLst/>
                  <a:gdLst>
                    <a:gd name="textAreaLeft" fmla="*/ -360 w 36360"/>
                    <a:gd name="textAreaRight" fmla="*/ 36360 w 3636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Arc 798"/>
                <p:cNvSpPr/>
                <p:nvPr/>
              </p:nvSpPr>
              <p:spPr>
                <a:xfrm>
                  <a:off x="6526800" y="4995720"/>
                  <a:ext cx="36000" cy="63972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6" name="Group 799"/>
            <p:cNvGrpSpPr/>
            <p:nvPr/>
          </p:nvGrpSpPr>
          <p:grpSpPr>
            <a:xfrm>
              <a:off x="6706800" y="4995720"/>
              <a:ext cx="144360" cy="1239480"/>
              <a:chOff x="6706800" y="4995720"/>
              <a:chExt cx="144360" cy="1239480"/>
            </a:xfrm>
          </p:grpSpPr>
          <p:grpSp>
            <p:nvGrpSpPr>
              <p:cNvPr id="497" name="Group 800"/>
              <p:cNvGrpSpPr/>
              <p:nvPr/>
            </p:nvGrpSpPr>
            <p:grpSpPr>
              <a:xfrm>
                <a:off x="6706800" y="5595480"/>
                <a:ext cx="72360" cy="639720"/>
                <a:chOff x="6706800" y="5595480"/>
                <a:chExt cx="72360" cy="639720"/>
              </a:xfrm>
            </p:grpSpPr>
            <p:sp>
              <p:nvSpPr>
                <p:cNvPr id="498" name="Arc 801"/>
                <p:cNvSpPr/>
                <p:nvPr/>
              </p:nvSpPr>
              <p:spPr>
                <a:xfrm flipH="1" flipV="1">
                  <a:off x="6706800" y="5595120"/>
                  <a:ext cx="36000" cy="639720"/>
                </a:xfrm>
                <a:custGeom>
                  <a:avLst/>
                  <a:gdLst>
                    <a:gd name="textAreaLeft" fmla="*/ 360 w 36000"/>
                    <a:gd name="textAreaRight" fmla="*/ 36720 w 3600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Arc 802"/>
                <p:cNvSpPr/>
                <p:nvPr/>
              </p:nvSpPr>
              <p:spPr>
                <a:xfrm flipV="1">
                  <a:off x="6742800" y="5595120"/>
                  <a:ext cx="36360" cy="63972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0" name="Group 803"/>
              <p:cNvGrpSpPr/>
              <p:nvPr/>
            </p:nvGrpSpPr>
            <p:grpSpPr>
              <a:xfrm>
                <a:off x="6778440" y="4995720"/>
                <a:ext cx="72720" cy="639720"/>
                <a:chOff x="6778440" y="4995720"/>
                <a:chExt cx="72720" cy="639720"/>
              </a:xfrm>
            </p:grpSpPr>
            <p:sp>
              <p:nvSpPr>
                <p:cNvPr id="501" name="Arc 804"/>
                <p:cNvSpPr/>
                <p:nvPr/>
              </p:nvSpPr>
              <p:spPr>
                <a:xfrm flipH="1">
                  <a:off x="6778080" y="4995720"/>
                  <a:ext cx="36360" cy="639720"/>
                </a:xfrm>
                <a:custGeom>
                  <a:avLst/>
                  <a:gdLst>
                    <a:gd name="textAreaLeft" fmla="*/ -360 w 36360"/>
                    <a:gd name="textAreaRight" fmla="*/ 36360 w 3636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Arc 805"/>
                <p:cNvSpPr/>
                <p:nvPr/>
              </p:nvSpPr>
              <p:spPr>
                <a:xfrm>
                  <a:off x="6815160" y="4995720"/>
                  <a:ext cx="36000" cy="63972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3" name="Group 806"/>
            <p:cNvGrpSpPr/>
            <p:nvPr/>
          </p:nvGrpSpPr>
          <p:grpSpPr>
            <a:xfrm>
              <a:off x="6562800" y="4995720"/>
              <a:ext cx="144360" cy="1239480"/>
              <a:chOff x="6562800" y="4995720"/>
              <a:chExt cx="144360" cy="1239480"/>
            </a:xfrm>
          </p:grpSpPr>
          <p:grpSp>
            <p:nvGrpSpPr>
              <p:cNvPr id="504" name="Group 807"/>
              <p:cNvGrpSpPr/>
              <p:nvPr/>
            </p:nvGrpSpPr>
            <p:grpSpPr>
              <a:xfrm>
                <a:off x="6562800" y="5595480"/>
                <a:ext cx="72360" cy="639720"/>
                <a:chOff x="6562800" y="5595480"/>
                <a:chExt cx="72360" cy="639720"/>
              </a:xfrm>
            </p:grpSpPr>
            <p:sp>
              <p:nvSpPr>
                <p:cNvPr id="505" name="Arc 808"/>
                <p:cNvSpPr/>
                <p:nvPr/>
              </p:nvSpPr>
              <p:spPr>
                <a:xfrm flipH="1" flipV="1">
                  <a:off x="6562800" y="5595120"/>
                  <a:ext cx="36000" cy="639720"/>
                </a:xfrm>
                <a:custGeom>
                  <a:avLst/>
                  <a:gdLst>
                    <a:gd name="textAreaLeft" fmla="*/ 360 w 36000"/>
                    <a:gd name="textAreaRight" fmla="*/ 36720 w 3600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Arc 809"/>
                <p:cNvSpPr/>
                <p:nvPr/>
              </p:nvSpPr>
              <p:spPr>
                <a:xfrm flipV="1">
                  <a:off x="6598800" y="5595120"/>
                  <a:ext cx="36360" cy="63972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7" name="Group 810"/>
              <p:cNvGrpSpPr/>
              <p:nvPr/>
            </p:nvGrpSpPr>
            <p:grpSpPr>
              <a:xfrm>
                <a:off x="6634440" y="4995720"/>
                <a:ext cx="72720" cy="639720"/>
                <a:chOff x="6634440" y="4995720"/>
                <a:chExt cx="72720" cy="639720"/>
              </a:xfrm>
            </p:grpSpPr>
            <p:sp>
              <p:nvSpPr>
                <p:cNvPr id="508" name="Arc 811"/>
                <p:cNvSpPr/>
                <p:nvPr/>
              </p:nvSpPr>
              <p:spPr>
                <a:xfrm flipH="1">
                  <a:off x="6634080" y="4995720"/>
                  <a:ext cx="36360" cy="639720"/>
                </a:xfrm>
                <a:custGeom>
                  <a:avLst/>
                  <a:gdLst>
                    <a:gd name="textAreaLeft" fmla="*/ -360 w 36360"/>
                    <a:gd name="textAreaRight" fmla="*/ 36360 w 3636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Arc 812"/>
                <p:cNvSpPr/>
                <p:nvPr/>
              </p:nvSpPr>
              <p:spPr>
                <a:xfrm>
                  <a:off x="6671160" y="4995720"/>
                  <a:ext cx="36000" cy="63972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0" name="Group 813"/>
          <p:cNvGrpSpPr/>
          <p:nvPr/>
        </p:nvGrpSpPr>
        <p:grpSpPr>
          <a:xfrm>
            <a:off x="5769000" y="4996080"/>
            <a:ext cx="433440" cy="1239480"/>
            <a:chOff x="5769000" y="4996080"/>
            <a:chExt cx="433440" cy="1239480"/>
          </a:xfrm>
        </p:grpSpPr>
        <p:grpSp>
          <p:nvGrpSpPr>
            <p:cNvPr id="511" name="Group 814"/>
            <p:cNvGrpSpPr/>
            <p:nvPr/>
          </p:nvGrpSpPr>
          <p:grpSpPr>
            <a:xfrm>
              <a:off x="5769000" y="4996080"/>
              <a:ext cx="144720" cy="1239480"/>
              <a:chOff x="5769000" y="4996080"/>
              <a:chExt cx="144720" cy="1239480"/>
            </a:xfrm>
          </p:grpSpPr>
          <p:grpSp>
            <p:nvGrpSpPr>
              <p:cNvPr id="512" name="Group 815"/>
              <p:cNvGrpSpPr/>
              <p:nvPr/>
            </p:nvGrpSpPr>
            <p:grpSpPr>
              <a:xfrm>
                <a:off x="5769000" y="4996080"/>
                <a:ext cx="72360" cy="639720"/>
                <a:chOff x="5769000" y="4996080"/>
                <a:chExt cx="72360" cy="639720"/>
              </a:xfrm>
            </p:grpSpPr>
            <p:sp>
              <p:nvSpPr>
                <p:cNvPr id="513" name="Arc 816"/>
                <p:cNvSpPr/>
                <p:nvPr/>
              </p:nvSpPr>
              <p:spPr>
                <a:xfrm flipH="1">
                  <a:off x="5769000" y="4996080"/>
                  <a:ext cx="36000" cy="639720"/>
                </a:xfrm>
                <a:custGeom>
                  <a:avLst/>
                  <a:gdLst>
                    <a:gd name="textAreaLeft" fmla="*/ 360 w 36000"/>
                    <a:gd name="textAreaRight" fmla="*/ 36720 w 3600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Arc 817"/>
                <p:cNvSpPr/>
                <p:nvPr/>
              </p:nvSpPr>
              <p:spPr>
                <a:xfrm>
                  <a:off x="5805000" y="4996080"/>
                  <a:ext cx="36360" cy="63972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5" name="Group 818"/>
              <p:cNvGrpSpPr/>
              <p:nvPr/>
            </p:nvGrpSpPr>
            <p:grpSpPr>
              <a:xfrm>
                <a:off x="5841000" y="5595840"/>
                <a:ext cx="72720" cy="639720"/>
                <a:chOff x="5841000" y="5595840"/>
                <a:chExt cx="72720" cy="639720"/>
              </a:xfrm>
            </p:grpSpPr>
            <p:sp>
              <p:nvSpPr>
                <p:cNvPr id="516" name="Arc 819"/>
                <p:cNvSpPr/>
                <p:nvPr/>
              </p:nvSpPr>
              <p:spPr>
                <a:xfrm flipH="1" flipV="1">
                  <a:off x="5840640" y="5595480"/>
                  <a:ext cx="36360" cy="639720"/>
                </a:xfrm>
                <a:custGeom>
                  <a:avLst/>
                  <a:gdLst>
                    <a:gd name="textAreaLeft" fmla="*/ -360 w 36360"/>
                    <a:gd name="textAreaRight" fmla="*/ 36360 w 3636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rc 820"/>
                <p:cNvSpPr/>
                <p:nvPr/>
              </p:nvSpPr>
              <p:spPr>
                <a:xfrm flipV="1">
                  <a:off x="5877720" y="5595480"/>
                  <a:ext cx="36000" cy="63972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8" name="Group 821"/>
            <p:cNvGrpSpPr/>
            <p:nvPr/>
          </p:nvGrpSpPr>
          <p:grpSpPr>
            <a:xfrm>
              <a:off x="6057720" y="4996080"/>
              <a:ext cx="144720" cy="1239480"/>
              <a:chOff x="6057720" y="4996080"/>
              <a:chExt cx="144720" cy="1239480"/>
            </a:xfrm>
          </p:grpSpPr>
          <p:grpSp>
            <p:nvGrpSpPr>
              <p:cNvPr id="519" name="Group 822"/>
              <p:cNvGrpSpPr/>
              <p:nvPr/>
            </p:nvGrpSpPr>
            <p:grpSpPr>
              <a:xfrm>
                <a:off x="6057720" y="4996080"/>
                <a:ext cx="72360" cy="639720"/>
                <a:chOff x="6057720" y="4996080"/>
                <a:chExt cx="72360" cy="639720"/>
              </a:xfrm>
            </p:grpSpPr>
            <p:sp>
              <p:nvSpPr>
                <p:cNvPr id="520" name="Arc 823"/>
                <p:cNvSpPr/>
                <p:nvPr/>
              </p:nvSpPr>
              <p:spPr>
                <a:xfrm flipH="1">
                  <a:off x="6057720" y="4996080"/>
                  <a:ext cx="36000" cy="639720"/>
                </a:xfrm>
                <a:custGeom>
                  <a:avLst/>
                  <a:gdLst>
                    <a:gd name="textAreaLeft" fmla="*/ 360 w 36000"/>
                    <a:gd name="textAreaRight" fmla="*/ 36720 w 3600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Arc 824"/>
                <p:cNvSpPr/>
                <p:nvPr/>
              </p:nvSpPr>
              <p:spPr>
                <a:xfrm>
                  <a:off x="6093720" y="4996080"/>
                  <a:ext cx="36360" cy="63972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2" name="Group 825"/>
              <p:cNvGrpSpPr/>
              <p:nvPr/>
            </p:nvGrpSpPr>
            <p:grpSpPr>
              <a:xfrm>
                <a:off x="6129720" y="5595840"/>
                <a:ext cx="72720" cy="639720"/>
                <a:chOff x="6129720" y="5595840"/>
                <a:chExt cx="72720" cy="639720"/>
              </a:xfrm>
            </p:grpSpPr>
            <p:sp>
              <p:nvSpPr>
                <p:cNvPr id="523" name="Arc 826"/>
                <p:cNvSpPr/>
                <p:nvPr/>
              </p:nvSpPr>
              <p:spPr>
                <a:xfrm flipH="1" flipV="1">
                  <a:off x="6129360" y="5595480"/>
                  <a:ext cx="36360" cy="639720"/>
                </a:xfrm>
                <a:custGeom>
                  <a:avLst/>
                  <a:gdLst>
                    <a:gd name="textAreaLeft" fmla="*/ -360 w 36360"/>
                    <a:gd name="textAreaRight" fmla="*/ 36360 w 3636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Arc 827"/>
                <p:cNvSpPr/>
                <p:nvPr/>
              </p:nvSpPr>
              <p:spPr>
                <a:xfrm flipV="1">
                  <a:off x="6166440" y="5595480"/>
                  <a:ext cx="36000" cy="63972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5" name="Group 828"/>
            <p:cNvGrpSpPr/>
            <p:nvPr/>
          </p:nvGrpSpPr>
          <p:grpSpPr>
            <a:xfrm>
              <a:off x="5913720" y="4996080"/>
              <a:ext cx="144720" cy="1239480"/>
              <a:chOff x="5913720" y="4996080"/>
              <a:chExt cx="144720" cy="1239480"/>
            </a:xfrm>
          </p:grpSpPr>
          <p:grpSp>
            <p:nvGrpSpPr>
              <p:cNvPr id="526" name="Group 829"/>
              <p:cNvGrpSpPr/>
              <p:nvPr/>
            </p:nvGrpSpPr>
            <p:grpSpPr>
              <a:xfrm>
                <a:off x="5913720" y="4996080"/>
                <a:ext cx="72360" cy="639720"/>
                <a:chOff x="5913720" y="4996080"/>
                <a:chExt cx="72360" cy="639720"/>
              </a:xfrm>
            </p:grpSpPr>
            <p:sp>
              <p:nvSpPr>
                <p:cNvPr id="527" name="Arc 830"/>
                <p:cNvSpPr/>
                <p:nvPr/>
              </p:nvSpPr>
              <p:spPr>
                <a:xfrm flipH="1">
                  <a:off x="5913720" y="4996080"/>
                  <a:ext cx="36000" cy="639720"/>
                </a:xfrm>
                <a:custGeom>
                  <a:avLst/>
                  <a:gdLst>
                    <a:gd name="textAreaLeft" fmla="*/ 360 w 36000"/>
                    <a:gd name="textAreaRight" fmla="*/ 36720 w 3600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Arc 831"/>
                <p:cNvSpPr/>
                <p:nvPr/>
              </p:nvSpPr>
              <p:spPr>
                <a:xfrm>
                  <a:off x="5949720" y="4996080"/>
                  <a:ext cx="36360" cy="63972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9" name="Group 832"/>
              <p:cNvGrpSpPr/>
              <p:nvPr/>
            </p:nvGrpSpPr>
            <p:grpSpPr>
              <a:xfrm>
                <a:off x="5985720" y="5595840"/>
                <a:ext cx="72720" cy="639720"/>
                <a:chOff x="5985720" y="5595840"/>
                <a:chExt cx="72720" cy="639720"/>
              </a:xfrm>
            </p:grpSpPr>
            <p:sp>
              <p:nvSpPr>
                <p:cNvPr id="530" name="Arc 833"/>
                <p:cNvSpPr/>
                <p:nvPr/>
              </p:nvSpPr>
              <p:spPr>
                <a:xfrm flipH="1" flipV="1">
                  <a:off x="5985360" y="5595480"/>
                  <a:ext cx="36360" cy="639720"/>
                </a:xfrm>
                <a:custGeom>
                  <a:avLst/>
                  <a:gdLst>
                    <a:gd name="textAreaLeft" fmla="*/ -360 w 36360"/>
                    <a:gd name="textAreaRight" fmla="*/ 36360 w 3636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Arc 834"/>
                <p:cNvSpPr/>
                <p:nvPr/>
              </p:nvSpPr>
              <p:spPr>
                <a:xfrm flipV="1">
                  <a:off x="6022440" y="5595480"/>
                  <a:ext cx="36000" cy="63972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32" name="Group 835"/>
          <p:cNvGrpSpPr/>
          <p:nvPr/>
        </p:nvGrpSpPr>
        <p:grpSpPr>
          <a:xfrm>
            <a:off x="7713720" y="4996080"/>
            <a:ext cx="433440" cy="1239480"/>
            <a:chOff x="7713720" y="4996080"/>
            <a:chExt cx="433440" cy="1239480"/>
          </a:xfrm>
        </p:grpSpPr>
        <p:grpSp>
          <p:nvGrpSpPr>
            <p:cNvPr id="533" name="Group 836"/>
            <p:cNvGrpSpPr/>
            <p:nvPr/>
          </p:nvGrpSpPr>
          <p:grpSpPr>
            <a:xfrm>
              <a:off x="7713720" y="4996080"/>
              <a:ext cx="144720" cy="1239480"/>
              <a:chOff x="7713720" y="4996080"/>
              <a:chExt cx="144720" cy="1239480"/>
            </a:xfrm>
          </p:grpSpPr>
          <p:grpSp>
            <p:nvGrpSpPr>
              <p:cNvPr id="534" name="Group 837"/>
              <p:cNvGrpSpPr/>
              <p:nvPr/>
            </p:nvGrpSpPr>
            <p:grpSpPr>
              <a:xfrm>
                <a:off x="7713720" y="4996080"/>
                <a:ext cx="72360" cy="639720"/>
                <a:chOff x="7713720" y="4996080"/>
                <a:chExt cx="72360" cy="639720"/>
              </a:xfrm>
            </p:grpSpPr>
            <p:sp>
              <p:nvSpPr>
                <p:cNvPr id="535" name="Arc 838"/>
                <p:cNvSpPr/>
                <p:nvPr/>
              </p:nvSpPr>
              <p:spPr>
                <a:xfrm flipH="1">
                  <a:off x="7713720" y="4996080"/>
                  <a:ext cx="36000" cy="639720"/>
                </a:xfrm>
                <a:custGeom>
                  <a:avLst/>
                  <a:gdLst>
                    <a:gd name="textAreaLeft" fmla="*/ 360 w 36000"/>
                    <a:gd name="textAreaRight" fmla="*/ 36720 w 3600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Arc 839"/>
                <p:cNvSpPr/>
                <p:nvPr/>
              </p:nvSpPr>
              <p:spPr>
                <a:xfrm>
                  <a:off x="7749720" y="4996080"/>
                  <a:ext cx="36360" cy="63972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7" name="Group 840"/>
              <p:cNvGrpSpPr/>
              <p:nvPr/>
            </p:nvGrpSpPr>
            <p:grpSpPr>
              <a:xfrm>
                <a:off x="7785720" y="5595840"/>
                <a:ext cx="72720" cy="639720"/>
                <a:chOff x="7785720" y="5595840"/>
                <a:chExt cx="72720" cy="639720"/>
              </a:xfrm>
            </p:grpSpPr>
            <p:sp>
              <p:nvSpPr>
                <p:cNvPr id="538" name="Arc 841"/>
                <p:cNvSpPr/>
                <p:nvPr/>
              </p:nvSpPr>
              <p:spPr>
                <a:xfrm flipH="1" flipV="1">
                  <a:off x="7785360" y="5595480"/>
                  <a:ext cx="36360" cy="639720"/>
                </a:xfrm>
                <a:custGeom>
                  <a:avLst/>
                  <a:gdLst>
                    <a:gd name="textAreaLeft" fmla="*/ -360 w 36360"/>
                    <a:gd name="textAreaRight" fmla="*/ 36360 w 3636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Arc 842"/>
                <p:cNvSpPr/>
                <p:nvPr/>
              </p:nvSpPr>
              <p:spPr>
                <a:xfrm flipV="1">
                  <a:off x="7822440" y="5595480"/>
                  <a:ext cx="36000" cy="63972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0" name="Group 843"/>
            <p:cNvGrpSpPr/>
            <p:nvPr/>
          </p:nvGrpSpPr>
          <p:grpSpPr>
            <a:xfrm>
              <a:off x="8002440" y="4996080"/>
              <a:ext cx="144720" cy="1239480"/>
              <a:chOff x="8002440" y="4996080"/>
              <a:chExt cx="144720" cy="1239480"/>
            </a:xfrm>
          </p:grpSpPr>
          <p:grpSp>
            <p:nvGrpSpPr>
              <p:cNvPr id="541" name="Group 844"/>
              <p:cNvGrpSpPr/>
              <p:nvPr/>
            </p:nvGrpSpPr>
            <p:grpSpPr>
              <a:xfrm>
                <a:off x="8002440" y="4996080"/>
                <a:ext cx="72360" cy="639720"/>
                <a:chOff x="8002440" y="4996080"/>
                <a:chExt cx="72360" cy="639720"/>
              </a:xfrm>
            </p:grpSpPr>
            <p:sp>
              <p:nvSpPr>
                <p:cNvPr id="542" name="Arc 845"/>
                <p:cNvSpPr/>
                <p:nvPr/>
              </p:nvSpPr>
              <p:spPr>
                <a:xfrm flipH="1">
                  <a:off x="8002440" y="4996080"/>
                  <a:ext cx="36000" cy="639720"/>
                </a:xfrm>
                <a:custGeom>
                  <a:avLst/>
                  <a:gdLst>
                    <a:gd name="textAreaLeft" fmla="*/ 360 w 36000"/>
                    <a:gd name="textAreaRight" fmla="*/ 36720 w 3600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Arc 846"/>
                <p:cNvSpPr/>
                <p:nvPr/>
              </p:nvSpPr>
              <p:spPr>
                <a:xfrm>
                  <a:off x="8038440" y="4996080"/>
                  <a:ext cx="36360" cy="63972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4" name="Group 847"/>
              <p:cNvGrpSpPr/>
              <p:nvPr/>
            </p:nvGrpSpPr>
            <p:grpSpPr>
              <a:xfrm>
                <a:off x="8074440" y="5595840"/>
                <a:ext cx="72720" cy="639720"/>
                <a:chOff x="8074440" y="5595840"/>
                <a:chExt cx="72720" cy="639720"/>
              </a:xfrm>
            </p:grpSpPr>
            <p:sp>
              <p:nvSpPr>
                <p:cNvPr id="545" name="Arc 848"/>
                <p:cNvSpPr/>
                <p:nvPr/>
              </p:nvSpPr>
              <p:spPr>
                <a:xfrm flipH="1" flipV="1">
                  <a:off x="8074080" y="5595480"/>
                  <a:ext cx="36360" cy="639720"/>
                </a:xfrm>
                <a:custGeom>
                  <a:avLst/>
                  <a:gdLst>
                    <a:gd name="textAreaLeft" fmla="*/ -360 w 36360"/>
                    <a:gd name="textAreaRight" fmla="*/ 36360 w 3636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Arc 849"/>
                <p:cNvSpPr/>
                <p:nvPr/>
              </p:nvSpPr>
              <p:spPr>
                <a:xfrm flipV="1">
                  <a:off x="8111160" y="5595480"/>
                  <a:ext cx="36000" cy="63972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7" name="Group 850"/>
            <p:cNvGrpSpPr/>
            <p:nvPr/>
          </p:nvGrpSpPr>
          <p:grpSpPr>
            <a:xfrm>
              <a:off x="7858440" y="4996080"/>
              <a:ext cx="144720" cy="1239480"/>
              <a:chOff x="7858440" y="4996080"/>
              <a:chExt cx="144720" cy="1239480"/>
            </a:xfrm>
          </p:grpSpPr>
          <p:grpSp>
            <p:nvGrpSpPr>
              <p:cNvPr id="548" name="Group 851"/>
              <p:cNvGrpSpPr/>
              <p:nvPr/>
            </p:nvGrpSpPr>
            <p:grpSpPr>
              <a:xfrm>
                <a:off x="7858440" y="4996080"/>
                <a:ext cx="72360" cy="639720"/>
                <a:chOff x="7858440" y="4996080"/>
                <a:chExt cx="72360" cy="639720"/>
              </a:xfrm>
            </p:grpSpPr>
            <p:sp>
              <p:nvSpPr>
                <p:cNvPr id="549" name="Arc 852"/>
                <p:cNvSpPr/>
                <p:nvPr/>
              </p:nvSpPr>
              <p:spPr>
                <a:xfrm flipH="1">
                  <a:off x="7858440" y="4996080"/>
                  <a:ext cx="36000" cy="639720"/>
                </a:xfrm>
                <a:custGeom>
                  <a:avLst/>
                  <a:gdLst>
                    <a:gd name="textAreaLeft" fmla="*/ 360 w 36000"/>
                    <a:gd name="textAreaRight" fmla="*/ 36720 w 3600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Arc 853"/>
                <p:cNvSpPr/>
                <p:nvPr/>
              </p:nvSpPr>
              <p:spPr>
                <a:xfrm>
                  <a:off x="7894440" y="4996080"/>
                  <a:ext cx="36360" cy="63972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1" name="Group 854"/>
              <p:cNvGrpSpPr/>
              <p:nvPr/>
            </p:nvGrpSpPr>
            <p:grpSpPr>
              <a:xfrm>
                <a:off x="7930440" y="5595840"/>
                <a:ext cx="72720" cy="639720"/>
                <a:chOff x="7930440" y="5595840"/>
                <a:chExt cx="72720" cy="639720"/>
              </a:xfrm>
            </p:grpSpPr>
            <p:sp>
              <p:nvSpPr>
                <p:cNvPr id="552" name="Arc 855"/>
                <p:cNvSpPr/>
                <p:nvPr/>
              </p:nvSpPr>
              <p:spPr>
                <a:xfrm flipH="1" flipV="1">
                  <a:off x="7930080" y="5595480"/>
                  <a:ext cx="36360" cy="639720"/>
                </a:xfrm>
                <a:custGeom>
                  <a:avLst/>
                  <a:gdLst>
                    <a:gd name="textAreaLeft" fmla="*/ -360 w 36360"/>
                    <a:gd name="textAreaRight" fmla="*/ 36360 w 3636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Arc 856"/>
                <p:cNvSpPr/>
                <p:nvPr/>
              </p:nvSpPr>
              <p:spPr>
                <a:xfrm flipV="1">
                  <a:off x="7967160" y="5595480"/>
                  <a:ext cx="36000" cy="63972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54" name="Group 857"/>
          <p:cNvGrpSpPr/>
          <p:nvPr/>
        </p:nvGrpSpPr>
        <p:grpSpPr>
          <a:xfrm>
            <a:off x="8361360" y="4996080"/>
            <a:ext cx="433440" cy="1239480"/>
            <a:chOff x="8361360" y="4996080"/>
            <a:chExt cx="433440" cy="1239480"/>
          </a:xfrm>
        </p:grpSpPr>
        <p:grpSp>
          <p:nvGrpSpPr>
            <p:cNvPr id="555" name="Group 858"/>
            <p:cNvGrpSpPr/>
            <p:nvPr/>
          </p:nvGrpSpPr>
          <p:grpSpPr>
            <a:xfrm>
              <a:off x="8361360" y="4996080"/>
              <a:ext cx="144720" cy="1239480"/>
              <a:chOff x="8361360" y="4996080"/>
              <a:chExt cx="144720" cy="1239480"/>
            </a:xfrm>
          </p:grpSpPr>
          <p:grpSp>
            <p:nvGrpSpPr>
              <p:cNvPr id="556" name="Group 859"/>
              <p:cNvGrpSpPr/>
              <p:nvPr/>
            </p:nvGrpSpPr>
            <p:grpSpPr>
              <a:xfrm>
                <a:off x="8361360" y="4996080"/>
                <a:ext cx="72360" cy="639720"/>
                <a:chOff x="8361360" y="4996080"/>
                <a:chExt cx="72360" cy="639720"/>
              </a:xfrm>
            </p:grpSpPr>
            <p:sp>
              <p:nvSpPr>
                <p:cNvPr id="557" name="Arc 860"/>
                <p:cNvSpPr/>
                <p:nvPr/>
              </p:nvSpPr>
              <p:spPr>
                <a:xfrm flipH="1">
                  <a:off x="8361360" y="4996080"/>
                  <a:ext cx="36000" cy="639720"/>
                </a:xfrm>
                <a:custGeom>
                  <a:avLst/>
                  <a:gdLst>
                    <a:gd name="textAreaLeft" fmla="*/ 360 w 36000"/>
                    <a:gd name="textAreaRight" fmla="*/ 36720 w 3600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Arc 861"/>
                <p:cNvSpPr/>
                <p:nvPr/>
              </p:nvSpPr>
              <p:spPr>
                <a:xfrm>
                  <a:off x="8397360" y="4996080"/>
                  <a:ext cx="36360" cy="63972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9" name="Group 862"/>
              <p:cNvGrpSpPr/>
              <p:nvPr/>
            </p:nvGrpSpPr>
            <p:grpSpPr>
              <a:xfrm>
                <a:off x="8433360" y="5595840"/>
                <a:ext cx="72720" cy="639720"/>
                <a:chOff x="8433360" y="5595840"/>
                <a:chExt cx="72720" cy="639720"/>
              </a:xfrm>
            </p:grpSpPr>
            <p:sp>
              <p:nvSpPr>
                <p:cNvPr id="560" name="Arc 863"/>
                <p:cNvSpPr/>
                <p:nvPr/>
              </p:nvSpPr>
              <p:spPr>
                <a:xfrm flipH="1" flipV="1">
                  <a:off x="8433000" y="5595480"/>
                  <a:ext cx="36360" cy="639720"/>
                </a:xfrm>
                <a:custGeom>
                  <a:avLst/>
                  <a:gdLst>
                    <a:gd name="textAreaLeft" fmla="*/ -360 w 36360"/>
                    <a:gd name="textAreaRight" fmla="*/ 36360 w 3636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Arc 864"/>
                <p:cNvSpPr/>
                <p:nvPr/>
              </p:nvSpPr>
              <p:spPr>
                <a:xfrm flipV="1">
                  <a:off x="8470080" y="5595480"/>
                  <a:ext cx="36000" cy="63972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2" name="Group 865"/>
            <p:cNvGrpSpPr/>
            <p:nvPr/>
          </p:nvGrpSpPr>
          <p:grpSpPr>
            <a:xfrm>
              <a:off x="8650080" y="4996080"/>
              <a:ext cx="144720" cy="1239480"/>
              <a:chOff x="8650080" y="4996080"/>
              <a:chExt cx="144720" cy="1239480"/>
            </a:xfrm>
          </p:grpSpPr>
          <p:grpSp>
            <p:nvGrpSpPr>
              <p:cNvPr id="563" name="Group 866"/>
              <p:cNvGrpSpPr/>
              <p:nvPr/>
            </p:nvGrpSpPr>
            <p:grpSpPr>
              <a:xfrm>
                <a:off x="8650080" y="4996080"/>
                <a:ext cx="72360" cy="639720"/>
                <a:chOff x="8650080" y="4996080"/>
                <a:chExt cx="72360" cy="639720"/>
              </a:xfrm>
            </p:grpSpPr>
            <p:sp>
              <p:nvSpPr>
                <p:cNvPr id="564" name="Arc 867"/>
                <p:cNvSpPr/>
                <p:nvPr/>
              </p:nvSpPr>
              <p:spPr>
                <a:xfrm flipH="1">
                  <a:off x="8650080" y="4996080"/>
                  <a:ext cx="36000" cy="639720"/>
                </a:xfrm>
                <a:custGeom>
                  <a:avLst/>
                  <a:gdLst>
                    <a:gd name="textAreaLeft" fmla="*/ 360 w 36000"/>
                    <a:gd name="textAreaRight" fmla="*/ 36720 w 3600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Arc 868"/>
                <p:cNvSpPr/>
                <p:nvPr/>
              </p:nvSpPr>
              <p:spPr>
                <a:xfrm>
                  <a:off x="8686080" y="4996080"/>
                  <a:ext cx="36360" cy="63972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6" name="Group 869"/>
              <p:cNvGrpSpPr/>
              <p:nvPr/>
            </p:nvGrpSpPr>
            <p:grpSpPr>
              <a:xfrm>
                <a:off x="8722080" y="5595840"/>
                <a:ext cx="72720" cy="639720"/>
                <a:chOff x="8722080" y="5595840"/>
                <a:chExt cx="72720" cy="639720"/>
              </a:xfrm>
            </p:grpSpPr>
            <p:sp>
              <p:nvSpPr>
                <p:cNvPr id="567" name="Arc 870"/>
                <p:cNvSpPr/>
                <p:nvPr/>
              </p:nvSpPr>
              <p:spPr>
                <a:xfrm flipH="1" flipV="1">
                  <a:off x="8721720" y="5595480"/>
                  <a:ext cx="36360" cy="639720"/>
                </a:xfrm>
                <a:custGeom>
                  <a:avLst/>
                  <a:gdLst>
                    <a:gd name="textAreaLeft" fmla="*/ -360 w 36360"/>
                    <a:gd name="textAreaRight" fmla="*/ 36360 w 3636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Arc 871"/>
                <p:cNvSpPr/>
                <p:nvPr/>
              </p:nvSpPr>
              <p:spPr>
                <a:xfrm flipV="1">
                  <a:off x="8758800" y="5595480"/>
                  <a:ext cx="36000" cy="63972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9" name="Group 872"/>
            <p:cNvGrpSpPr/>
            <p:nvPr/>
          </p:nvGrpSpPr>
          <p:grpSpPr>
            <a:xfrm>
              <a:off x="8506080" y="4996080"/>
              <a:ext cx="144720" cy="1239480"/>
              <a:chOff x="8506080" y="4996080"/>
              <a:chExt cx="144720" cy="1239480"/>
            </a:xfrm>
          </p:grpSpPr>
          <p:grpSp>
            <p:nvGrpSpPr>
              <p:cNvPr id="570" name="Group 873"/>
              <p:cNvGrpSpPr/>
              <p:nvPr/>
            </p:nvGrpSpPr>
            <p:grpSpPr>
              <a:xfrm>
                <a:off x="8506080" y="4996080"/>
                <a:ext cx="72360" cy="639720"/>
                <a:chOff x="8506080" y="4996080"/>
                <a:chExt cx="72360" cy="639720"/>
              </a:xfrm>
            </p:grpSpPr>
            <p:sp>
              <p:nvSpPr>
                <p:cNvPr id="571" name="Arc 874"/>
                <p:cNvSpPr/>
                <p:nvPr/>
              </p:nvSpPr>
              <p:spPr>
                <a:xfrm flipH="1">
                  <a:off x="8506080" y="4996080"/>
                  <a:ext cx="36000" cy="639720"/>
                </a:xfrm>
                <a:custGeom>
                  <a:avLst/>
                  <a:gdLst>
                    <a:gd name="textAreaLeft" fmla="*/ 360 w 36000"/>
                    <a:gd name="textAreaRight" fmla="*/ 36720 w 3600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Arc 875"/>
                <p:cNvSpPr/>
                <p:nvPr/>
              </p:nvSpPr>
              <p:spPr>
                <a:xfrm>
                  <a:off x="8542080" y="4996080"/>
                  <a:ext cx="36360" cy="63972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3" name="Group 876"/>
              <p:cNvGrpSpPr/>
              <p:nvPr/>
            </p:nvGrpSpPr>
            <p:grpSpPr>
              <a:xfrm>
                <a:off x="8578080" y="5595840"/>
                <a:ext cx="72720" cy="639720"/>
                <a:chOff x="8578080" y="5595840"/>
                <a:chExt cx="72720" cy="639720"/>
              </a:xfrm>
            </p:grpSpPr>
            <p:sp>
              <p:nvSpPr>
                <p:cNvPr id="574" name="Arc 877"/>
                <p:cNvSpPr/>
                <p:nvPr/>
              </p:nvSpPr>
              <p:spPr>
                <a:xfrm flipH="1" flipV="1">
                  <a:off x="8577720" y="5595480"/>
                  <a:ext cx="36360" cy="639720"/>
                </a:xfrm>
                <a:custGeom>
                  <a:avLst/>
                  <a:gdLst>
                    <a:gd name="textAreaLeft" fmla="*/ -360 w 36360"/>
                    <a:gd name="textAreaRight" fmla="*/ 36360 w 3636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Arc 878"/>
                <p:cNvSpPr/>
                <p:nvPr/>
              </p:nvSpPr>
              <p:spPr>
                <a:xfrm flipV="1">
                  <a:off x="8614800" y="5595480"/>
                  <a:ext cx="36000" cy="63972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-360 h 639720"/>
                    <a:gd name="textAreaBottom" fmla="*/ 639720 h 639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6" name="Line 879"/>
          <p:cNvSpPr/>
          <p:nvPr/>
        </p:nvSpPr>
        <p:spPr>
          <a:xfrm flipH="1">
            <a:off x="3178080" y="1341360"/>
            <a:ext cx="866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880"/>
          <p:cNvSpPr/>
          <p:nvPr/>
        </p:nvSpPr>
        <p:spPr>
          <a:xfrm>
            <a:off x="5769000" y="1320840"/>
            <a:ext cx="43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881"/>
          <p:cNvSpPr/>
          <p:nvPr/>
        </p:nvSpPr>
        <p:spPr>
          <a:xfrm>
            <a:off x="7067520" y="1339920"/>
            <a:ext cx="1298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882"/>
          <p:cNvSpPr/>
          <p:nvPr/>
        </p:nvSpPr>
        <p:spPr>
          <a:xfrm>
            <a:off x="3183120" y="6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883"/>
          <p:cNvSpPr/>
          <p:nvPr/>
        </p:nvSpPr>
        <p:spPr>
          <a:xfrm>
            <a:off x="3926160" y="71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884"/>
          <p:cNvSpPr/>
          <p:nvPr/>
        </p:nvSpPr>
        <p:spPr>
          <a:xfrm>
            <a:off x="5869440" y="71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885"/>
          <p:cNvSpPr/>
          <p:nvPr/>
        </p:nvSpPr>
        <p:spPr>
          <a:xfrm>
            <a:off x="7164720" y="71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886"/>
          <p:cNvSpPr/>
          <p:nvPr/>
        </p:nvSpPr>
        <p:spPr>
          <a:xfrm>
            <a:off x="7814160" y="71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887"/>
          <p:cNvSpPr/>
          <p:nvPr/>
        </p:nvSpPr>
        <p:spPr>
          <a:xfrm>
            <a:off x="8461800" y="71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888"/>
          <p:cNvSpPr/>
          <p:nvPr/>
        </p:nvSpPr>
        <p:spPr>
          <a:xfrm>
            <a:off x="6518520" y="71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889"/>
          <p:cNvSpPr/>
          <p:nvPr/>
        </p:nvSpPr>
        <p:spPr>
          <a:xfrm>
            <a:off x="5220000" y="71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890"/>
          <p:cNvSpPr/>
          <p:nvPr/>
        </p:nvSpPr>
        <p:spPr>
          <a:xfrm>
            <a:off x="4572360" y="71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891"/>
          <p:cNvSpPr/>
          <p:nvPr/>
        </p:nvSpPr>
        <p:spPr>
          <a:xfrm>
            <a:off x="721440" y="9795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892"/>
          <p:cNvSpPr/>
          <p:nvPr/>
        </p:nvSpPr>
        <p:spPr>
          <a:xfrm>
            <a:off x="720720" y="31399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F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893"/>
          <p:cNvSpPr/>
          <p:nvPr/>
        </p:nvSpPr>
        <p:spPr>
          <a:xfrm>
            <a:off x="721080" y="53006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P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0B78-F338-4575-830E-DD9339495DD9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73E7-4FD4-49E8-9169-A29671FC88DD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4ASK konstellációs ábra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594" name="Rectangle 4"/>
          <p:cNvSpPr/>
          <p:nvPr/>
        </p:nvSpPr>
        <p:spPr>
          <a:xfrm>
            <a:off x="3492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5"/>
          <p:cNvSpPr/>
          <p:nvPr/>
        </p:nvSpPr>
        <p:spPr>
          <a:xfrm>
            <a:off x="3492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6"/>
          <p:cNvSpPr/>
          <p:nvPr/>
        </p:nvSpPr>
        <p:spPr>
          <a:xfrm>
            <a:off x="3492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7"/>
          <p:cNvSpPr/>
          <p:nvPr/>
        </p:nvSpPr>
        <p:spPr>
          <a:xfrm>
            <a:off x="34920" y="223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8"/>
          <p:cNvSpPr/>
          <p:nvPr/>
        </p:nvSpPr>
        <p:spPr>
          <a:xfrm>
            <a:off x="34920" y="213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9" name="Object 9"/>
          <p:cNvGraphicFramePr/>
          <p:nvPr/>
        </p:nvGraphicFramePr>
        <p:xfrm>
          <a:off x="2340000" y="1628640"/>
          <a:ext cx="3581280" cy="283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628640"/>
                    <a:ext cx="3581280" cy="28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1" name="Rectangle 10"/>
          <p:cNvSpPr/>
          <p:nvPr/>
        </p:nvSpPr>
        <p:spPr>
          <a:xfrm>
            <a:off x="34920" y="197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4761-302E-4A8F-9EAD-5832B6ECEC32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260A-7B2E-48EB-8CA5-7CCA9BE10A6E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Konstellációs diagram BPSK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pic>
        <p:nvPicPr>
          <p:cNvPr id="605" name="Picture 5" descr=""/>
          <p:cNvPicPr/>
          <p:nvPr/>
        </p:nvPicPr>
        <p:blipFill>
          <a:blip r:embed="rId1"/>
          <a:stretch/>
        </p:blipFill>
        <p:spPr>
          <a:xfrm>
            <a:off x="1547640" y="762120"/>
            <a:ext cx="5761080" cy="55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B27F-6F59-4B29-B402-72C8B392326C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6524-8ADB-41A2-92C3-40DC359B3395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Qadrature Phase Shift Keying (QPSK)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graphicFrame>
        <p:nvGraphicFramePr>
          <p:cNvPr id="609" name="Object 4"/>
          <p:cNvGraphicFramePr/>
          <p:nvPr/>
        </p:nvGraphicFramePr>
        <p:xfrm>
          <a:off x="179280" y="1608120"/>
          <a:ext cx="8785440" cy="38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608120"/>
                    <a:ext cx="8785440" cy="38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0B57-B52E-4345-BACD-62E0F3547085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665F-A36C-4D3B-979B-C6CF34749B68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Konstellációs diagram QPSK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graphicFrame>
        <p:nvGraphicFramePr>
          <p:cNvPr id="614" name="Object 4"/>
          <p:cNvGraphicFramePr/>
          <p:nvPr/>
        </p:nvGraphicFramePr>
        <p:xfrm>
          <a:off x="2546280" y="765000"/>
          <a:ext cx="423720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765000"/>
                    <a:ext cx="423720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80A9-6E9B-4023-B14E-BCBC20D6BF14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7F16-09AF-4F94-8DC4-B2A3697B9037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Konstellációs diagram QPSK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graphicFrame>
        <p:nvGraphicFramePr>
          <p:cNvPr id="619" name="Object 4"/>
          <p:cNvGraphicFramePr/>
          <p:nvPr/>
        </p:nvGraphicFramePr>
        <p:xfrm>
          <a:off x="1763640" y="803160"/>
          <a:ext cx="5688000" cy="546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803160"/>
                    <a:ext cx="5688000" cy="546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D7DA-DC4A-428B-8887-862DA725D31C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A66A-9452-4606-AF46-A214955F9901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Konstellációs diagram QPSK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pic>
        <p:nvPicPr>
          <p:cNvPr id="624" name="QPSK.avi" descr=""/>
          <p:cNvPicPr/>
          <p:nvPr/>
        </p:nvPicPr>
        <p:blipFill>
          <a:blip r:embed="rId1"/>
          <a:stretch/>
        </p:blipFill>
        <p:spPr>
          <a:xfrm>
            <a:off x="2465280" y="1822320"/>
            <a:ext cx="4286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467" fill="hold"/>
                                        <p:tgtEl>
                                          <p:spTgt spid="6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2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2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6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B904-458B-4A83-9F2D-943D8CEE624B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F75C-FBC7-42D9-B66E-7DD0F42AD3E8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8PSK konstellációs ábra 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graphicFrame>
        <p:nvGraphicFramePr>
          <p:cNvPr id="628" name="Object 4"/>
          <p:cNvGraphicFramePr/>
          <p:nvPr/>
        </p:nvGraphicFramePr>
        <p:xfrm>
          <a:off x="1476360" y="985680"/>
          <a:ext cx="5616720" cy="457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985680"/>
                    <a:ext cx="5616720" cy="457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0" name="Text Box 6"/>
          <p:cNvSpPr/>
          <p:nvPr/>
        </p:nvSpPr>
        <p:spPr>
          <a:xfrm>
            <a:off x="2487240" y="5661000"/>
            <a:ext cx="373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,4,8…..? Mi szabja meg a határt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8AC8-F888-48E0-8D99-384311043EE9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13B4-3E3A-4D61-9E0C-905D6637B87F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QPSK QAM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QPSK (Quadrature Phase shift keying), 4-QAM (4 Quadrature Amplitude modulation)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konstellációs diagrammok és időfüggvények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0" y="217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6"/>
          <p:cNvSpPr/>
          <p:nvPr/>
        </p:nvSpPr>
        <p:spPr>
          <a:xfrm>
            <a:off x="0" y="217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Object 7"/>
          <p:cNvGraphicFramePr/>
          <p:nvPr/>
        </p:nvGraphicFramePr>
        <p:xfrm>
          <a:off x="609480" y="1687680"/>
          <a:ext cx="3505320" cy="27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87680"/>
                    <a:ext cx="3505320" cy="27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9" name="Rectangle 8"/>
          <p:cNvSpPr/>
          <p:nvPr/>
        </p:nvSpPr>
        <p:spPr>
          <a:xfrm>
            <a:off x="0" y="217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0" name="Object 9"/>
          <p:cNvGraphicFramePr/>
          <p:nvPr/>
        </p:nvGraphicFramePr>
        <p:xfrm>
          <a:off x="5562720" y="1687680"/>
          <a:ext cx="3581280" cy="283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1687680"/>
                    <a:ext cx="3581280" cy="28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2" name="Rectangle 10"/>
          <p:cNvSpPr/>
          <p:nvPr/>
        </p:nvSpPr>
        <p:spPr>
          <a:xfrm>
            <a:off x="0" y="239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3" name="Object 11"/>
          <p:cNvGraphicFramePr/>
          <p:nvPr/>
        </p:nvGraphicFramePr>
        <p:xfrm>
          <a:off x="152280" y="4659480"/>
          <a:ext cx="4057920" cy="162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4659480"/>
                    <a:ext cx="405792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5" name="Rectangle 12"/>
          <p:cNvSpPr/>
          <p:nvPr/>
        </p:nvSpPr>
        <p:spPr>
          <a:xfrm>
            <a:off x="0" y="230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6" name="Object 13"/>
          <p:cNvGraphicFramePr/>
          <p:nvPr/>
        </p:nvGraphicFramePr>
        <p:xfrm>
          <a:off x="5267160" y="4583160"/>
          <a:ext cx="3876840" cy="1819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7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7160" y="4583160"/>
                    <a:ext cx="387684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D83D-C301-4065-BD0A-F1CBFDB94A46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2010-9CA9-4476-A77E-221793C667D2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Digitális átvitel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csatorna jellemzője az átviteli sebessé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egy másodperc alatt hány bitet (1 -est vagy 0 -t) lehet a csatornán átvinn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1 bit/sec,  1024 bit/sec=1 kb/s, 1024 kb/s=1 Mb/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z átviteli sebesség szorosan összefügg a csatorna sávszélességé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minél nagyobb az átviteli sebesség, annál nagyobb az igényelt sávszélessé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modulációval az adott átviteli sebesség kisebb sávszélességen is megvalósítható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digitális csatorna átviteli sebességét is szokás sávszélességnek nevezn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20CE-77CA-4FF9-8140-B5441A2C56EC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59D8-0CE8-439A-AF33-B0860CC7A05D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Qadrature Amplitude Modulation (QAM)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Két vivő: szinusz (Q) és koszinusz (I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A modulált jel a két komponens össze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gy szimbólum: különböző fázis és különböző amplitúdó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16QAM egy szimbólum 4 b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B330-644A-48DC-BF14-734F1A2EA31E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7901-92A3-4EE5-A30C-213C75A7C2D8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Qadrature Amplitude Modulation (16QAM)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graphicFrame>
        <p:nvGraphicFramePr>
          <p:cNvPr id="655" name="Object 4"/>
          <p:cNvGraphicFramePr/>
          <p:nvPr/>
        </p:nvGraphicFramePr>
        <p:xfrm>
          <a:off x="2324160" y="836640"/>
          <a:ext cx="456876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4160" y="836640"/>
                    <a:ext cx="456876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8BB9-3203-46EE-9556-EDCD6FC73027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2FD9-3BEC-4684-A0F3-7F5258CAFD83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Konstellációs diagram 16QAM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pic>
        <p:nvPicPr>
          <p:cNvPr id="660" name="Picture 5" descr=""/>
          <p:cNvPicPr/>
          <p:nvPr/>
        </p:nvPicPr>
        <p:blipFill>
          <a:blip r:embed="rId1"/>
          <a:stretch/>
        </p:blipFill>
        <p:spPr>
          <a:xfrm>
            <a:off x="1979640" y="806400"/>
            <a:ext cx="5688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F6A5-39CA-4ED1-BB93-4C4E38F7BED0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EDF8-F3BB-4364-A867-4D5BD5D86D99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16QAM zajos csatornában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graphicFrame>
        <p:nvGraphicFramePr>
          <p:cNvPr id="664" name="Object 4"/>
          <p:cNvGraphicFramePr/>
          <p:nvPr/>
        </p:nvGraphicFramePr>
        <p:xfrm>
          <a:off x="1692360" y="790560"/>
          <a:ext cx="5759280" cy="553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790560"/>
                    <a:ext cx="5759280" cy="55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9411-BA9C-485C-935D-8DFBD10F573F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2198-1AD0-41D5-8EEA-65CE74F76B53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64 QAM termikus zajjal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pic>
        <p:nvPicPr>
          <p:cNvPr id="669" name="Picture 4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720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343A-B2D1-4AD2-B060-D2FAD540E903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4DC4-7469-41FD-AB02-5BC52E4D5C01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64QAM fáziszajjal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pic>
        <p:nvPicPr>
          <p:cNvPr id="673" name="Picture 4" descr=""/>
          <p:cNvPicPr/>
          <p:nvPr/>
        </p:nvPicPr>
        <p:blipFill>
          <a:blip r:embed="rId1"/>
          <a:stretch/>
        </p:blipFill>
        <p:spPr>
          <a:xfrm>
            <a:off x="1185840" y="765000"/>
            <a:ext cx="7273800" cy="545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F89D-2A33-4279-837E-3528B220DA6C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3EB0-155C-49B2-ADC9-F44B7707D750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64QAM Koherens Interferenciával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pic>
        <p:nvPicPr>
          <p:cNvPr id="677" name="Picture 4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39C0-C17D-4F16-A313-22D0440CF85B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3403-6488-4DD3-A333-F12B37B65478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Minőség digitális jeleknél (BER, MER)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143000" indent="-228600">
              <a:spcBef>
                <a:spcPts val="700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odulációs hibaarány (MER) vagy 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ibavektor nagyság (EV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700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ithiba arány (BER) a FEC hibajavítás elő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700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ithiba arány (BER) a FEC hibajavítás ut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DA59-15FC-4836-8822-1F0F72F3D65E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EEC4-BFF9-4A8D-9630-F0E3B1C46210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Mi is az a MER?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Romló CNR analóg rendszerb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Group 5"/>
          <p:cNvGrpSpPr/>
          <p:nvPr/>
        </p:nvGrpSpPr>
        <p:grpSpPr>
          <a:xfrm>
            <a:off x="695160" y="1752480"/>
            <a:ext cx="1698840" cy="1868400"/>
            <a:chOff x="695160" y="1752480"/>
            <a:chExt cx="1698840" cy="1868400"/>
          </a:xfrm>
        </p:grpSpPr>
        <p:grpSp>
          <p:nvGrpSpPr>
            <p:cNvPr id="687" name="Group 6"/>
            <p:cNvGrpSpPr/>
            <p:nvPr/>
          </p:nvGrpSpPr>
          <p:grpSpPr>
            <a:xfrm>
              <a:off x="695160" y="1752480"/>
              <a:ext cx="1698840" cy="1527120"/>
              <a:chOff x="695160" y="1752480"/>
              <a:chExt cx="1698840" cy="1527120"/>
            </a:xfrm>
          </p:grpSpPr>
          <p:pic>
            <p:nvPicPr>
              <p:cNvPr id="688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695160" y="1752480"/>
                <a:ext cx="1698840" cy="1527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9" name="Pictur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695160" y="1752480"/>
                <a:ext cx="1698840" cy="1527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90" name="Rectangle 9"/>
            <p:cNvSpPr/>
            <p:nvPr/>
          </p:nvSpPr>
          <p:spPr>
            <a:xfrm>
              <a:off x="797040" y="3254040"/>
              <a:ext cx="1508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 dB C/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Group 10"/>
          <p:cNvGrpSpPr/>
          <p:nvPr/>
        </p:nvGrpSpPr>
        <p:grpSpPr>
          <a:xfrm>
            <a:off x="2355840" y="1763640"/>
            <a:ext cx="2170080" cy="1827000"/>
            <a:chOff x="2355840" y="1763640"/>
            <a:chExt cx="2170080" cy="1827000"/>
          </a:xfrm>
        </p:grpSpPr>
        <p:grpSp>
          <p:nvGrpSpPr>
            <p:cNvPr id="692" name="Group 11"/>
            <p:cNvGrpSpPr/>
            <p:nvPr/>
          </p:nvGrpSpPr>
          <p:grpSpPr>
            <a:xfrm>
              <a:off x="2847960" y="1763640"/>
              <a:ext cx="1677960" cy="1508040"/>
              <a:chOff x="2847960" y="1763640"/>
              <a:chExt cx="1677960" cy="1508040"/>
            </a:xfrm>
          </p:grpSpPr>
          <p:pic>
            <p:nvPicPr>
              <p:cNvPr id="693" name="Pictu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2847960" y="1763640"/>
                <a:ext cx="1677960" cy="150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4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2847960" y="1763640"/>
                <a:ext cx="1677960" cy="1508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95" name="Picture 14" descr=""/>
            <p:cNvPicPr/>
            <p:nvPr/>
          </p:nvPicPr>
          <p:blipFill>
            <a:blip r:embed="rId5"/>
            <a:stretch/>
          </p:blipFill>
          <p:spPr>
            <a:xfrm>
              <a:off x="2355840" y="2303280"/>
              <a:ext cx="512640" cy="58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Rectangle 15"/>
            <p:cNvSpPr/>
            <p:nvPr/>
          </p:nvSpPr>
          <p:spPr>
            <a:xfrm>
              <a:off x="2933640" y="3223800"/>
              <a:ext cx="1508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5 dB C/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Group 16"/>
          <p:cNvGrpSpPr/>
          <p:nvPr/>
        </p:nvGrpSpPr>
        <p:grpSpPr>
          <a:xfrm>
            <a:off x="4486320" y="1752480"/>
            <a:ext cx="2170080" cy="1830240"/>
            <a:chOff x="4486320" y="1752480"/>
            <a:chExt cx="2170080" cy="1830240"/>
          </a:xfrm>
        </p:grpSpPr>
        <p:grpSp>
          <p:nvGrpSpPr>
            <p:cNvPr id="698" name="Group 17"/>
            <p:cNvGrpSpPr/>
            <p:nvPr/>
          </p:nvGrpSpPr>
          <p:grpSpPr>
            <a:xfrm>
              <a:off x="4973760" y="1752480"/>
              <a:ext cx="1682640" cy="1514520"/>
              <a:chOff x="4973760" y="1752480"/>
              <a:chExt cx="1682640" cy="1514520"/>
            </a:xfrm>
          </p:grpSpPr>
          <p:pic>
            <p:nvPicPr>
              <p:cNvPr id="699" name="Picture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4973760" y="1752480"/>
                <a:ext cx="1682640" cy="1514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0" name="Picture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4973760" y="1752480"/>
                <a:ext cx="1682640" cy="1514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01" name="Picture 20" descr=""/>
            <p:cNvPicPr/>
            <p:nvPr/>
          </p:nvPicPr>
          <p:blipFill>
            <a:blip r:embed="rId8"/>
            <a:stretch/>
          </p:blipFill>
          <p:spPr>
            <a:xfrm>
              <a:off x="4486320" y="2307960"/>
              <a:ext cx="51120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Rectangle 21"/>
            <p:cNvSpPr/>
            <p:nvPr/>
          </p:nvSpPr>
          <p:spPr>
            <a:xfrm>
              <a:off x="5060880" y="3215880"/>
              <a:ext cx="1508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5 dB C/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Group 22"/>
          <p:cNvGrpSpPr/>
          <p:nvPr/>
        </p:nvGrpSpPr>
        <p:grpSpPr>
          <a:xfrm>
            <a:off x="6600960" y="1773360"/>
            <a:ext cx="2101680" cy="1787760"/>
            <a:chOff x="6600960" y="1773360"/>
            <a:chExt cx="2101680" cy="1787760"/>
          </a:xfrm>
        </p:grpSpPr>
        <p:pic>
          <p:nvPicPr>
            <p:cNvPr id="704" name="Picture 23" descr=""/>
            <p:cNvPicPr/>
            <p:nvPr/>
          </p:nvPicPr>
          <p:blipFill>
            <a:blip r:embed="rId9"/>
            <a:stretch/>
          </p:blipFill>
          <p:spPr>
            <a:xfrm>
              <a:off x="7066080" y="1773360"/>
              <a:ext cx="1636560" cy="14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5" name="Picture 24" descr=""/>
            <p:cNvPicPr/>
            <p:nvPr/>
          </p:nvPicPr>
          <p:blipFill>
            <a:blip r:embed="rId10"/>
            <a:stretch/>
          </p:blipFill>
          <p:spPr>
            <a:xfrm>
              <a:off x="6600960" y="2287800"/>
              <a:ext cx="512640" cy="58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6" name="Rectangle 25"/>
            <p:cNvSpPr/>
            <p:nvPr/>
          </p:nvSpPr>
          <p:spPr>
            <a:xfrm>
              <a:off x="7091280" y="3194280"/>
              <a:ext cx="1508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 dB C/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7" name="Rectangle 26"/>
          <p:cNvSpPr/>
          <p:nvPr/>
        </p:nvSpPr>
        <p:spPr>
          <a:xfrm>
            <a:off x="0" y="358128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Roml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ER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 digitális rendszer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27"/>
          <p:cNvGrpSpPr/>
          <p:nvPr/>
        </p:nvGrpSpPr>
        <p:grpSpPr>
          <a:xfrm>
            <a:off x="652320" y="4299120"/>
            <a:ext cx="1698840" cy="1849320"/>
            <a:chOff x="652320" y="4299120"/>
            <a:chExt cx="1698840" cy="1849320"/>
          </a:xfrm>
        </p:grpSpPr>
        <p:grpSp>
          <p:nvGrpSpPr>
            <p:cNvPr id="709" name="Group 28"/>
            <p:cNvGrpSpPr/>
            <p:nvPr/>
          </p:nvGrpSpPr>
          <p:grpSpPr>
            <a:xfrm>
              <a:off x="652320" y="4299120"/>
              <a:ext cx="1698840" cy="1528560"/>
              <a:chOff x="652320" y="4299120"/>
              <a:chExt cx="1698840" cy="1528560"/>
            </a:xfrm>
          </p:grpSpPr>
          <p:pic>
            <p:nvPicPr>
              <p:cNvPr id="710" name="Picture 29" descr=""/>
              <p:cNvPicPr/>
              <p:nvPr/>
            </p:nvPicPr>
            <p:blipFill>
              <a:blip r:embed="rId11"/>
              <a:stretch/>
            </p:blipFill>
            <p:spPr>
              <a:xfrm>
                <a:off x="652320" y="4299120"/>
                <a:ext cx="1698840" cy="152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1" name="Picture 30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2320" y="4299120"/>
                <a:ext cx="1698840" cy="1528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12" name="Rectangle 31"/>
            <p:cNvSpPr/>
            <p:nvPr/>
          </p:nvSpPr>
          <p:spPr>
            <a:xfrm>
              <a:off x="690480" y="5781600"/>
              <a:ext cx="1508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4 dB M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Group 32"/>
          <p:cNvGrpSpPr/>
          <p:nvPr/>
        </p:nvGrpSpPr>
        <p:grpSpPr>
          <a:xfrm>
            <a:off x="2332080" y="4302000"/>
            <a:ext cx="2168640" cy="1870200"/>
            <a:chOff x="2332080" y="4302000"/>
            <a:chExt cx="2168640" cy="1870200"/>
          </a:xfrm>
        </p:grpSpPr>
        <p:pic>
          <p:nvPicPr>
            <p:cNvPr id="714" name="Picture 33" descr=""/>
            <p:cNvPicPr/>
            <p:nvPr/>
          </p:nvPicPr>
          <p:blipFill>
            <a:blip r:embed="rId13"/>
            <a:stretch/>
          </p:blipFill>
          <p:spPr>
            <a:xfrm>
              <a:off x="2332080" y="4802040"/>
              <a:ext cx="512640" cy="587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5" name="Group 34"/>
            <p:cNvGrpSpPr/>
            <p:nvPr/>
          </p:nvGrpSpPr>
          <p:grpSpPr>
            <a:xfrm>
              <a:off x="2803680" y="4302000"/>
              <a:ext cx="1697040" cy="1870200"/>
              <a:chOff x="2803680" y="4302000"/>
              <a:chExt cx="1697040" cy="1870200"/>
            </a:xfrm>
          </p:grpSpPr>
          <p:grpSp>
            <p:nvGrpSpPr>
              <p:cNvPr id="716" name="Group 35"/>
              <p:cNvGrpSpPr/>
              <p:nvPr/>
            </p:nvGrpSpPr>
            <p:grpSpPr>
              <a:xfrm>
                <a:off x="2803680" y="4302000"/>
                <a:ext cx="1697040" cy="1527120"/>
                <a:chOff x="2803680" y="4302000"/>
                <a:chExt cx="1697040" cy="1527120"/>
              </a:xfrm>
            </p:grpSpPr>
            <p:pic>
              <p:nvPicPr>
                <p:cNvPr id="717" name="Picture 36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2803680" y="4302000"/>
                  <a:ext cx="1697040" cy="1527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8" name="Picture 37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2803680" y="4302000"/>
                  <a:ext cx="1697040" cy="1527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719" name="Rectangle 38"/>
              <p:cNvSpPr/>
              <p:nvPr/>
            </p:nvSpPr>
            <p:spPr>
              <a:xfrm>
                <a:off x="2878200" y="5805360"/>
                <a:ext cx="15080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4 dB M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0" name="Group 39"/>
          <p:cNvGrpSpPr/>
          <p:nvPr/>
        </p:nvGrpSpPr>
        <p:grpSpPr>
          <a:xfrm>
            <a:off x="4446720" y="4313160"/>
            <a:ext cx="2124000" cy="1827360"/>
            <a:chOff x="4446720" y="4313160"/>
            <a:chExt cx="2124000" cy="1827360"/>
          </a:xfrm>
        </p:grpSpPr>
        <p:pic>
          <p:nvPicPr>
            <p:cNvPr id="721" name="Picture 40" descr=""/>
            <p:cNvPicPr/>
            <p:nvPr/>
          </p:nvPicPr>
          <p:blipFill>
            <a:blip r:embed="rId16"/>
            <a:stretch/>
          </p:blipFill>
          <p:spPr>
            <a:xfrm>
              <a:off x="4905360" y="4313160"/>
              <a:ext cx="1665360" cy="149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1" descr=""/>
            <p:cNvPicPr/>
            <p:nvPr/>
          </p:nvPicPr>
          <p:blipFill>
            <a:blip r:embed="rId17"/>
            <a:stretch/>
          </p:blipFill>
          <p:spPr>
            <a:xfrm>
              <a:off x="4446720" y="4790880"/>
              <a:ext cx="51120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Rectangle 42"/>
            <p:cNvSpPr/>
            <p:nvPr/>
          </p:nvSpPr>
          <p:spPr>
            <a:xfrm>
              <a:off x="4983120" y="5773680"/>
              <a:ext cx="1508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3 dB M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4" name="Group 43"/>
          <p:cNvGrpSpPr/>
          <p:nvPr/>
        </p:nvGrpSpPr>
        <p:grpSpPr>
          <a:xfrm>
            <a:off x="6516720" y="4311720"/>
            <a:ext cx="2117520" cy="1830240"/>
            <a:chOff x="6516720" y="4311720"/>
            <a:chExt cx="2117520" cy="1830240"/>
          </a:xfrm>
        </p:grpSpPr>
        <p:sp>
          <p:nvSpPr>
            <p:cNvPr id="725" name="Rectangle 44"/>
            <p:cNvSpPr/>
            <p:nvPr/>
          </p:nvSpPr>
          <p:spPr>
            <a:xfrm>
              <a:off x="6993000" y="4311720"/>
              <a:ext cx="1641240" cy="1488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6" name="Picture 45" descr=""/>
            <p:cNvPicPr/>
            <p:nvPr/>
          </p:nvPicPr>
          <p:blipFill>
            <a:blip r:embed="rId18"/>
            <a:stretch/>
          </p:blipFill>
          <p:spPr>
            <a:xfrm>
              <a:off x="6516720" y="4790880"/>
              <a:ext cx="512640" cy="58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7" name="Rectangle 46"/>
            <p:cNvSpPr/>
            <p:nvPr/>
          </p:nvSpPr>
          <p:spPr>
            <a:xfrm>
              <a:off x="7059600" y="5775120"/>
              <a:ext cx="1508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2 dB M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E079-6D5E-4CA9-B74F-4DCF18B803A8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0487-85C0-4922-A656-B0521137DDB3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Mi is az a MER?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grpSp>
        <p:nvGrpSpPr>
          <p:cNvPr id="731" name="Group 4"/>
          <p:cNvGrpSpPr/>
          <p:nvPr/>
        </p:nvGrpSpPr>
        <p:grpSpPr>
          <a:xfrm>
            <a:off x="5148360" y="3141720"/>
            <a:ext cx="3600000" cy="2458800"/>
            <a:chOff x="5148360" y="3141720"/>
            <a:chExt cx="3600000" cy="2458800"/>
          </a:xfrm>
        </p:grpSpPr>
        <p:sp>
          <p:nvSpPr>
            <p:cNvPr id="732" name="Oval 5"/>
            <p:cNvSpPr/>
            <p:nvPr/>
          </p:nvSpPr>
          <p:spPr>
            <a:xfrm>
              <a:off x="7439040" y="3870000"/>
              <a:ext cx="109080" cy="910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6"/>
            <p:cNvSpPr/>
            <p:nvPr/>
          </p:nvSpPr>
          <p:spPr>
            <a:xfrm flipV="1">
              <a:off x="5257440" y="3414240"/>
              <a:ext cx="0" cy="218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7"/>
            <p:cNvSpPr/>
            <p:nvPr/>
          </p:nvSpPr>
          <p:spPr>
            <a:xfrm>
              <a:off x="5257440" y="5600520"/>
              <a:ext cx="261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8"/>
            <p:cNvSpPr/>
            <p:nvPr/>
          </p:nvSpPr>
          <p:spPr>
            <a:xfrm flipV="1">
              <a:off x="5257440" y="3778920"/>
              <a:ext cx="2400120" cy="182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9"/>
            <p:cNvSpPr/>
            <p:nvPr/>
          </p:nvSpPr>
          <p:spPr>
            <a:xfrm>
              <a:off x="7657920" y="3687840"/>
              <a:ext cx="108720" cy="907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10"/>
            <p:cNvSpPr/>
            <p:nvPr/>
          </p:nvSpPr>
          <p:spPr>
            <a:xfrm>
              <a:off x="7985160" y="3505680"/>
              <a:ext cx="108720" cy="910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11"/>
            <p:cNvSpPr/>
            <p:nvPr/>
          </p:nvSpPr>
          <p:spPr>
            <a:xfrm>
              <a:off x="7548480" y="3323520"/>
              <a:ext cx="109080" cy="910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12"/>
            <p:cNvSpPr/>
            <p:nvPr/>
          </p:nvSpPr>
          <p:spPr>
            <a:xfrm>
              <a:off x="7439040" y="3596760"/>
              <a:ext cx="109080" cy="910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Oval 13"/>
            <p:cNvSpPr/>
            <p:nvPr/>
          </p:nvSpPr>
          <p:spPr>
            <a:xfrm>
              <a:off x="7766640" y="3505680"/>
              <a:ext cx="109080" cy="910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Oval 14"/>
            <p:cNvSpPr/>
            <p:nvPr/>
          </p:nvSpPr>
          <p:spPr>
            <a:xfrm>
              <a:off x="7657920" y="3505680"/>
              <a:ext cx="108720" cy="910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Oval 15"/>
            <p:cNvSpPr/>
            <p:nvPr/>
          </p:nvSpPr>
          <p:spPr>
            <a:xfrm>
              <a:off x="7766640" y="3596760"/>
              <a:ext cx="109080" cy="910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16"/>
            <p:cNvSpPr/>
            <p:nvPr/>
          </p:nvSpPr>
          <p:spPr>
            <a:xfrm>
              <a:off x="7548480" y="3596760"/>
              <a:ext cx="109080" cy="910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7"/>
            <p:cNvSpPr/>
            <p:nvPr/>
          </p:nvSpPr>
          <p:spPr>
            <a:xfrm>
              <a:off x="7221240" y="3323520"/>
              <a:ext cx="109080" cy="910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8"/>
            <p:cNvSpPr/>
            <p:nvPr/>
          </p:nvSpPr>
          <p:spPr>
            <a:xfrm>
              <a:off x="8093880" y="3687840"/>
              <a:ext cx="109080" cy="907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9"/>
            <p:cNvSpPr/>
            <p:nvPr/>
          </p:nvSpPr>
          <p:spPr>
            <a:xfrm>
              <a:off x="7657920" y="3961080"/>
              <a:ext cx="108720" cy="907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20"/>
            <p:cNvSpPr/>
            <p:nvPr/>
          </p:nvSpPr>
          <p:spPr>
            <a:xfrm>
              <a:off x="7330320" y="3778920"/>
              <a:ext cx="108720" cy="910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21"/>
            <p:cNvSpPr/>
            <p:nvPr/>
          </p:nvSpPr>
          <p:spPr>
            <a:xfrm>
              <a:off x="7221240" y="3870000"/>
              <a:ext cx="109080" cy="910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22"/>
            <p:cNvSpPr/>
            <p:nvPr/>
          </p:nvSpPr>
          <p:spPr>
            <a:xfrm>
              <a:off x="7875720" y="3870000"/>
              <a:ext cx="109080" cy="910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23"/>
            <p:cNvSpPr/>
            <p:nvPr/>
          </p:nvSpPr>
          <p:spPr>
            <a:xfrm>
              <a:off x="7439040" y="3687840"/>
              <a:ext cx="109080" cy="907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24"/>
            <p:cNvSpPr/>
            <p:nvPr/>
          </p:nvSpPr>
          <p:spPr>
            <a:xfrm>
              <a:off x="7766640" y="3505680"/>
              <a:ext cx="109080" cy="910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25"/>
            <p:cNvSpPr/>
            <p:nvPr/>
          </p:nvSpPr>
          <p:spPr>
            <a:xfrm>
              <a:off x="7657920" y="3778920"/>
              <a:ext cx="108720" cy="910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26"/>
            <p:cNvSpPr/>
            <p:nvPr/>
          </p:nvSpPr>
          <p:spPr>
            <a:xfrm>
              <a:off x="7985160" y="3687840"/>
              <a:ext cx="108720" cy="907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27"/>
            <p:cNvSpPr/>
            <p:nvPr/>
          </p:nvSpPr>
          <p:spPr>
            <a:xfrm>
              <a:off x="7875720" y="3687840"/>
              <a:ext cx="109080" cy="907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28"/>
            <p:cNvSpPr/>
            <p:nvPr/>
          </p:nvSpPr>
          <p:spPr>
            <a:xfrm>
              <a:off x="7985160" y="3778920"/>
              <a:ext cx="108720" cy="910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29"/>
            <p:cNvSpPr/>
            <p:nvPr/>
          </p:nvSpPr>
          <p:spPr>
            <a:xfrm>
              <a:off x="7766640" y="3778920"/>
              <a:ext cx="109080" cy="910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30"/>
            <p:cNvSpPr/>
            <p:nvPr/>
          </p:nvSpPr>
          <p:spPr>
            <a:xfrm>
              <a:off x="7985160" y="3505680"/>
              <a:ext cx="108720" cy="910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31"/>
            <p:cNvSpPr/>
            <p:nvPr/>
          </p:nvSpPr>
          <p:spPr>
            <a:xfrm>
              <a:off x="7657920" y="4052160"/>
              <a:ext cx="108720" cy="910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32"/>
            <p:cNvSpPr/>
            <p:nvPr/>
          </p:nvSpPr>
          <p:spPr>
            <a:xfrm>
              <a:off x="7985160" y="3961080"/>
              <a:ext cx="108720" cy="907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33"/>
            <p:cNvSpPr/>
            <p:nvPr/>
          </p:nvSpPr>
          <p:spPr>
            <a:xfrm>
              <a:off x="7548480" y="3961080"/>
              <a:ext cx="109080" cy="907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34"/>
            <p:cNvSpPr/>
            <p:nvPr/>
          </p:nvSpPr>
          <p:spPr>
            <a:xfrm>
              <a:off x="7439040" y="4052160"/>
              <a:ext cx="109080" cy="910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35"/>
            <p:cNvSpPr/>
            <p:nvPr/>
          </p:nvSpPr>
          <p:spPr>
            <a:xfrm>
              <a:off x="8093880" y="3323520"/>
              <a:ext cx="109080" cy="910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36"/>
            <p:cNvSpPr/>
            <p:nvPr/>
          </p:nvSpPr>
          <p:spPr>
            <a:xfrm>
              <a:off x="7548480" y="3687840"/>
              <a:ext cx="109080" cy="907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37"/>
            <p:cNvSpPr/>
            <p:nvPr/>
          </p:nvSpPr>
          <p:spPr>
            <a:xfrm>
              <a:off x="7875720" y="4052160"/>
              <a:ext cx="109080" cy="910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38"/>
            <p:cNvSpPr/>
            <p:nvPr/>
          </p:nvSpPr>
          <p:spPr>
            <a:xfrm>
              <a:off x="8093880" y="3596760"/>
              <a:ext cx="109080" cy="910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39"/>
            <p:cNvSpPr/>
            <p:nvPr/>
          </p:nvSpPr>
          <p:spPr>
            <a:xfrm>
              <a:off x="7766640" y="3870000"/>
              <a:ext cx="109080" cy="910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40"/>
            <p:cNvSpPr/>
            <p:nvPr/>
          </p:nvSpPr>
          <p:spPr>
            <a:xfrm>
              <a:off x="7657920" y="3141720"/>
              <a:ext cx="108720" cy="907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41"/>
            <p:cNvSpPr/>
            <p:nvPr/>
          </p:nvSpPr>
          <p:spPr>
            <a:xfrm>
              <a:off x="7657920" y="3596760"/>
              <a:ext cx="108720" cy="910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42"/>
            <p:cNvSpPr/>
            <p:nvPr/>
          </p:nvSpPr>
          <p:spPr>
            <a:xfrm>
              <a:off x="7548480" y="3870000"/>
              <a:ext cx="109080" cy="910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43"/>
            <p:cNvSpPr/>
            <p:nvPr/>
          </p:nvSpPr>
          <p:spPr>
            <a:xfrm>
              <a:off x="7330320" y="3505680"/>
              <a:ext cx="108720" cy="910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44"/>
            <p:cNvSpPr/>
            <p:nvPr/>
          </p:nvSpPr>
          <p:spPr>
            <a:xfrm>
              <a:off x="7111800" y="3687840"/>
              <a:ext cx="109080" cy="907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45"/>
            <p:cNvSpPr/>
            <p:nvPr/>
          </p:nvSpPr>
          <p:spPr>
            <a:xfrm>
              <a:off x="7221240" y="3687840"/>
              <a:ext cx="109080" cy="907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46"/>
            <p:cNvSpPr/>
            <p:nvPr/>
          </p:nvSpPr>
          <p:spPr>
            <a:xfrm>
              <a:off x="7221240" y="3596760"/>
              <a:ext cx="109080" cy="910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47"/>
            <p:cNvSpPr/>
            <p:nvPr/>
          </p:nvSpPr>
          <p:spPr>
            <a:xfrm>
              <a:off x="7657920" y="3778920"/>
              <a:ext cx="43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48"/>
            <p:cNvSpPr/>
            <p:nvPr/>
          </p:nvSpPr>
          <p:spPr>
            <a:xfrm flipV="1">
              <a:off x="7875720" y="3778920"/>
              <a:ext cx="0" cy="72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Text Box 49"/>
            <p:cNvSpPr/>
            <p:nvPr/>
          </p:nvSpPr>
          <p:spPr>
            <a:xfrm>
              <a:off x="7005240" y="4505400"/>
              <a:ext cx="1743120" cy="5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Times New Roman"/>
                </a:rPr>
                <a:t>Hib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Times New Roman"/>
                </a:rPr>
                <a:t>amplitúd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Text Box 50"/>
            <p:cNvSpPr/>
            <p:nvPr/>
          </p:nvSpPr>
          <p:spPr>
            <a:xfrm>
              <a:off x="5148360" y="3687840"/>
              <a:ext cx="174348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Times New Roman"/>
                </a:rPr>
                <a:t>Átlago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hu-HU" sz="1800" spc="-1" strike="noStrike">
                  <a:solidFill>
                    <a:srgbClr val="000000"/>
                  </a:solidFill>
                  <a:latin typeface="Times New Roman"/>
                </a:rPr>
                <a:t>szimbólum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hu-HU" sz="1800" spc="-1" strike="noStrike">
                  <a:solidFill>
                    <a:srgbClr val="000000"/>
                  </a:solidFill>
                  <a:latin typeface="Times New Roman"/>
                </a:rPr>
                <a:t>amplitúd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68000" y="2678040"/>
            <a:ext cx="7413480" cy="34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Hasonló az analó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Jel/Zaj viszonyhoz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Jó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ha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e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4 QAM: 22 dB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e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6 QAM: 2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B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e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+ 4-6 dB tartalék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9" name="Object 52"/>
              <p:cNvSpPr txBox="1"/>
              <p:nvPr/>
            </p:nvSpPr>
            <p:spPr>
              <a:xfrm>
                <a:off x="755640" y="1125360"/>
                <a:ext cx="758844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E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⋅</m:t>
                    </m:r>
                    <m:f>
                      <m:num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Hiba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mplitúdó</m:t>
                              </m:r>
                            </m:e>
                          </m:mr>
                        </m:m>
                      </m:num>
                      <m:den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Átlagos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zimbólum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mplitúdó</m:t>
                              </m:r>
                            </m:e>
                          </m:mr>
                        </m:m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9175-19AE-4241-903A-A2B90B07CD05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B1E6-2CA0-4D9F-BAA4-6A3D255B2B26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Digitális átvitel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1280" y="11250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minden csatornán van zaj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 zaj teljesítménye befolyásolja az átvitel minőségé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 zaj korlátot jelent a maximális átviteli sebességre 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ha a jel teljesítménye S, a zaj teljesítménye N, a csatorna sávszélessége B, akkor elméleti korlát van a legnagyobb átviteli sebesség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annon II törvénye:  átviteli sebesség &lt; B·log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(1+S/N)   bit/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EB1B-A85D-4C8F-90E3-849911A78046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70BF-CE6C-4E91-9E40-F386EA942C71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ADSL példa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pic>
        <p:nvPicPr>
          <p:cNvPr id="783" name="Picture 4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43880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D80B-1FD2-4FC0-AAE1-DDB343428581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8370-52DE-478D-91C7-61744597AF91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ADSL rendszertechnika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pic>
        <p:nvPicPr>
          <p:cNvPr id="787" name="Picture 4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8DCD-0099-40D2-94EF-BDCF334523E8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189B-33AE-4F34-AC43-2A45AAFDE21D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Vonali spektrumkép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838080" y="141300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litterek az előfizetői és központi oldalon, PSTN/ISDN és adatok szétválasztás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Picture 5" descr=""/>
          <p:cNvPicPr/>
          <p:nvPr/>
        </p:nvPicPr>
        <p:blipFill>
          <a:blip r:embed="rId1"/>
          <a:stretch/>
        </p:blipFill>
        <p:spPr>
          <a:xfrm>
            <a:off x="1447920" y="2251080"/>
            <a:ext cx="6473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5125-2D64-436A-B0E4-1A47A4D59320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3FCC-ED30-45EA-89C5-00D4AA9823C5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DMT moduláció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11280" y="907920"/>
            <a:ext cx="7238880" cy="43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6 vivő, vivőnként 4kHz sávszélesség (AM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Picture 5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72F3-8E5D-4B2F-B260-F617CF4FD9C2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F68C-1C51-4786-B1CA-9B4265C5F2BD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Moduláció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 modemek lemérik a jel/zaj viszonyt és ehhez igazodva QAM-modulációval különböző számú bitet visznek á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16-QAM 4bit 16lehetséges jel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179280" y="2336760"/>
            <a:ext cx="8425080" cy="36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C658-362A-4379-A7F6-60514E1D21D0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7AD3-CD24-4BBA-B3CB-3969617104D7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QAM moduláció típusai és spektrumkép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graphicFrame>
        <p:nvGraphicFramePr>
          <p:cNvPr id="806" name=""/>
          <p:cNvGraphicFramePr/>
          <p:nvPr/>
        </p:nvGraphicFramePr>
        <p:xfrm>
          <a:off x="5580000" y="1773360"/>
          <a:ext cx="3353040" cy="2923920"/>
        </p:xfrm>
        <a:graphic>
          <a:graphicData uri="http://schemas.openxmlformats.org/drawingml/2006/table">
            <a:tbl>
              <a:tblPr/>
              <a:tblGrid>
                <a:gridCol w="996840"/>
                <a:gridCol w="1424160"/>
                <a:gridCol w="932040"/>
              </a:tblGrid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tek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tsoroz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a3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AM típ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a3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el/za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szo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a3aa"/>
                    </a:solidFill>
                  </a:tcPr>
                </a:tc>
              </a:tr>
              <a:tr h="33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AM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AM-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AM-2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AM-5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AM-1.0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AM-4.0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AM-16.3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07" name="Picture 43" descr=""/>
          <p:cNvPicPr/>
          <p:nvPr/>
        </p:nvPicPr>
        <p:blipFill>
          <a:blip r:embed="rId1"/>
          <a:stretch/>
        </p:blipFill>
        <p:spPr>
          <a:xfrm>
            <a:off x="108000" y="1557360"/>
            <a:ext cx="525780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Dátum helye 2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0755-AD8E-4FD1-A7D3-FAC4EF9FF5B6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Dia számának helye 3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C7F3-C1D5-4B0D-826D-EBAC2B8A9FA1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Object 5" descr=""/>
          <p:cNvPicPr/>
          <p:nvPr/>
        </p:nvPicPr>
        <p:blipFill>
          <a:blip r:embed="rId1"/>
          <a:stretch/>
        </p:blipFill>
        <p:spPr>
          <a:xfrm>
            <a:off x="2532240" y="1414440"/>
            <a:ext cx="4152600" cy="3451320"/>
          </a:xfrm>
          <a:prstGeom prst="rect">
            <a:avLst/>
          </a:prstGeom>
          <a:ln w="0">
            <a:noFill/>
          </a:ln>
        </p:spPr>
      </p:pic>
      <p:sp>
        <p:nvSpPr>
          <p:cNvPr id="811" name="Text Box 7"/>
          <p:cNvSpPr/>
          <p:nvPr/>
        </p:nvSpPr>
        <p:spPr>
          <a:xfrm>
            <a:off x="3189240" y="2755800"/>
            <a:ext cx="2136960" cy="398880"/>
          </a:xfrm>
          <a:prstGeom prst="rect">
            <a:avLst/>
          </a:prstGeom>
          <a:noFill/>
          <a:ln w="12600">
            <a:solidFill>
              <a:srgbClr val="e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c0128"/>
                </a:solidFill>
                <a:latin typeface="Arial"/>
              </a:rPr>
              <a:t>VÉ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0AC8-3AF8-4B7C-ACD6-7402E63CBF7D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C024-A60D-4544-B801-B4A3D16C7D80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Shannon I. II.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Mekkora átviteli csatorna szükséges egy mono zenei csatornához Shannon törvénye szerint, ha f=20 KHz, D=60 dB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Megoldá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4"/>
              <p:cNvSpPr txBox="1"/>
              <p:nvPr/>
            </p:nvSpPr>
            <p:spPr>
              <a:xfrm>
                <a:off x="34920" y="3397320"/>
                <a:ext cx="889308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c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e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zaj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0000</m:t>
                        </m:r>
                      </m:e>
                    </m:d>
                    <m:r>
                      <m:t xml:space="preserve">≈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398</m:t>
                        </m:r>
                      </m:e>
                      <m: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bi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c</m:t>
                            </m:r>
                          </m:e>
                        </m:d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E934-47A2-4AAB-AA31-5B604FB1E231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D2C1-9C5C-4E16-BEDC-022CD196F32C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Ismétlés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Az átviteli közeg (levegő is) analóg jelek átvitelére alkalm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A digitális jeleket modulációs technikákkal kell az átviteli közegre illeszten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Amplitúdó moduláció / AS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Frekvencia Moduláció /FS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Fázis moduláció / PSK / BPSK / QPS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Kombinált moduláció / QAM / 16QAM /64Q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B4BA-897B-4BA7-B973-2670AECD8781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7A36-D455-4F07-BE62-E970B76467DC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Digitális moduláció elve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bináris forrásból soros/párhuzamos átalakítással b bites szavak jönne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jelrendező: a bináris szavaknak megfelelő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dI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és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dQ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értékeket állít elő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gS(t): elemi jelalak szűrő, Dirac impulzusokat ráadva a kívánt jelalakot érjük el (a gyakorlatban gyakran nem szűrővel, hanem tárolt jelalakokkal dolgoznak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ezeket ültetjük a vivőre (fázisban és kvadratúrában levő komponen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z összegzett jelen sávszűrést végrehajtva kész a kimenő j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7"/>
          <p:cNvGraphicFramePr/>
          <p:nvPr/>
        </p:nvGraphicFramePr>
        <p:xfrm>
          <a:off x="611280" y="2708280"/>
          <a:ext cx="8208720" cy="36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708280"/>
                    <a:ext cx="8208720" cy="36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B06D-52C9-429B-A192-1A50353A3069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9A6F-EF94-4F3D-8535-6CB3B5CABDAB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ef5a0f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ef5a0f"/>
                </a:solidFill>
                <a:latin typeface="Arial"/>
              </a:rPr>
              <a:t>em line</a:t>
            </a:r>
            <a:r>
              <a:rPr b="1" lang="hu-HU" sz="2600" spc="-1" strike="noStrike">
                <a:solidFill>
                  <a:srgbClr val="ef5a0f"/>
                </a:solidFill>
                <a:latin typeface="Arial"/>
              </a:rPr>
              <a:t>áris moduláció FSK</a:t>
            </a:r>
            <a:endParaRPr b="1" lang="en-US" sz="26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h: fázisforgatásra jellemző (2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hányad részével fordul a fázi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dn sorozat: értékei a {-(M-1) ... -1, +1, ..., M-1} tartományból, M=2b féle frekvencia érték hordozza az információ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elemi jel: ált valamilyen lekerekített (pl. emelt koszinusz, Gauss), hogy a frekvencia ne hirtelen változz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11"/>
          <p:cNvGraphicFramePr/>
          <p:nvPr/>
        </p:nvGraphicFramePr>
        <p:xfrm>
          <a:off x="395280" y="765000"/>
          <a:ext cx="8569440" cy="27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765000"/>
                    <a:ext cx="8569440" cy="27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55DD-2D7C-4103-8941-D9F44B8CBE3E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CA92-E8BF-4579-9EAB-FF485D9BB752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ef5a0f"/>
                </a:solidFill>
                <a:latin typeface="Arial"/>
              </a:rPr>
              <a:t>FSK (Frequency Shift Keying)</a:t>
            </a:r>
            <a:endParaRPr b="1" lang="en-US" sz="32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időfüggvény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SK (Frequency Shift Keying), frekvencia billentyűzés: a vivő frekvenciája különbözik ha 1 -est vagy 0 -t küld az adó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többszintű FSK: egy időrésben 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 bit átvihető, ha 2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 féle frekvenciát használunk, pl. f1:00, f2:01, f3:10, f4:11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ZH: 4 FSK időfüggvén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1" descr=""/>
          <p:cNvPicPr/>
          <p:nvPr/>
        </p:nvPicPr>
        <p:blipFill>
          <a:blip r:embed="rId1"/>
          <a:stretch/>
        </p:blipFill>
        <p:spPr>
          <a:xfrm>
            <a:off x="2411280" y="1700280"/>
            <a:ext cx="57913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F36D-A4CA-4E28-9607-EB7C74250812}" type="datetime">
              <a:rPr b="0" lang="hu-HU" sz="1000" spc="-1" strike="noStrike">
                <a:solidFill>
                  <a:srgbClr val="000000"/>
                </a:solidFill>
                <a:latin typeface="Arial Narrow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B0A5-0834-4AA5-B74A-6549A7EB1A61}" type="slidenum">
              <a:rPr b="0" lang="hu-HU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ASK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720" y="90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igitális moduláció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SK (Amplitude Shift Keying), amplitúdó billentyűzés: a vivő amplitúdója 0, ha az átvitt bit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többszintű ASK: egy időrésben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bit átvihető, ha 2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féle amplitúdót használunk, pl. A1:00, A2:01, A3:10, A4: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zajra nagyon érzéken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1523880" y="3422520"/>
            <a:ext cx="64152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9T19:07:52Z</dcterms:created>
  <dc:creator>Honfy József, egyetemi adjunktus</dc:creator>
  <dc:description/>
  <dc:language>en-US</dc:language>
  <cp:lastModifiedBy>Vári Péter</cp:lastModifiedBy>
  <dcterms:modified xsi:type="dcterms:W3CDTF">2011-10-23T21:36:48Z</dcterms:modified>
  <cp:revision>18</cp:revision>
  <dc:subject/>
  <dc:title>1. dia</dc:title>
</cp:coreProperties>
</file>