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437A-83B2-418F-9D33-C11B1BCD8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C327-F2FF-44B8-A2A0-0EB2D4AF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0A57-6B93-4B99-9555-D387192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7EFC-3BFB-4D06-813E-EE1C8F553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D4CF-1A80-485D-8E71-38A5F63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E1A4-0C89-4177-8E6C-F26C3329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0B75-8B3C-4AFD-9DB7-D895CB8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6196-BDDA-4ACC-AB82-757B8D59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3260-7751-45A8-9E52-7A71F8A6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5549-FE3C-4203-9F4E-672366C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0CEF-18CF-4EA7-B54A-4A8B4B3A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78C3-9CBF-4F9D-926F-019C1100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EFF-66D7-47AC-BA02-009E52498072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3440" y="1045440"/>
            <a:ext cx="898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593"/>
                </a:solidFill>
                <a:latin typeface="Arial CE"/>
              </a:rPr>
              <a:t>Digitálisan modulált jelek átvitele RF csatornán</a:t>
            </a:r>
            <a:endParaRPr b="0" lang="en-US" sz="40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960" y="1011600"/>
            <a:ext cx="8534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z im(t) a re(t) Hilbert transzformáltja. Ez a transzformációt úgy képzeljük el, hogy minden egyes spektrális komponens fázisát 90 fokkal elforgatjuk. Ha mindkét időbeli jelet az ezután következő I/Q modulátorra kapcsoljuk, akkor az aktuális OFDM jel áll elő. Minden esetben a megfelelő felső vagy alsó OFDM alsáv elnyomott ez által a moduláció által, ezzel egy ezerszeres fázisbillentyűző típusú egyoldalsávos modulátort kapunk.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folyamat csak amiatt a tény miatt alakulhat így, mert minden segédvivőnél a re(t) és az im(t) ugyanakkora az amplitúdójú, és pontosan 90 fokkal vannak egymáshoz képest eltolva, így a felső és az alsó OFDM oldalsávok között nem keletkezik áthallás.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9080" y="2990880"/>
            <a:ext cx="4768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800" y="918360"/>
            <a:ext cx="782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Minél több a vivő, annál véletlenszerűbb lesz a nekik megfelelő OFDM jel megjelenése. Már mindössze 12 vivő, egymáshoz képest viszonylagosan véletlenszerű rendbe állítva egy olyan OFDM szimbólumot képes alkotni, melynek sztochasztikus a megjelenése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2768760"/>
            <a:ext cx="5114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8656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szimbólumokat szakaszonként sorban haladva számoljuk ki és hozzuk létre. Mindig ugyanannyi adatbitet kombinálunk össze és modulálunk nagy számú (akár több ezer) OFDM segédvivővé. Először is a frekvenciatartománybeli valós és képzetes rész táblázatokat hozzuk létre, majd IFT után re(t) és im(t) táblázatait, melyeket a memórában eltárolunk. Periódusról periódusra egy-egy újabb OFDM szimbólumot generálunk, melyeknek a pontos hossza. Ezek között a szinbólumok között meghatározhatunk egy védő intervallumot, amelynek gyakran beállítható a hosszúsága is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3160" y="3035160"/>
            <a:ext cx="4979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br>
              <a:rPr sz="2800"/>
            </a:b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Ezen a védő (biztonsági) intervallumon belül a reflexiók miatti tranziens események, melyek megelőzik a szimbólumok közti interferenciát, lecsillapodhatnak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védő intervallumnak hosszabbnak kell lennie, mint a sugárzó rendszerben fellépő leghosszabb reflektált jel késési idő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A védő intervallum végén minden tranziens eseménynek teljesen le kell csillapodnia, különben zaj képződik a szimbólumok közti interferencia miatt, amely pedig nem más, mint a reflektált jel intenzitásának egyszerű függvénye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6533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védő intervallumok alatt a jelszintet nem állítjuk be egyszerűen nullára. Általában a következő szimbólum végét pontosan ebbe az időtartamba helyezzük, a védő intervallumok így nem látszanak egyetlen oszcillogramon sem. A jelátvitel szempontjából ezeknek a védő intervallumoknak a létrehozása merőben egyszerű. Az IFFT után generált jelet először egy memóriába kell kiírni, majd váltakozva kiolvasni onnan az adatsor-elvnek megfelelően. A védő intervallumot ezután egyszerűen úgy hozzuk létre, hogy először a megfelelő komplex memóriatartalom végét olvassuk ki, illetve írjuk be a megfelelő védő intervallumba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073320"/>
            <a:ext cx="4648320" cy="310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8640" y="3301920"/>
            <a:ext cx="4457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2080" y="2541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 CE"/>
              </a:rPr>
              <a:t>OFDM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4754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Nem csak a szimbólumok kezdete, a vége is nehezen detektálható reflexiók esetében. Ha azonban a következő szimbólum vége megjelenik az őt megelőző védő intervallumban is, akkor a jelkomponensek, melyek a jelben többször is előfordulnak, könnyen megtalálhatóak lesznek a vevőben egy autokorrelációs vizsgálat segítségével. Ez megkönnyíti egy terület elejének és végének megtalálását azokon a szimbólumokon belül, amelyeket nem befolyásol a szimbólumok közti interferencia.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kétutas terjedéssel érkező jel esetére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33880" y="2984400"/>
            <a:ext cx="473724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autokorrelációs opciót használva a vevő FFT mintavevő ablakát, mely egy szimbólum-hossznyira van beállítva, a szimbólumok közé állítja, mégpedig úgy, hogy az ablak mindig egybeessék a zavartalan területtel. A mintavevő ablak tehát nem pontosan az aktuális szimbólumra van állítva, ez pedig fázishibát eredményez – (mely jellegzetes íves elmosódást mutat a konstellációs diagramban) –amit ezért ki kell küszöbölni a jelfeldolgozás további lépéseiben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 moduláció elv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692280"/>
            <a:ext cx="827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Az átvitelre szánt jelet először is meg kell védeni az esetlegesen fellépő hibáktól, azaz egy tekintélyes fejlécet kap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Rákerül a nagy számú segédvivőre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Mindegyik segédvivő a többitől függetlenül kerül modulálásra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22600" y="2954160"/>
            <a:ext cx="43848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OFDM moduláció elv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23920" y="704880"/>
            <a:ext cx="4746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OFDM moduláció elv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6200" y="2503440"/>
            <a:ext cx="72673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905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 moduláció valóságban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6400800"/>
            <a:ext cx="8380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c0593"/>
                </a:solidFill>
                <a:latin typeface="Arial"/>
              </a:rPr>
              <a:t>Folyt.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600" y="760680"/>
            <a:ext cx="88074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 valóságban az OFDM jelet egy olyan többszörös leképezési eljárás hozza létre: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 </a:t>
            </a: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melyben két táblázat készül,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c0593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 </a:t>
            </a: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majd egy IFFT (inverz FFT) történik. 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 CE"/>
              </a:rPr>
              <a:t>Az OFDM jel nagysebességű számítógéppel végrehajtott numerikus matematikai eljárások eredménye.</a:t>
            </a:r>
            <a:endParaRPr b="0" lang="en-US" sz="1800" spc="-1" strike="noStrike">
              <a:solidFill>
                <a:srgbClr val="0c059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hibavédett adatfolyam + fejléc, párhuzamos ágakra szabdalva a lehető legvéletlenszerűbb módon oszlik szét az akár több ezer alfolyam között. Ezt az eljárást hívjuk multiplexálásnak és összesorolásnak.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Csomagról csomagra minden alfolyam áthalad egy leképezőn, amely létrehozza a hozzátartozó alvektort, ami valós és képzetes részből tevődik össze. Két táblázat jön létre több ezer bejegyzéssel, az egyik a valós rész, a másik a képzetes rész táblázata. Mindez a frekvenciatartomány időbeli leírását adja eredményül. Mindegyik segédvivő, amely immár modulált állapotú, leírható a megfelelő x és y koordinátáival, vagy matematikailag kifejezve koszinuszos és szinuszos összetevőivel, avagy valós és képzetes részével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két táblázat (a valós és a képzetes) most a jelfeldolgozó eljárás következő lépésének bemenő jeleit adja meg, amely lépés az IFFT (gyors inverz Fourier transzformáció) lesz.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– </a:t>
            </a: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z IFFT után a jel már elérhető az időtartományban is, alakja tisztán véletlenszerű, (sztochasztikus), köszönhetően annak, hogy a több ezer, egymástól függetlenül modulált segédvivőből áll.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0" lang="en-US" sz="28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96560" y="3981600"/>
            <a:ext cx="856908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OFDM modulátor bemenetén egymás után különböző, a frekvenciatartományban leképzett valós- és képzetes-rész táblázatokat kap, majd elvégzi az IFFT-t. Az eredményt az IFFT után a re(t) és im(t) jelöli, majd a komplex szorzón való áthaladás után a kimeneten az időtartományban megjelenik az OFDM jel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84480" y="736560"/>
            <a:ext cx="48132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szemléltetést egy olyan spektrummal kezdjük, amely tengelyesen szimmetrikus az OFDM csatorna sávjának közepére, és csak az 1-es számú és az N. számú vivőt tartalmazza. Az IFFT után a kimenő re(t)-nél egy olyan kimenő jel jön létre, mely tisztán koszinuszos. Az im(t) kimenetén u(t)=0V lesz. Tisztán valós időtartománybeli jelet várunk, mivel a spektrum szimmetriája megfelel az ehhez szükséges feltételeknek. Az I/Q modulátor után egy elnyomott vivőjű amplitúdómodulált jel jön létre, melyet a csak valós, időintervallumbeli komponens generál,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0" lang="en-US" sz="28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36760" y="3311640"/>
            <a:ext cx="4181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42680"/>
            <a:ext cx="8798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Ha azonban a sáv felső tartományában a spektrumvonal –amit nevezzünk N melletti vivőnek– elnyomott, és csak az 1-es számú vivő melletti összetevő marad, a spektrum asszimmetriájának köszönhetően egy komplex, időtartománybeli jel várható. Az IFFT után a re(t) kimenetén ekkor egy 0,5 amplitúdójú, koszinuszos jel jelenik meg. Ekkor azonban az IFFT az im(t) kimenetén előállít egy ugyanakkora frekvenciájú és amplitúdójú szinuszos kimenő jelet. A kapott két tag az időtartományban egy komplex jelet hoz létre. Ha a re(t) és im(t) kimeneteket az utána következő I/Q modulátorra kapcsoljuk, akkor a moduláció-tartamuk eltűnik, eredményül egy tisztán szinuszos jelet kapunk, a vivő frekvenciasávjába konvertálva. Egy egyoldalsávos, amplitúdómodulált jel jön létre, a rendszer pedig ekkor egy SSB modulátornak felel meg.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36760" y="3301920"/>
            <a:ext cx="4676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OFDM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8440" y="752400"/>
            <a:ext cx="856944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segédvivő frekvenciájának megváltoztatása csupán a koszinuszos és a szinuszos kimenő jelek frekvenciáját változtatja meg re(t)-nél és im(t)-nél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re(t) és im(t) amplitúdója és frekvenciája megegyezik, fáziskülönbségük pedig 90 fok, mint ahogy korábban volt. Az efajta OFDM-implementációhoz a legfontosabb azt megértenünk, hogy alapjában ez a kölcsönös viszony igaz minden segédvivőre. Minden segédvivő esetében az im(t) 90 fokkal különbözik a re(t)-től, amplitúdójuk pedig megegyező nagyságú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4480" y="2959200"/>
            <a:ext cx="4495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8-11-05T13:17:02Z</dcterms:modified>
  <cp:revision>91</cp:revision>
  <dc:subject/>
  <dc:title>MOBIL TÁVKÖZLÉS ANTENNA RENDSZEREI</dc:title>
</cp:coreProperties>
</file>