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3.png" ContentType="image/png"/>
  <Override PartName="/ppt/media/image27.wmf" ContentType="image/x-wmf"/>
  <Override PartName="/ppt/media/image4.wmf" ContentType="image/x-wmf"/>
  <Override PartName="/ppt/media/image34.wmf" ContentType="image/x-wmf"/>
  <Override PartName="/ppt/media/image37.wmf" ContentType="image/x-wmf"/>
  <Override PartName="/ppt/media/image41.wmf" ContentType="image/x-wmf"/>
  <Override PartName="/ppt/media/image38.png" ContentType="image/png"/>
  <Override PartName="/ppt/media/image30.wmf" ContentType="image/x-wmf"/>
  <Override PartName="/ppt/media/image45.png" ContentType="image/png"/>
  <Override PartName="/ppt/media/image28.wmf" ContentType="image/x-wmf"/>
  <Override PartName="/ppt/media/image42.wmf" ContentType="image/x-wmf"/>
  <Override PartName="/ppt/media/image43.wmf" ContentType="image/x-wmf"/>
  <Override PartName="/ppt/media/image32.wmf" ContentType="image/x-wmf"/>
  <Override PartName="/ppt/media/image47.png" ContentType="image/png"/>
  <Override PartName="/ppt/media/image12.png" ContentType="image/png"/>
  <Override PartName="/ppt/media/image44.wmf" ContentType="image/x-wmf"/>
  <Override PartName="/ppt/media/image33.wmf" ContentType="image/x-wmf"/>
  <Override PartName="/ppt/media/image8.wmf" ContentType="image/x-wmf"/>
  <Override PartName="/ppt/media/image46.png" ContentType="image/png"/>
  <Override PartName="/ppt/media/image11.png" ContentType="image/png"/>
  <Override PartName="/ppt/media/image29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40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1E11E-C0C0-432B-AEF4-07D46FE629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B8446-C07D-4A9F-9580-80E2E844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AF82C-4DD4-4B25-AF47-4737999A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2092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856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2364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2092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1856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C35F-1717-4829-8A94-24EA0A737B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43D46-ABA2-49E0-AFE8-4AA2B3E5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D166-BED0-4989-BA9D-5A5F9257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E8D94-6B12-4828-96F6-40944494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44CC2-971F-4571-9481-8163717D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4360" y="189000"/>
            <a:ext cx="777240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53BDD-3683-493A-9BB0-45D7D930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46E65-F0D5-45DB-8739-B8067878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62A89-A243-4936-A700-DD0E3F8D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53D8F-1F11-4247-84C8-11AE7D51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6381720"/>
            <a:ext cx="9137520" cy="291960"/>
          </a:xfrm>
          <a:prstGeom prst="rect">
            <a:avLst/>
          </a:prstGeom>
          <a:gradFill rotWithShape="0">
            <a:gsLst>
              <a:gs pos="0">
                <a:srgbClr val="cbcbcb"/>
              </a:gs>
              <a:gs pos="50000">
                <a:srgbClr val="ffffff"/>
              </a:gs>
              <a:gs pos="100000">
                <a:srgbClr val="cbcbcb"/>
              </a:gs>
            </a:gsLst>
            <a:lin ang="13500000"/>
          </a:gradFill>
          <a:ln w="12600">
            <a:solidFill>
              <a:srgbClr val="aac2f2"/>
            </a:solidFill>
            <a:miter/>
          </a:ln>
          <a:effectLst>
            <a:outerShdw dist="53966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6308640"/>
            <a:ext cx="9143640" cy="388800"/>
            <a:chOff x="0" y="6308640"/>
            <a:chExt cx="9143640" cy="388800"/>
          </a:xfrm>
        </p:grpSpPr>
        <p:sp>
          <p:nvSpPr>
            <p:cNvPr id="2" name=""/>
            <p:cNvSpPr/>
            <p:nvPr/>
          </p:nvSpPr>
          <p:spPr>
            <a:xfrm>
              <a:off x="0" y="63086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4411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5732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31656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4490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65815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6200640"/>
            <a:ext cx="1440720" cy="654840"/>
            <a:chOff x="0" y="6200640"/>
            <a:chExt cx="1440720" cy="654840"/>
          </a:xfrm>
        </p:grpSpPr>
        <p:sp>
          <p:nvSpPr>
            <p:cNvPr id="9" name=""/>
            <p:cNvSpPr/>
            <p:nvPr/>
          </p:nvSpPr>
          <p:spPr>
            <a:xfrm>
              <a:off x="83880" y="6200640"/>
              <a:ext cx="1275480" cy="646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5000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249240"/>
              <a:ext cx="1440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Honfy József</a:t>
              </a:r>
              <a:endParaRPr b="0" lang="en-US" sz="10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egyetemi adjunktus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SZÉCHENYI I. EGYETEM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Távközlési Tanszék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71ff71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71ff7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c059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c059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479840" y="3108240"/>
            <a:ext cx="52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72428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c059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c0593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c0593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0BE5-EC89-49B2-A82E-E69DE32952D9}" type="slidenum">
              <a:rPr b="0" lang="en-US" sz="1000" spc="-1" strike="noStrike">
                <a:solidFill>
                  <a:srgbClr val="0c0593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0" y="6469200"/>
            <a:ext cx="9143640" cy="388440"/>
            <a:chOff x="0" y="6469200"/>
            <a:chExt cx="9143640" cy="388440"/>
          </a:xfrm>
        </p:grpSpPr>
        <p:sp>
          <p:nvSpPr>
            <p:cNvPr id="18" name=""/>
            <p:cNvSpPr/>
            <p:nvPr/>
          </p:nvSpPr>
          <p:spPr>
            <a:xfrm>
              <a:off x="0" y="64692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66013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67338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4771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66096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67417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  <p:grpSp>
        <p:nvGrpSpPr>
          <p:cNvPr id="24" name=""/>
          <p:cNvGrpSpPr/>
          <p:nvPr/>
        </p:nvGrpSpPr>
        <p:grpSpPr>
          <a:xfrm>
            <a:off x="0" y="6200640"/>
            <a:ext cx="1440720" cy="648000"/>
            <a:chOff x="0" y="6200640"/>
            <a:chExt cx="1440720" cy="648000"/>
          </a:xfrm>
        </p:grpSpPr>
        <p:sp>
          <p:nvSpPr>
            <p:cNvPr id="25" name=""/>
            <p:cNvSpPr/>
            <p:nvPr/>
          </p:nvSpPr>
          <p:spPr>
            <a:xfrm>
              <a:off x="83880" y="6200640"/>
              <a:ext cx="1275480" cy="648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5000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249240"/>
              <a:ext cx="1440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Vári Péter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Külső oktató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SZÉCHENYI I. EGYETEM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Távközlési Tanszék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zeus.szif.hu/ejegyzet/ejegyzet/dr_olah/c4.htm#2.EUTELTRACS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3440" y="1045440"/>
            <a:ext cx="898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0593"/>
                </a:solidFill>
                <a:latin typeface="Arial CE"/>
              </a:rPr>
              <a:t>Közeg hozzáférési eljárások</a:t>
            </a:r>
            <a:endParaRPr b="0" lang="en-US" sz="4000" spc="-1" strike="noStrike">
              <a:solidFill>
                <a:srgbClr val="0c0593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vantálá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Kisebb jelnagyságnál a kvantálás lineáris, nagyobb jelnagyságnál logaritmikus jellegű.  A kvantálást során egy jelmintához 8 bites kódszót rendelünk, az "A" karakterisztikának megfelelően.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027160" y="1417680"/>
          <a:ext cx="6685200" cy="49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417680"/>
                    <a:ext cx="668520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6068160" y="2818800"/>
            <a:ext cx="10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593"/>
                </a:solidFill>
                <a:latin typeface="Times New Roman"/>
                <a:ea typeface="Times New Roman"/>
              </a:rPr>
              <a:t>8 bites kódszó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58920" y="5138640"/>
          <a:ext cx="2841480" cy="792360"/>
        </p:xfrm>
        <a:graphic>
          <a:graphicData uri="http://schemas.openxmlformats.org/drawingml/2006/table">
            <a:tbl>
              <a:tblPr/>
              <a:tblGrid>
                <a:gridCol w="279360"/>
                <a:gridCol w="360360"/>
                <a:gridCol w="387360"/>
                <a:gridCol w="360360"/>
                <a:gridCol w="360360"/>
                <a:gridCol w="360360"/>
                <a:gridCol w="345960"/>
                <a:gridCol w="38736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c059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c059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c059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c059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c059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c059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c0593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c059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c0593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c0593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0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c0593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0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c0593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0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c0593"/>
                          </a:solidFill>
                          <a:latin typeface="Times New Roman"/>
                          <a:ea typeface="Times New Roman"/>
                        </a:rPr>
                        <a:t>L1</a:t>
                      </a:r>
                      <a:endParaRPr b="0" lang="en-US" sz="10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c0593"/>
                          </a:solidFill>
                          <a:latin typeface="Times New Roman"/>
                          <a:ea typeface="Times New Roman"/>
                        </a:rPr>
                        <a:t>L2</a:t>
                      </a:r>
                      <a:endParaRPr b="0" lang="en-US" sz="10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c0593"/>
                          </a:solidFill>
                          <a:latin typeface="Times New Roman"/>
                          <a:ea typeface="Times New Roman"/>
                        </a:rPr>
                        <a:t>L3</a:t>
                      </a:r>
                      <a:endParaRPr b="0" lang="en-US" sz="10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c0593"/>
                          </a:solidFill>
                          <a:latin typeface="Times New Roman"/>
                          <a:ea typeface="Times New Roman"/>
                        </a:rPr>
                        <a:t>L4</a:t>
                      </a:r>
                      <a:endParaRPr b="0" lang="en-US" sz="10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c059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vantálá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hol P a polaritást (negatív jel esetén 0, pozitív jelnél 1 az értéke)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S1-S3 a szegmenst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L1-L4  a linearitást jelenti az "A" karakterisztikán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 mintavételezés és kvantálás után az analóg telefoncsatornát egy digitális telefoncsatornává alakítottuk, amely 8 KHz x 8 bit = 64 kbit/sec sebességű. Ez a PCM technika egyik alapegysége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92080" y="1992240"/>
            <a:ext cx="73929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eretszervezés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2048 kb/s (köznapi életben 2 Mb/s-nak hívjuk, vagy primer PCM-nek)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(G823-as szabvány foglalkozik vele)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z előző pontban eljutottunk egy előfizető digitális beszédcsatornájának (64 kb/s) létrehozásáig. Most több előfizető csatornáinak összefogása, azaz multiplexálása következik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multiplexelés ábrája</a:t>
            </a: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nalógia ábrája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43080" y="3263760"/>
          <a:ext cx="2939760" cy="29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3263760"/>
                    <a:ext cx="2939760" cy="29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949560" y="3629160"/>
          <a:ext cx="4813560" cy="25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9560" y="3629160"/>
                    <a:ext cx="4813560" cy="25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2048 kb/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z analógia alapján egy forgó kapcsoló jár egyenletes sebességgel körbe, amikor odaér egy előfizetőhöz (az analógia ábráján 0-31-ig) akkor az előfizető 8 bites kódszavát elveszi, és kirakja a 2 Mb/s-os kimenetre. Elvileg 32 előfizetőt foghatunk össze (0-31), de két csatornának (0, 16) különleges funkciója van ezért csak 30 előfizetőről beszélhetünk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46040" y="2430360"/>
          <a:ext cx="718524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430360"/>
                    <a:ext cx="718524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2048 kb/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c0593"/>
                </a:solidFill>
                <a:latin typeface="Arial"/>
              </a:rPr>
              <a:t>Egy csatorna (előfizető) időben elfoglalt helyét azaz (P,S1,S2,S3, L1,L2,L3,L4) bitek idejét Time Slot-nak (időrésnek) nevezik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z ábrán látható keretből 16-ot összefogva multikeretet képeznek. Ennek a 16. időrés az oka, mely jelzés továbbításra szolgál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50800" y="2394000"/>
            <a:ext cx="652320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2048 kb/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Jelzések átvitelére 4 bitet használunk telefoncsatornánként (TF) az alábbi kiosztásban (multikeretekként):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35160" y="1604880"/>
            <a:ext cx="735012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8448 kb/s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8448 kb/s (köznapi életben 8 Mb/s-nak hívjuk, vagy szekunder PCM-nek)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(G742-es szabvány foglalkozik vele)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multiplexelés ábrája</a:t>
            </a: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nalógia ábrája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07960" y="2552760"/>
          <a:ext cx="3113280" cy="15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2552760"/>
                    <a:ext cx="311328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280040" y="2584440"/>
          <a:ext cx="4690800" cy="180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0040" y="2584440"/>
                    <a:ext cx="469080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8448 kb/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 multiplexerek sosem foglalkoznak azzal, hogy a bemenetükre milyen jelek érkeznek, ők csak egy egységes bitfolyamot látnak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z analógia alapján egy forgó kapcsoló jár egyenletes sebességgel körbe, amikor odaér egy 2 Mb/s csatornához akkor a csatorna 1 bitjét elveszi, és kirakja a 8 Mb/s-os kimenetre. A probléma az, hogy a bemeneten lévő 2 Mb/s-os csatornák sebessége a névleges értéktől megadott tűréshatáron belül ingadozhat. Ezért sebesség kiegyenlítésre van szükség, ezt "háztartási bitek" bevitelével oldjuk meg. Ezen plusz bitek a visszaalakításnál eldobhatók vagy információt tartalmaznak (természetesen ezt előtte valahogy jelezni kell Cij bitekkel)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8448 kb/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04640" y="1206360"/>
          <a:ext cx="857412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206360"/>
                    <a:ext cx="857412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8448 kb/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94284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 Cij bitek demokratikus világban élnek, többségi szavazással döntenek arról, hogy a 4 plusz bitben lévő saját bitjük információt hordoz e vagy nem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Például Ca1, Ca2, Ca3 bitek közül legalább kettőnek az értéke 1-es akkor a P1 bit az a értéket veszi fel. Ha a Cb1, Cb2, Cb3 bitek közül legalább kettőnek az értéke 1-es akkor a P2 bit b értéket veszi fel, és így tovább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Ezt a fajta sebesség kiigazítást pozitív kiigazításnak hívják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1854360"/>
          <a:ext cx="6637320" cy="14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54360"/>
                    <a:ext cx="663732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Multiplexelé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FDMA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TDMA CDMA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54080" y="3144960"/>
          <a:ext cx="778032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3144960"/>
                    <a:ext cx="778032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34 368 kb/s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34 368 kb/s (köznapi életben 34 Mb/s-nak hívjuk, vagy tercier PCM-nek)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080" y="1497600"/>
            <a:ext cx="86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multiplexelés ábrája</a:t>
            </a: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	</a:t>
            </a: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	</a:t>
            </a: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	</a:t>
            </a: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	</a:t>
            </a: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	</a:t>
            </a: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analógia ábrája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80880" y="2004840"/>
          <a:ext cx="3265560" cy="17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04840"/>
                    <a:ext cx="3265560" cy="17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75120" y="2063880"/>
          <a:ext cx="5041800" cy="19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75120" y="2063880"/>
                    <a:ext cx="5041800" cy="19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266760" y="4627800"/>
            <a:ext cx="8558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 CE"/>
              </a:rPr>
              <a:t>A probléma az, hogy a bemeneten lévő 8 Mb/s-os csatornák sebessége a névleges értéktől megadott tűréshatáron belül ingadozhat. Ezért sebesség kiegyenlítésre van szükség, ezt "háztartási bitek" bevitelével oldjuk meg. Ezen plusz bitek a visszaalakításnál eldobhatók vagy információt tartalmaznak (természetesen ezt előtte valahogy jelezni kell  szintén Cij bitekkel).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34 368 kb/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36600" y="901800"/>
          <a:ext cx="848664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901800"/>
                    <a:ext cx="848664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34 368 kb/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 Cij bitek itt is demokratikus világban élnek, többségi szavazással döntenek arról, hogy a 4 plusz bitben lévő saját bitjük információt hordoz e vagy nem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Például Ca1, Ca2, Ca3 bitek közül legalább kettőnek az értéke 1-es akkor a P1 bit az a értéket veszi fel. Ha a Cb1, Cb2, Cb3 bitek közül legalább kettőnek az értéke 1-es akkor a P2 bit b értéket veszi fel, és így tovább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Ezt a fajta sebesség kiigazítást pozitív kiigazításnak hívják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25480" y="2028960"/>
          <a:ext cx="6578640" cy="14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2028960"/>
                    <a:ext cx="657864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139 264 kb/s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139 264 kb/s (köznapi életben 140 Mb/s-nak hívjuk, vagy kvarter PCM-nek)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multiplexelés ábrája</a:t>
            </a: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nalógia ábrája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 probléma az, hogy a bemeneten lévő 34 Mb/s-os csatornák sebessége a névleges értéktől megadott tűréshatáron belül ingadozhat. Ezért sebesség kiegyenlítésre van szükség, ezt "háztartási bitek" bevitelével oldjuk meg, Ezen plusz bitek a visszaalakításnál eldobhatók vagy információt tartalmaznak (természetesen ezt előtte valahogy jelezni kell  szintén Cij bitekkel)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95360" y="2235240"/>
          <a:ext cx="257004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2235240"/>
                    <a:ext cx="257004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038480" y="2190600"/>
          <a:ext cx="4876920" cy="18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190600"/>
                    <a:ext cx="487692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139 264 kb/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07960" y="1155600"/>
          <a:ext cx="8462880" cy="30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155600"/>
                    <a:ext cx="8462880" cy="30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139 264 kb/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 Cij bitek még mindig demokratikus világban élnek, többségi szavazással döntenek arról, hogy a 4 plusz bitben lévő saját bitjük információt hordoz e vagy nem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Például Ca1, Ca2, Ca3, Ca4, Ca5 bitek közül legalább háromnak az értéke 1-es akkor a P1 bit az a értéket veszi fel. Ha a Cb1, Cb2, Cb3, Cb4, Cb5 bitek közül legalább háromnak az értéke 1-es akkor a P2 bit b értéket veszi fel, és így tovább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Ezt a fajta sebesség kiigazítást pozitív kiigazításnak hívják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46120" y="1995480"/>
          <a:ext cx="8407440" cy="11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995480"/>
                    <a:ext cx="840744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Demultiplexelés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z elve ugyanaz mint  a multiplexelés csak visszafelé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25480" y="1498680"/>
          <a:ext cx="7631280" cy="22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498680"/>
                    <a:ext cx="763128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Demultiplexelé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 multiplexerek 64 k/2 M, 2/8 M, 8/34 M a kimenetükön HDB3 (High Density Bipolar 3) kódot (ún. vonali kódot) adnak. (Ebből következően a demultiplexerek ezt a kódot kapják a bemenetükön.) Lényege, hogy nem tartalmazhat egyenáramú komponenst, például a regenerátorok távtáplása miatt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 34/140 M Muxok a kimeneten CMI (Code Mark Inversion) kódot adnak. (Ebből következően a demultiplexerek ezt a kódot kapják a bemenetükön.)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16000" y="3487680"/>
          <a:ext cx="5290920" cy="25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3487680"/>
                    <a:ext cx="529092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583240" y="3443400"/>
          <a:ext cx="3249720" cy="23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3240" y="3443400"/>
                    <a:ext cx="324972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434960" y="52560"/>
          <a:ext cx="6454800" cy="626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52560"/>
                    <a:ext cx="6454800" cy="62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DH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Synchron Digital Hierarchy, szinkron digitális átvitel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z SDH magasabb szintek előállításánál is byte multiplexelést alkalmaz. Most nem kell végig kísérnünk egy beszédcsatorna átalakítását, hisz 2 Mb/s-os csatornáig ez megegyezik a PDH-ban leírtakkal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z SDH technikában is megkülönböztettünk hierarchia szinteket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155 520 kb/s (STM 1, Synchron Transfer Modul köznapi néven 155 Mb/s)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622 080 kb/s (STM 4, köznapi néven 622 Mb/s, mikroval nehezen de még megvalósítható)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2 488 320 kb/s (STM 16, köznapi néven 2,4 Gb/s ezt a sebességet már csak optikán lehet átvinni)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9 953 280 kb/s (STM 64)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(A későbbiekben STM N-el jelöljük a szinteket, ahol N 1,4,16,64 értéket vehet fel, ezen egyszerűsítés azért szükséges mert mindegyik szint hasonlóan épül fel.)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FDM(A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FDM (Frequency Division Multiplexing - frekvenciaosztásos multiplexálás): A frekvenciaosztásos átvitel esetén a rendelkezésre álló csatorna sávszélességét több egyforma, egy kapcsolatnak megfelelô szélességû sávra osztjuk, s minden egyes kapcsolatnak egy ilyen sávot biztosítunk. A rendszert azért hívjuk frekvenciaosztásosnak, mert az egyes csatornák a frekvenciatartományban vannak elkülönítve. A különbözô források továbbítandó jelét a megfelelô sávba beillesztô berendezés a multiplexer, a folyamatot multiplexálásnak nevezzük. Az FDM rendszer elônye, hogy egyetlen nagyobb sávszélességû csatorna képes több, egymástól független információ átvitelére. Hátránya, hogy minden sávot csak egyetlen összeköttetés használ a kapcsolat felépítésétôl egészen a bontásig.</a:t>
            </a:r>
            <a:br>
              <a:rPr sz="1800"/>
            </a:b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FDMA (Frequency Divsion Multiple Access - frekvenciaosztásos többszörös hozzáférés): Azt a rendszert nevezzük így, mely biztosítja, hogy az FDM átviteli rendszerhez mindenki egyformán hozzá tudjon férni, s hogy a lefoglalt csatornát a kapcsolat bontásig kizárólag ô használhassa. FDMA rendszerû pl. az USA-ban még ma is elterjedten használt analóg AMPS cellás rádiótelefon rendszer.</a:t>
            </a:r>
            <a:br>
              <a:rPr sz="1800"/>
            </a:b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DH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Általános összeköttetés ábrája: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778040" y="1308240"/>
          <a:ext cx="6073560" cy="49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308240"/>
                    <a:ext cx="6073560" cy="49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0" y="43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DH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 regenerátor itt is ugyanazt a jelfrissítő szerepet tölti be, mint amit korábban a PDH részben láthattunk.  Ezt követően egy STM N csatorna keretszervezését nézzük meg. ( A PDH-től eltérően a keretszerkezetet két dimenzióban szokás ábrázolni. Az átvitel természetesen soronként történik.)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981080" y="2135160"/>
          <a:ext cx="5148360" cy="41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135160"/>
                    <a:ext cx="5148360" cy="41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0" y="531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DH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mennyiben a multiplex szakasz nem tartalmaz regenerátort akkor RSOH tartalma megegyezik az MSOH tartalmával. A rakományokat (átviendő digitális csatornákat) konténereknek nevezik (jele C, container), méretüknek megfelelően van: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2 Mb/s-os konténer jele C12,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34 Mb/s-os konténer jele C3,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140 Mb/s-os konténer jele C4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84280" y="3567240"/>
          <a:ext cx="8321760" cy="18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3567240"/>
                    <a:ext cx="832176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DH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N értéke legyen 1 azaz 155 Mb/s-os jelet kívánunk előállítani. Ekkor az ábrát tekintve át tudunk vinni 1 db 140 Mb/s-os (C 4), vagy 3 x 1 = 3 db 34 Mb/s-os (C 3), vagy 3 x 7 x 3 = 63 db 2 Mb/s-os csatornát. Ha csak kettő darab 34 Mb/s-os jelet akarunk átvinni akkor 3-2 x 3 x 7 = 21 db 2 Mb/s-os csatornát is még át tudunk vinni. Ha csak egy darab 34 Mb/s-os jelet akarunk átvinni akkor 3-1 x 3 x 7 = 42 db 2 Mb/s-os csatornát is még át tudunk vinni emellett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z ábrán látható különböző jelzések (VC, TU, AU, TUG) mind valami plusz jelek átvitelét mutatják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DH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Nézzük meg egy példán, hogy alakul ki átviendő jel végső sebessége ezen járulékos jelek átvitelével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Hasonlóan a PDH technikához itt is ugyanazon okok miatt szükséges stuff (háztartási) bitek átvitele az összefogandó jelek sebesség kiegyenlítésére. Azonban itt pozitív, nulla, negatív sebesség kiegyenlítésekről beszélhetünk, attól függően hogy a H 3 bytek-ból mennyit fogunk információs bitként elfogadni.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219320" y="1568520"/>
          <a:ext cx="6906960" cy="31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68520"/>
                    <a:ext cx="6906960" cy="31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VC, TU, AU, TUG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Példának vegyünk egy C4-es konténert, azaz vigyünk át egy 140 Mb/s-os mondjuk videojelet. A 140 Mb/s-os jelhez először hozzárendelik a POH-t (útvonal azonosító fejlécet) az ábrának megfelelően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z így kialakult jelet virtuális konténernek nevezik. Jelölése VC 4. (A többi konténer esetén hasonló az eljárás és az elnevezés.)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168560" y="1981080"/>
          <a:ext cx="353052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1981080"/>
                    <a:ext cx="353052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 POH felépítése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692440" y="812880"/>
          <a:ext cx="4451400" cy="54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812880"/>
                    <a:ext cx="4451400" cy="54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U PTR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66760" y="990720"/>
          <a:ext cx="4113000" cy="16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990720"/>
                    <a:ext cx="411300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467160" y="2600280"/>
          <a:ext cx="5676840" cy="33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67160" y="2600280"/>
                    <a:ext cx="567684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U PTR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z átviendő hasznos jel kezdete (időben) nem fog megegyezni a konténer kezdetével ezért használják a H1, H2 byte-okat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917720" y="1638360"/>
          <a:ext cx="4849920" cy="40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7720" y="1638360"/>
                    <a:ext cx="484992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U PTR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z AU PTR értéke a példa esetében 0-782-ig terjedhet. A pointer (AU PTR) értéke kétszer egymásután három keretidőn belül nem változhat (3 x 125 mikrosec)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FDM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Az FDMA rendszerben valamennyi állomás egyidejűleg használja a műhold transzponderét, de mindegyik állomás csak a számára kijelölt frekvenciasávot használja. Általában 120 csatorna felett FDMA alkalmazása használatos. Az FDM jelek nyalábolását a bal ábra mutatja, a jobb ábra pedig az FDM jelstruktúrát mutatja az f-t koordinátarendszerben. Egy-egy vivőhullám egy-egy földi állomás által kisugárzott jelet jelenti. Ilyen rendszerben dolgozik részben az </a:t>
            </a:r>
            <a:r>
              <a:rPr b="0" lang="hu-HU" sz="1800" spc="-1" strike="noStrike" u="sng">
                <a:solidFill>
                  <a:srgbClr val="00cc00"/>
                </a:solidFill>
                <a:uFillTx/>
                <a:latin typeface="Arial"/>
                <a:hlinkClick r:id="rId1"/>
              </a:rPr>
              <a:t>EUTELTRACS műholdas rendszer</a:t>
            </a: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7040" y="3330720"/>
            <a:ext cx="4924440" cy="279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489640" y="3227400"/>
            <a:ext cx="35020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Vegyünk egy másik példát 3 db 34 Mb/s-os jelből szeretnénk képezni STM 1-es szintet. Az előbbiek nem sokban változnak. Látható, hogy VC 4-et byte-ok összefűzéséből kapjuk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77840" y="1930320"/>
          <a:ext cx="8686800" cy="27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930320"/>
                    <a:ext cx="8686800" cy="27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RSOH, MSOH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Ezek után nincs más hátra mint az RSOH, és MSOH byte-jainak (regenerátor és multiplexer fejlécek) hozzáadása az eddig kialakított jelhez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087640" y="1695600"/>
            <a:ext cx="50194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STM 1=&gt; STM 4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91960" y="1714680"/>
          <a:ext cx="8628120" cy="33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1714680"/>
                    <a:ext cx="8628120" cy="33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ef5a0f"/>
                </a:solidFill>
                <a:latin typeface="Arial"/>
              </a:rPr>
              <a:t>DXC (Digital Cross Connect, vezérelhető kapcsolómátrix)</a:t>
            </a:r>
            <a:r>
              <a:rPr b="1" lang="hu-HU" sz="2400" spc="-1" strike="noStrike">
                <a:solidFill>
                  <a:srgbClr val="ef5a0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828800" y="1994040"/>
          <a:ext cx="5102280" cy="21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94040"/>
                    <a:ext cx="510228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ADM (Add Drop Mux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832120" y="723960"/>
          <a:ext cx="3289320" cy="548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2120" y="723960"/>
                    <a:ext cx="3289320" cy="54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Hálózati struktúr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z ellőbb felsorolt eszközökből a PDH rendszerhez hasonló fa struktúra is felépíthető. Ebben az esetben azonban nem használjuk ki a plusz információk átvitele nyújtotta előnyöket. SDH rendszerek általában öngyógyító gyűrű  (SHR Self Healing Ring,  öngyógyító gyűrű) struktúrát alkotnak. Ezen belül is lehet egyirányú (USHR Unidirectional Self Healing Ring ) valamint kétirányú (BSHR Bidirectional Self Healing Ring) az ábrának megfelelően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Hálózati struktúr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66760" y="993600"/>
          <a:ext cx="583884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993600"/>
                    <a:ext cx="583884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6299280" y="910440"/>
            <a:ext cx="253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593"/>
                </a:solidFill>
                <a:latin typeface="Arial CE"/>
              </a:rPr>
              <a:t>USHR esetén a belső gyűrű tartalék útvonalat jelent, mely meghibásodás esetén visz csak forgalmat. BSHR esetén mindkét gyűrű forgalmat visz, hiba esetén a forgalmat átterelik másik még működő irányba.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Interaktív kétirányú TDM/TDMA rendszere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47880" y="981000"/>
            <a:ext cx="73198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Hozzáférési eljárások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Times New Roman"/>
              </a:rPr>
              <a:t>A hozzáférési eljárás az a szabályrendszer, ami meghatározza, hogy számos egymástól független felhasználó hogyan kommunikál egymással egy közös csatornán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Times New Roman"/>
              </a:rPr>
              <a:t>Sok felhasználó szeretne hozzáférni a csatornához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Times New Roman"/>
              </a:rPr>
              <a:t>FDMA/TDMA rendszerek alacsony csatornakihasználtság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Times New Roman"/>
              </a:rPr>
              <a:t>ALOHA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Times New Roman"/>
              </a:rPr>
              <a:t>CDMA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Times New Roman"/>
              </a:rPr>
              <a:t>DAMA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Times New Roman"/>
              </a:rPr>
              <a:t>Csatorna szinkronizáció: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Times New Roman"/>
              </a:rPr>
              <a:t>Szinkronizáltak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c0593"/>
                </a:solidFill>
                <a:latin typeface="Times New Roman"/>
              </a:rPr>
              <a:t>zinkronizálatlanok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A hozzáférési eljárások </a:t>
            </a: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csoportosítás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31800" y="1309680"/>
            <a:ext cx="795348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TDM(A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TDM (Time Division Multiplexing - idôosztásos muliplexálás): Az idôosztásos átvitel esetén a csatornát egészen rövid idôközökre ciklikusan más-más kapcsolatok veszik igénybe. A rövid idôközöket idôréseknek nevezzük. Itt tehát egyetlen átviteli csatornát az idôrés sorszámával jellemezhetünk. A harmadik csatorma itt azt jelenti, hogy minden ciklus harmadik idôrésében mennek el az csatornához tartozó jelek. A TDM átvitel elônye, hogy a frekvenciasávot egyszerre több kapcsolat tudja igénybe venni. Hátránya, hogy az információt olyan formájúra kell alakítani, hogy ez az egyenetlen átvitel a vevô oldalon visszaalakítható legyen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TDMA (Time Division Multiple Access - idôosztásos többszörös hozzáférés): Azt a rendszert nevezzük így, mely biztosítja, hogy a TDM átviteli rendszerhez mindenki egyformán hozzá tudjon férni, s hogy a lefoglalt csatornát a kapcsolat bontásáig kizárólag ô használhassa. TDMA rendszerû például a GSM rendszer is.</a:t>
            </a:r>
            <a:br>
              <a:rPr sz="1800"/>
            </a:b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A hozzáférési eljárások csoportosítás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Times New Roman"/>
              </a:rPr>
              <a:t>Rögzített hozzárendelés (FA):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Times New Roman"/>
              </a:rPr>
              <a:t>folyamatos, állandó nagyságú forgalom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Times New Roman"/>
              </a:rPr>
              <a:t>átviteli csatornák a forgalmi viszonyoktól függetlenül állandóan rendelkezésre állnak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Times New Roman"/>
              </a:rPr>
              <a:t>egy földi állomáshoz hozzárendelt csatornák száma rögzített, pl. TDMA-ban az időrések vagy FDMA-ban a vivők száma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Times New Roman"/>
              </a:rPr>
              <a:t>Véletlen hozzáférés (RA):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Times New Roman"/>
              </a:rPr>
              <a:t>az állomások között a közös csatornahasználatra vonatkozóan semmiféle koordináció nincs (versenyhelyzet)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Times New Roman"/>
              </a:rPr>
              <a:t>Szabályozott hozzáférés (Reservation Access):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Times New Roman"/>
              </a:rPr>
              <a:t>a közös csatorna (vagy annak egy részének) kizárólagos használata egy VSAT állomásra nézve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Times New Roman"/>
              </a:rPr>
              <a:t>A rendelkezésre álló csatorna foglaltsága esetén nem lehetséges az átvit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ef5a0f"/>
                </a:solidFill>
                <a:latin typeface="Arial"/>
              </a:rPr>
              <a:t>DAMA (Demand Assigned Multiple Access): Igény szerinti többszörös hozzáférés</a:t>
            </a:r>
            <a:endParaRPr b="1" lang="en-US" sz="20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Times New Roman"/>
              </a:rPr>
              <a:t>A hálózat közös csatornakészlettel rendelkezik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Times New Roman"/>
              </a:rPr>
              <a:t>Egyes állomások átviteli igényüket a központi állomásnak jelzik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Times New Roman"/>
              </a:rPr>
              <a:t>A vezérlôállomás megvizsgálja, létezik-e szabad csatorna a közös csatornakészletben, és az ellenállomás szabad-e. Pozitív eredmény esetén a kommunikációra kijelölt csatorna paramétereit megküldi a kezdeményezô és a hívott földi állomásnak, negatív esetben foglaltságot jelez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Times New Roman"/>
              </a:rPr>
              <a:t>a földi állomások adó és vevôrendszere hangolható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7351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5a0f"/>
                </a:solidFill>
                <a:latin typeface="Arial"/>
              </a:rPr>
              <a:t>CDMA</a:t>
            </a:r>
            <a:endParaRPr b="1" lang="en-US" sz="4400" spc="-1" strike="noStrike">
              <a:solidFill>
                <a:srgbClr val="ef5a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a0f"/>
                </a:solidFill>
                <a:latin typeface="Arial"/>
              </a:rPr>
              <a:t>CDMA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99360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c0593"/>
                </a:solidFill>
                <a:latin typeface="Arial"/>
              </a:rPr>
              <a:t>CDMA, Code Division Multiple Access, kódosztásos többszörös hozzáférés</a:t>
            </a:r>
            <a:endParaRPr b="1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c0593"/>
                </a:solidFill>
                <a:latin typeface="Arial"/>
              </a:rPr>
              <a:t>Ugyanaz a frekvencia, ugyanaz az idő, más kód</a:t>
            </a:r>
            <a:endParaRPr b="1" lang="en-US" sz="2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0c0593"/>
                </a:solidFill>
                <a:latin typeface="Arial"/>
              </a:rPr>
              <a:t>példa: soknyelvű reptéri váró</a:t>
            </a:r>
            <a:endParaRPr b="1" lang="en-US" sz="13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c0593"/>
                </a:solidFill>
                <a:latin typeface="Arial"/>
              </a:rPr>
              <a:t>Minden jel „szétkenve” a teljes spektrumra, de kis teljesítménnyel</a:t>
            </a:r>
            <a:endParaRPr b="1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522440" y="3320640"/>
            <a:ext cx="5927400" cy="2907720"/>
            <a:chOff x="1522440" y="3320640"/>
            <a:chExt cx="5927400" cy="2907720"/>
          </a:xfrm>
        </p:grpSpPr>
        <p:sp>
          <p:nvSpPr>
            <p:cNvPr id="280" name=""/>
            <p:cNvSpPr/>
            <p:nvPr/>
          </p:nvSpPr>
          <p:spPr>
            <a:xfrm flipV="1">
              <a:off x="1723320" y="3394080"/>
              <a:ext cx="0" cy="2834280"/>
            </a:xfrm>
            <a:prstGeom prst="line">
              <a:avLst/>
            </a:prstGeom>
            <a:ln w="15840">
              <a:solidFill>
                <a:srgbClr val="0c0593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22440" y="5968080"/>
              <a:ext cx="5927400" cy="18720"/>
            </a:xfrm>
            <a:custGeom>
              <a:avLst/>
              <a:gdLst/>
              <a:ahLst/>
              <a:rect l="l" t="t" r="r" b="b"/>
              <a:pathLst>
                <a:path w="2950" h="8">
                  <a:moveTo>
                    <a:pt x="0" y="8"/>
                  </a:moveTo>
                  <a:lnTo>
                    <a:pt x="2950" y="0"/>
                  </a:lnTo>
                </a:path>
              </a:pathLst>
            </a:custGeom>
            <a:noFill/>
            <a:ln w="15840">
              <a:solidFill>
                <a:srgbClr val="0c0593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7000" bIns="-27000" anchor="ctr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68120" y="3320640"/>
              <a:ext cx="15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c0593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83880" y="552924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c0593"/>
                  </a:solidFill>
                  <a:latin typeface="Tahoma"/>
                </a:rPr>
                <a:t>f</a:t>
              </a:r>
              <a:endParaRPr b="0" lang="en-US" sz="20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178520" y="3459600"/>
              <a:ext cx="0" cy="2730240"/>
            </a:xfrm>
            <a:prstGeom prst="line">
              <a:avLst/>
            </a:prstGeom>
            <a:ln w="9360">
              <a:solidFill>
                <a:srgbClr val="0c05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54800" y="3683520"/>
              <a:ext cx="857880" cy="2314440"/>
            </a:xfrm>
            <a:custGeom>
              <a:avLst/>
              <a:gdLst/>
              <a:ahLst/>
              <a:rect l="l" t="t" r="r" b="b"/>
              <a:pathLst>
                <a:path w="427" h="1003">
                  <a:moveTo>
                    <a:pt x="0" y="992"/>
                  </a:moveTo>
                  <a:cubicBezTo>
                    <a:pt x="18" y="855"/>
                    <a:pt x="70" y="332"/>
                    <a:pt x="105" y="170"/>
                  </a:cubicBezTo>
                  <a:cubicBezTo>
                    <a:pt x="140" y="8"/>
                    <a:pt x="175" y="21"/>
                    <a:pt x="211" y="20"/>
                  </a:cubicBezTo>
                  <a:cubicBezTo>
                    <a:pt x="247" y="19"/>
                    <a:pt x="286" y="0"/>
                    <a:pt x="322" y="164"/>
                  </a:cubicBezTo>
                  <a:cubicBezTo>
                    <a:pt x="358" y="328"/>
                    <a:pt x="405" y="828"/>
                    <a:pt x="427" y="1003"/>
                  </a:cubicBezTo>
                </a:path>
              </a:pathLst>
            </a:custGeom>
            <a:noFill/>
            <a:ln w="15840">
              <a:solidFill>
                <a:srgbClr val="0c05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24280" y="5420880"/>
              <a:ext cx="4553640" cy="565560"/>
            </a:xfrm>
            <a:custGeom>
              <a:avLst/>
              <a:gdLst/>
              <a:ahLst/>
              <a:rect l="l" t="t" r="r" b="b"/>
              <a:pathLst>
                <a:path w="2266" h="245">
                  <a:moveTo>
                    <a:pt x="0" y="239"/>
                  </a:moveTo>
                  <a:cubicBezTo>
                    <a:pt x="38" y="219"/>
                    <a:pt x="77" y="154"/>
                    <a:pt x="227" y="117"/>
                  </a:cubicBezTo>
                  <a:cubicBezTo>
                    <a:pt x="377" y="80"/>
                    <a:pt x="732" y="34"/>
                    <a:pt x="900" y="17"/>
                  </a:cubicBezTo>
                  <a:cubicBezTo>
                    <a:pt x="1068" y="0"/>
                    <a:pt x="1046" y="2"/>
                    <a:pt x="1233" y="17"/>
                  </a:cubicBezTo>
                  <a:cubicBezTo>
                    <a:pt x="1420" y="32"/>
                    <a:pt x="1850" y="68"/>
                    <a:pt x="2022" y="106"/>
                  </a:cubicBezTo>
                  <a:cubicBezTo>
                    <a:pt x="2194" y="144"/>
                    <a:pt x="2215" y="216"/>
                    <a:pt x="2266" y="245"/>
                  </a:cubicBezTo>
                </a:path>
              </a:pathLst>
            </a:custGeom>
            <a:noFill/>
            <a:ln w="15840">
              <a:solidFill>
                <a:srgbClr val="0c05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524480" y="3971880"/>
              <a:ext cx="401760" cy="230760"/>
            </a:xfrm>
            <a:prstGeom prst="line">
              <a:avLst/>
            </a:prstGeom>
            <a:ln w="15840">
              <a:solidFill>
                <a:srgbClr val="0c0593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354280" y="5257080"/>
              <a:ext cx="401760" cy="230760"/>
            </a:xfrm>
            <a:prstGeom prst="line">
              <a:avLst/>
            </a:prstGeom>
            <a:ln w="15840">
              <a:solidFill>
                <a:srgbClr val="0c0593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16600" y="3747600"/>
              <a:ext cx="1031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c0593"/>
                  </a:solidFill>
                  <a:latin typeface="Tahoma"/>
                </a:rPr>
                <a:t>e helyett</a:t>
              </a:r>
              <a:endParaRPr b="0" lang="en-US" sz="20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92480" y="5042160"/>
              <a:ext cx="26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c0593"/>
                  </a:solidFill>
                  <a:latin typeface="Tahoma"/>
                </a:rPr>
                <a:t>ez</a:t>
              </a:r>
              <a:endParaRPr b="0" lang="en-US" sz="20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a0f"/>
                </a:solidFill>
                <a:latin typeface="Arial"/>
              </a:rPr>
              <a:t>CDMA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993600"/>
            <a:ext cx="8442360" cy="528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c0593"/>
                </a:solidFill>
                <a:latin typeface="Arial"/>
              </a:rPr>
              <a:t>Működés: a digitális jelet összeszorozzuk egy ún. szórókóddal (spreading code), és ezt sugározzuk ki</a:t>
            </a:r>
            <a:endParaRPr b="1" lang="en-US" sz="2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0c0593"/>
                </a:solidFill>
                <a:latin typeface="Arial"/>
              </a:rPr>
              <a:t>a szorzás pontosabban: NOT(XOR(bit1,bit2))</a:t>
            </a:r>
            <a:endParaRPr b="1" lang="en-US" sz="13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0c0593"/>
                </a:solidFill>
                <a:latin typeface="Arial"/>
              </a:rPr>
              <a:t>a kisugárzott jel hozzáadódik a többi adó által kisugárzotthoz</a:t>
            </a:r>
            <a:endParaRPr b="1" lang="en-US" sz="13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c0593"/>
                </a:solidFill>
                <a:latin typeface="Arial"/>
              </a:rPr>
              <a:t>A szórókód bitsebességge (chiprate) sokkal nagyobb (kb. 100x)</a:t>
            </a:r>
            <a:endParaRPr b="1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c0593"/>
                </a:solidFill>
                <a:latin typeface="Arial"/>
              </a:rPr>
              <a:t>A szórókódok ortogonálisak, azaz egy bitidőre átlagolva két szórókód szorzatát nullát kapunk</a:t>
            </a:r>
            <a:endParaRPr b="1" lang="en-US" sz="2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79360" y="3822840"/>
            <a:ext cx="88012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a0f"/>
                </a:solidFill>
                <a:latin typeface="Arial"/>
              </a:rPr>
              <a:t>CDMA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60000" y="861840"/>
            <a:ext cx="8442360" cy="528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c0593"/>
                </a:solidFill>
                <a:latin typeface="Arial"/>
              </a:rPr>
              <a:t>Kicsit részletesebben:</a:t>
            </a:r>
            <a:endParaRPr b="1" lang="en-US" sz="2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c0593"/>
                </a:solidFill>
                <a:latin typeface="Arial"/>
              </a:rPr>
              <a:t>Kódolás</a:t>
            </a:r>
            <a:endParaRPr b="1" lang="en-US" sz="2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1. A szórókódot és az elkódolni kívánt adatot is reprezentáljuk a következőképp: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1 </a:t>
            </a:r>
            <a:r>
              <a:rPr b="0" lang="hu-HU" sz="1400" spc="-1" strike="noStrike">
                <a:solidFill>
                  <a:srgbClr val="0c0593"/>
                </a:solidFill>
                <a:latin typeface="Symbol"/>
                <a:ea typeface="Symbol"/>
              </a:rPr>
              <a:t></a:t>
            </a: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0c0593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0 </a:t>
            </a:r>
            <a:r>
              <a:rPr b="0" lang="hu-HU" sz="1400" spc="-1" strike="noStrike">
                <a:solidFill>
                  <a:srgbClr val="0c0593"/>
                </a:solidFill>
                <a:latin typeface="Symbol"/>
                <a:ea typeface="Symbol"/>
              </a:rPr>
              <a:t></a:t>
            </a: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 -1</a:t>
            </a:r>
            <a:endParaRPr b="0" lang="en-US" sz="1400" spc="-1" strike="noStrike">
              <a:solidFill>
                <a:srgbClr val="0c0593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Vegyük észre: ekkor NOT(XOR(a,b)) valójában a*b, azaz szorzás</a:t>
            </a:r>
            <a:endParaRPr b="0" lang="en-US" sz="1400" spc="-1" strike="noStrike">
              <a:solidFill>
                <a:srgbClr val="0c0593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71ff71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1*1</a:t>
            </a:r>
            <a:r>
              <a:rPr b="0" lang="en-US" sz="1400" spc="-1" strike="noStrike">
                <a:solidFill>
                  <a:srgbClr val="0c0593"/>
                </a:solidFill>
                <a:latin typeface="Arial"/>
              </a:rPr>
              <a:t>=1, 1*-1=-1, -1*1=-1, -1*-1=1</a:t>
            </a:r>
            <a:endParaRPr b="0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2. Végezzük el a szórókód összeszorzását a küldendő adattal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a szórókód összes bitjét szorozzuk az adat egy adott bitjével, így jelentősen megnő a jelsebesség</a:t>
            </a:r>
            <a:endParaRPr b="0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3. Sugározzuk ki az így kapott jelet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Modellünkben egyszerűen adjuk össze az összes így kapott jelet</a:t>
            </a:r>
            <a:endParaRPr b="0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Dekódolás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1. A vett jelet (a kódolás 3 lépésének összege) szorozzuk meg az adó szórókódjának a bitjeivel sorban. Ahány bitet kívánunk venni, annyiszor ismételjük ezt meg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2. Az így kapott értékeket átlagoljuk bitidőkre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3. Ha az átlag 1: a küldött bit 1. Ha az átlag -1: a küldött bit 0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4. Ismételjük meg mindezt az összes vevőre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a0f"/>
                </a:solidFill>
                <a:latin typeface="Arial"/>
              </a:rPr>
              <a:t>CDMA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78000" y="914040"/>
            <a:ext cx="844200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593"/>
                </a:solidFill>
                <a:latin typeface="Arial"/>
              </a:rPr>
              <a:t>A kódolás szemléltetése:</a:t>
            </a:r>
            <a:endParaRPr b="1" lang="en-US" sz="2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c0593"/>
                </a:solidFill>
                <a:latin typeface="Arial"/>
              </a:rPr>
              <a:t>nem szerepel az ábrán a többi jellel való összegzés</a:t>
            </a:r>
            <a:endParaRPr b="1" lang="en-US" sz="11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71360" y="1504800"/>
            <a:ext cx="865836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a0f"/>
                </a:solidFill>
                <a:latin typeface="Arial"/>
              </a:rPr>
              <a:t>CDMA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78000" y="852120"/>
            <a:ext cx="876600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c0593"/>
                </a:solidFill>
                <a:latin typeface="Arial"/>
              </a:rPr>
              <a:t>A dekódolás szemléltetése:</a:t>
            </a:r>
            <a:endParaRPr b="1" lang="en-US" sz="2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c0593"/>
                </a:solidFill>
                <a:latin typeface="Arial"/>
              </a:rPr>
              <a:t>az ábra nem egy összegzett jel dekódolását mutatja sajnos, hanem a küldött jel vételét, és egy másik jel vételét külön-külön</a:t>
            </a:r>
            <a:endParaRPr b="1" lang="en-US" sz="12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c0593"/>
                </a:solidFill>
                <a:latin typeface="Arial"/>
              </a:rPr>
              <a:t>de szemlélteti, hogy az ortogonalitás miatt a többi adó jele nem zavar</a:t>
            </a:r>
            <a:endParaRPr b="1" lang="en-US" sz="12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c0593"/>
                </a:solidFill>
                <a:latin typeface="Arial"/>
              </a:rPr>
              <a:t>(az ábrán csak kvázi-ortogonalitás van, így az így kapott bitidő átlaga nem teljesen 0)</a:t>
            </a:r>
            <a:endParaRPr b="1" lang="en-US" sz="12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68160" y="2160720"/>
            <a:ext cx="78170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a0f"/>
                </a:solidFill>
                <a:latin typeface="Arial"/>
              </a:rPr>
              <a:t>CDMA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78000" y="914400"/>
            <a:ext cx="844200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Nézzünk egy példát!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c0593"/>
                </a:solidFill>
                <a:latin typeface="Arial"/>
              </a:rPr>
              <a:t>vigyük át az (1, 0) és az (1, 1) jeleket az (1, 1, 0, 0), ill. (1, 0, 0, 1) szórókódokat használva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84600" y="1639800"/>
            <a:ext cx="32418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0593"/>
                </a:solidFill>
                <a:latin typeface="Arial"/>
              </a:rPr>
              <a:t>Dekódolás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0593"/>
                </a:solidFill>
                <a:latin typeface="Arial"/>
              </a:rPr>
              <a:t>1. A szorzat: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593"/>
                </a:solidFill>
                <a:latin typeface="Arial"/>
              </a:rPr>
              <a:t>A: 2, 0, 2, 0, 0, -2, 0, -2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593"/>
                </a:solidFill>
                <a:latin typeface="Arial"/>
              </a:rPr>
              <a:t>B: 2, 0, 2, 0, 0, 2, 0, 2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0593"/>
                </a:solidFill>
                <a:latin typeface="Arial"/>
              </a:rPr>
              <a:t>2. Az átlagok: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593"/>
                </a:solidFill>
                <a:latin typeface="Arial"/>
              </a:rPr>
              <a:t>A: 1, -1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593"/>
                </a:solidFill>
                <a:latin typeface="Arial"/>
              </a:rPr>
              <a:t>B: 1, 1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0593"/>
                </a:solidFill>
                <a:latin typeface="Arial"/>
              </a:rPr>
              <a:t>3: A vett jel: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593"/>
                </a:solidFill>
                <a:latin typeface="Arial"/>
              </a:rPr>
              <a:t>A: 1, 0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593"/>
                </a:solidFill>
                <a:latin typeface="Arial"/>
              </a:rPr>
              <a:t>B: 1, 1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6560" y="4305240"/>
            <a:ext cx="738684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Megj: mindez azért sikerülhetett, mert a szórókódok valóban ortogonálisak, azaz a kettő szorzatának az átlaga nulla: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A szorzat: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1, -1, 1, -1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Az átlag: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4560" y="1577880"/>
            <a:ext cx="3486240" cy="29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c0593"/>
                </a:solidFill>
                <a:latin typeface="Arial"/>
              </a:rPr>
              <a:t>Kódolás: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c0593"/>
                </a:solidFill>
                <a:latin typeface="Arial"/>
              </a:rPr>
              <a:t>1. Az átviendő jel legyen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c0593"/>
                </a:solidFill>
                <a:latin typeface="Arial"/>
              </a:rPr>
              <a:t>A: (1, -1)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c0593"/>
                </a:solidFill>
                <a:latin typeface="Arial"/>
              </a:rPr>
              <a:t>B: (1, 1) 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c0593"/>
                </a:solidFill>
                <a:latin typeface="Arial"/>
              </a:rPr>
              <a:t>A két szórókód legyen 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c0593"/>
                </a:solidFill>
                <a:latin typeface="Arial"/>
              </a:rPr>
              <a:t>A: (1, 1, -1, -1) 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c0593"/>
                </a:solidFill>
                <a:latin typeface="Arial"/>
              </a:rPr>
              <a:t>B: (1, -1, -1, 1) 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c0593"/>
                </a:solidFill>
                <a:latin typeface="Arial"/>
              </a:rPr>
              <a:t>2. Az elküldendő jelek: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c0593"/>
                </a:solidFill>
                <a:latin typeface="Arial"/>
              </a:rPr>
              <a:t>A: 1,1,-1,-1,-1,-1,1,1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c0593"/>
                </a:solidFill>
                <a:latin typeface="Arial"/>
              </a:rPr>
              <a:t>B: 1, </a:t>
            </a:r>
            <a:r>
              <a:rPr b="0" lang="en-US" sz="1200" spc="-1" strike="noStrike">
                <a:solidFill>
                  <a:srgbClr val="0c0593"/>
                </a:solidFill>
                <a:latin typeface="Arial"/>
              </a:rPr>
              <a:t>-1, -1, 1, 1, -1, -1, 1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c0593"/>
                </a:solidFill>
                <a:latin typeface="Arial"/>
              </a:rPr>
              <a:t>3.Ezek összege: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c0593"/>
                </a:solidFill>
                <a:latin typeface="Arial"/>
              </a:rPr>
              <a:t>2, 0, -2, 0, 0, -2, 0, 2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CDM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CDMA (Code Division Multiple Access - kódosztásos többszörös hozzáférés): A frekvenciasávot igen hatékonyan kihasználó kommunikációs rendszer. Az átküldött adatok a teljes frekvenciasávot kihasználják, a csomagok nincsenek elkülönítve sem frekvenciában, sem idôben. Minden egyes mintához tartozik viszont egy kód, mely elárulja, hogy a csomag éppen melyik készüléknek érkezik. A CDMA rendszerben - mivel sem egy adott frekvencia, sem idôrés nincs hozzárendelve a beszélgetéshez - nincs éles határa a sáv kapacitásának sem. Ha ugyanis a csatorna már telített és egy újabb igény jelentkezik, akkor minden meglévô kapcsolat csökkenti a küldött csomagok számát - azaz csökkenti a sávszélességet - és így jut hely az új kapcsolat csomagjainak is. Ez a tulajdonság biztosítja a hatékony sávfelhasználást.</a:t>
            </a:r>
            <a:br>
              <a:rPr sz="1800"/>
            </a:br>
            <a:r>
              <a:rPr b="0" lang="hu-HU" sz="1800" spc="-1" strike="noStrike">
                <a:solidFill>
                  <a:srgbClr val="0c0593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TDMA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PDH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(Plesiochron Digital Hierarchy, aszinkron digitális átvitel)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 köznapi életben PCM  (Pulse Code Modulation, Pulzus kód moduláció) elnevezésével találkozunk leginkább. 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 jel átalakítását egy telefon csatorna példáján keresztül mutatjuk be. Video vagy egyéb más analóg jelek átalakítása hasonló elvek alapján történik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Jel átalakítás két fázisa: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mintavételezés,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kvantálás.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(A két fázis időben felcserélhető, pl. előbb kvantálunk azután mintavételezünk)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Mintavételezé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Telefon csatorna esetén átviendő legmagasabb frekvencia 3400 Hz, gyakorlatilag 4 KHz-el számolunk. A mintavételi frekvencia a legmagasabb átviendő frekvenciájának legalább kétszerese (gyakorlatban valóban kétszeresét használják). Esetünkben 2x4 KHz = 8 KHz.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c0593"/>
                </a:solidFill>
                <a:latin typeface="Arial"/>
              </a:rPr>
              <a:t>A 8 KHz-el történt mintavételből következően 1/8 KHz azaz 125 -ként van egy-egy mintánk.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46120" y="2222640"/>
          <a:ext cx="8244000" cy="23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2222640"/>
                    <a:ext cx="824400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vantálás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c0593"/>
                </a:solidFill>
                <a:latin typeface="Arial"/>
              </a:rPr>
              <a:t>Az átvitel minőségét meghatározza, hogy a jelmintákat milyen finomsággal továbbítjuk. 8 bitre történő kvantálás esetén 8092 lépcsőfokot valósítunk meg, mely megfelelő minőséget ad. A kvantálásnál a jel maximális amplitúdója nem lehet nagyobb a megállapodás szerinti értéknél.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25760" y="2322360"/>
          <a:ext cx="591156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5760" y="2322360"/>
                    <a:ext cx="591156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5T19:09:54Z</dcterms:created>
  <dc:creator>HONFY</dc:creator>
  <dc:description/>
  <cp:keywords/>
  <dc:language>en-US</dc:language>
  <cp:lastModifiedBy>Vári Péter</cp:lastModifiedBy>
  <dcterms:modified xsi:type="dcterms:W3CDTF">2008-10-08T12:09:53Z</dcterms:modified>
  <cp:revision>92</cp:revision>
  <dc:subject/>
  <dc:title>MOBIL TÁVKÖZLÉS ANTENNA RENDSZEREI</dc:title>
</cp:coreProperties>
</file>