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0.png" ContentType="image/png"/>
  <Override PartName="/ppt/media/image28.png" ContentType="image/png"/>
  <Override PartName="/ppt/media/image4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4723-C3D2-437D-8A6A-15B1E765B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DEB8-0382-477A-BF5F-B75B1EDC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7E5BA-80FE-4803-A8D6-4A4B9DB0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D1EB-DEB9-4019-BFEA-031D2DEAC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D89B-46D6-4B46-B20A-30E151F9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16E6-08C5-42CE-8D1A-7423F245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8475-CBDD-443A-B7AF-FE292773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1605-4E42-4C3F-9AB9-B35DAC52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1592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F68B-FC99-4DF3-A534-0BC21E8A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1FA1-8C85-48D8-AB9B-9E7823E1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998F-0696-40C5-B46D-A69B51F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2852-FA01-46BA-A05B-5A357D17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296"/>
            </a:gs>
            <a:gs pos="50000">
              <a:srgbClr val="fffbdf"/>
            </a:gs>
            <a:gs pos="100000">
              <a:srgbClr val="fef2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50000">
                <a:srgbClr val="ffffff"/>
              </a:gs>
              <a:gs pos="100000">
                <a:srgbClr val="cccccc"/>
              </a:gs>
            </a:gsLst>
            <a:lin ang="2700000"/>
          </a:gradFill>
          <a:ln w="12600">
            <a:solidFill>
              <a:srgbClr val="fef296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Freeform 4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Rectangle 11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505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33cc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202E-3DD9-467F-998A-0BB21E48F9C7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495C-8FAD-4E99-BE9E-0B19CBA7084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grpSp>
        <p:nvGrpSpPr>
          <p:cNvPr id="17" name="Group 19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18" name="Freeform 20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  <p:grpSp>
        <p:nvGrpSpPr>
          <p:cNvPr id="24" name="Group 26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25" name="Rectangle 27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ff0000"/>
                </a:solidFill>
                <a:latin typeface="Arial"/>
              </a:rPr>
              <a:t>HANGJELEK</a:t>
            </a:r>
            <a:endParaRPr b="1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szé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006, Győ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5DDF-9828-4D72-B8BB-F16D06A600A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1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B28-CFA7-427D-BA09-878AB4414FC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 hallás érzékenység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6944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allószervünk átfog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rekvenciában: 3 dekád (10 oktá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enzitásban: 13…14 nagyság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s megváltozások érzékelése a hallásunk legfontosabb tulajdonság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40..100dB –es tartományban  0,2..0,5dB hangintenzitás vált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a 400..7000 Hz-es tartományban 0,3% frekvencia vált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CBB6-FDC8-40C7-88CF-B869B7A8C598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5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7571-9249-4FA1-8059-D956F458190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 hangérzet jellemzői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4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nlő hangosság görbéi (izofon görbé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FLETCHER"/>
          <p:cNvPicPr/>
          <p:nvPr/>
        </p:nvPicPr>
        <p:blipFill>
          <a:blip r:embed="rId1"/>
          <a:stretch/>
        </p:blipFill>
        <p:spPr>
          <a:xfrm>
            <a:off x="611280" y="1484280"/>
            <a:ext cx="78753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1F8E-C401-41E3-BCC8-557F6040629D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0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E7B4-315C-460B-BEEE-3B20E037D79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z újabb kutatások eredmény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2" name="Picture 7" descr="ROB_DED"/>
          <p:cNvPicPr/>
          <p:nvPr/>
        </p:nvPicPr>
        <p:blipFill>
          <a:blip r:embed="rId1"/>
          <a:stretch/>
        </p:blipFill>
        <p:spPr>
          <a:xfrm>
            <a:off x="1752480" y="981000"/>
            <a:ext cx="5710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6F5D-A194-4406-A865-F611C569DFE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4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F2F-81DD-4FFE-B8F8-E44C174B821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722160" y="5486400"/>
            <a:ext cx="75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1000 Hz-e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angok (referencia frekvencia) esetén: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ngosság (phon) = Intenzitásszint (dB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81040" y="990720"/>
            <a:ext cx="79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6. Hangossá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phon vagy son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hangérzet jellemzői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219320" y="1523880"/>
            <a:ext cx="3200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Hangintenzitás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bjektív hangerősség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z inger erőssége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648320" y="1523880"/>
            <a:ext cx="3200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Hangosság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ubjektív hangerősség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z érzet erőssége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84360" y="2924280"/>
            <a:ext cx="79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egy tetszőleges frekvenciájú hang a hallás alapján megítélve éppolyan hangos mint e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intenzitású 1000 Hz-es hang, akkor a hang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hangosság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2862360" y="4280040"/>
                <a:ext cx="19843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9"/>
          <p:cNvSpPr/>
          <p:nvPr/>
        </p:nvSpPr>
        <p:spPr>
          <a:xfrm>
            <a:off x="4859280" y="4581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phon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átum helye 5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F916-4DF0-43CC-BA6B-FE92B73DC16B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64" name="Dia számának helye 6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9955-432E-41C0-A3AF-A1A815F26C2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11280" y="1844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angosságérzetet jobban leírja 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so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skála: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hangérzet jellemzői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332000" y="2781360"/>
                <a:ext cx="1944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,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68" name="Picture 6" descr="phonson"/>
          <p:cNvPicPr/>
          <p:nvPr/>
        </p:nvPicPr>
        <p:blipFill>
          <a:blip r:embed="rId1"/>
          <a:stretch/>
        </p:blipFill>
        <p:spPr>
          <a:xfrm>
            <a:off x="395280" y="4508640"/>
            <a:ext cx="5113440" cy="1211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3635280" y="2997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son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39640" y="981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hon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határozása 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Weber-Fechner törvényr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pül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71" name="Picture 8" descr="PHO_SON"/>
          <p:cNvPicPr/>
          <p:nvPr/>
        </p:nvPicPr>
        <p:blipFill>
          <a:blip r:embed="rId2"/>
          <a:stretch/>
        </p:blipFill>
        <p:spPr>
          <a:xfrm>
            <a:off x="5580000" y="692280"/>
            <a:ext cx="3141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E392-8B9B-4089-86AE-F96D596F256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73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F8EB-2FF2-431A-BB46-0341175BD0D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fül szerkezete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75" name="Picture 3" descr="ful3resz"/>
          <p:cNvPicPr/>
          <p:nvPr/>
        </p:nvPicPr>
        <p:blipFill>
          <a:blip r:embed="rId1"/>
          <a:stretch/>
        </p:blipFill>
        <p:spPr>
          <a:xfrm>
            <a:off x="1835280" y="1052640"/>
            <a:ext cx="5257800" cy="3470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58920" y="4869000"/>
            <a:ext cx="72342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ülső fü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„hanggyűjtő”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zépfül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chanikai erősítő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első fül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zékelő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725A-890F-4559-AC0C-BAB4115F1096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78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00D5-2AA5-473E-A87B-3C73A54AE32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külső fül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042920" y="1341360"/>
            <a:ext cx="723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ülkagyló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angot a hallójáratba tereli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llójárat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isszaveri és a dobhártya felé tereli a hanghullámokat. Adott tartományt (2000-5000 Hz) hatékonyabban továbbít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obhártya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ang által rezgésbe jön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9893-177E-4AA5-8F7F-7A81469E94E6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82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509C-B815-4C71-8C51-91FF9DB4585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722160" y="836640"/>
            <a:ext cx="723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llócsontocská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kalapács, üllő, kengyel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dobhártya rezgését felerősítik, és átviszik az ovális ablakra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Erősítés: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sebb felületre koncentrált rezgések: 17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melőszerű működés: 1,3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sen kb. 22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nyomásnövekedés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középfül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85" name="Picture 4" descr="csontok"/>
          <p:cNvPicPr/>
          <p:nvPr/>
        </p:nvPicPr>
        <p:blipFill>
          <a:blip r:embed="rId1"/>
          <a:stretch/>
        </p:blipFill>
        <p:spPr>
          <a:xfrm>
            <a:off x="5867280" y="3860640"/>
            <a:ext cx="2960640" cy="2787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kengyelmik"/>
          <p:cNvPicPr/>
          <p:nvPr/>
        </p:nvPicPr>
        <p:blipFill>
          <a:blip r:embed="rId2"/>
          <a:stretch/>
        </p:blipFill>
        <p:spPr>
          <a:xfrm>
            <a:off x="6732720" y="2133720"/>
            <a:ext cx="2089080" cy="1614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fulmodell2"/>
          <p:cNvPicPr/>
          <p:nvPr/>
        </p:nvPicPr>
        <p:blipFill>
          <a:blip r:embed="rId3"/>
          <a:stretch/>
        </p:blipFill>
        <p:spPr>
          <a:xfrm>
            <a:off x="0" y="3565440"/>
            <a:ext cx="4859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BA2-E992-42FC-805B-05CB28050699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73EA-67A7-403B-873A-D2B6F16F6E1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belső fül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22160" y="981000"/>
            <a:ext cx="723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siga (cochlea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,5 menetű, 35 mm hosszú folyadékkal teli csatorna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sszában a részben csontos, részben hártyaszerű fal,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laphárty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bazilár membrán) osztja ketté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4" descr="csiga"/>
          <p:cNvPicPr/>
          <p:nvPr/>
        </p:nvPicPr>
        <p:blipFill>
          <a:blip r:embed="rId1"/>
          <a:stretch/>
        </p:blipFill>
        <p:spPr>
          <a:xfrm>
            <a:off x="479520" y="2401920"/>
            <a:ext cx="3012840" cy="3058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fulmodell"/>
          <p:cNvPicPr/>
          <p:nvPr/>
        </p:nvPicPr>
        <p:blipFill>
          <a:blip r:embed="rId2"/>
          <a:stretch/>
        </p:blipFill>
        <p:spPr>
          <a:xfrm>
            <a:off x="3665520" y="2811600"/>
            <a:ext cx="49388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4F7B-981E-43F0-BA11-982FBA8BB5A5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5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86D2-019F-4377-A1D2-85C134B72DB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6" name="Picture 2" descr="hullamok"/>
          <p:cNvPicPr/>
          <p:nvPr/>
        </p:nvPicPr>
        <p:blipFill>
          <a:blip r:embed="rId1"/>
          <a:stretch/>
        </p:blipFill>
        <p:spPr>
          <a:xfrm>
            <a:off x="0" y="1979640"/>
            <a:ext cx="6012000" cy="4878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5076720" y="2060640"/>
            <a:ext cx="40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cccc"/>
                </a:solidFill>
                <a:latin typeface="Tahoma"/>
              </a:rPr>
              <a:t>A hallás mechanizmusa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68360" y="40464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Békésy-féle elmélet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erilymphaban tovahaladó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hullá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eletkezik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maximális amplitúdó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elye a kiváltó rezgés, azaz a hang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rekvenciájátó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297480" y="5805360"/>
            <a:ext cx="24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Békésy György, Nobel-díj 1961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00" name="Picture 6" descr="bekesy2"/>
          <p:cNvPicPr/>
          <p:nvPr/>
        </p:nvPicPr>
        <p:blipFill>
          <a:blip r:embed="rId2"/>
          <a:stretch/>
        </p:blipFill>
        <p:spPr>
          <a:xfrm>
            <a:off x="6516720" y="3141720"/>
            <a:ext cx="19922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6352-FB4F-4C33-BCBA-0ECB7E6F1D69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6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2AC5-E6BA-4158-9D48-00F2296EEA7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hang fogalma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00000" y="981000"/>
            <a:ext cx="741708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Objektív jelenség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rugalmas közegben terjedő mechanikai hullám.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Élettani, lélektani fogalom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hangérzet.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A hangforrás jellemzői: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kiterjedés,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irány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távolság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iránykarakterisztika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frekcencia spektrum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sávszélesség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spektrális energiaeloszlás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intenzitás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dinamika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D298-2170-4912-9582-EEEA0069A3D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02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D3BF-A986-4E33-BD61-E74B5D03DA6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csiga metszete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04" name="Picture 3" descr="csigametszet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39640" y="1052640"/>
            <a:ext cx="820908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2C5B-53AA-4D72-A480-95CC2F16C34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06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8C43-9143-477F-B795-49A38650988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Corti-féle szerv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08" name="Picture 3" descr="corti"/>
          <p:cNvPicPr/>
          <p:nvPr/>
        </p:nvPicPr>
        <p:blipFill>
          <a:blip r:embed="rId1"/>
          <a:stretch/>
        </p:blipFill>
        <p:spPr>
          <a:xfrm>
            <a:off x="179280" y="1459080"/>
            <a:ext cx="8785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FFF1-4CEB-4636-908D-4611363DFC6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10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A5D3-DF55-4AED-AE1E-DE6AA8718E5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Külső és belső szőrsejtek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12" name="Picture 3" descr="haircells"/>
          <p:cNvPicPr/>
          <p:nvPr/>
        </p:nvPicPr>
        <p:blipFill>
          <a:blip r:embed="rId1"/>
          <a:stretch/>
        </p:blipFill>
        <p:spPr>
          <a:xfrm>
            <a:off x="395280" y="1989000"/>
            <a:ext cx="3672000" cy="3248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ihc"/>
          <p:cNvPicPr/>
          <p:nvPr/>
        </p:nvPicPr>
        <p:blipFill>
          <a:blip r:embed="rId2"/>
          <a:stretch/>
        </p:blipFill>
        <p:spPr>
          <a:xfrm>
            <a:off x="6156360" y="765000"/>
            <a:ext cx="2463840" cy="2476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ohc"/>
          <p:cNvPicPr/>
          <p:nvPr/>
        </p:nvPicPr>
        <p:blipFill>
          <a:blip r:embed="rId3"/>
          <a:stretch/>
        </p:blipFill>
        <p:spPr>
          <a:xfrm>
            <a:off x="6372360" y="4191120"/>
            <a:ext cx="2209680" cy="2666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6156360" y="3284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belső szőrsejtek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~3 500 db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292720" y="5805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külső szőrsejtek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~12-20 000 db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17" name="Line 8"/>
          <p:cNvSpPr/>
          <p:nvPr/>
        </p:nvSpPr>
        <p:spPr>
          <a:xfrm flipV="1">
            <a:off x="4138560" y="2133720"/>
            <a:ext cx="201780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4138560" y="4363920"/>
            <a:ext cx="2017800" cy="64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E716-EC5E-443E-A803-86C5046CF16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20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0746-465A-4AF9-A4EA-C63EE99631FF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0" y="33336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szőrsejtek mechanotranszducerek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22" name="Picture 3" descr="szorsejtmukodes"/>
          <p:cNvPicPr/>
          <p:nvPr/>
        </p:nvPicPr>
        <p:blipFill>
          <a:blip r:embed="rId1"/>
          <a:stretch/>
        </p:blipFill>
        <p:spPr>
          <a:xfrm>
            <a:off x="71280" y="1268280"/>
            <a:ext cx="5796000" cy="55022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5830920" y="115920"/>
            <a:ext cx="331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iliumok elhajlanak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tornák nyitnak,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+ beáramlik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epolarizáció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zültségérzékeny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csatornák nyitnak,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beáramlik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urotranszmitter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aptikus résbe ürül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24" name="Picture 5" descr="nyitas"/>
          <p:cNvPicPr/>
          <p:nvPr/>
        </p:nvPicPr>
        <p:blipFill>
          <a:blip r:embed="rId2"/>
          <a:stretch/>
        </p:blipFill>
        <p:spPr>
          <a:xfrm>
            <a:off x="6586560" y="836640"/>
            <a:ext cx="1873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3F6D-CC4C-4C36-B03A-C7E872335470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26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4975-AAFF-43EE-89BF-D814BC81715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külső szőrsejtek – aktív erősítés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0" y="2133720"/>
            <a:ext cx="2679840" cy="3429000"/>
            <a:chOff x="0" y="2133720"/>
            <a:chExt cx="2679840" cy="3429000"/>
          </a:xfrm>
        </p:grpSpPr>
        <p:pic>
          <p:nvPicPr>
            <p:cNvPr id="229" name="Picture 4" descr="kulsoszorsejtekmozgasa"/>
            <p:cNvPicPr/>
            <p:nvPr/>
          </p:nvPicPr>
          <p:blipFill>
            <a:blip r:embed="rId1"/>
            <a:stretch/>
          </p:blipFill>
          <p:spPr>
            <a:xfrm>
              <a:off x="152280" y="2133720"/>
              <a:ext cx="2527560" cy="33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5"/>
            <p:cNvSpPr/>
            <p:nvPr/>
          </p:nvSpPr>
          <p:spPr>
            <a:xfrm>
              <a:off x="0" y="5105520"/>
              <a:ext cx="2438280" cy="457200"/>
            </a:xfrm>
            <a:prstGeom prst="rect">
              <a:avLst/>
            </a:prstGeom>
            <a:solidFill>
              <a:srgbClr val="fef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  <p:pic>
        <p:nvPicPr>
          <p:cNvPr id="231" name="Picture 6" descr="activemechanism"/>
          <p:cNvPicPr/>
          <p:nvPr/>
        </p:nvPicPr>
        <p:blipFill>
          <a:blip r:embed="rId2"/>
          <a:stretch/>
        </p:blipFill>
        <p:spPr>
          <a:xfrm>
            <a:off x="1828800" y="1828800"/>
            <a:ext cx="73152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9C8C-224A-40E4-8B76-B99352F2CAB8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3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07EA-EF34-48DD-90EA-4971B6E3420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 hallás fiziológiai jellemzői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7777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hangelfedési jelensége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1. Intenzitásbeli lefedé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egy intenzív hangjel lefedi a frekvenciája környezetét. Ez a lefedés természetesen szintfüggő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9" descr="FREKLEFED"/>
          <p:cNvPicPr/>
          <p:nvPr/>
        </p:nvPicPr>
        <p:blipFill>
          <a:blip r:embed="rId1"/>
          <a:stretch/>
        </p:blipFill>
        <p:spPr>
          <a:xfrm>
            <a:off x="1619280" y="1757520"/>
            <a:ext cx="590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B319-C579-4B97-944E-5BF0B6FBC27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5EAA-A650-46AA-926F-CA5103E268F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 hallás fiziológiai jellemzői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hangelfedési jelensége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. Frekvencia lefedés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adott frekvenciájú hangjelek lefedik a a frekvencia környezetüket, azaz a szomszédos kisebb intenzitású jeleket érzékelhetetlenné teszik. Ez a frekvencia lefedés természetesen szintfüggő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Frekvencialefedés"/>
          <p:cNvPicPr/>
          <p:nvPr/>
        </p:nvPicPr>
        <p:blipFill>
          <a:blip r:embed="rId1"/>
          <a:stretch/>
        </p:blipFill>
        <p:spPr>
          <a:xfrm>
            <a:off x="1258920" y="1916280"/>
            <a:ext cx="741672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3437-9355-44D8-A2C1-0D55741188EB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3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ECB5-1C7D-4D78-93B2-3FD0C023A14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 hallás fiziológiai jellemzői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hangelfedési jelensége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3. Időbeni lefedés: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hangosabb hangok az időben előbb belépő hangokat lefedik. Hasonlóképpen a lefedés a hangosabb hangok megszünte után is fennmarad egy ide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IDOBENILEF"/>
          <p:cNvPicPr/>
          <p:nvPr/>
        </p:nvPicPr>
        <p:blipFill>
          <a:blip r:embed="rId1"/>
          <a:stretch/>
        </p:blipFill>
        <p:spPr>
          <a:xfrm>
            <a:off x="971640" y="1844640"/>
            <a:ext cx="7704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1447-1C76-4CF6-AEEF-5B8D70C6580B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8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63AF-E8D3-4651-B41E-9BD64BB55F3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 tényleges hallásküszöb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fedési jelenségek hatására a hallásküszöb pillanatról pillanatra változi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ihasználása a hangjelek tömörítési lehetősége: </a:t>
            </a: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Amit nem hallunk, nem visszük á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EREDOHAL"/>
          <p:cNvPicPr/>
          <p:nvPr/>
        </p:nvPicPr>
        <p:blipFill>
          <a:blip r:embed="rId1"/>
          <a:stretch/>
        </p:blipFill>
        <p:spPr>
          <a:xfrm>
            <a:off x="1547640" y="1641600"/>
            <a:ext cx="66247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095-0D99-4419-87D1-275D7601BC6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53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FC04-E5F6-4510-AAD4-5AEB0BCE24C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Érthetőség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28036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vitel szempontjából elsődleges információtartalom: az ért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HALLHATO"/>
          <p:cNvPicPr/>
          <p:nvPr/>
        </p:nvPicPr>
        <p:blipFill>
          <a:blip r:embed="rId1"/>
          <a:stretch/>
        </p:blipFill>
        <p:spPr>
          <a:xfrm>
            <a:off x="1187280" y="1484280"/>
            <a:ext cx="741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4DF7-9E45-4BD1-82A0-0029EBF0155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70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57FF-E642-4BDF-A07C-F6DA2B9E73F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84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hang mechanikai hullám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2" name="Picture 3" descr="nyomashullam"/>
          <p:cNvPicPr/>
          <p:nvPr/>
        </p:nvPicPr>
        <p:blipFill>
          <a:blip r:embed="rId1"/>
          <a:stretch/>
        </p:blipFill>
        <p:spPr>
          <a:xfrm>
            <a:off x="1243080" y="3635280"/>
            <a:ext cx="7091280" cy="1019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595440" y="2406600"/>
            <a:ext cx="79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ngitudinális nyomáshullám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sűrűsödések és ritkulások tovaterjedése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átum helye 5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6CD5-340B-42EE-9877-DCD0ADDD37F1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58" name="Dia számának helye 6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4B90-9E05-40D9-BA77-AEC06C9A291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Érthetőség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vitel szempontjából elsődleges információtartalom: az ért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érthetőség megőrzéséhez elegendő átvinni a nagyenergiájú komponensek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5050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vetkezmény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33cc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SÁVSZÉLESSÉG MEGTAKARÍ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33cc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INFORMÁCIÓ CSÖKKE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HANGSPEKT"/>
          <p:cNvPicPr/>
          <p:nvPr/>
        </p:nvPicPr>
        <p:blipFill>
          <a:blip r:embed="rId1"/>
          <a:stretch/>
        </p:blipFill>
        <p:spPr>
          <a:xfrm>
            <a:off x="250920" y="2708280"/>
            <a:ext cx="4249800" cy="303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HANGTELJEL"/>
          <p:cNvPicPr/>
          <p:nvPr/>
        </p:nvPicPr>
        <p:blipFill>
          <a:blip r:embed="rId2"/>
          <a:stretch/>
        </p:blipFill>
        <p:spPr>
          <a:xfrm>
            <a:off x="4643280" y="2708280"/>
            <a:ext cx="42087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E8FF-B407-47B9-B164-D1868E2629D1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64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A171-521D-4B2D-98C1-04F1F7CC7D1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NALÓG J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6920" y="873000"/>
            <a:ext cx="8683560" cy="25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információt hordozó jel időben változó jel: időfüggvé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információt hordozó jel sávhatárolt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(Ez azt jelenti, hogy a jel jellemzőinek változási sebessége alulról és felülről is korlá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nalóg j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jel jellemzői (amplitúdója, illetve frekvenciája, vagy fázisa) bizonyos kijelölt alsó és felső határok között időben folytonosan változva minden értéket felvehet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484200" y="3429000"/>
            <a:ext cx="8175600" cy="2592000"/>
            <a:chOff x="484200" y="3429000"/>
            <a:chExt cx="8175600" cy="2592000"/>
          </a:xfrm>
        </p:grpSpPr>
        <p:sp>
          <p:nvSpPr>
            <p:cNvPr id="268" name="Line 5"/>
            <p:cNvSpPr/>
            <p:nvPr/>
          </p:nvSpPr>
          <p:spPr>
            <a:xfrm flipH="1" flipV="1">
              <a:off x="855360" y="3635280"/>
              <a:ext cx="9720" cy="21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69" name="Line 6"/>
            <p:cNvSpPr/>
            <p:nvPr/>
          </p:nvSpPr>
          <p:spPr>
            <a:xfrm>
              <a:off x="484200" y="5718240"/>
              <a:ext cx="347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714600" y="4024440"/>
              <a:ext cx="29304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3781440" y="5718240"/>
              <a:ext cx="40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25480" y="3549600"/>
              <a:ext cx="889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3" name="Text Box 10"/>
            <p:cNvSpPr/>
            <p:nvPr/>
          </p:nvSpPr>
          <p:spPr>
            <a:xfrm>
              <a:off x="2524320" y="3787560"/>
              <a:ext cx="127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4" name="Freeform 11"/>
            <p:cNvSpPr/>
            <p:nvPr/>
          </p:nvSpPr>
          <p:spPr>
            <a:xfrm>
              <a:off x="943200" y="3978360"/>
              <a:ext cx="2178000" cy="1485720"/>
            </a:xfrm>
            <a:custGeom>
              <a:avLst/>
              <a:gdLst>
                <a:gd name="textAreaLeft" fmla="*/ 0 w 2178000"/>
                <a:gd name="textAreaRight" fmla="*/ 2178360 w 217800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558" h="408">
                  <a:moveTo>
                    <a:pt x="0" y="283"/>
                  </a:moveTo>
                  <a:cubicBezTo>
                    <a:pt x="3" y="208"/>
                    <a:pt x="6" y="134"/>
                    <a:pt x="9" y="127"/>
                  </a:cubicBezTo>
                  <a:cubicBezTo>
                    <a:pt x="12" y="120"/>
                    <a:pt x="12" y="255"/>
                    <a:pt x="18" y="238"/>
                  </a:cubicBezTo>
                  <a:cubicBezTo>
                    <a:pt x="24" y="221"/>
                    <a:pt x="38" y="1"/>
                    <a:pt x="45" y="25"/>
                  </a:cubicBezTo>
                  <a:cubicBezTo>
                    <a:pt x="52" y="49"/>
                    <a:pt x="57" y="356"/>
                    <a:pt x="60" y="382"/>
                  </a:cubicBezTo>
                  <a:cubicBezTo>
                    <a:pt x="63" y="408"/>
                    <a:pt x="61" y="201"/>
                    <a:pt x="66" y="181"/>
                  </a:cubicBezTo>
                  <a:cubicBezTo>
                    <a:pt x="71" y="161"/>
                    <a:pt x="82" y="262"/>
                    <a:pt x="93" y="259"/>
                  </a:cubicBezTo>
                  <a:cubicBezTo>
                    <a:pt x="104" y="256"/>
                    <a:pt x="123" y="153"/>
                    <a:pt x="132" y="163"/>
                  </a:cubicBezTo>
                  <a:cubicBezTo>
                    <a:pt x="141" y="173"/>
                    <a:pt x="145" y="338"/>
                    <a:pt x="150" y="322"/>
                  </a:cubicBezTo>
                  <a:cubicBezTo>
                    <a:pt x="155" y="306"/>
                    <a:pt x="160" y="93"/>
                    <a:pt x="165" y="67"/>
                  </a:cubicBezTo>
                  <a:cubicBezTo>
                    <a:pt x="170" y="41"/>
                    <a:pt x="179" y="169"/>
                    <a:pt x="183" y="166"/>
                  </a:cubicBezTo>
                  <a:cubicBezTo>
                    <a:pt x="187" y="163"/>
                    <a:pt x="187" y="20"/>
                    <a:pt x="189" y="49"/>
                  </a:cubicBezTo>
                  <a:cubicBezTo>
                    <a:pt x="191" y="78"/>
                    <a:pt x="190" y="310"/>
                    <a:pt x="195" y="343"/>
                  </a:cubicBezTo>
                  <a:cubicBezTo>
                    <a:pt x="200" y="376"/>
                    <a:pt x="212" y="252"/>
                    <a:pt x="216" y="250"/>
                  </a:cubicBezTo>
                  <a:cubicBezTo>
                    <a:pt x="220" y="248"/>
                    <a:pt x="210" y="367"/>
                    <a:pt x="219" y="331"/>
                  </a:cubicBezTo>
                  <a:cubicBezTo>
                    <a:pt x="228" y="295"/>
                    <a:pt x="258" y="63"/>
                    <a:pt x="270" y="34"/>
                  </a:cubicBezTo>
                  <a:cubicBezTo>
                    <a:pt x="282" y="5"/>
                    <a:pt x="286" y="157"/>
                    <a:pt x="291" y="157"/>
                  </a:cubicBezTo>
                  <a:cubicBezTo>
                    <a:pt x="296" y="157"/>
                    <a:pt x="297" y="40"/>
                    <a:pt x="303" y="37"/>
                  </a:cubicBezTo>
                  <a:cubicBezTo>
                    <a:pt x="309" y="34"/>
                    <a:pt x="321" y="142"/>
                    <a:pt x="330" y="139"/>
                  </a:cubicBezTo>
                  <a:cubicBezTo>
                    <a:pt x="339" y="136"/>
                    <a:pt x="351" y="20"/>
                    <a:pt x="360" y="19"/>
                  </a:cubicBezTo>
                  <a:cubicBezTo>
                    <a:pt x="369" y="18"/>
                    <a:pt x="378" y="130"/>
                    <a:pt x="387" y="133"/>
                  </a:cubicBezTo>
                  <a:cubicBezTo>
                    <a:pt x="396" y="136"/>
                    <a:pt x="404" y="0"/>
                    <a:pt x="414" y="37"/>
                  </a:cubicBezTo>
                  <a:cubicBezTo>
                    <a:pt x="424" y="74"/>
                    <a:pt x="440" y="334"/>
                    <a:pt x="450" y="358"/>
                  </a:cubicBezTo>
                  <a:cubicBezTo>
                    <a:pt x="460" y="382"/>
                    <a:pt x="468" y="193"/>
                    <a:pt x="474" y="178"/>
                  </a:cubicBezTo>
                  <a:cubicBezTo>
                    <a:pt x="480" y="163"/>
                    <a:pt x="478" y="292"/>
                    <a:pt x="486" y="265"/>
                  </a:cubicBezTo>
                  <a:cubicBezTo>
                    <a:pt x="494" y="238"/>
                    <a:pt x="510" y="23"/>
                    <a:pt x="522" y="13"/>
                  </a:cubicBezTo>
                  <a:cubicBezTo>
                    <a:pt x="534" y="3"/>
                    <a:pt x="552" y="171"/>
                    <a:pt x="558" y="20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>
              <a:off x="747720" y="5403960"/>
              <a:ext cx="29322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2579760" y="5413320"/>
              <a:ext cx="124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 flipH="1" flipV="1">
              <a:off x="5333760" y="3611160"/>
              <a:ext cx="9720" cy="22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4962600" y="5694480"/>
              <a:ext cx="347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H="1">
              <a:off x="5624640" y="4078080"/>
              <a:ext cx="7920" cy="176868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80" name="Text Box 17"/>
            <p:cNvSpPr/>
            <p:nvPr/>
          </p:nvSpPr>
          <p:spPr>
            <a:xfrm>
              <a:off x="8259840" y="5694480"/>
              <a:ext cx="39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5226120" y="3429000"/>
              <a:ext cx="1233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Spektrum 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7510680" y="5805360"/>
              <a:ext cx="736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frekv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 flipH="1" flipV="1">
              <a:off x="7821720" y="4092120"/>
              <a:ext cx="7920" cy="176868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5315040" y="5802120"/>
              <a:ext cx="124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frekv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85" name="Freeform 22"/>
            <p:cNvSpPr/>
            <p:nvPr/>
          </p:nvSpPr>
          <p:spPr>
            <a:xfrm>
              <a:off x="5397480" y="4322880"/>
              <a:ext cx="2616480" cy="366480"/>
            </a:xfrm>
            <a:custGeom>
              <a:avLst/>
              <a:gdLst>
                <a:gd name="textAreaLeft" fmla="*/ 0 w 2616480"/>
                <a:gd name="textAreaRight" fmla="*/ 2616840 w 2616480"/>
                <a:gd name="textAreaTop" fmla="*/ 0 h 366480"/>
                <a:gd name="textAreaBottom" fmla="*/ 366480 h 366480"/>
              </a:gdLst>
              <a:ahLst/>
              <a:rect l="textAreaLeft" t="textAreaTop" r="textAreaRight" b="textAreaBottom"/>
              <a:pathLst>
                <a:path w="980" h="101">
                  <a:moveTo>
                    <a:pt x="0" y="23"/>
                  </a:moveTo>
                  <a:cubicBezTo>
                    <a:pt x="19" y="12"/>
                    <a:pt x="39" y="1"/>
                    <a:pt x="90" y="2"/>
                  </a:cubicBezTo>
                  <a:cubicBezTo>
                    <a:pt x="141" y="3"/>
                    <a:pt x="242" y="29"/>
                    <a:pt x="309" y="29"/>
                  </a:cubicBezTo>
                  <a:cubicBezTo>
                    <a:pt x="376" y="29"/>
                    <a:pt x="398" y="4"/>
                    <a:pt x="495" y="2"/>
                  </a:cubicBezTo>
                  <a:cubicBezTo>
                    <a:pt x="592" y="0"/>
                    <a:pt x="816" y="3"/>
                    <a:pt x="894" y="17"/>
                  </a:cubicBezTo>
                  <a:cubicBezTo>
                    <a:pt x="972" y="31"/>
                    <a:pt x="952" y="72"/>
                    <a:pt x="966" y="86"/>
                  </a:cubicBezTo>
                  <a:cubicBezTo>
                    <a:pt x="980" y="100"/>
                    <a:pt x="978" y="100"/>
                    <a:pt x="978" y="10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F044-AF0D-44DD-BA9D-FE6E6620730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A4AD-F249-4F6C-83D8-E6B21FC8976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DIGITÁLIS J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93400" y="870120"/>
            <a:ext cx="8569080" cy="114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igitális j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jel jellemzői (amplitúdója, illetve frekvenciája, vagy fázisa)  csak kijelölt diszkrét értékeket  vehetnek fel, az egyes állapotok közötti változás ugrásszer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egyes állapotokhoz logikai értékeket rendelünk (pl „0”, „1”, „00”, „01”, „10”, „11”,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 csak két értéket engedünk meg a változási tartományban: a jel binár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 több értéket jelölünk ki : a jel n-á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olaritását tekintve a jel lehet unipoláris, poláris, vagy bipolá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893880" y="3274920"/>
            <a:ext cx="3539880" cy="64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2859120" y="4575240"/>
            <a:ext cx="27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0" y="4070520"/>
            <a:ext cx="35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7240" y="4441680"/>
            <a:ext cx="25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5864400" y="4587840"/>
            <a:ext cx="27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005280" y="4083120"/>
            <a:ext cx="35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8869320" y="4570560"/>
            <a:ext cx="27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117360" y="4673520"/>
            <a:ext cx="2897280" cy="1456920"/>
            <a:chOff x="117360" y="4673520"/>
            <a:chExt cx="2897280" cy="1456920"/>
          </a:xfrm>
        </p:grpSpPr>
        <p:sp>
          <p:nvSpPr>
            <p:cNvPr id="298" name="Line 12"/>
            <p:cNvSpPr/>
            <p:nvPr/>
          </p:nvSpPr>
          <p:spPr>
            <a:xfrm flipH="1" flipV="1">
              <a:off x="477720" y="4921200"/>
              <a:ext cx="648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449280" y="5523480"/>
              <a:ext cx="2565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492120" y="4908240"/>
              <a:ext cx="61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2057400" y="4911480"/>
              <a:ext cx="87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>
              <a:off x="417600" y="5908680"/>
              <a:ext cx="24066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2104920" y="5914800"/>
              <a:ext cx="8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4" name="Freeform 18"/>
            <p:cNvSpPr/>
            <p:nvPr/>
          </p:nvSpPr>
          <p:spPr>
            <a:xfrm>
              <a:off x="479520" y="5167080"/>
              <a:ext cx="2328840" cy="747720"/>
            </a:xfrm>
            <a:custGeom>
              <a:avLst/>
              <a:gdLst>
                <a:gd name="textAreaLeft" fmla="*/ 0 w 2328840"/>
                <a:gd name="textAreaRight" fmla="*/ 2329200 w 232884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2132" h="876">
                  <a:moveTo>
                    <a:pt x="0" y="4"/>
                  </a:moveTo>
                  <a:lnTo>
                    <a:pt x="444" y="4"/>
                  </a:lnTo>
                  <a:lnTo>
                    <a:pt x="444" y="872"/>
                  </a:lnTo>
                  <a:lnTo>
                    <a:pt x="900" y="872"/>
                  </a:lnTo>
                  <a:lnTo>
                    <a:pt x="896" y="0"/>
                  </a:lnTo>
                  <a:lnTo>
                    <a:pt x="1352" y="0"/>
                  </a:lnTo>
                  <a:lnTo>
                    <a:pt x="1804" y="0"/>
                  </a:lnTo>
                  <a:lnTo>
                    <a:pt x="1804" y="876"/>
                  </a:lnTo>
                  <a:lnTo>
                    <a:pt x="2132" y="87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117360" y="5043240"/>
              <a:ext cx="35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174600" y="5414760"/>
              <a:ext cx="257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155520" y="5805360"/>
              <a:ext cx="3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579240" y="530208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09" name="Text Box 23"/>
            <p:cNvSpPr/>
            <p:nvPr/>
          </p:nvSpPr>
          <p:spPr>
            <a:xfrm>
              <a:off x="1585800" y="529740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10" name="Text Box 24"/>
            <p:cNvSpPr/>
            <p:nvPr/>
          </p:nvSpPr>
          <p:spPr>
            <a:xfrm>
              <a:off x="2068560" y="529740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11" name="Text Box 25"/>
            <p:cNvSpPr/>
            <p:nvPr/>
          </p:nvSpPr>
          <p:spPr>
            <a:xfrm>
              <a:off x="1084320" y="553392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12" name="Text Box 26"/>
            <p:cNvSpPr/>
            <p:nvPr/>
          </p:nvSpPr>
          <p:spPr>
            <a:xfrm>
              <a:off x="2541600" y="553860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13" name="Text Box 27"/>
            <p:cNvSpPr/>
            <p:nvPr/>
          </p:nvSpPr>
          <p:spPr>
            <a:xfrm>
              <a:off x="990720" y="4673520"/>
              <a:ext cx="86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Bipoláris jel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14" name="Line 28"/>
            <p:cNvSpPr/>
            <p:nvPr/>
          </p:nvSpPr>
          <p:spPr>
            <a:xfrm>
              <a:off x="380880" y="5162400"/>
              <a:ext cx="24066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  <p:sp>
        <p:nvSpPr>
          <p:cNvPr id="315" name="Line 29"/>
          <p:cNvSpPr/>
          <p:nvPr/>
        </p:nvSpPr>
        <p:spPr>
          <a:xfrm flipH="1" flipV="1">
            <a:off x="3429000" y="4227480"/>
            <a:ext cx="648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16" name="Line 30"/>
          <p:cNvSpPr/>
          <p:nvPr/>
        </p:nvSpPr>
        <p:spPr>
          <a:xfrm>
            <a:off x="3400560" y="4830120"/>
            <a:ext cx="2565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3443400" y="4214880"/>
            <a:ext cx="61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mpl.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5008680" y="4218120"/>
            <a:ext cx="87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Max. ampl.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19" name="Line 33"/>
          <p:cNvSpPr/>
          <p:nvPr/>
        </p:nvSpPr>
        <p:spPr>
          <a:xfrm>
            <a:off x="3368520" y="5214960"/>
            <a:ext cx="240696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5056200" y="5221440"/>
            <a:ext cx="8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Min. ampl.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3125880" y="4721400"/>
            <a:ext cx="25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3106800" y="5111640"/>
            <a:ext cx="3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4035600" y="4594320"/>
            <a:ext cx="26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5484960" y="4608360"/>
            <a:ext cx="26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3554280" y="46069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4521240" y="483084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7" name="Text Box 41"/>
          <p:cNvSpPr/>
          <p:nvPr/>
        </p:nvSpPr>
        <p:spPr>
          <a:xfrm>
            <a:off x="3898800" y="39625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oláris jel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8" name="Freeform 42"/>
          <p:cNvSpPr/>
          <p:nvPr/>
        </p:nvSpPr>
        <p:spPr>
          <a:xfrm>
            <a:off x="3425760" y="4471920"/>
            <a:ext cx="2333520" cy="74772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1470" h="471">
                <a:moveTo>
                  <a:pt x="0" y="0"/>
                </a:moveTo>
                <a:lnTo>
                  <a:pt x="309" y="3"/>
                </a:lnTo>
                <a:lnTo>
                  <a:pt x="315" y="225"/>
                </a:lnTo>
                <a:lnTo>
                  <a:pt x="621" y="225"/>
                </a:lnTo>
                <a:lnTo>
                  <a:pt x="624" y="471"/>
                </a:lnTo>
                <a:lnTo>
                  <a:pt x="939" y="468"/>
                </a:lnTo>
                <a:lnTo>
                  <a:pt x="936" y="228"/>
                </a:lnTo>
                <a:lnTo>
                  <a:pt x="936" y="3"/>
                </a:lnTo>
                <a:lnTo>
                  <a:pt x="1242" y="3"/>
                </a:lnTo>
                <a:lnTo>
                  <a:pt x="1245" y="225"/>
                </a:lnTo>
                <a:lnTo>
                  <a:pt x="1470" y="22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9" name="Text Box 43"/>
          <p:cNvSpPr/>
          <p:nvPr/>
        </p:nvSpPr>
        <p:spPr>
          <a:xfrm>
            <a:off x="5032440" y="461340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0" name="Line 44"/>
          <p:cNvSpPr/>
          <p:nvPr/>
        </p:nvSpPr>
        <p:spPr>
          <a:xfrm>
            <a:off x="3351240" y="4483080"/>
            <a:ext cx="240660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grpSp>
        <p:nvGrpSpPr>
          <p:cNvPr id="331" name="Group 45"/>
          <p:cNvGrpSpPr/>
          <p:nvPr/>
        </p:nvGrpSpPr>
        <p:grpSpPr>
          <a:xfrm>
            <a:off x="271440" y="3670200"/>
            <a:ext cx="2625840" cy="1116000"/>
            <a:chOff x="271440" y="3670200"/>
            <a:chExt cx="2625840" cy="1116000"/>
          </a:xfrm>
        </p:grpSpPr>
        <p:sp>
          <p:nvSpPr>
            <p:cNvPr id="332" name="Line 46"/>
            <p:cNvSpPr/>
            <p:nvPr/>
          </p:nvSpPr>
          <p:spPr>
            <a:xfrm flipH="1" flipV="1">
              <a:off x="360360" y="3948120"/>
              <a:ext cx="144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33" name="Line 47"/>
            <p:cNvSpPr/>
            <p:nvPr/>
          </p:nvSpPr>
          <p:spPr>
            <a:xfrm>
              <a:off x="331920" y="4551480"/>
              <a:ext cx="2565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34" name="Text Box 48"/>
            <p:cNvSpPr/>
            <p:nvPr/>
          </p:nvSpPr>
          <p:spPr>
            <a:xfrm>
              <a:off x="374760" y="3935520"/>
              <a:ext cx="61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35" name="Text Box 49"/>
            <p:cNvSpPr/>
            <p:nvPr/>
          </p:nvSpPr>
          <p:spPr>
            <a:xfrm>
              <a:off x="1940040" y="3938760"/>
              <a:ext cx="87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36" name="Line 50"/>
            <p:cNvSpPr/>
            <p:nvPr/>
          </p:nvSpPr>
          <p:spPr>
            <a:xfrm>
              <a:off x="271440" y="4554360"/>
              <a:ext cx="24066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37" name="Text Box 51"/>
            <p:cNvSpPr/>
            <p:nvPr/>
          </p:nvSpPr>
          <p:spPr>
            <a:xfrm>
              <a:off x="1778040" y="4570560"/>
              <a:ext cx="8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38" name="Text Box 52"/>
            <p:cNvSpPr/>
            <p:nvPr/>
          </p:nvSpPr>
          <p:spPr>
            <a:xfrm>
              <a:off x="452520" y="423864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39" name="Text Box 53"/>
            <p:cNvSpPr/>
            <p:nvPr/>
          </p:nvSpPr>
          <p:spPr>
            <a:xfrm>
              <a:off x="1468440" y="423864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40" name="Text Box 54"/>
            <p:cNvSpPr/>
            <p:nvPr/>
          </p:nvSpPr>
          <p:spPr>
            <a:xfrm>
              <a:off x="1941480" y="423864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41" name="Text Box 55"/>
            <p:cNvSpPr/>
            <p:nvPr/>
          </p:nvSpPr>
          <p:spPr>
            <a:xfrm>
              <a:off x="933480" y="424188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42" name="Text Box 56"/>
            <p:cNvSpPr/>
            <p:nvPr/>
          </p:nvSpPr>
          <p:spPr>
            <a:xfrm>
              <a:off x="2414520" y="4218120"/>
              <a:ext cx="2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43" name="Freeform 57"/>
            <p:cNvSpPr/>
            <p:nvPr/>
          </p:nvSpPr>
          <p:spPr>
            <a:xfrm>
              <a:off x="361800" y="4176720"/>
              <a:ext cx="2328840" cy="376200"/>
            </a:xfrm>
            <a:custGeom>
              <a:avLst/>
              <a:gdLst>
                <a:gd name="textAreaLeft" fmla="*/ 0 w 2328840"/>
                <a:gd name="textAreaRight" fmla="*/ 2328840 w 23288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67" h="237">
                  <a:moveTo>
                    <a:pt x="0" y="6"/>
                  </a:moveTo>
                  <a:lnTo>
                    <a:pt x="303" y="6"/>
                  </a:lnTo>
                  <a:lnTo>
                    <a:pt x="306" y="237"/>
                  </a:lnTo>
                  <a:lnTo>
                    <a:pt x="615" y="234"/>
                  </a:lnTo>
                  <a:lnTo>
                    <a:pt x="615" y="6"/>
                  </a:lnTo>
                  <a:lnTo>
                    <a:pt x="1236" y="0"/>
                  </a:lnTo>
                  <a:lnTo>
                    <a:pt x="1242" y="234"/>
                  </a:lnTo>
                  <a:lnTo>
                    <a:pt x="1467" y="23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44" name="Text Box 58"/>
            <p:cNvSpPr/>
            <p:nvPr/>
          </p:nvSpPr>
          <p:spPr>
            <a:xfrm>
              <a:off x="825480" y="367020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nipoláris jel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45" name="Line 59"/>
            <p:cNvSpPr/>
            <p:nvPr/>
          </p:nvSpPr>
          <p:spPr>
            <a:xfrm>
              <a:off x="287280" y="4183200"/>
              <a:ext cx="24066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  <p:sp>
        <p:nvSpPr>
          <p:cNvPr id="346" name="Text Box 60"/>
          <p:cNvSpPr/>
          <p:nvPr/>
        </p:nvSpPr>
        <p:spPr>
          <a:xfrm>
            <a:off x="6091200" y="4929120"/>
            <a:ext cx="3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-1/3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grpSp>
        <p:nvGrpSpPr>
          <p:cNvPr id="347" name="Group 61"/>
          <p:cNvGrpSpPr/>
          <p:nvPr/>
        </p:nvGrpSpPr>
        <p:grpSpPr>
          <a:xfrm>
            <a:off x="6110280" y="3548160"/>
            <a:ext cx="2927520" cy="1985760"/>
            <a:chOff x="6110280" y="3548160"/>
            <a:chExt cx="2927520" cy="1985760"/>
          </a:xfrm>
        </p:grpSpPr>
        <p:sp>
          <p:nvSpPr>
            <p:cNvPr id="348" name="Line 62"/>
            <p:cNvSpPr/>
            <p:nvPr/>
          </p:nvSpPr>
          <p:spPr>
            <a:xfrm flipH="1" flipV="1">
              <a:off x="6489720" y="4248000"/>
              <a:ext cx="648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49" name="Line 63"/>
            <p:cNvSpPr/>
            <p:nvPr/>
          </p:nvSpPr>
          <p:spPr>
            <a:xfrm>
              <a:off x="6472080" y="4869000"/>
              <a:ext cx="25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0" name="Text Box 64"/>
            <p:cNvSpPr/>
            <p:nvPr/>
          </p:nvSpPr>
          <p:spPr>
            <a:xfrm>
              <a:off x="6475320" y="4102200"/>
              <a:ext cx="61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1" name="Text Box 65"/>
            <p:cNvSpPr/>
            <p:nvPr/>
          </p:nvSpPr>
          <p:spPr>
            <a:xfrm>
              <a:off x="8069400" y="4238640"/>
              <a:ext cx="87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ax. 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2" name="Line 66"/>
            <p:cNvSpPr/>
            <p:nvPr/>
          </p:nvSpPr>
          <p:spPr>
            <a:xfrm>
              <a:off x="6431040" y="5297400"/>
              <a:ext cx="240660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3" name="Text Box 67"/>
            <p:cNvSpPr/>
            <p:nvPr/>
          </p:nvSpPr>
          <p:spPr>
            <a:xfrm>
              <a:off x="8116920" y="5241960"/>
              <a:ext cx="8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. ampl.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4" name="Text Box 68"/>
            <p:cNvSpPr/>
            <p:nvPr/>
          </p:nvSpPr>
          <p:spPr>
            <a:xfrm>
              <a:off x="6129360" y="4370400"/>
              <a:ext cx="35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5" name="Text Box 69"/>
            <p:cNvSpPr/>
            <p:nvPr/>
          </p:nvSpPr>
          <p:spPr>
            <a:xfrm>
              <a:off x="6186600" y="4741920"/>
              <a:ext cx="257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6" name="Text Box 70"/>
            <p:cNvSpPr/>
            <p:nvPr/>
          </p:nvSpPr>
          <p:spPr>
            <a:xfrm>
              <a:off x="6167520" y="5132520"/>
              <a:ext cx="3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7" name="Text Box 71"/>
            <p:cNvSpPr/>
            <p:nvPr/>
          </p:nvSpPr>
          <p:spPr>
            <a:xfrm>
              <a:off x="6567480" y="4438800"/>
              <a:ext cx="34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8" name="Text Box 72"/>
            <p:cNvSpPr/>
            <p:nvPr/>
          </p:nvSpPr>
          <p:spPr>
            <a:xfrm>
              <a:off x="7526160" y="4848120"/>
              <a:ext cx="366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59" name="Text Box 73"/>
            <p:cNvSpPr/>
            <p:nvPr/>
          </p:nvSpPr>
          <p:spPr>
            <a:xfrm>
              <a:off x="8047080" y="4519440"/>
              <a:ext cx="35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0" name="Text Box 74"/>
            <p:cNvSpPr/>
            <p:nvPr/>
          </p:nvSpPr>
          <p:spPr>
            <a:xfrm>
              <a:off x="7067520" y="507060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1" name="Text Box 75"/>
            <p:cNvSpPr/>
            <p:nvPr/>
          </p:nvSpPr>
          <p:spPr>
            <a:xfrm>
              <a:off x="8553600" y="4865760"/>
              <a:ext cx="26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2" name="Text Box 76"/>
            <p:cNvSpPr/>
            <p:nvPr/>
          </p:nvSpPr>
          <p:spPr>
            <a:xfrm>
              <a:off x="6964200" y="354816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n-áris jel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3" name="Line 77"/>
            <p:cNvSpPr/>
            <p:nvPr/>
          </p:nvSpPr>
          <p:spPr>
            <a:xfrm>
              <a:off x="6402240" y="4437000"/>
              <a:ext cx="2406960" cy="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4" name="Line 78"/>
            <p:cNvSpPr/>
            <p:nvPr/>
          </p:nvSpPr>
          <p:spPr>
            <a:xfrm>
              <a:off x="6464160" y="4719600"/>
              <a:ext cx="2433600" cy="144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5" name="Line 79"/>
            <p:cNvSpPr/>
            <p:nvPr/>
          </p:nvSpPr>
          <p:spPr>
            <a:xfrm>
              <a:off x="6450120" y="5010120"/>
              <a:ext cx="2433600" cy="144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6" name="Line 80"/>
            <p:cNvSpPr/>
            <p:nvPr/>
          </p:nvSpPr>
          <p:spPr>
            <a:xfrm>
              <a:off x="7953480" y="3990960"/>
              <a:ext cx="0" cy="15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7" name="Freeform 81"/>
            <p:cNvSpPr/>
            <p:nvPr/>
          </p:nvSpPr>
          <p:spPr>
            <a:xfrm>
              <a:off x="6486480" y="4433760"/>
              <a:ext cx="2424240" cy="866880"/>
            </a:xfrm>
            <a:custGeom>
              <a:avLst/>
              <a:gdLst>
                <a:gd name="textAreaLeft" fmla="*/ 0 w 2424240"/>
                <a:gd name="textAreaRight" fmla="*/ 2424600 w 242424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527" h="546">
                  <a:moveTo>
                    <a:pt x="0" y="0"/>
                  </a:moveTo>
                  <a:lnTo>
                    <a:pt x="309" y="0"/>
                  </a:lnTo>
                  <a:lnTo>
                    <a:pt x="309" y="546"/>
                  </a:lnTo>
                  <a:lnTo>
                    <a:pt x="621" y="546"/>
                  </a:lnTo>
                  <a:lnTo>
                    <a:pt x="621" y="369"/>
                  </a:lnTo>
                  <a:lnTo>
                    <a:pt x="921" y="369"/>
                  </a:lnTo>
                  <a:lnTo>
                    <a:pt x="921" y="186"/>
                  </a:lnTo>
                  <a:lnTo>
                    <a:pt x="1242" y="186"/>
                  </a:lnTo>
                  <a:lnTo>
                    <a:pt x="1242" y="0"/>
                  </a:lnTo>
                  <a:lnTo>
                    <a:pt x="152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8" name="Text Box 82"/>
            <p:cNvSpPr/>
            <p:nvPr/>
          </p:nvSpPr>
          <p:spPr>
            <a:xfrm>
              <a:off x="6110280" y="45626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1/3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369" name="Text Box 83"/>
            <p:cNvSpPr/>
            <p:nvPr/>
          </p:nvSpPr>
          <p:spPr>
            <a:xfrm>
              <a:off x="8516880" y="4444920"/>
              <a:ext cx="34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8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átum helye 1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D802-D34B-4A94-98CD-C46D77EDB9F5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71" name="Dia számának helye 2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208-8250-4B3F-B43D-62F1B7BB56B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422280" y="3635280"/>
            <a:ext cx="1600200" cy="495360"/>
          </a:xfrm>
          <a:prstGeom prst="wedgeRoundRectCallout">
            <a:avLst>
              <a:gd name="adj1" fmla="val 197819"/>
              <a:gd name="adj2" fmla="val 75000"/>
              <a:gd name="adj3" fmla="val 16667"/>
            </a:avLst>
          </a:prstGeom>
          <a:solidFill>
            <a:srgbClr val="f6b3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458640" y="2579760"/>
            <a:ext cx="1600200" cy="495360"/>
          </a:xfrm>
          <a:prstGeom prst="wedgeRoundRectCallout">
            <a:avLst>
              <a:gd name="adj1" fmla="val 200199"/>
              <a:gd name="adj2" fmla="val 18587"/>
              <a:gd name="adj3" fmla="val 16667"/>
            </a:avLst>
          </a:prstGeom>
          <a:solidFill>
            <a:srgbClr val="f6b3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380880" y="4648320"/>
            <a:ext cx="1600200" cy="495360"/>
          </a:xfrm>
          <a:prstGeom prst="wedgeRoundRectCallout">
            <a:avLst>
              <a:gd name="adj1" fmla="val 197819"/>
              <a:gd name="adj2" fmla="val 75000"/>
              <a:gd name="adj3" fmla="val 16667"/>
            </a:avLst>
          </a:prstGeom>
          <a:solidFill>
            <a:srgbClr val="f6b3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DIGITALIZÁLÁS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(ANALÓG-DIGITÁLIS ÁTALAKÍTÁS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208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alóg jelből digitális jelet például pulzus- kód modulációval hozhatunk létre, ennek lépés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ávhatárol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ntavét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vantál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ódolá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4325760" y="1427040"/>
            <a:ext cx="4455360" cy="4552200"/>
            <a:chOff x="4325760" y="1427040"/>
            <a:chExt cx="4455360" cy="4552200"/>
          </a:xfrm>
        </p:grpSpPr>
        <p:grpSp>
          <p:nvGrpSpPr>
            <p:cNvPr id="378" name="Group 8"/>
            <p:cNvGrpSpPr/>
            <p:nvPr/>
          </p:nvGrpSpPr>
          <p:grpSpPr>
            <a:xfrm>
              <a:off x="4331160" y="4019040"/>
              <a:ext cx="3467880" cy="282240"/>
              <a:chOff x="4331160" y="4019040"/>
              <a:chExt cx="3467880" cy="282240"/>
            </a:xfrm>
          </p:grpSpPr>
          <p:sp>
            <p:nvSpPr>
              <p:cNvPr id="379" name="Line 9"/>
              <p:cNvSpPr/>
              <p:nvPr/>
            </p:nvSpPr>
            <p:spPr>
              <a:xfrm>
                <a:off x="5242680" y="4273200"/>
                <a:ext cx="255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0" name="Oval 10"/>
              <p:cNvSpPr/>
              <p:nvPr/>
            </p:nvSpPr>
            <p:spPr>
              <a:xfrm>
                <a:off x="5722200" y="424332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1" name="Oval 11"/>
              <p:cNvSpPr/>
              <p:nvPr/>
            </p:nvSpPr>
            <p:spPr>
              <a:xfrm>
                <a:off x="6134760" y="424836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2" name="Oval 12"/>
              <p:cNvSpPr/>
              <p:nvPr/>
            </p:nvSpPr>
            <p:spPr>
              <a:xfrm>
                <a:off x="6541560" y="4253760"/>
                <a:ext cx="4896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3" name="Oval 13"/>
              <p:cNvSpPr/>
              <p:nvPr/>
            </p:nvSpPr>
            <p:spPr>
              <a:xfrm>
                <a:off x="6955920" y="424476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4" name="Oval 14"/>
              <p:cNvSpPr/>
              <p:nvPr/>
            </p:nvSpPr>
            <p:spPr>
              <a:xfrm>
                <a:off x="7366680" y="424332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5" name="Text Box 15"/>
              <p:cNvSpPr/>
              <p:nvPr/>
            </p:nvSpPr>
            <p:spPr>
              <a:xfrm>
                <a:off x="5606640" y="4019040"/>
                <a:ext cx="34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6" name="Text Box 16"/>
              <p:cNvSpPr/>
              <p:nvPr/>
            </p:nvSpPr>
            <p:spPr>
              <a:xfrm>
                <a:off x="5984280" y="4032720"/>
                <a:ext cx="35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7" name="Text Box 17"/>
              <p:cNvSpPr/>
              <p:nvPr/>
            </p:nvSpPr>
            <p:spPr>
              <a:xfrm>
                <a:off x="6390000" y="4020480"/>
                <a:ext cx="34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8" name="Text Box 18"/>
              <p:cNvSpPr/>
              <p:nvPr/>
            </p:nvSpPr>
            <p:spPr>
              <a:xfrm>
                <a:off x="6795360" y="4029120"/>
                <a:ext cx="34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89" name="Text Box 19"/>
              <p:cNvSpPr/>
              <p:nvPr/>
            </p:nvSpPr>
            <p:spPr>
              <a:xfrm>
                <a:off x="7222320" y="4022640"/>
                <a:ext cx="34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4331160" y="4040280"/>
                <a:ext cx="129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Kvantált értékek: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  <p:grpSp>
          <p:nvGrpSpPr>
            <p:cNvPr id="391" name="Group 21"/>
            <p:cNvGrpSpPr/>
            <p:nvPr/>
          </p:nvGrpSpPr>
          <p:grpSpPr>
            <a:xfrm>
              <a:off x="4334760" y="4827240"/>
              <a:ext cx="3468240" cy="279000"/>
              <a:chOff x="4334760" y="4827240"/>
              <a:chExt cx="3468240" cy="279000"/>
            </a:xfrm>
          </p:grpSpPr>
          <p:sp>
            <p:nvSpPr>
              <p:cNvPr id="392" name="Line 22"/>
              <p:cNvSpPr/>
              <p:nvPr/>
            </p:nvSpPr>
            <p:spPr>
              <a:xfrm>
                <a:off x="5246640" y="5077800"/>
                <a:ext cx="255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93" name="Oval 23"/>
              <p:cNvSpPr/>
              <p:nvPr/>
            </p:nvSpPr>
            <p:spPr>
              <a:xfrm>
                <a:off x="5725800" y="504792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6138720" y="5052960"/>
                <a:ext cx="48600" cy="4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95" name="Oval 25"/>
              <p:cNvSpPr/>
              <p:nvPr/>
            </p:nvSpPr>
            <p:spPr>
              <a:xfrm>
                <a:off x="6545520" y="505872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96" name="Oval 26"/>
              <p:cNvSpPr/>
              <p:nvPr/>
            </p:nvSpPr>
            <p:spPr>
              <a:xfrm>
                <a:off x="6959880" y="504972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97" name="Oval 27"/>
              <p:cNvSpPr/>
              <p:nvPr/>
            </p:nvSpPr>
            <p:spPr>
              <a:xfrm>
                <a:off x="7370640" y="504792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98" name="Text Box 28"/>
              <p:cNvSpPr/>
              <p:nvPr/>
            </p:nvSpPr>
            <p:spPr>
              <a:xfrm>
                <a:off x="5517720" y="4828680"/>
                <a:ext cx="483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101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399" name="Text Box 29"/>
              <p:cNvSpPr/>
              <p:nvPr/>
            </p:nvSpPr>
            <p:spPr>
              <a:xfrm>
                <a:off x="5928480" y="4827240"/>
                <a:ext cx="477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100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6339240" y="4830840"/>
                <a:ext cx="51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11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6739200" y="4834440"/>
                <a:ext cx="498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100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02" name="Text Box 32"/>
              <p:cNvSpPr/>
              <p:nvPr/>
            </p:nvSpPr>
            <p:spPr>
              <a:xfrm>
                <a:off x="7160760" y="4832280"/>
                <a:ext cx="532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01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03" name="Text Box 33"/>
              <p:cNvSpPr/>
              <p:nvPr/>
            </p:nvSpPr>
            <p:spPr>
              <a:xfrm>
                <a:off x="4334760" y="4844520"/>
                <a:ext cx="1291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Kódolt értékek: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  <p:grpSp>
          <p:nvGrpSpPr>
            <p:cNvPr id="404" name="Group 34"/>
            <p:cNvGrpSpPr/>
            <p:nvPr/>
          </p:nvGrpSpPr>
          <p:grpSpPr>
            <a:xfrm>
              <a:off x="4325760" y="5477760"/>
              <a:ext cx="3468240" cy="501480"/>
              <a:chOff x="4325760" y="5477760"/>
              <a:chExt cx="3468240" cy="501480"/>
            </a:xfrm>
          </p:grpSpPr>
          <p:sp>
            <p:nvSpPr>
              <p:cNvPr id="405" name="Line 35"/>
              <p:cNvSpPr/>
              <p:nvPr/>
            </p:nvSpPr>
            <p:spPr>
              <a:xfrm>
                <a:off x="5237640" y="5875200"/>
                <a:ext cx="255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06" name="Text Box 36"/>
              <p:cNvSpPr/>
              <p:nvPr/>
            </p:nvSpPr>
            <p:spPr>
              <a:xfrm>
                <a:off x="5508720" y="5477760"/>
                <a:ext cx="483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101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07" name="Text Box 37"/>
              <p:cNvSpPr/>
              <p:nvPr/>
            </p:nvSpPr>
            <p:spPr>
              <a:xfrm>
                <a:off x="5890680" y="5479200"/>
                <a:ext cx="477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100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08" name="Text Box 38"/>
              <p:cNvSpPr/>
              <p:nvPr/>
            </p:nvSpPr>
            <p:spPr>
              <a:xfrm>
                <a:off x="6295680" y="5482800"/>
                <a:ext cx="51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11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09" name="Text Box 39"/>
              <p:cNvSpPr/>
              <p:nvPr/>
            </p:nvSpPr>
            <p:spPr>
              <a:xfrm>
                <a:off x="6721200" y="5487840"/>
                <a:ext cx="498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100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0" name="Text Box 40"/>
              <p:cNvSpPr/>
              <p:nvPr/>
            </p:nvSpPr>
            <p:spPr>
              <a:xfrm>
                <a:off x="7131960" y="5487840"/>
                <a:ext cx="531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01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1" name="Text Box 41"/>
              <p:cNvSpPr/>
              <p:nvPr/>
            </p:nvSpPr>
            <p:spPr>
              <a:xfrm>
                <a:off x="4325760" y="564192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Kódolt bináris jelsorozat: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2" name="Line 42"/>
              <p:cNvSpPr/>
              <p:nvPr/>
            </p:nvSpPr>
            <p:spPr>
              <a:xfrm>
                <a:off x="5646240" y="5714640"/>
                <a:ext cx="0" cy="159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3" name="Line 43"/>
              <p:cNvSpPr/>
              <p:nvPr/>
            </p:nvSpPr>
            <p:spPr>
              <a:xfrm>
                <a:off x="5702400" y="5716080"/>
                <a:ext cx="0" cy="15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4" name="Line 44"/>
              <p:cNvSpPr/>
              <p:nvPr/>
            </p:nvSpPr>
            <p:spPr>
              <a:xfrm>
                <a:off x="5756760" y="5714640"/>
                <a:ext cx="0" cy="159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5" name="Line 45"/>
              <p:cNvSpPr/>
              <p:nvPr/>
            </p:nvSpPr>
            <p:spPr>
              <a:xfrm>
                <a:off x="5811120" y="5714640"/>
                <a:ext cx="0" cy="15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6" name="Line 46"/>
              <p:cNvSpPr/>
              <p:nvPr/>
            </p:nvSpPr>
            <p:spPr>
              <a:xfrm>
                <a:off x="6068160" y="5718240"/>
                <a:ext cx="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7" name="Line 47"/>
              <p:cNvSpPr/>
              <p:nvPr/>
            </p:nvSpPr>
            <p:spPr>
              <a:xfrm>
                <a:off x="6124320" y="5719680"/>
                <a:ext cx="0" cy="15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8" name="Line 48"/>
              <p:cNvSpPr/>
              <p:nvPr/>
            </p:nvSpPr>
            <p:spPr>
              <a:xfrm>
                <a:off x="6178320" y="5718240"/>
                <a:ext cx="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19" name="Line 49"/>
              <p:cNvSpPr/>
              <p:nvPr/>
            </p:nvSpPr>
            <p:spPr>
              <a:xfrm>
                <a:off x="6232680" y="5718240"/>
                <a:ext cx="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0" name="Line 50"/>
              <p:cNvSpPr/>
              <p:nvPr/>
            </p:nvSpPr>
            <p:spPr>
              <a:xfrm>
                <a:off x="6474960" y="5718240"/>
                <a:ext cx="0" cy="15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1" name="Line 51"/>
              <p:cNvSpPr/>
              <p:nvPr/>
            </p:nvSpPr>
            <p:spPr>
              <a:xfrm>
                <a:off x="6531120" y="5719680"/>
                <a:ext cx="0" cy="159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2" name="Line 52"/>
              <p:cNvSpPr/>
              <p:nvPr/>
            </p:nvSpPr>
            <p:spPr>
              <a:xfrm>
                <a:off x="6585480" y="5718240"/>
                <a:ext cx="0" cy="15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3" name="Line 53"/>
              <p:cNvSpPr/>
              <p:nvPr/>
            </p:nvSpPr>
            <p:spPr>
              <a:xfrm>
                <a:off x="6639480" y="5718240"/>
                <a:ext cx="0" cy="15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4" name="Line 54"/>
              <p:cNvSpPr/>
              <p:nvPr/>
            </p:nvSpPr>
            <p:spPr>
              <a:xfrm>
                <a:off x="6893280" y="5719680"/>
                <a:ext cx="0" cy="15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5" name="Line 55"/>
              <p:cNvSpPr/>
              <p:nvPr/>
            </p:nvSpPr>
            <p:spPr>
              <a:xfrm>
                <a:off x="6949080" y="5721480"/>
                <a:ext cx="0" cy="15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6" name="Line 56"/>
              <p:cNvSpPr/>
              <p:nvPr/>
            </p:nvSpPr>
            <p:spPr>
              <a:xfrm>
                <a:off x="7003440" y="5719680"/>
                <a:ext cx="0" cy="159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7" name="Line 57"/>
              <p:cNvSpPr/>
              <p:nvPr/>
            </p:nvSpPr>
            <p:spPr>
              <a:xfrm>
                <a:off x="7057800" y="5719680"/>
                <a:ext cx="0" cy="159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8" name="Line 58"/>
              <p:cNvSpPr/>
              <p:nvPr/>
            </p:nvSpPr>
            <p:spPr>
              <a:xfrm>
                <a:off x="7301880" y="5725080"/>
                <a:ext cx="0" cy="15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29" name="Line 59"/>
              <p:cNvSpPr/>
              <p:nvPr/>
            </p:nvSpPr>
            <p:spPr>
              <a:xfrm>
                <a:off x="7358040" y="5726880"/>
                <a:ext cx="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30" name="Line 60"/>
              <p:cNvSpPr/>
              <p:nvPr/>
            </p:nvSpPr>
            <p:spPr>
              <a:xfrm>
                <a:off x="7412040" y="5725080"/>
                <a:ext cx="0" cy="1591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31" name="Line 61"/>
              <p:cNvSpPr/>
              <p:nvPr/>
            </p:nvSpPr>
            <p:spPr>
              <a:xfrm>
                <a:off x="7466760" y="5725080"/>
                <a:ext cx="0" cy="15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  <p:grpSp>
          <p:nvGrpSpPr>
            <p:cNvPr id="432" name="Group 62"/>
            <p:cNvGrpSpPr/>
            <p:nvPr/>
          </p:nvGrpSpPr>
          <p:grpSpPr>
            <a:xfrm>
              <a:off x="4627800" y="1427040"/>
              <a:ext cx="4153320" cy="2286360"/>
              <a:chOff x="4627800" y="1427040"/>
              <a:chExt cx="4153320" cy="2286360"/>
            </a:xfrm>
          </p:grpSpPr>
          <p:sp>
            <p:nvSpPr>
              <p:cNvPr id="433" name="Line 63"/>
              <p:cNvSpPr/>
              <p:nvPr/>
            </p:nvSpPr>
            <p:spPr>
              <a:xfrm>
                <a:off x="5343840" y="1978560"/>
                <a:ext cx="2462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34" name="Line 64"/>
              <p:cNvSpPr/>
              <p:nvPr/>
            </p:nvSpPr>
            <p:spPr>
              <a:xfrm>
                <a:off x="5293080" y="2077560"/>
                <a:ext cx="2513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35" name="Line 65"/>
              <p:cNvSpPr/>
              <p:nvPr/>
            </p:nvSpPr>
            <p:spPr>
              <a:xfrm>
                <a:off x="5343840" y="2178360"/>
                <a:ext cx="2462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36" name="Line 66"/>
              <p:cNvSpPr/>
              <p:nvPr/>
            </p:nvSpPr>
            <p:spPr>
              <a:xfrm>
                <a:off x="5293080" y="2279160"/>
                <a:ext cx="2513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37" name="Line 67"/>
              <p:cNvSpPr/>
              <p:nvPr/>
            </p:nvSpPr>
            <p:spPr>
              <a:xfrm>
                <a:off x="5343840" y="2378160"/>
                <a:ext cx="2462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38" name="Line 68"/>
              <p:cNvSpPr/>
              <p:nvPr/>
            </p:nvSpPr>
            <p:spPr>
              <a:xfrm>
                <a:off x="5293080" y="2478960"/>
                <a:ext cx="2513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39" name="Line 69"/>
              <p:cNvSpPr/>
              <p:nvPr/>
            </p:nvSpPr>
            <p:spPr>
              <a:xfrm>
                <a:off x="5343840" y="2579400"/>
                <a:ext cx="2462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0" name="Line 70"/>
              <p:cNvSpPr/>
              <p:nvPr/>
            </p:nvSpPr>
            <p:spPr>
              <a:xfrm>
                <a:off x="5293080" y="2680560"/>
                <a:ext cx="2513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1" name="Line 71"/>
              <p:cNvSpPr/>
              <p:nvPr/>
            </p:nvSpPr>
            <p:spPr>
              <a:xfrm>
                <a:off x="5293080" y="1877760"/>
                <a:ext cx="2513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2" name="Line 72"/>
              <p:cNvSpPr/>
              <p:nvPr/>
            </p:nvSpPr>
            <p:spPr>
              <a:xfrm>
                <a:off x="5293080" y="2880360"/>
                <a:ext cx="2513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3" name="Line 73"/>
              <p:cNvSpPr/>
              <p:nvPr/>
            </p:nvSpPr>
            <p:spPr>
              <a:xfrm>
                <a:off x="5343840" y="2979360"/>
                <a:ext cx="2462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4" name="Line 74"/>
              <p:cNvSpPr/>
              <p:nvPr/>
            </p:nvSpPr>
            <p:spPr>
              <a:xfrm>
                <a:off x="5293080" y="3079800"/>
                <a:ext cx="2513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5" name="Line 75"/>
              <p:cNvSpPr/>
              <p:nvPr/>
            </p:nvSpPr>
            <p:spPr>
              <a:xfrm>
                <a:off x="5343840" y="3180960"/>
                <a:ext cx="2462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6" name="Line 76"/>
              <p:cNvSpPr/>
              <p:nvPr/>
            </p:nvSpPr>
            <p:spPr>
              <a:xfrm flipV="1">
                <a:off x="5293080" y="3279960"/>
                <a:ext cx="2513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7" name="Line 77"/>
              <p:cNvSpPr/>
              <p:nvPr/>
            </p:nvSpPr>
            <p:spPr>
              <a:xfrm>
                <a:off x="5343840" y="3380760"/>
                <a:ext cx="2462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8" name="Line 78"/>
              <p:cNvSpPr/>
              <p:nvPr/>
            </p:nvSpPr>
            <p:spPr>
              <a:xfrm>
                <a:off x="5343840" y="3481200"/>
                <a:ext cx="2462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49" name="Line 79"/>
              <p:cNvSpPr/>
              <p:nvPr/>
            </p:nvSpPr>
            <p:spPr>
              <a:xfrm>
                <a:off x="5343840" y="2779560"/>
                <a:ext cx="2462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0" name="Line 80"/>
              <p:cNvSpPr/>
              <p:nvPr/>
            </p:nvSpPr>
            <p:spPr>
              <a:xfrm flipV="1">
                <a:off x="5343840" y="1626480"/>
                <a:ext cx="0" cy="190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1" name="Line 81"/>
              <p:cNvSpPr/>
              <p:nvPr/>
            </p:nvSpPr>
            <p:spPr>
              <a:xfrm>
                <a:off x="5293080" y="3481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2" name="Line 82"/>
              <p:cNvSpPr/>
              <p:nvPr/>
            </p:nvSpPr>
            <p:spPr>
              <a:xfrm>
                <a:off x="5293080" y="3481200"/>
                <a:ext cx="276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3" name="Text Box 83"/>
              <p:cNvSpPr/>
              <p:nvPr/>
            </p:nvSpPr>
            <p:spPr>
              <a:xfrm>
                <a:off x="5088600" y="3180960"/>
                <a:ext cx="307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4" name="Text Box 84"/>
              <p:cNvSpPr/>
              <p:nvPr/>
            </p:nvSpPr>
            <p:spPr>
              <a:xfrm>
                <a:off x="5088600" y="2980800"/>
                <a:ext cx="307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5" name="Text Box 85"/>
              <p:cNvSpPr/>
              <p:nvPr/>
            </p:nvSpPr>
            <p:spPr>
              <a:xfrm>
                <a:off x="5088600" y="2779560"/>
                <a:ext cx="25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6" name="Text Box 86"/>
              <p:cNvSpPr/>
              <p:nvPr/>
            </p:nvSpPr>
            <p:spPr>
              <a:xfrm>
                <a:off x="5088600" y="3380760"/>
                <a:ext cx="254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7" name="Text Box 87"/>
              <p:cNvSpPr/>
              <p:nvPr/>
            </p:nvSpPr>
            <p:spPr>
              <a:xfrm>
                <a:off x="5088600" y="2579400"/>
                <a:ext cx="25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8" name="Text Box 88"/>
              <p:cNvSpPr/>
              <p:nvPr/>
            </p:nvSpPr>
            <p:spPr>
              <a:xfrm>
                <a:off x="5036400" y="2378160"/>
                <a:ext cx="36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59" name="Text Box 89"/>
              <p:cNvSpPr/>
              <p:nvPr/>
            </p:nvSpPr>
            <p:spPr>
              <a:xfrm>
                <a:off x="5036400" y="2129040"/>
                <a:ext cx="36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0" name="Text Box 90"/>
              <p:cNvSpPr/>
              <p:nvPr/>
            </p:nvSpPr>
            <p:spPr>
              <a:xfrm>
                <a:off x="5036400" y="1927080"/>
                <a:ext cx="35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1" name="Text Box 91"/>
              <p:cNvSpPr/>
              <p:nvPr/>
            </p:nvSpPr>
            <p:spPr>
              <a:xfrm>
                <a:off x="5036400" y="1776960"/>
                <a:ext cx="35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2" name="Text Box 92"/>
              <p:cNvSpPr/>
              <p:nvPr/>
            </p:nvSpPr>
            <p:spPr>
              <a:xfrm>
                <a:off x="4627800" y="1427040"/>
                <a:ext cx="1537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Szintek (kvantálási lépcsők)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3" name="Text Box 93"/>
              <p:cNvSpPr/>
              <p:nvPr/>
            </p:nvSpPr>
            <p:spPr>
              <a:xfrm>
                <a:off x="7959960" y="3230280"/>
                <a:ext cx="307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4" name="Line 94"/>
              <p:cNvSpPr/>
              <p:nvPr/>
            </p:nvSpPr>
            <p:spPr>
              <a:xfrm flipV="1">
                <a:off x="5754600" y="1877400"/>
                <a:ext cx="0" cy="16030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5" name="Line 95"/>
              <p:cNvSpPr/>
              <p:nvPr/>
            </p:nvSpPr>
            <p:spPr>
              <a:xfrm flipV="1">
                <a:off x="6165360" y="1877400"/>
                <a:ext cx="0" cy="16030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6" name="Line 96"/>
              <p:cNvSpPr/>
              <p:nvPr/>
            </p:nvSpPr>
            <p:spPr>
              <a:xfrm flipV="1">
                <a:off x="7395840" y="1877400"/>
                <a:ext cx="0" cy="16030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7" name="Line 97"/>
              <p:cNvSpPr/>
              <p:nvPr/>
            </p:nvSpPr>
            <p:spPr>
              <a:xfrm flipV="1">
                <a:off x="6576120" y="1877400"/>
                <a:ext cx="0" cy="16030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8" name="Line 98"/>
              <p:cNvSpPr/>
              <p:nvPr/>
            </p:nvSpPr>
            <p:spPr>
              <a:xfrm flipV="1">
                <a:off x="6986880" y="1877400"/>
                <a:ext cx="0" cy="1603080"/>
              </a:xfrm>
              <a:prstGeom prst="line">
                <a:avLst/>
              </a:prstGeom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69" name="Text Box 99"/>
              <p:cNvSpPr/>
              <p:nvPr/>
            </p:nvSpPr>
            <p:spPr>
              <a:xfrm>
                <a:off x="5600880" y="3481200"/>
                <a:ext cx="36000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0" name="Text Box 100"/>
              <p:cNvSpPr/>
              <p:nvPr/>
            </p:nvSpPr>
            <p:spPr>
              <a:xfrm>
                <a:off x="6011640" y="3481200"/>
                <a:ext cx="35784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1" name="Text Box 101"/>
              <p:cNvSpPr/>
              <p:nvPr/>
            </p:nvSpPr>
            <p:spPr>
              <a:xfrm>
                <a:off x="6422040" y="3481200"/>
                <a:ext cx="35784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2" name="Text Box 102"/>
              <p:cNvSpPr/>
              <p:nvPr/>
            </p:nvSpPr>
            <p:spPr>
              <a:xfrm>
                <a:off x="6832800" y="3481200"/>
                <a:ext cx="35784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3" name="Text Box 103"/>
              <p:cNvSpPr/>
              <p:nvPr/>
            </p:nvSpPr>
            <p:spPr>
              <a:xfrm>
                <a:off x="7241760" y="3481200"/>
                <a:ext cx="35784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hu-HU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4" name="Text Box 104"/>
              <p:cNvSpPr/>
              <p:nvPr/>
            </p:nvSpPr>
            <p:spPr>
              <a:xfrm>
                <a:off x="7395840" y="3481200"/>
                <a:ext cx="138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Times New Roman"/>
                  </a:rPr>
                  <a:t>Mintavételi időpontok</a:t>
                </a:r>
                <a:endParaRPr b="0" lang="en-US" sz="8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5" name="Freeform 105"/>
              <p:cNvSpPr/>
              <p:nvPr/>
            </p:nvSpPr>
            <p:spPr>
              <a:xfrm>
                <a:off x="5446800" y="2284560"/>
                <a:ext cx="2154600" cy="950760"/>
              </a:xfrm>
              <a:custGeom>
                <a:avLst/>
                <a:gdLst>
                  <a:gd name="textAreaLeft" fmla="*/ 0 w 2154600"/>
                  <a:gd name="textAreaRight" fmla="*/ 2154960 w 2154600"/>
                  <a:gd name="textAreaTop" fmla="*/ 0 h 950760"/>
                  <a:gd name="textAreaBottom" fmla="*/ 951120 h 950760"/>
                </a:gdLst>
                <a:ahLst/>
                <a:rect l="textAreaLeft" t="textAreaTop" r="textAreaRight" b="textAreaBottom"/>
                <a:pathLst>
                  <a:path w="1191" h="538">
                    <a:moveTo>
                      <a:pt x="0" y="538"/>
                    </a:moveTo>
                    <a:cubicBezTo>
                      <a:pt x="52" y="462"/>
                      <a:pt x="104" y="387"/>
                      <a:pt x="170" y="368"/>
                    </a:cubicBezTo>
                    <a:cubicBezTo>
                      <a:pt x="236" y="349"/>
                      <a:pt x="321" y="472"/>
                      <a:pt x="397" y="425"/>
                    </a:cubicBezTo>
                    <a:cubicBezTo>
                      <a:pt x="473" y="378"/>
                      <a:pt x="544" y="151"/>
                      <a:pt x="624" y="85"/>
                    </a:cubicBezTo>
                    <a:cubicBezTo>
                      <a:pt x="704" y="19"/>
                      <a:pt x="785" y="0"/>
                      <a:pt x="879" y="28"/>
                    </a:cubicBezTo>
                    <a:cubicBezTo>
                      <a:pt x="973" y="56"/>
                      <a:pt x="1082" y="155"/>
                      <a:pt x="1191" y="255"/>
                    </a:cubicBez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6" name="Oval 106"/>
              <p:cNvSpPr/>
              <p:nvPr/>
            </p:nvSpPr>
            <p:spPr>
              <a:xfrm>
                <a:off x="5733000" y="2913840"/>
                <a:ext cx="48600" cy="475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7" name="Oval 107"/>
              <p:cNvSpPr/>
              <p:nvPr/>
            </p:nvSpPr>
            <p:spPr>
              <a:xfrm>
                <a:off x="6141960" y="3005640"/>
                <a:ext cx="48600" cy="475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8" name="Oval 108"/>
              <p:cNvSpPr/>
              <p:nvPr/>
            </p:nvSpPr>
            <p:spPr>
              <a:xfrm>
                <a:off x="6549120" y="2413440"/>
                <a:ext cx="48600" cy="475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79" name="Oval 109"/>
              <p:cNvSpPr/>
              <p:nvPr/>
            </p:nvSpPr>
            <p:spPr>
              <a:xfrm>
                <a:off x="6959520" y="2300400"/>
                <a:ext cx="48600" cy="475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80" name="Oval 110"/>
              <p:cNvSpPr/>
              <p:nvPr/>
            </p:nvSpPr>
            <p:spPr>
              <a:xfrm>
                <a:off x="7368120" y="2519280"/>
                <a:ext cx="48600" cy="475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81" name="Oval 111"/>
              <p:cNvSpPr/>
              <p:nvPr/>
            </p:nvSpPr>
            <p:spPr>
              <a:xfrm>
                <a:off x="7375680" y="255132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82" name="Oval 112"/>
              <p:cNvSpPr/>
              <p:nvPr/>
            </p:nvSpPr>
            <p:spPr>
              <a:xfrm>
                <a:off x="6955920" y="224928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83" name="Oval 113"/>
              <p:cNvSpPr/>
              <p:nvPr/>
            </p:nvSpPr>
            <p:spPr>
              <a:xfrm>
                <a:off x="6545160" y="235152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84" name="Oval 114"/>
              <p:cNvSpPr/>
              <p:nvPr/>
            </p:nvSpPr>
            <p:spPr>
              <a:xfrm>
                <a:off x="6145200" y="3054960"/>
                <a:ext cx="48960" cy="4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85" name="Oval 115"/>
              <p:cNvSpPr/>
              <p:nvPr/>
            </p:nvSpPr>
            <p:spPr>
              <a:xfrm>
                <a:off x="5729040" y="2958120"/>
                <a:ext cx="4860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86" name="Freeform 116"/>
              <p:cNvSpPr/>
              <p:nvPr/>
            </p:nvSpPr>
            <p:spPr>
              <a:xfrm>
                <a:off x="5436360" y="2225880"/>
                <a:ext cx="2154600" cy="951120"/>
              </a:xfrm>
              <a:custGeom>
                <a:avLst/>
                <a:gdLst>
                  <a:gd name="textAreaLeft" fmla="*/ 0 w 2154600"/>
                  <a:gd name="textAreaRight" fmla="*/ 2154960 w 2154600"/>
                  <a:gd name="textAreaTop" fmla="*/ 0 h 951120"/>
                  <a:gd name="textAreaBottom" fmla="*/ 951480 h 951120"/>
                </a:gdLst>
                <a:ahLst/>
                <a:rect l="textAreaLeft" t="textAreaTop" r="textAreaRight" b="textAreaBottom"/>
                <a:pathLst>
                  <a:path w="1191" h="538">
                    <a:moveTo>
                      <a:pt x="0" y="538"/>
                    </a:moveTo>
                    <a:cubicBezTo>
                      <a:pt x="52" y="462"/>
                      <a:pt x="104" y="387"/>
                      <a:pt x="170" y="368"/>
                    </a:cubicBezTo>
                    <a:cubicBezTo>
                      <a:pt x="236" y="349"/>
                      <a:pt x="321" y="472"/>
                      <a:pt x="397" y="425"/>
                    </a:cubicBezTo>
                    <a:cubicBezTo>
                      <a:pt x="473" y="378"/>
                      <a:pt x="544" y="151"/>
                      <a:pt x="624" y="85"/>
                    </a:cubicBezTo>
                    <a:cubicBezTo>
                      <a:pt x="704" y="19"/>
                      <a:pt x="785" y="0"/>
                      <a:pt x="879" y="28"/>
                    </a:cubicBezTo>
                    <a:cubicBezTo>
                      <a:pt x="973" y="56"/>
                      <a:pt x="1082" y="155"/>
                      <a:pt x="1191" y="255"/>
                    </a:cubicBezTo>
                  </a:path>
                </a:pathLst>
              </a:custGeom>
              <a:noFill/>
              <a:ln w="3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487" name="Freeform 117"/>
              <p:cNvSpPr/>
              <p:nvPr/>
            </p:nvSpPr>
            <p:spPr>
              <a:xfrm>
                <a:off x="5450760" y="2342520"/>
                <a:ext cx="2154600" cy="951120"/>
              </a:xfrm>
              <a:custGeom>
                <a:avLst/>
                <a:gdLst>
                  <a:gd name="textAreaLeft" fmla="*/ 0 w 2154600"/>
                  <a:gd name="textAreaRight" fmla="*/ 2154960 w 2154600"/>
                  <a:gd name="textAreaTop" fmla="*/ 0 h 951120"/>
                  <a:gd name="textAreaBottom" fmla="*/ 951480 h 951120"/>
                </a:gdLst>
                <a:ahLst/>
                <a:rect l="textAreaLeft" t="textAreaTop" r="textAreaRight" b="textAreaBottom"/>
                <a:pathLst>
                  <a:path w="1191" h="538">
                    <a:moveTo>
                      <a:pt x="0" y="538"/>
                    </a:moveTo>
                    <a:cubicBezTo>
                      <a:pt x="52" y="462"/>
                      <a:pt x="104" y="387"/>
                      <a:pt x="170" y="368"/>
                    </a:cubicBezTo>
                    <a:cubicBezTo>
                      <a:pt x="236" y="349"/>
                      <a:pt x="321" y="472"/>
                      <a:pt x="397" y="425"/>
                    </a:cubicBezTo>
                    <a:cubicBezTo>
                      <a:pt x="473" y="378"/>
                      <a:pt x="544" y="151"/>
                      <a:pt x="624" y="85"/>
                    </a:cubicBezTo>
                    <a:cubicBezTo>
                      <a:pt x="704" y="19"/>
                      <a:pt x="785" y="0"/>
                      <a:pt x="879" y="28"/>
                    </a:cubicBezTo>
                    <a:cubicBezTo>
                      <a:pt x="973" y="56"/>
                      <a:pt x="1082" y="155"/>
                      <a:pt x="1191" y="255"/>
                    </a:cubicBezTo>
                  </a:path>
                </a:pathLst>
              </a:custGeom>
              <a:noFill/>
              <a:ln w="3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7D48-D749-4002-BE28-66A3762F01A6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9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C0A3-8B8B-4E2E-BEDE-12FF930F3B2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-617400" y="-495360"/>
            <a:ext cx="42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Times New Roman"/>
              </a:rPr>
              <a:t>Szintek (kvantálási lépcsők)</a:t>
            </a:r>
            <a:endParaRPr b="0" lang="en-US" sz="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KVANTÁLÁ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kvantálás egy szeletének kinagyí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"/>
          <p:cNvSpPr/>
          <p:nvPr/>
        </p:nvSpPr>
        <p:spPr>
          <a:xfrm>
            <a:off x="1352520" y="6207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892080" y="1689120"/>
            <a:ext cx="7531200" cy="4332240"/>
            <a:chOff x="892080" y="1689120"/>
            <a:chExt cx="7531200" cy="4332240"/>
          </a:xfrm>
        </p:grpSpPr>
        <p:sp>
          <p:nvSpPr>
            <p:cNvPr id="495" name="Line 7"/>
            <p:cNvSpPr/>
            <p:nvPr/>
          </p:nvSpPr>
          <p:spPr>
            <a:xfrm>
              <a:off x="979560" y="2916360"/>
              <a:ext cx="7362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496" name="Line 8"/>
            <p:cNvSpPr/>
            <p:nvPr/>
          </p:nvSpPr>
          <p:spPr>
            <a:xfrm flipV="1">
              <a:off x="1006560" y="3409920"/>
              <a:ext cx="73357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497" name="Line 9"/>
            <p:cNvSpPr/>
            <p:nvPr/>
          </p:nvSpPr>
          <p:spPr>
            <a:xfrm>
              <a:off x="979560" y="3890880"/>
              <a:ext cx="73627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498" name="Line 10"/>
            <p:cNvSpPr/>
            <p:nvPr/>
          </p:nvSpPr>
          <p:spPr>
            <a:xfrm>
              <a:off x="990720" y="4408560"/>
              <a:ext cx="7351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499" name="Line 11"/>
            <p:cNvSpPr/>
            <p:nvPr/>
          </p:nvSpPr>
          <p:spPr>
            <a:xfrm flipV="1">
              <a:off x="1060560" y="4906440"/>
              <a:ext cx="72817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0" name="Line 12"/>
            <p:cNvSpPr/>
            <p:nvPr/>
          </p:nvSpPr>
          <p:spPr>
            <a:xfrm>
              <a:off x="892080" y="5396040"/>
              <a:ext cx="7531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1" name="Line 13"/>
            <p:cNvSpPr/>
            <p:nvPr/>
          </p:nvSpPr>
          <p:spPr>
            <a:xfrm flipV="1">
              <a:off x="6391440" y="2415960"/>
              <a:ext cx="4680" cy="31986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2" name="Line 14"/>
            <p:cNvSpPr/>
            <p:nvPr/>
          </p:nvSpPr>
          <p:spPr>
            <a:xfrm flipV="1">
              <a:off x="2541600" y="2624040"/>
              <a:ext cx="14400" cy="31831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 flipV="1">
              <a:off x="4470480" y="2271600"/>
              <a:ext cx="22320" cy="350856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4" name="Oval 16"/>
            <p:cNvSpPr/>
            <p:nvPr/>
          </p:nvSpPr>
          <p:spPr>
            <a:xfrm>
              <a:off x="2435400" y="3583080"/>
              <a:ext cx="228600" cy="2365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5" name="Oval 17"/>
            <p:cNvSpPr/>
            <p:nvPr/>
          </p:nvSpPr>
          <p:spPr>
            <a:xfrm>
              <a:off x="4368960" y="2994120"/>
              <a:ext cx="228600" cy="2379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6" name="Oval 18"/>
            <p:cNvSpPr/>
            <p:nvPr/>
          </p:nvSpPr>
          <p:spPr>
            <a:xfrm>
              <a:off x="6265800" y="4129200"/>
              <a:ext cx="231840" cy="2365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7" name="Oval 19"/>
            <p:cNvSpPr/>
            <p:nvPr/>
          </p:nvSpPr>
          <p:spPr>
            <a:xfrm>
              <a:off x="6273720" y="4289400"/>
              <a:ext cx="230400" cy="236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8" name="Oval 20"/>
            <p:cNvSpPr/>
            <p:nvPr/>
          </p:nvSpPr>
          <p:spPr>
            <a:xfrm>
              <a:off x="4370400" y="2786040"/>
              <a:ext cx="228600" cy="23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09" name="Oval 21"/>
            <p:cNvSpPr/>
            <p:nvPr/>
          </p:nvSpPr>
          <p:spPr>
            <a:xfrm>
              <a:off x="2435400" y="3297240"/>
              <a:ext cx="231480" cy="236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1298520" y="2832120"/>
              <a:ext cx="6007320" cy="2679840"/>
            </a:xfrm>
            <a:custGeom>
              <a:avLst/>
              <a:gdLst>
                <a:gd name="textAreaLeft" fmla="*/ 0 w 6007320"/>
                <a:gd name="textAreaRight" fmla="*/ 6007680 w 600732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w="2214" h="1006">
                  <a:moveTo>
                    <a:pt x="0" y="1006"/>
                  </a:moveTo>
                  <a:cubicBezTo>
                    <a:pt x="103" y="783"/>
                    <a:pt x="207" y="561"/>
                    <a:pt x="294" y="424"/>
                  </a:cubicBezTo>
                  <a:cubicBezTo>
                    <a:pt x="381" y="287"/>
                    <a:pt x="431" y="250"/>
                    <a:pt x="522" y="184"/>
                  </a:cubicBezTo>
                  <a:cubicBezTo>
                    <a:pt x="613" y="118"/>
                    <a:pt x="749" y="56"/>
                    <a:pt x="840" y="28"/>
                  </a:cubicBezTo>
                  <a:cubicBezTo>
                    <a:pt x="931" y="0"/>
                    <a:pt x="987" y="7"/>
                    <a:pt x="1068" y="16"/>
                  </a:cubicBezTo>
                  <a:cubicBezTo>
                    <a:pt x="1149" y="25"/>
                    <a:pt x="1233" y="41"/>
                    <a:pt x="1326" y="82"/>
                  </a:cubicBezTo>
                  <a:cubicBezTo>
                    <a:pt x="1419" y="123"/>
                    <a:pt x="1516" y="181"/>
                    <a:pt x="1626" y="262"/>
                  </a:cubicBezTo>
                  <a:cubicBezTo>
                    <a:pt x="1736" y="343"/>
                    <a:pt x="1888" y="481"/>
                    <a:pt x="1986" y="568"/>
                  </a:cubicBezTo>
                  <a:cubicBezTo>
                    <a:pt x="2084" y="655"/>
                    <a:pt x="2149" y="719"/>
                    <a:pt x="2214" y="784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1362240" y="3341520"/>
              <a:ext cx="6005520" cy="2679840"/>
            </a:xfrm>
            <a:custGeom>
              <a:avLst/>
              <a:gdLst>
                <a:gd name="textAreaLeft" fmla="*/ 0 w 6005520"/>
                <a:gd name="textAreaRight" fmla="*/ 6005880 w 600552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w="2214" h="1006">
                  <a:moveTo>
                    <a:pt x="0" y="1006"/>
                  </a:moveTo>
                  <a:cubicBezTo>
                    <a:pt x="103" y="783"/>
                    <a:pt x="207" y="561"/>
                    <a:pt x="294" y="424"/>
                  </a:cubicBezTo>
                  <a:cubicBezTo>
                    <a:pt x="381" y="287"/>
                    <a:pt x="431" y="250"/>
                    <a:pt x="522" y="184"/>
                  </a:cubicBezTo>
                  <a:cubicBezTo>
                    <a:pt x="613" y="118"/>
                    <a:pt x="749" y="56"/>
                    <a:pt x="840" y="28"/>
                  </a:cubicBezTo>
                  <a:cubicBezTo>
                    <a:pt x="931" y="0"/>
                    <a:pt x="987" y="7"/>
                    <a:pt x="1068" y="16"/>
                  </a:cubicBezTo>
                  <a:cubicBezTo>
                    <a:pt x="1149" y="25"/>
                    <a:pt x="1233" y="41"/>
                    <a:pt x="1326" y="82"/>
                  </a:cubicBezTo>
                  <a:cubicBezTo>
                    <a:pt x="1419" y="123"/>
                    <a:pt x="1516" y="181"/>
                    <a:pt x="1626" y="262"/>
                  </a:cubicBezTo>
                  <a:cubicBezTo>
                    <a:pt x="1736" y="343"/>
                    <a:pt x="1888" y="481"/>
                    <a:pt x="1986" y="568"/>
                  </a:cubicBezTo>
                  <a:cubicBezTo>
                    <a:pt x="2084" y="655"/>
                    <a:pt x="2149" y="719"/>
                    <a:pt x="2214" y="784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1343160" y="3038400"/>
              <a:ext cx="6005520" cy="2679840"/>
            </a:xfrm>
            <a:custGeom>
              <a:avLst/>
              <a:gdLst>
                <a:gd name="textAreaLeft" fmla="*/ 0 w 6005520"/>
                <a:gd name="textAreaRight" fmla="*/ 6005880 w 600552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w="2214" h="1006">
                  <a:moveTo>
                    <a:pt x="0" y="1006"/>
                  </a:moveTo>
                  <a:cubicBezTo>
                    <a:pt x="103" y="783"/>
                    <a:pt x="207" y="561"/>
                    <a:pt x="294" y="424"/>
                  </a:cubicBezTo>
                  <a:cubicBezTo>
                    <a:pt x="381" y="287"/>
                    <a:pt x="431" y="250"/>
                    <a:pt x="522" y="184"/>
                  </a:cubicBezTo>
                  <a:cubicBezTo>
                    <a:pt x="613" y="118"/>
                    <a:pt x="749" y="56"/>
                    <a:pt x="840" y="28"/>
                  </a:cubicBezTo>
                  <a:cubicBezTo>
                    <a:pt x="931" y="0"/>
                    <a:pt x="987" y="7"/>
                    <a:pt x="1068" y="16"/>
                  </a:cubicBezTo>
                  <a:cubicBezTo>
                    <a:pt x="1149" y="25"/>
                    <a:pt x="1233" y="41"/>
                    <a:pt x="1326" y="82"/>
                  </a:cubicBezTo>
                  <a:cubicBezTo>
                    <a:pt x="1419" y="123"/>
                    <a:pt x="1516" y="181"/>
                    <a:pt x="1626" y="262"/>
                  </a:cubicBezTo>
                  <a:cubicBezTo>
                    <a:pt x="1736" y="343"/>
                    <a:pt x="1888" y="481"/>
                    <a:pt x="1986" y="568"/>
                  </a:cubicBezTo>
                  <a:cubicBezTo>
                    <a:pt x="2084" y="655"/>
                    <a:pt x="2149" y="719"/>
                    <a:pt x="2214" y="784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3" name="Line 25"/>
            <p:cNvSpPr/>
            <p:nvPr/>
          </p:nvSpPr>
          <p:spPr>
            <a:xfrm flipH="1" flipV="1">
              <a:off x="3193560" y="2774520"/>
              <a:ext cx="793800" cy="3240"/>
            </a:xfrm>
            <a:prstGeom prst="line">
              <a:avLst/>
            </a:prstGeom>
            <a:ln w="9360">
              <a:solidFill>
                <a:srgbClr val="0b7f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4" name="Line 26"/>
            <p:cNvSpPr/>
            <p:nvPr/>
          </p:nvSpPr>
          <p:spPr>
            <a:xfrm flipH="1" flipV="1">
              <a:off x="3214440" y="3347640"/>
              <a:ext cx="787320" cy="3240"/>
            </a:xfrm>
            <a:prstGeom prst="line">
              <a:avLst/>
            </a:prstGeom>
            <a:ln w="9360">
              <a:solidFill>
                <a:srgbClr val="0b7f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>
              <a:off x="3276720" y="2787480"/>
              <a:ext cx="0" cy="559080"/>
            </a:xfrm>
            <a:prstGeom prst="line">
              <a:avLst/>
            </a:prstGeom>
            <a:ln w="9360">
              <a:solidFill>
                <a:srgbClr val="0b7f11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6" name="Text Box 28"/>
            <p:cNvSpPr/>
            <p:nvPr/>
          </p:nvSpPr>
          <p:spPr>
            <a:xfrm>
              <a:off x="2575080" y="2870280"/>
              <a:ext cx="685800" cy="4057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hu-HU" sz="1800" spc="-1" strike="noStrike" baseline="-25000">
                  <a:solidFill>
                    <a:srgbClr val="000000"/>
                  </a:solidFill>
                  <a:latin typeface="Arial"/>
                </a:rPr>
                <a:t>zp-p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7" name="AutoShape 29"/>
            <p:cNvSpPr/>
            <p:nvPr/>
          </p:nvSpPr>
          <p:spPr>
            <a:xfrm>
              <a:off x="2717640" y="1790640"/>
              <a:ext cx="1765440" cy="596880"/>
            </a:xfrm>
            <a:prstGeom prst="wedgeRoundRectCallout">
              <a:avLst>
                <a:gd name="adj1" fmla="val 10250"/>
                <a:gd name="adj2" fmla="val 114629"/>
                <a:gd name="adj3" fmla="val 16667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8" name="Line 30"/>
            <p:cNvSpPr/>
            <p:nvPr/>
          </p:nvSpPr>
          <p:spPr>
            <a:xfrm flipH="1">
              <a:off x="3276360" y="2768760"/>
              <a:ext cx="7110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19" name="AutoShape 31"/>
            <p:cNvSpPr/>
            <p:nvPr/>
          </p:nvSpPr>
          <p:spPr>
            <a:xfrm>
              <a:off x="2706840" y="1792440"/>
              <a:ext cx="1765080" cy="596880"/>
            </a:xfrm>
            <a:prstGeom prst="wedgeRoundRectCallout">
              <a:avLst>
                <a:gd name="adj1" fmla="val 33990"/>
                <a:gd name="adj2" fmla="val 212500"/>
                <a:gd name="adj3" fmla="val 16667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20" name="Text Box 32"/>
            <p:cNvSpPr/>
            <p:nvPr/>
          </p:nvSpPr>
          <p:spPr>
            <a:xfrm>
              <a:off x="2857680" y="186696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Zajamplitúdó csúcsok</a:t>
              </a:r>
              <a:endParaRPr b="0" lang="en-US" sz="1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21" name="AutoShape 33"/>
            <p:cNvSpPr/>
            <p:nvPr/>
          </p:nvSpPr>
          <p:spPr>
            <a:xfrm>
              <a:off x="4559400" y="4280040"/>
              <a:ext cx="1612800" cy="787320"/>
            </a:xfrm>
            <a:prstGeom prst="wedgeRoundRectCallout">
              <a:avLst>
                <a:gd name="adj1" fmla="val -52263"/>
                <a:gd name="adj2" fmla="val -189314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22" name="AutoShape 34"/>
            <p:cNvSpPr/>
            <p:nvPr/>
          </p:nvSpPr>
          <p:spPr>
            <a:xfrm>
              <a:off x="5168880" y="1689120"/>
              <a:ext cx="1765440" cy="596880"/>
            </a:xfrm>
            <a:prstGeom prst="wedgeRoundRectCallout">
              <a:avLst>
                <a:gd name="adj1" fmla="val -86870"/>
                <a:gd name="adj2" fmla="val 142287"/>
                <a:gd name="adj3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23" name="Text Box 35"/>
            <p:cNvSpPr/>
            <p:nvPr/>
          </p:nvSpPr>
          <p:spPr>
            <a:xfrm>
              <a:off x="4686480" y="4406760"/>
              <a:ext cx="132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Tényleges jelszint</a:t>
              </a:r>
              <a:endParaRPr b="0" lang="en-US" sz="1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24" name="Text Box 36"/>
            <p:cNvSpPr/>
            <p:nvPr/>
          </p:nvSpPr>
          <p:spPr>
            <a:xfrm>
              <a:off x="5257800" y="18669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Kvantált jelszint</a:t>
              </a:r>
              <a:endParaRPr b="0" lang="en-US" sz="14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átum helye 5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05C5-1033-48BD-BE97-28948E630FA8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Dia számának helye 6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482E-5D2D-47D8-B8A6-AEB24CA5725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SÁVHATÁROLÁS/DIGITÁLIS JELEK FORMÁLÁS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4208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 tipikus digitális (bináris) j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ogikai értéksorozata 010101010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átható, hogy ez egy szabályos 1:1 kitöltésű négyszögj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enti négyszögjel alakja a NYQUIST szűrő utá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abályos színuszos j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7" descr="BIN_JEL"/>
          <p:cNvPicPr/>
          <p:nvPr/>
        </p:nvPicPr>
        <p:blipFill>
          <a:blip r:embed="rId1"/>
          <a:stretch/>
        </p:blipFill>
        <p:spPr>
          <a:xfrm>
            <a:off x="4684680" y="1069920"/>
            <a:ext cx="4208400" cy="23018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BIN_JEL_SZ"/>
          <p:cNvPicPr/>
          <p:nvPr/>
        </p:nvPicPr>
        <p:blipFill>
          <a:blip r:embed="rId2"/>
          <a:stretch/>
        </p:blipFill>
        <p:spPr>
          <a:xfrm>
            <a:off x="4684680" y="3701880"/>
            <a:ext cx="4208400" cy="23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átum helye 5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2E3E-9D42-4E69-9DB2-882A9DF8697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2" name="Dia számának helye 6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B0C2-0E08-431B-A6C7-AE37AE819CE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SÁVHATÁROLÁS/DIGITÁLIS JELEK FORMÁLÁS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4208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ábrán egy álvéletlen bináris jelsorozatból képzett négyállapotú jelsorozat látható, amely a 16 QAM modulátor leképző áramkörei kimenetein jelenik meg (I és Q jelága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enti négyállapotú jelsorozatok a NYQUIST szűrő kimeneté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A logikai szinteket a jel a bitidő közepén hordoz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A jel változása az egyes logikai szintek között színuszos, azaz a szűrés után (sávhatárolás) a digitális jelből egy SÁVHATÁROLT ANALÓG jelet hoztunk lé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2" descr="4ÁLL"/>
          <p:cNvPicPr/>
          <p:nvPr/>
        </p:nvPicPr>
        <p:blipFill>
          <a:blip r:embed="rId1"/>
          <a:stretch/>
        </p:blipFill>
        <p:spPr>
          <a:xfrm>
            <a:off x="4684680" y="1057320"/>
            <a:ext cx="4208400" cy="2327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4ÁLL_SZ"/>
          <p:cNvPicPr/>
          <p:nvPr/>
        </p:nvPicPr>
        <p:blipFill>
          <a:blip r:embed="rId2"/>
          <a:stretch/>
        </p:blipFill>
        <p:spPr>
          <a:xfrm>
            <a:off x="4684680" y="3684600"/>
            <a:ext cx="4208400" cy="233532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14"/>
          <p:cNvSpPr/>
          <p:nvPr/>
        </p:nvSpPr>
        <p:spPr>
          <a:xfrm rot="16200000">
            <a:off x="5586120" y="204084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8" name="AutoShape 15"/>
          <p:cNvSpPr/>
          <p:nvPr/>
        </p:nvSpPr>
        <p:spPr>
          <a:xfrm rot="16200000">
            <a:off x="5310000" y="203940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9" name="AutoShape 16"/>
          <p:cNvSpPr/>
          <p:nvPr/>
        </p:nvSpPr>
        <p:spPr>
          <a:xfrm rot="16200000">
            <a:off x="5240160" y="466200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0" name="AutoShape 17"/>
          <p:cNvSpPr/>
          <p:nvPr/>
        </p:nvSpPr>
        <p:spPr>
          <a:xfrm rot="16200000">
            <a:off x="5546520" y="467136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1" name="AutoShape 18"/>
          <p:cNvSpPr/>
          <p:nvPr/>
        </p:nvSpPr>
        <p:spPr>
          <a:xfrm rot="16200000">
            <a:off x="6418080" y="203148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2" name="AutoShape 19"/>
          <p:cNvSpPr/>
          <p:nvPr/>
        </p:nvSpPr>
        <p:spPr>
          <a:xfrm rot="16200000">
            <a:off x="6364080" y="465876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átum helye 5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B24A-CA78-4E5A-903A-DFC98D205707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4" name="Dia számának helye 6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A220-F993-49D4-BDAC-9EFB97FD919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5" name="Oval 122"/>
          <p:cNvSpPr/>
          <p:nvPr/>
        </p:nvSpPr>
        <p:spPr>
          <a:xfrm>
            <a:off x="2031840" y="4991040"/>
            <a:ext cx="1740240" cy="130824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DINAMIK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4208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tavétel és kvantálá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entiek alapjá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6"/>
              <p:cNvSpPr txBox="1"/>
              <p:nvPr/>
            </p:nvSpPr>
            <p:spPr>
              <a:xfrm>
                <a:off x="2782800" y="843120"/>
                <a:ext cx="2311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NAMIK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egnagyob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lsz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egkiseb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lsz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9" name="Group 71"/>
          <p:cNvGrpSpPr/>
          <p:nvPr/>
        </p:nvGrpSpPr>
        <p:grpSpPr>
          <a:xfrm>
            <a:off x="239760" y="1565280"/>
            <a:ext cx="4190760" cy="2360880"/>
            <a:chOff x="239760" y="1565280"/>
            <a:chExt cx="4190760" cy="2360880"/>
          </a:xfrm>
        </p:grpSpPr>
        <p:sp>
          <p:nvSpPr>
            <p:cNvPr id="550" name="Text Box 28"/>
            <p:cNvSpPr/>
            <p:nvPr/>
          </p:nvSpPr>
          <p:spPr>
            <a:xfrm>
              <a:off x="239760" y="2797200"/>
              <a:ext cx="4762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U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Max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51" name="Line 8"/>
            <p:cNvSpPr/>
            <p:nvPr/>
          </p:nvSpPr>
          <p:spPr>
            <a:xfrm flipV="1">
              <a:off x="1108080" y="1657440"/>
              <a:ext cx="0" cy="17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52" name="Line 9"/>
            <p:cNvSpPr/>
            <p:nvPr/>
          </p:nvSpPr>
          <p:spPr>
            <a:xfrm flipV="1">
              <a:off x="1096920" y="3340080"/>
              <a:ext cx="30733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53" name="Line 10"/>
            <p:cNvSpPr/>
            <p:nvPr/>
          </p:nvSpPr>
          <p:spPr>
            <a:xfrm>
              <a:off x="1065240" y="2984400"/>
              <a:ext cx="296532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54" name="Line 11"/>
            <p:cNvSpPr/>
            <p:nvPr/>
          </p:nvSpPr>
          <p:spPr>
            <a:xfrm>
              <a:off x="1090440" y="2622600"/>
              <a:ext cx="293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55" name="Line 12"/>
            <p:cNvSpPr/>
            <p:nvPr/>
          </p:nvSpPr>
          <p:spPr>
            <a:xfrm flipV="1">
              <a:off x="1839960" y="2565360"/>
              <a:ext cx="0" cy="8128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56" name="Line 13"/>
            <p:cNvSpPr/>
            <p:nvPr/>
          </p:nvSpPr>
          <p:spPr>
            <a:xfrm flipV="1">
              <a:off x="2247840" y="2560680"/>
              <a:ext cx="0" cy="8128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57" name="Line 14"/>
            <p:cNvSpPr/>
            <p:nvPr/>
          </p:nvSpPr>
          <p:spPr>
            <a:xfrm flipV="1">
              <a:off x="2566800" y="2549520"/>
              <a:ext cx="0" cy="8128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58" name="Line 15"/>
            <p:cNvSpPr/>
            <p:nvPr/>
          </p:nvSpPr>
          <p:spPr>
            <a:xfrm flipV="1">
              <a:off x="3301920" y="2548080"/>
              <a:ext cx="0" cy="8128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59" name="Line 16"/>
            <p:cNvSpPr/>
            <p:nvPr/>
          </p:nvSpPr>
          <p:spPr>
            <a:xfrm flipV="1">
              <a:off x="2941560" y="2556000"/>
              <a:ext cx="0" cy="8128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0" name="Oval 17"/>
            <p:cNvSpPr/>
            <p:nvPr/>
          </p:nvSpPr>
          <p:spPr>
            <a:xfrm>
              <a:off x="1820880" y="2962440"/>
              <a:ext cx="4428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1" name="Oval 18"/>
            <p:cNvSpPr/>
            <p:nvPr/>
          </p:nvSpPr>
          <p:spPr>
            <a:xfrm>
              <a:off x="2219400" y="2605320"/>
              <a:ext cx="4428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2" name="Oval 19"/>
            <p:cNvSpPr/>
            <p:nvPr/>
          </p:nvSpPr>
          <p:spPr>
            <a:xfrm>
              <a:off x="2541600" y="2600280"/>
              <a:ext cx="4428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3" name="Oval 20"/>
            <p:cNvSpPr/>
            <p:nvPr/>
          </p:nvSpPr>
          <p:spPr>
            <a:xfrm>
              <a:off x="3281400" y="2959200"/>
              <a:ext cx="4428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4" name="Oval 21"/>
            <p:cNvSpPr/>
            <p:nvPr/>
          </p:nvSpPr>
          <p:spPr>
            <a:xfrm>
              <a:off x="2921040" y="3326040"/>
              <a:ext cx="4428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5" name="Line 22"/>
            <p:cNvSpPr/>
            <p:nvPr/>
          </p:nvSpPr>
          <p:spPr>
            <a:xfrm flipH="1">
              <a:off x="572760" y="3355920"/>
              <a:ext cx="52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6" name="Line 23"/>
            <p:cNvSpPr/>
            <p:nvPr/>
          </p:nvSpPr>
          <p:spPr>
            <a:xfrm flipH="1">
              <a:off x="790560" y="299232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 flipH="1">
              <a:off x="580680" y="2621160"/>
              <a:ext cx="5331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8" name="Line 25"/>
            <p:cNvSpPr/>
            <p:nvPr/>
          </p:nvSpPr>
          <p:spPr>
            <a:xfrm>
              <a:off x="934920" y="298440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69" name="Line 26"/>
            <p:cNvSpPr/>
            <p:nvPr/>
          </p:nvSpPr>
          <p:spPr>
            <a:xfrm>
              <a:off x="609480" y="2658960"/>
              <a:ext cx="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0" name="Text Box 27"/>
            <p:cNvSpPr/>
            <p:nvPr/>
          </p:nvSpPr>
          <p:spPr>
            <a:xfrm>
              <a:off x="782640" y="156528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1" name="Text Box 29"/>
            <p:cNvSpPr/>
            <p:nvPr/>
          </p:nvSpPr>
          <p:spPr>
            <a:xfrm>
              <a:off x="658800" y="306072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U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2" name="Text Box 30"/>
            <p:cNvSpPr/>
            <p:nvPr/>
          </p:nvSpPr>
          <p:spPr>
            <a:xfrm>
              <a:off x="1154160" y="243216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S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3" name="Text Box 31"/>
            <p:cNvSpPr/>
            <p:nvPr/>
          </p:nvSpPr>
          <p:spPr>
            <a:xfrm>
              <a:off x="1144440" y="2765520"/>
              <a:ext cx="324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S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4" name="Text Box 32"/>
            <p:cNvSpPr/>
            <p:nvPr/>
          </p:nvSpPr>
          <p:spPr>
            <a:xfrm>
              <a:off x="1706400" y="335592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5" name="Text Box 33"/>
            <p:cNvSpPr/>
            <p:nvPr/>
          </p:nvSpPr>
          <p:spPr>
            <a:xfrm>
              <a:off x="2124000" y="335448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6" name="Text Box 34"/>
            <p:cNvSpPr/>
            <p:nvPr/>
          </p:nvSpPr>
          <p:spPr>
            <a:xfrm>
              <a:off x="2427120" y="335304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7" name="Text Box 35"/>
            <p:cNvSpPr/>
            <p:nvPr/>
          </p:nvSpPr>
          <p:spPr>
            <a:xfrm>
              <a:off x="3125880" y="3336840"/>
              <a:ext cx="352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8" name="Text Box 36"/>
            <p:cNvSpPr/>
            <p:nvPr/>
          </p:nvSpPr>
          <p:spPr>
            <a:xfrm>
              <a:off x="2800440" y="3363840"/>
              <a:ext cx="352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79" name="Text Box 37"/>
            <p:cNvSpPr/>
            <p:nvPr/>
          </p:nvSpPr>
          <p:spPr>
            <a:xfrm>
              <a:off x="2093760" y="3679920"/>
              <a:ext cx="96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M i n t á k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80" name="Text Box 38"/>
            <p:cNvSpPr/>
            <p:nvPr/>
          </p:nvSpPr>
          <p:spPr>
            <a:xfrm>
              <a:off x="4182840" y="317520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1" name="Object 104"/>
              <p:cNvSpPr txBox="1"/>
              <p:nvPr/>
            </p:nvSpPr>
            <p:spPr>
              <a:xfrm>
                <a:off x="520560" y="3981600"/>
                <a:ext cx="1452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106"/>
              <p:cNvSpPr txBox="1"/>
              <p:nvPr/>
            </p:nvSpPr>
            <p:spPr>
              <a:xfrm>
                <a:off x="2529000" y="4235400"/>
                <a:ext cx="2057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r>
                      <m:t xml:space="preserve">S</m:t>
                    </m:r>
                    <m:r>
                      <m:t xml:space="preserve">=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lim>
                        <m:r>
                          <m:t xml:space="preserve">2</m:t>
                        </m:r>
                      </m:lim>
                    </m:limUpp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83" name="Group 119"/>
          <p:cNvGrpSpPr/>
          <p:nvPr/>
        </p:nvGrpSpPr>
        <p:grpSpPr>
          <a:xfrm>
            <a:off x="4586400" y="1554120"/>
            <a:ext cx="4190760" cy="2360880"/>
            <a:chOff x="4586400" y="1554120"/>
            <a:chExt cx="4190760" cy="2360880"/>
          </a:xfrm>
        </p:grpSpPr>
        <p:sp>
          <p:nvSpPr>
            <p:cNvPr id="584" name="Text Box 73"/>
            <p:cNvSpPr/>
            <p:nvPr/>
          </p:nvSpPr>
          <p:spPr>
            <a:xfrm>
              <a:off x="4586400" y="2357280"/>
              <a:ext cx="4762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U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Max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85" name="Line 74"/>
            <p:cNvSpPr/>
            <p:nvPr/>
          </p:nvSpPr>
          <p:spPr>
            <a:xfrm flipV="1">
              <a:off x="5454720" y="1646280"/>
              <a:ext cx="0" cy="17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86" name="Line 75"/>
            <p:cNvSpPr/>
            <p:nvPr/>
          </p:nvSpPr>
          <p:spPr>
            <a:xfrm flipV="1">
              <a:off x="5443560" y="3328560"/>
              <a:ext cx="30733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87" name="Line 78"/>
            <p:cNvSpPr/>
            <p:nvPr/>
          </p:nvSpPr>
          <p:spPr>
            <a:xfrm flipH="1" flipV="1">
              <a:off x="6180120" y="1836360"/>
              <a:ext cx="6480" cy="1530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88" name="Line 79"/>
            <p:cNvSpPr/>
            <p:nvPr/>
          </p:nvSpPr>
          <p:spPr>
            <a:xfrm flipV="1">
              <a:off x="6546960" y="1812600"/>
              <a:ext cx="0" cy="1549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89" name="Line 80"/>
            <p:cNvSpPr/>
            <p:nvPr/>
          </p:nvSpPr>
          <p:spPr>
            <a:xfrm flipV="1">
              <a:off x="6913440" y="1858680"/>
              <a:ext cx="0" cy="14925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0" name="Line 81"/>
            <p:cNvSpPr/>
            <p:nvPr/>
          </p:nvSpPr>
          <p:spPr>
            <a:xfrm flipV="1">
              <a:off x="7648560" y="1818720"/>
              <a:ext cx="0" cy="1530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1" name="Line 82"/>
            <p:cNvSpPr/>
            <p:nvPr/>
          </p:nvSpPr>
          <p:spPr>
            <a:xfrm flipV="1">
              <a:off x="7288200" y="1820880"/>
              <a:ext cx="0" cy="15364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2" name="Oval 87"/>
            <p:cNvSpPr/>
            <p:nvPr/>
          </p:nvSpPr>
          <p:spPr>
            <a:xfrm>
              <a:off x="7267680" y="3314520"/>
              <a:ext cx="4428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3" name="Line 88"/>
            <p:cNvSpPr/>
            <p:nvPr/>
          </p:nvSpPr>
          <p:spPr>
            <a:xfrm flipH="1">
              <a:off x="4919400" y="3344760"/>
              <a:ext cx="52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4" name="Line 89"/>
            <p:cNvSpPr/>
            <p:nvPr/>
          </p:nvSpPr>
          <p:spPr>
            <a:xfrm flipH="1">
              <a:off x="5137200" y="2981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5" name="Line 90"/>
            <p:cNvSpPr/>
            <p:nvPr/>
          </p:nvSpPr>
          <p:spPr>
            <a:xfrm flipH="1">
              <a:off x="4927320" y="1885680"/>
              <a:ext cx="53316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6" name="Line 91"/>
            <p:cNvSpPr/>
            <p:nvPr/>
          </p:nvSpPr>
          <p:spPr>
            <a:xfrm>
              <a:off x="5281560" y="2973240"/>
              <a:ext cx="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7" name="Line 92"/>
            <p:cNvSpPr/>
            <p:nvPr/>
          </p:nvSpPr>
          <p:spPr>
            <a:xfrm>
              <a:off x="4956120" y="1885680"/>
              <a:ext cx="0" cy="146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8" name="Text Box 93"/>
            <p:cNvSpPr/>
            <p:nvPr/>
          </p:nvSpPr>
          <p:spPr>
            <a:xfrm>
              <a:off x="5129280" y="155412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599" name="Text Box 94"/>
            <p:cNvSpPr/>
            <p:nvPr/>
          </p:nvSpPr>
          <p:spPr>
            <a:xfrm>
              <a:off x="5005440" y="304956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U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0" name="Line 76"/>
            <p:cNvSpPr/>
            <p:nvPr/>
          </p:nvSpPr>
          <p:spPr>
            <a:xfrm>
              <a:off x="5456160" y="2249280"/>
              <a:ext cx="29656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1" name="Line 77"/>
            <p:cNvSpPr/>
            <p:nvPr/>
          </p:nvSpPr>
          <p:spPr>
            <a:xfrm>
              <a:off x="5481720" y="1887480"/>
              <a:ext cx="293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2" name="Oval 84"/>
            <p:cNvSpPr/>
            <p:nvPr/>
          </p:nvSpPr>
          <p:spPr>
            <a:xfrm>
              <a:off x="6523200" y="1876320"/>
              <a:ext cx="4428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3" name="Oval 86"/>
            <p:cNvSpPr/>
            <p:nvPr/>
          </p:nvSpPr>
          <p:spPr>
            <a:xfrm>
              <a:off x="7621560" y="2230200"/>
              <a:ext cx="4464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4" name="Text Box 95"/>
            <p:cNvSpPr/>
            <p:nvPr/>
          </p:nvSpPr>
          <p:spPr>
            <a:xfrm>
              <a:off x="5545080" y="169704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S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5" name="Text Box 96"/>
            <p:cNvSpPr/>
            <p:nvPr/>
          </p:nvSpPr>
          <p:spPr>
            <a:xfrm>
              <a:off x="5535720" y="2030400"/>
              <a:ext cx="323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S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6" name="Text Box 97"/>
            <p:cNvSpPr/>
            <p:nvPr/>
          </p:nvSpPr>
          <p:spPr>
            <a:xfrm>
              <a:off x="6053040" y="334476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7" name="Text Box 98"/>
            <p:cNvSpPr/>
            <p:nvPr/>
          </p:nvSpPr>
          <p:spPr>
            <a:xfrm>
              <a:off x="6399360" y="333828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8" name="Text Box 99"/>
            <p:cNvSpPr/>
            <p:nvPr/>
          </p:nvSpPr>
          <p:spPr>
            <a:xfrm>
              <a:off x="6773760" y="334152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09" name="Text Box 100"/>
            <p:cNvSpPr/>
            <p:nvPr/>
          </p:nvSpPr>
          <p:spPr>
            <a:xfrm>
              <a:off x="7472520" y="332568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10" name="Text Box 101"/>
            <p:cNvSpPr/>
            <p:nvPr/>
          </p:nvSpPr>
          <p:spPr>
            <a:xfrm>
              <a:off x="7147080" y="3352680"/>
              <a:ext cx="352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11" name="Text Box 102"/>
            <p:cNvSpPr/>
            <p:nvPr/>
          </p:nvSpPr>
          <p:spPr>
            <a:xfrm>
              <a:off x="6440400" y="3668760"/>
              <a:ext cx="96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M i n t á k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12" name="Text Box 103"/>
            <p:cNvSpPr/>
            <p:nvPr/>
          </p:nvSpPr>
          <p:spPr>
            <a:xfrm>
              <a:off x="8529480" y="316368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13" name="Line 109"/>
            <p:cNvSpPr/>
            <p:nvPr/>
          </p:nvSpPr>
          <p:spPr>
            <a:xfrm>
              <a:off x="5451480" y="2977920"/>
              <a:ext cx="296532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14" name="Line 110"/>
            <p:cNvSpPr/>
            <p:nvPr/>
          </p:nvSpPr>
          <p:spPr>
            <a:xfrm>
              <a:off x="5477040" y="2616120"/>
              <a:ext cx="293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15" name="Oval 111"/>
            <p:cNvSpPr/>
            <p:nvPr/>
          </p:nvSpPr>
          <p:spPr>
            <a:xfrm>
              <a:off x="6162840" y="2962080"/>
              <a:ext cx="4428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16" name="Oval 113"/>
            <p:cNvSpPr/>
            <p:nvPr/>
          </p:nvSpPr>
          <p:spPr>
            <a:xfrm>
              <a:off x="6892920" y="2597040"/>
              <a:ext cx="44280" cy="4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17" name="Text Box 115"/>
            <p:cNvSpPr/>
            <p:nvPr/>
          </p:nvSpPr>
          <p:spPr>
            <a:xfrm>
              <a:off x="5530680" y="239688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S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618" name="Text Box 116"/>
            <p:cNvSpPr/>
            <p:nvPr/>
          </p:nvSpPr>
          <p:spPr>
            <a:xfrm>
              <a:off x="5530680" y="2759040"/>
              <a:ext cx="324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 CE"/>
                </a:rPr>
                <a:t>S</a:t>
              </a:r>
              <a:r>
                <a:rPr b="0" lang="hu-HU" sz="1000" spc="-1" strike="noStrike" baseline="-25000">
                  <a:solidFill>
                    <a:srgbClr val="000000"/>
                  </a:solidFill>
                  <a:latin typeface="Arial CE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9" name="Object 117"/>
              <p:cNvSpPr txBox="1"/>
              <p:nvPr/>
            </p:nvSpPr>
            <p:spPr>
              <a:xfrm>
                <a:off x="4886280" y="3971880"/>
                <a:ext cx="17780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118"/>
              <p:cNvSpPr txBox="1"/>
              <p:nvPr/>
            </p:nvSpPr>
            <p:spPr>
              <a:xfrm>
                <a:off x="7035840" y="4281480"/>
                <a:ext cx="14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lim>
                        <m:r>
                          <m:t xml:space="preserve">2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120"/>
              <p:cNvSpPr txBox="1"/>
              <p:nvPr/>
            </p:nvSpPr>
            <p:spPr>
              <a:xfrm>
                <a:off x="2392200" y="5106960"/>
                <a:ext cx="9702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lim>
                            <m:r>
                              <m:t xml:space="preserve">2</m:t>
                            </m:r>
                          </m:lim>
                        </m:limUpp>
                        <m:r>
                          <m:t xml:space="preserve">S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1"/>
              <p:cNvSpPr txBox="1"/>
              <p:nvPr/>
            </p:nvSpPr>
            <p:spPr>
              <a:xfrm>
                <a:off x="4819680" y="5226120"/>
                <a:ext cx="1917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él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536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Dátum helye 5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A792-BCA1-4AE2-85EB-DF37A84563B9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24" name="Dia számának helye 6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F42B-2114-492D-A57E-FAD632DD2ED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12840" y="3048120"/>
            <a:ext cx="8547120" cy="120636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7381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tviendő információ mennyisége Shannon szer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Zenecsator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számításnál minden jelszint mindig azonos valószínűséggel fordulhat elő, ezért a kvantálási szint a legkisebb, a zajból még éppen kihallható jelsz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466560" y="3097080"/>
                <a:ext cx="8237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e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aj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bi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1092240" y="1887480"/>
                <a:ext cx="1638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6B8B-98C5-4585-9892-421DCA24A65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30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6EBE-B033-47AD-B842-74F17FA483B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HANGTÖMÖRÍTÉ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86920" y="873000"/>
            <a:ext cx="8691480" cy="447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Tömörítés= redundancia csökken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ve: amit nem hallunk azt nem kell átvin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hhez meg kell vizsgálni mi az amit hallun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az milyenek is az emberi hallás sajátossága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E6F-2D55-480E-9B69-563EBF13D0E9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75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F53E-8896-4397-BD48-B6D04FCBA39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6" name="Picture 2" descr="sin_terbeli"/>
          <p:cNvPicPr/>
          <p:nvPr/>
        </p:nvPicPr>
        <p:blipFill>
          <a:blip r:embed="rId1"/>
          <a:stretch/>
        </p:blipFill>
        <p:spPr>
          <a:xfrm>
            <a:off x="3708360" y="3573360"/>
            <a:ext cx="3565440" cy="1814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hang jellemzői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5865840" y="2444760"/>
                <a:ext cx="82440" cy="1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1612800" y="1817640"/>
                <a:ext cx="930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Text Box 6"/>
          <p:cNvSpPr/>
          <p:nvPr/>
        </p:nvSpPr>
        <p:spPr>
          <a:xfrm>
            <a:off x="611280" y="3213000"/>
            <a:ext cx="79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 Térbeli periodicitás -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ullámhoss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m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81" name="Picture 7" descr="sin_idobeni"/>
          <p:cNvPicPr/>
          <p:nvPr/>
        </p:nvPicPr>
        <p:blipFill>
          <a:blip r:embed="rId2"/>
          <a:stretch/>
        </p:blipFill>
        <p:spPr>
          <a:xfrm>
            <a:off x="3708360" y="1338120"/>
            <a:ext cx="3562560" cy="1812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611280" y="5445000"/>
            <a:ext cx="795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mplitúdó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Pa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06600" y="984240"/>
            <a:ext cx="79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 Időbeni periodicitás -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rekvenc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Hz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D763-6770-4C56-82A8-3FD7E63DF18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34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3772-5D3B-4F84-87F9-62D74CFA186F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DINAMIKA KOMPRESSZIÓ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átviteli csatorna JEL/ZAJ viszonya meghatározza a maximálisan átvihető dinamikát!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zaj a teljes sávot kihasználja, a hangjel viszont ne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átviteli csatorna jobb kihasználására több lehetőség kínálkozik, ez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dinamika komprimál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beszédcsúcsok levágás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kis amplitúdójú frekvenciasávok kiemel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7" descr="DINKOMP"/>
          <p:cNvPicPr/>
          <p:nvPr/>
        </p:nvPicPr>
        <p:blipFill>
          <a:blip r:embed="rId1"/>
          <a:stretch/>
        </p:blipFill>
        <p:spPr>
          <a:xfrm>
            <a:off x="1692360" y="2781360"/>
            <a:ext cx="58338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698F-F2DB-434D-94D8-211BC0C8FE7A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39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BE28-E33D-43D2-B854-E0DCA4AE27B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DINAMIKA KOMPRESSZIÓ/EXPANZIÓ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41" name="Picture 7" descr="KOMPEXP"/>
          <p:cNvPicPr/>
          <p:nvPr/>
        </p:nvPicPr>
        <p:blipFill>
          <a:blip r:embed="rId1"/>
          <a:stretch/>
        </p:blipFill>
        <p:spPr>
          <a:xfrm>
            <a:off x="2627280" y="836640"/>
            <a:ext cx="38386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Dátum helye 4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FB26-35A7-463F-9B67-5C8D606ED61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3" name="Dia számának helye 5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0A04-2697-4DE5-9268-E246BCDB073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SÚLYOZÓ SZŰRŐK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csatorna zaja a fül érzékenységének megfelelően hallható. A súlyozó szűrő feladata, hogy a zajokat az egész sávban azonos hangossággal vegyük figyelem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9" descr="PROGTRANS"/>
          <p:cNvPicPr/>
          <p:nvPr/>
        </p:nvPicPr>
        <p:blipFill>
          <a:blip r:embed="rId1"/>
          <a:stretch/>
        </p:blipFill>
        <p:spPr>
          <a:xfrm>
            <a:off x="611280" y="1628640"/>
            <a:ext cx="83534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7B4E-363D-4571-9DD5-87ABFA2A5D39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5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97AB-A84E-4714-A312-267689FD968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hang jellemzői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06600" y="1162080"/>
            <a:ext cx="795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4. Hangintenzit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W/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hu-H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5865840" y="2444760"/>
                <a:ext cx="82440" cy="1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Text Box 5"/>
          <p:cNvSpPr/>
          <p:nvPr/>
        </p:nvSpPr>
        <p:spPr>
          <a:xfrm>
            <a:off x="641520" y="2471760"/>
            <a:ext cx="79531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5. Relatív hangintenzitás (intenzitásszint)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dB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hol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viszonyítási szint, általában 10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W/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652920" y="3008160"/>
                <a:ext cx="1674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1" name="Group 7"/>
          <p:cNvGrpSpPr/>
          <p:nvPr/>
        </p:nvGrpSpPr>
        <p:grpSpPr>
          <a:xfrm>
            <a:off x="528480" y="4800600"/>
            <a:ext cx="8005680" cy="1114200"/>
            <a:chOff x="528480" y="4800600"/>
            <a:chExt cx="8005680" cy="1114200"/>
          </a:xfrm>
        </p:grpSpPr>
        <p:sp>
          <p:nvSpPr>
            <p:cNvPr id="92" name="Line 8"/>
            <p:cNvSpPr/>
            <p:nvPr/>
          </p:nvSpPr>
          <p:spPr>
            <a:xfrm>
              <a:off x="549000" y="5392440"/>
              <a:ext cx="798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93" name="Line 9"/>
            <p:cNvSpPr/>
            <p:nvPr/>
          </p:nvSpPr>
          <p:spPr>
            <a:xfrm>
              <a:off x="2052360" y="5232240"/>
              <a:ext cx="0" cy="32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94" name="Line 10"/>
            <p:cNvSpPr/>
            <p:nvPr/>
          </p:nvSpPr>
          <p:spPr>
            <a:xfrm>
              <a:off x="2890800" y="5232240"/>
              <a:ext cx="0" cy="32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95" name="Line 11"/>
            <p:cNvSpPr/>
            <p:nvPr/>
          </p:nvSpPr>
          <p:spPr>
            <a:xfrm>
              <a:off x="3728880" y="5232240"/>
              <a:ext cx="0" cy="32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>
              <a:off x="4566960" y="5232240"/>
              <a:ext cx="0" cy="32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>
              <a:off x="5405400" y="5232240"/>
              <a:ext cx="0" cy="32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>
              <a:off x="6243480" y="5232240"/>
              <a:ext cx="0" cy="32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99" name="Line 15"/>
            <p:cNvSpPr/>
            <p:nvPr/>
          </p:nvSpPr>
          <p:spPr>
            <a:xfrm>
              <a:off x="7081560" y="5232240"/>
              <a:ext cx="0" cy="32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0" name="Line 16"/>
            <p:cNvSpPr/>
            <p:nvPr/>
          </p:nvSpPr>
          <p:spPr>
            <a:xfrm>
              <a:off x="7843680" y="5232240"/>
              <a:ext cx="0" cy="32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1" name="Text Box 17"/>
            <p:cNvSpPr/>
            <p:nvPr/>
          </p:nvSpPr>
          <p:spPr>
            <a:xfrm>
              <a:off x="528480" y="4952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, W/m</a:t>
              </a:r>
              <a:r>
                <a:rPr b="1" lang="hu-HU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2" name="Text Box 18"/>
            <p:cNvSpPr/>
            <p:nvPr/>
          </p:nvSpPr>
          <p:spPr>
            <a:xfrm>
              <a:off x="680760" y="54100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, dB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3" name="Text Box 19"/>
            <p:cNvSpPr/>
            <p:nvPr/>
          </p:nvSpPr>
          <p:spPr>
            <a:xfrm>
              <a:off x="1823760" y="4800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hu-HU" sz="1800" spc="-1" strike="noStrike" baseline="30000">
                  <a:solidFill>
                    <a:srgbClr val="000000"/>
                  </a:solidFill>
                  <a:latin typeface="Arial"/>
                </a:rPr>
                <a:t>–12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4" name="Text Box 20"/>
            <p:cNvSpPr/>
            <p:nvPr/>
          </p:nvSpPr>
          <p:spPr>
            <a:xfrm>
              <a:off x="2662200" y="4800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hu-HU" sz="1800" spc="-1" strike="noStrike" baseline="30000">
                  <a:solidFill>
                    <a:srgbClr val="000000"/>
                  </a:solidFill>
                  <a:latin typeface="Arial"/>
                </a:rPr>
                <a:t>–11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5" name="Text Box 21"/>
            <p:cNvSpPr/>
            <p:nvPr/>
          </p:nvSpPr>
          <p:spPr>
            <a:xfrm>
              <a:off x="3500280" y="4800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hu-HU" sz="1800" spc="-1" strike="noStrike" baseline="30000">
                  <a:solidFill>
                    <a:srgbClr val="000000"/>
                  </a:solidFill>
                  <a:latin typeface="Arial"/>
                </a:rPr>
                <a:t>–10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6" name="Text Box 22"/>
            <p:cNvSpPr/>
            <p:nvPr/>
          </p:nvSpPr>
          <p:spPr>
            <a:xfrm>
              <a:off x="4338360" y="4800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hu-HU" sz="1800" spc="-1" strike="noStrike" baseline="30000">
                  <a:solidFill>
                    <a:srgbClr val="000000"/>
                  </a:solidFill>
                  <a:latin typeface="Arial"/>
                </a:rPr>
                <a:t>–9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7" name="Text Box 23"/>
            <p:cNvSpPr/>
            <p:nvPr/>
          </p:nvSpPr>
          <p:spPr>
            <a:xfrm>
              <a:off x="5176800" y="4800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hu-HU" sz="1800" spc="-1" strike="noStrike" baseline="30000">
                  <a:solidFill>
                    <a:srgbClr val="000000"/>
                  </a:solidFill>
                  <a:latin typeface="Arial"/>
                </a:rPr>
                <a:t>–8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8" name="Text Box 24"/>
            <p:cNvSpPr/>
            <p:nvPr/>
          </p:nvSpPr>
          <p:spPr>
            <a:xfrm>
              <a:off x="6014880" y="4800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hu-HU" sz="1800" spc="-1" strike="noStrike" baseline="30000">
                  <a:solidFill>
                    <a:srgbClr val="000000"/>
                  </a:solidFill>
                  <a:latin typeface="Arial"/>
                </a:rPr>
                <a:t>–7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09" name="Text Box 25"/>
            <p:cNvSpPr/>
            <p:nvPr/>
          </p:nvSpPr>
          <p:spPr>
            <a:xfrm>
              <a:off x="6852960" y="4800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hu-HU" sz="1800" spc="-1" strike="noStrike" baseline="30000">
                  <a:solidFill>
                    <a:srgbClr val="000000"/>
                  </a:solidFill>
                  <a:latin typeface="Arial"/>
                </a:rPr>
                <a:t>–6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615080" y="4800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hu-HU" sz="1800" spc="-1" strike="noStrike" baseline="30000">
                  <a:solidFill>
                    <a:srgbClr val="000000"/>
                  </a:solidFill>
                  <a:latin typeface="Arial"/>
                </a:rPr>
                <a:t>–5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1823760" y="5546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2662200" y="55465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13" name="Text Box 29"/>
            <p:cNvSpPr/>
            <p:nvPr/>
          </p:nvSpPr>
          <p:spPr>
            <a:xfrm>
              <a:off x="3500280" y="5546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14" name="Text Box 30"/>
            <p:cNvSpPr/>
            <p:nvPr/>
          </p:nvSpPr>
          <p:spPr>
            <a:xfrm>
              <a:off x="4338360" y="5546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5176800" y="55465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16" name="Text Box 32"/>
            <p:cNvSpPr/>
            <p:nvPr/>
          </p:nvSpPr>
          <p:spPr>
            <a:xfrm>
              <a:off x="6014880" y="5546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17" name="Text Box 33"/>
            <p:cNvSpPr/>
            <p:nvPr/>
          </p:nvSpPr>
          <p:spPr>
            <a:xfrm>
              <a:off x="6852960" y="5546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sp>
          <p:nvSpPr>
            <p:cNvPr id="118" name="Text Box 34"/>
            <p:cNvSpPr/>
            <p:nvPr/>
          </p:nvSpPr>
          <p:spPr>
            <a:xfrm>
              <a:off x="7615080" y="5546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 C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26E7-03A0-4716-A8B4-235CE3A8BE11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0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4B4-5485-48D4-94F7-0FAB5EAC2E8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hangérzet jellemzői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6600" y="1162080"/>
            <a:ext cx="79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. A hangérzet típusai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23" name="Picture 4" descr="zenezorejdorej"/>
          <p:cNvPicPr/>
          <p:nvPr/>
        </p:nvPicPr>
        <p:blipFill>
          <a:blip r:embed="rId1"/>
          <a:stretch/>
        </p:blipFill>
        <p:spPr>
          <a:xfrm>
            <a:off x="1258920" y="1751040"/>
            <a:ext cx="583416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1C6B-A0C1-4990-8813-77F6508C645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5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C50D-C347-42F5-A226-D5A4C5AB0AC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755640" y="4653000"/>
            <a:ext cx="79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4. Hangszín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laphanghoz csatlakozó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elhang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rekvenciája és viszonylagos erősség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atározza meg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84360" y="3429000"/>
            <a:ext cx="79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3. Hangmagasság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gés (alaprezgés)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rekvenciájátó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 – magasabb hang, nagyobb frekvencia (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GALILE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907920"/>
            <a:ext cx="7953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. A hang színképe (spektruma)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Zenei hang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Fourier-tétel alapján):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rekvenciájú alaphang + 2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… frekvenciájú harmonikus felhangok: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(t)=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t+ p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t+ p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t+…,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hol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hangérzet jellemzői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2924280"/>
            <a:ext cx="79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zörej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ínképe folytonos.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átum helye 3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6942-1148-4555-9CE0-DD9C295BBC98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32" name="Dia számának helye 4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A87E-A3E1-45BB-9DC5-EA679B202EF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 teljes hang-tartomán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4" name="Picture 7" descr="HALTART"/>
          <p:cNvPicPr/>
          <p:nvPr/>
        </p:nvPicPr>
        <p:blipFill>
          <a:blip r:embed="rId1"/>
          <a:stretch/>
        </p:blipFill>
        <p:spPr>
          <a:xfrm>
            <a:off x="1332000" y="716040"/>
            <a:ext cx="648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átum helye 2"/>
          <p:cNvSpPr/>
          <p:nvPr/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F692-0CE8-4BAC-A5A3-31F43C1205B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36" name="Dia számának helye 3"/>
          <p:cNvSpPr/>
          <p:nvPr/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D436-12DE-4BB5-8DA7-A8E0017F235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611280" y="836640"/>
            <a:ext cx="79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5. A hallható hangok felosztása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hangérzet jellemzői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39" name="Picture 4" descr="hallhato"/>
          <p:cNvPicPr/>
          <p:nvPr/>
        </p:nvPicPr>
        <p:blipFill>
          <a:blip r:embed="rId1"/>
          <a:stretch/>
        </p:blipFill>
        <p:spPr>
          <a:xfrm>
            <a:off x="1547640" y="1341360"/>
            <a:ext cx="5791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3:08:29Z</dcterms:created>
  <dc:creator>honfy</dc:creator>
  <dc:description/>
  <dc:language>en-US</dc:language>
  <cp:lastModifiedBy>Vári Péter</cp:lastModifiedBy>
  <dcterms:modified xsi:type="dcterms:W3CDTF">2011-10-06T14:35:31Z</dcterms:modified>
  <cp:revision>11</cp:revision>
  <dc:subject/>
  <dc:title>HANGJELEK</dc:title>
</cp:coreProperties>
</file>