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A158-EA1C-41A3-B46D-F858E79C8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7D00-E394-4915-9A6C-E773454E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1B6B-6B5F-445F-9B08-65F6D82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5216-7301-4E59-A920-D7D5DB524C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1A57-9B2E-416A-8B3C-92690C16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1571-D047-468E-88BD-98527246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3D42-CD3C-4991-B301-47DD4932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C056-985D-4E01-8525-A0F36521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78AA-8E64-4E37-878A-A6AA9111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8ECA-7753-41CC-A340-B6CD5761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8059-2C39-4BA9-9582-4AC0711A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E69B-A908-4A78-9AD9-06FEABD7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aac2f2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2" name="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9" name="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1ff71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71ff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c05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93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c059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1F16-6599-4A09-8A52-4EFE11BA8489}" type="slidenum">
              <a:rPr b="0" lang="en-US" sz="1000" spc="-1" strike="noStrike">
                <a:solidFill>
                  <a:srgbClr val="0c0593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0" y="6469200"/>
            <a:ext cx="9143640" cy="388440"/>
            <a:chOff x="0" y="6469200"/>
            <a:chExt cx="9143640" cy="388440"/>
          </a:xfrm>
        </p:grpSpPr>
        <p:sp>
          <p:nvSpPr>
            <p:cNvPr id="18" name=""/>
            <p:cNvSpPr/>
            <p:nvPr/>
          </p:nvSpPr>
          <p:spPr>
            <a:xfrm>
              <a:off x="0" y="64692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66013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67338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477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6096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67417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0" y="6200640"/>
            <a:ext cx="1440720" cy="648000"/>
            <a:chOff x="0" y="6200640"/>
            <a:chExt cx="1440720" cy="648000"/>
          </a:xfrm>
        </p:grpSpPr>
        <p:sp>
          <p:nvSpPr>
            <p:cNvPr id="25" name=""/>
            <p:cNvSpPr/>
            <p:nvPr/>
          </p:nvSpPr>
          <p:spPr>
            <a:xfrm>
              <a:off x="83880" y="6200640"/>
              <a:ext cx="1275480" cy="648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49240"/>
              <a:ext cx="1440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Vári Péter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Külső oktató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SZÉCHENYI I. EGYETEM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ávközlési Tanszék</a:t>
              </a:r>
              <a:endParaRPr b="0" lang="en-US" sz="800" spc="-1" strike="noStrike">
                <a:solidFill>
                  <a:srgbClr val="0c059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3440" y="1045440"/>
            <a:ext cx="898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593"/>
                </a:solidFill>
                <a:latin typeface="Arial CE"/>
              </a:rPr>
              <a:t>Beszéd átvitel minőségi követelményei</a:t>
            </a:r>
            <a:endParaRPr b="0" lang="en-US" sz="4000" spc="-1" strike="noStrike">
              <a:solidFill>
                <a:srgbClr val="0c0593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5360" y="317520"/>
            <a:ext cx="8690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A beszéd (20 Hz, 5000 Hz) míg a zene a (10 Hz, 20 KHz) frekvenciasávba esik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Az analóg beszédátvitelt a frekvenciasávon kívül a jel-zaj viszony is minősíti, melynek határértéke a klasszikus telefóniában, a halk beszédnél 20 - 25 dB.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Egy másik alapvető jellemző a tolerálható nemlineáris torzítás mértéke.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A nemlineáris torzítás egy tiszta szinuszos jellel gerjesztett nemlineáris elem (pl. szénmikrofon) kimenetén megjelenő felharmonikus tartalommal mérhető, a következő módon: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3800" y="4375080"/>
            <a:ext cx="1830600" cy="166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28880" y="4788000"/>
            <a:ext cx="608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Ahol </a:t>
            </a:r>
            <a:r>
              <a:rPr b="0" i="1" lang="hu-HU" sz="2400" spc="-1" strike="noStrike">
                <a:solidFill>
                  <a:srgbClr val="0c0593"/>
                </a:solidFill>
                <a:latin typeface="Arial CE"/>
              </a:rPr>
              <a:t>c</a:t>
            </a:r>
            <a:r>
              <a:rPr b="0" i="1" lang="hu-HU" sz="1600" spc="-1" strike="noStrike">
                <a:solidFill>
                  <a:srgbClr val="0c0593"/>
                </a:solidFill>
                <a:latin typeface="Arial CE"/>
              </a:rPr>
              <a:t>1</a:t>
            </a:r>
            <a:r>
              <a:rPr b="0" i="1" lang="hu-HU" sz="2400" spc="-1" strike="noStrike">
                <a:solidFill>
                  <a:srgbClr val="0c0593"/>
                </a:solidFill>
                <a:latin typeface="Arial CE"/>
              </a:rPr>
              <a:t> 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az </a:t>
            </a:r>
            <a:r>
              <a:rPr b="0" i="1" lang="hu-HU" sz="2400" spc="-1" strike="noStrike">
                <a:solidFill>
                  <a:srgbClr val="0c0593"/>
                </a:solidFill>
                <a:latin typeface="Arial CE"/>
              </a:rPr>
              <a:t>f</a:t>
            </a:r>
            <a:r>
              <a:rPr b="0" i="1" lang="hu-HU" sz="1000" spc="-1" strike="noStrike">
                <a:solidFill>
                  <a:srgbClr val="0c0593"/>
                </a:solidFill>
                <a:latin typeface="Arial CE"/>
              </a:rPr>
              <a:t>0</a:t>
            </a:r>
            <a:r>
              <a:rPr b="0" i="1" lang="hu-HU" sz="2400" spc="-1" strike="noStrike">
                <a:solidFill>
                  <a:srgbClr val="0c0593"/>
                </a:solidFill>
                <a:latin typeface="Arial CE"/>
              </a:rPr>
              <a:t> 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frekvenciájú alapharmonikus együtthatója, míg </a:t>
            </a:r>
            <a:r>
              <a:rPr b="0" i="1" lang="hu-HU" sz="2400" spc="-1" strike="noStrike">
                <a:solidFill>
                  <a:srgbClr val="0c0593"/>
                </a:solidFill>
                <a:latin typeface="Arial CE"/>
              </a:rPr>
              <a:t>c </a:t>
            </a:r>
            <a:r>
              <a:rPr b="0" i="1" lang="hu-HU" sz="1200" spc="-1" strike="noStrike">
                <a:solidFill>
                  <a:srgbClr val="0c0593"/>
                </a:solidFill>
                <a:latin typeface="Arial CE"/>
              </a:rPr>
              <a:t>i</a:t>
            </a:r>
            <a:endParaRPr b="0" lang="en-US" sz="12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az </a:t>
            </a:r>
            <a:r>
              <a:rPr b="0" i="1" lang="hu-HU" sz="2400" spc="-1" strike="noStrike">
                <a:solidFill>
                  <a:srgbClr val="0c0593"/>
                </a:solidFill>
                <a:latin typeface="Arial CE"/>
              </a:rPr>
              <a:t>if</a:t>
            </a:r>
            <a:r>
              <a:rPr b="0" i="1" lang="hu-HU" sz="1000" spc="-1" strike="noStrike">
                <a:solidFill>
                  <a:srgbClr val="0c0593"/>
                </a:solidFill>
                <a:latin typeface="Arial CE"/>
              </a:rPr>
              <a:t>0</a:t>
            </a:r>
            <a:r>
              <a:rPr b="0" i="1" lang="hu-HU" sz="2400" spc="-1" strike="noStrike">
                <a:solidFill>
                  <a:srgbClr val="0c0593"/>
                </a:solidFill>
                <a:latin typeface="Arial CE"/>
              </a:rPr>
              <a:t> , i=2,3.... 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frekvenciához tartozó felharmonikus amplitúdó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 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1200" y="40320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Az analóg műsorszórásban a </a:t>
            </a:r>
            <a:r>
              <a:rPr b="0" i="1" lang="hu-HU" sz="2400" spc="-1" strike="noStrike">
                <a:solidFill>
                  <a:srgbClr val="0c0593"/>
                </a:solidFill>
                <a:latin typeface="Arial CE"/>
              </a:rPr>
              <a:t>k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=1%, amíg az analóg telefóniában </a:t>
            </a:r>
            <a:r>
              <a:rPr b="0" i="1" lang="hu-HU" sz="2400" spc="-1" strike="noStrike">
                <a:solidFill>
                  <a:srgbClr val="0c0593"/>
                </a:solidFill>
                <a:latin typeface="Arial CE"/>
              </a:rPr>
              <a:t>k </a:t>
            </a:r>
            <a:r>
              <a:rPr b="0" lang="hu-HU" sz="2400" spc="-1" strike="noStrike">
                <a:solidFill>
                  <a:srgbClr val="0c0593"/>
                </a:solidFill>
                <a:latin typeface="Arial CE"/>
              </a:rPr>
              <a:t>=5-10 a megengedett érték. Az érték attól függ, hogy a torzítás termékek a hallható tartományba esik-e.</a:t>
            </a:r>
            <a:endParaRPr b="0" lang="en-US" sz="2400" spc="-1" strike="noStrike">
              <a:solidFill>
                <a:srgbClr val="0c059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32868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"/>
              </a:rPr>
              <a:t>A beszédjel statisztikai tulajdonságai</a:t>
            </a:r>
            <a:br>
              <a:rPr sz="2400"/>
            </a:b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26640"/>
            <a:ext cx="5092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c0593"/>
                </a:solidFill>
                <a:latin typeface="Arial"/>
              </a:rPr>
              <a:t>A beszédjelek nemstacionárius véletlen folyamatok, ezért a rövidtávú statisztikák (amelyeket általában 32msec hosszúságú időintervallumon vesznek fel) alapvetően különböznek a hosszútávú statisztikától (amelyet 6400 msec hosszúságú időintevallummon számolnak</a:t>
            </a: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).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A legtöbb kutató a hossztávú statisztikát Laplace eloszlással közelítette, amelynek sűrűségfüggvénye: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ahol: ahol σa szórás (gyakorlatilag az effektív érték)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c0593"/>
                </a:solidFill>
                <a:latin typeface="Arial"/>
              </a:rPr>
              <a:t>A modellezéshez használt sűrűségfüggvény, a beszédjel szórásának az időfüggése:</a:t>
            </a: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0593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92880" y="839880"/>
            <a:ext cx="3314520" cy="2638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71720" y="4438800"/>
            <a:ext cx="1832040" cy="67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262480" y="4390920"/>
            <a:ext cx="3571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36160" y="258480"/>
            <a:ext cx="7870680" cy="48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digitális beszédjel jel-zaj viszonyát az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hol,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σ</a:t>
            </a:r>
            <a:r>
              <a:rPr b="0" lang="hu-HU" sz="1000" spc="-1" strike="noStrike">
                <a:solidFill>
                  <a:srgbClr val="0c0593"/>
                </a:solidFill>
                <a:latin typeface="Arial"/>
              </a:rPr>
              <a:t>x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az analóg beszédminták szórását, míg a</a:t>
            </a:r>
            <a:r>
              <a:rPr b="0" i="1" lang="hu-HU" sz="1600" spc="-1" strike="noStrike">
                <a:solidFill>
                  <a:srgbClr val="0c0593"/>
                </a:solidFill>
                <a:latin typeface="Arial"/>
              </a:rPr>
              <a:t>z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σ</a:t>
            </a:r>
            <a:r>
              <a:rPr b="0" lang="hu-HU" sz="1000" spc="-1" strike="noStrike">
                <a:solidFill>
                  <a:srgbClr val="0c0593"/>
                </a:solidFill>
                <a:latin typeface="Arial"/>
              </a:rPr>
              <a:t>z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a kvantált beszédminták szórását jelöli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6400800"/>
            <a:ext cx="8380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c0593"/>
                </a:solidFill>
                <a:latin typeface="Arial"/>
              </a:rPr>
              <a:t>Folyt.</a:t>
            </a:r>
            <a:r>
              <a:rPr b="1" lang="en-US" sz="1600" spc="-1" strike="noStrike">
                <a:solidFill>
                  <a:srgbClr val="0c059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0593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172040" y="914400"/>
            <a:ext cx="1520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1680" y="1234800"/>
            <a:ext cx="8464680" cy="39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szabványos digitális telefóniában (PCM rendszerek) a beszédjel sávszélességét (300 Hz, 3400 Hz)-ben határozták meg. A PCM kódoló 8 KHz-es mintavételi frekvenciát használ, amit egy 8 bites logaritmikus kvantáló követ. Ezért a beszéd által igényelt digitális sávszélesség 64 Kb/s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PCM rendszerekben a jel-zaj viszony minden bit hozzáadásával közel 6 dB-vel javul, pontosabban 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, ahol </a:t>
            </a:r>
            <a:r>
              <a:rPr b="0" i="1" lang="hu-HU" sz="1600" spc="-1" strike="noStrike">
                <a:solidFill>
                  <a:srgbClr val="0c0593"/>
                </a:solidFill>
                <a:latin typeface="Arial"/>
              </a:rPr>
              <a:t>a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egy empirikus konstans 1&lt;</a:t>
            </a:r>
            <a:r>
              <a:rPr b="0" i="1" lang="hu-HU" sz="1600" spc="-1" strike="noStrike">
                <a:solidFill>
                  <a:srgbClr val="0c0593"/>
                </a:solidFill>
                <a:latin typeface="Arial"/>
              </a:rPr>
              <a:t>a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&lt;10, valamint </a:t>
            </a:r>
            <a:r>
              <a:rPr b="0" i="1" lang="hu-HU" sz="1600" spc="-1" strike="noStrike">
                <a:solidFill>
                  <a:srgbClr val="0c0593"/>
                </a:solidFill>
                <a:latin typeface="Arial"/>
              </a:rPr>
              <a:t>n </a:t>
            </a: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kvantálásnál használt bináris kódszó hossza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c0593"/>
                </a:solidFill>
                <a:latin typeface="Arial"/>
              </a:rPr>
              <a:t>A mobil telefóniában a GSM 06.10 transzkódolás használatos Európa szerte. Ez 13 kb/s-os sávszélességet ér el hosszú távú predikciót is használ.</a:t>
            </a: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05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Digitális telefóni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1160" y="3103560"/>
            <a:ext cx="169236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 zene leírása</a:t>
            </a:r>
            <a:r>
              <a:rPr b="1" lang="en-US" sz="1800" spc="-1" strike="noStrike">
                <a:solidFill>
                  <a:srgbClr val="ef5a0f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280" y="814320"/>
            <a:ext cx="8110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5T19:09:54Z</dcterms:created>
  <dc:creator>HONFY</dc:creator>
  <dc:description/>
  <cp:keywords/>
  <dc:language>en-US</dc:language>
  <cp:lastModifiedBy>Vári Péter</cp:lastModifiedBy>
  <dcterms:modified xsi:type="dcterms:W3CDTF">2008-09-17T21:54:54Z</dcterms:modified>
  <cp:revision>88</cp:revision>
  <dc:subject/>
  <dc:title>MOBIL TÁVKÖZLÉS ANTENNA RENDSZEREI</dc:title>
</cp:coreProperties>
</file>