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744-DE04-4EF8-9965-BC8FC291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042-C1E8-4FA9-A06C-A61E3FBE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8C5-7A71-49A2-BAF9-70EDE8BE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26C-4EDC-47A8-9D1C-87F5FE8F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47C-F23D-4831-8451-FBB76C8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06B-5CB9-42C6-A804-FABC0EE8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5E6-4AA1-4F62-9B56-E1034C03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A22-7183-486A-A90F-03D91CA6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3F0-21C1-4BD2-A44E-4ACF2F36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776-912B-46FD-B0A4-6B8269C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7C2-5DFC-4D23-8E67-8C854D8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F84-94B0-4F61-8D2A-4C9AE912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A0F5-21A7-46DF-A13C-7C83CCF2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ÍRKÖZLÉSELMÉ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rigyes István – Bitó János –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kki Pé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6-07/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hogyan jellemezzü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 félig-véletlen bináris jel: értékkészle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 (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 0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váltás: csak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×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-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Első sűrűsé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ásod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495680" y="2751120"/>
                <a:ext cx="33530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9480" y="3543480"/>
                <a:ext cx="8305920" cy="26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  <m:r>
                                        <m:t xml:space="preserve">,</m:t>
                                      </m:r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</m:d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  <m:r>
                                        <m:t xml:space="preserve">,</m:t>
                                      </m:r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</m:d>
                                  <m:r>
                                    <m:t xml:space="preserve">,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egész része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;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eqAr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  <m:r>
                                        <m:t xml:space="preserve">,</m:t>
                                      </m:r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</m:d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  <m:r>
                                        <m:t xml:space="preserve">,</m:t>
                                      </m:r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</m:d>
                                  <m:r>
                                    <m:t xml:space="preserve">+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  <m:r>
                                        <m:t xml:space="preserve">,</m:t>
                                      </m:r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</m:d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  <m:r>
                                        <m:t xml:space="preserve">,</m:t>
                                      </m:r>
                                      <m:r>
                                        <m:t xml:space="preserve">δ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 különben</m:t>
                                  </m:r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0C1-D572-4720-B637-1D8D7D6D8D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élda: speciális eset –  hibavalószínűsé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gyis: max.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-posteriori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valószínűségre kell dönt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ég plauzibilis: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helyes döntés valószínűség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 legnagyobb, ha arra döntünk, ami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legvalószínű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3E9-2BEF-473F-8745-755E67B0F201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Bayes-tétel (feltételes valószínűsége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szkrét változók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lyto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diszkrét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lyto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3429000" y="1778040"/>
                <a:ext cx="54864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=</m:t>
                            </m:r>
                          </m:e>
                        </m:acc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=</m:t>
                            </m:r>
                          </m:e>
                        </m:acc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4094280" y="3962520"/>
                <a:ext cx="3373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743200" y="5315040"/>
                <a:ext cx="35812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C82-7D6D-47B8-A11A-047ADC6A17B2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gjegyz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egfigyelési té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dimenziós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figyelések szám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döntési té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-1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imenziós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hipotézisek száma)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Mi csak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független Gauss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ákat vizsgáltuk expliciten; a vizsgálat sokkal bonyolultabb, ha a minták korrelálva van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Látni fogjuk, hogy digitáli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átvitelb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&gt; 1 esetnek gyakran nincs nagy jelentő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C96-8AC8-4A32-9F53-AAA720D8F38B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becsléselmélet alapjai – paraméterbecslé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dott – digitális vagy analóg – jel ismeretlen paraméterét kell megbecsü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ák: feszültség mérése zajb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gitális jel – mérendő fáz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009880" y="4506840"/>
                <a:ext cx="44672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276720" y="325440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F5A-919D-491A-AE85-553F743E6F24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592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becsléselmélet alapjai – paraméterbecsl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85920" y="15080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méter leh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színűségi változó (mi feltesszük, hogy ismert eloszlású)(előbb ez), v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meretlen determinisztikus 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l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-92695680" y="-1002920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CSLÉSI TÉ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067040" y="3656160"/>
            <a:ext cx="6775200" cy="2873880"/>
            <a:chOff x="1067040" y="3656160"/>
            <a:chExt cx="6775200" cy="2873880"/>
          </a:xfrm>
        </p:grpSpPr>
        <p:grpSp>
          <p:nvGrpSpPr>
            <p:cNvPr id="809" name=""/>
            <p:cNvGrpSpPr/>
            <p:nvPr/>
          </p:nvGrpSpPr>
          <p:grpSpPr>
            <a:xfrm>
              <a:off x="1067040" y="3733920"/>
              <a:ext cx="6775200" cy="2796120"/>
              <a:chOff x="1067040" y="3733920"/>
              <a:chExt cx="6775200" cy="279612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1067040" y="3733920"/>
                <a:ext cx="6775200" cy="2410920"/>
                <a:chOff x="1067040" y="3733920"/>
                <a:chExt cx="6775200" cy="241092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2181240" y="5477040"/>
                  <a:ext cx="14227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PARAMÉTER</a:t>
                  </a:r>
                  <a:br>
                    <a:rPr sz="1800"/>
                  </a:b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TÉ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973840" y="5502240"/>
                  <a:ext cx="1297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BECSLÉSI</a:t>
                  </a:r>
                  <a:br>
                    <a:rPr sz="1800"/>
                  </a:b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TÉ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813" name=""/>
                    <p:cNvSpPr txBox="1"/>
                    <p:nvPr/>
                  </p:nvSpPr>
                  <p:spPr>
                    <a:xfrm>
                      <a:off x="2701800" y="4892760"/>
                      <a:ext cx="374760" cy="4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14" name=""/>
                <p:cNvSpPr/>
                <p:nvPr/>
              </p:nvSpPr>
              <p:spPr>
                <a:xfrm>
                  <a:off x="2492280" y="3733920"/>
                  <a:ext cx="0" cy="2273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233440" y="4545000"/>
                  <a:ext cx="58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233440" y="5357880"/>
                  <a:ext cx="58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067040" y="4361040"/>
                  <a:ext cx="11422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A keresett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paraméter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tartomány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Cloud"/>
                <p:cNvSpPr/>
                <p:nvPr/>
              </p:nvSpPr>
              <p:spPr>
                <a:xfrm>
                  <a:off x="4103640" y="4017960"/>
                  <a:ext cx="2560680" cy="13064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484360" y="4583160"/>
                  <a:ext cx="2151000" cy="473040"/>
                </a:xfrm>
                <a:custGeom>
                  <a:avLst/>
                  <a:gdLst/>
                  <a:ahLst/>
                  <a:rect l="l" t="t" r="r" b="b"/>
                  <a:pathLst>
                    <a:path w="1308" h="261">
                      <a:moveTo>
                        <a:pt x="0" y="261"/>
                      </a:moveTo>
                      <a:cubicBezTo>
                        <a:pt x="35" y="191"/>
                        <a:pt x="61" y="87"/>
                        <a:pt x="183" y="78"/>
                      </a:cubicBezTo>
                      <a:cubicBezTo>
                        <a:pt x="304" y="69"/>
                        <a:pt x="575" y="214"/>
                        <a:pt x="727" y="206"/>
                      </a:cubicBezTo>
                      <a:cubicBezTo>
                        <a:pt x="880" y="198"/>
                        <a:pt x="1002" y="52"/>
                        <a:pt x="1099" y="26"/>
                      </a:cubicBezTo>
                      <a:cubicBezTo>
                        <a:pt x="1196" y="0"/>
                        <a:pt x="1265" y="44"/>
                        <a:pt x="1308" y="4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422440" y="5013360"/>
                  <a:ext cx="1270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845400" y="3828960"/>
                  <a:ext cx="1440" cy="2273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848200" y="4491000"/>
                  <a:ext cx="1611360" cy="425520"/>
                </a:xfrm>
                <a:custGeom>
                  <a:avLst/>
                  <a:gdLst/>
                  <a:ahLst/>
                  <a:rect l="l" t="t" r="r" b="b"/>
                  <a:pathLst>
                    <a:path w="1200" h="376">
                      <a:moveTo>
                        <a:pt x="0" y="376"/>
                      </a:moveTo>
                      <a:cubicBezTo>
                        <a:pt x="64" y="228"/>
                        <a:pt x="128" y="80"/>
                        <a:pt x="288" y="40"/>
                      </a:cubicBezTo>
                      <a:cubicBezTo>
                        <a:pt x="448" y="0"/>
                        <a:pt x="808" y="80"/>
                        <a:pt x="960" y="136"/>
                      </a:cubicBezTo>
                      <a:cubicBezTo>
                        <a:pt x="1112" y="192"/>
                        <a:pt x="1160" y="336"/>
                        <a:pt x="1200" y="37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41200" y="3870360"/>
                  <a:ext cx="8496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Becslési</a:t>
                  </a:r>
                  <a:br>
                    <a:rPr sz="1800"/>
                  </a:br>
                  <a:r>
                    <a:rPr b="0" lang="hu-HU" sz="1800" spc="-1" strike="noStrike">
                      <a:solidFill>
                        <a:srgbClr val="000000"/>
                      </a:solidFill>
                      <a:latin typeface="Arial"/>
                    </a:rPr>
                    <a:t>szabál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824" name=""/>
                    <p:cNvSpPr txBox="1"/>
                    <p:nvPr/>
                  </p:nvSpPr>
                  <p:spPr>
                    <a:xfrm>
                      <a:off x="7121520" y="5032440"/>
                      <a:ext cx="720720" cy="469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25" name=""/>
              <p:cNvSpPr/>
              <p:nvPr/>
            </p:nvSpPr>
            <p:spPr>
              <a:xfrm>
                <a:off x="2438280" y="6019920"/>
                <a:ext cx="930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hu-H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(A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4344120" y="4311720"/>
              <a:ext cx="188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MEGFIGYELÉSI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TÉ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67040" y="3656160"/>
              <a:ext cx="1473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Leképezés a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megfigyelési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tér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4DE-D932-4A6A-B1A8-7EA03C672EF8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– részletek (becslés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érni akarjuk az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feszültsé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udjuk, ho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özött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s hogy Gauss-zaj adódik hozzá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hu-H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agyis: paraméter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mit meg tudunk figyelni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r = a+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 paraméter leképzése az OS-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1295280" y="4794120"/>
                <a:ext cx="601992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4B4-BA82-4F8A-87CD-56468A34719B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. vá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onló elv: a becslés eredményéhez költség; átlaga a kockázat; ezt akarjuk minimalizál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araméter realizációja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figyelési vektor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ecsült érték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â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költség: általános esetben kétvált. függv.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becslés hibáj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yakran a költség-függvény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C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1A5-529E-4D98-A6D7-FE1A1014A054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. vá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ckázat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üttes sűrűség írható: (definíció sz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286000" y="1828800"/>
                <a:ext cx="52070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ε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Δ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;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ε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Δ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1865160" y="3048120"/>
                <a:ext cx="61754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ε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C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</m:d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d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2590920" y="5281560"/>
                <a:ext cx="44258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2DA-DBFF-4BA8-9127-58884024C5B0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. vá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égyzetes költségfüggv.-re alkalmazva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az ms index: mean squ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=min (vagyis                  )ahol a belső int.= min (mert a külső i. pozitív és ii. nem függ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tól); ez, ah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1547640" y="2743200"/>
                <a:ext cx="62010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d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3587760" y="3886200"/>
                <a:ext cx="18986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6E1-B6FE-4EE8-896E-67BF4047678F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ószínűségi változ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447920" y="1828800"/>
                <a:ext cx="6311880" cy="20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ásodik integrál =1,í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is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a-posteriori várható érté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A korábbi definíciónak megfelelően: a-posteriori ismeret: amit a mérés/vizsgálat során nyertünk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200400" y="4114800"/>
                <a:ext cx="32796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8A1-E7AE-411C-AED3-F64DE7BB24DF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előző példa folyt: a második val. sűrűsé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5320" y="15638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gy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dőrés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42440" y="1411200"/>
            <a:ext cx="34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ét különböző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rés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343040" y="1752480"/>
            <a:ext cx="4420080" cy="3505320"/>
            <a:chOff x="4343040" y="1752480"/>
            <a:chExt cx="4420080" cy="3505320"/>
          </a:xfrm>
        </p:grpSpPr>
        <p:grpSp>
          <p:nvGrpSpPr>
            <p:cNvPr id="96" name=""/>
            <p:cNvGrpSpPr/>
            <p:nvPr/>
          </p:nvGrpSpPr>
          <p:grpSpPr>
            <a:xfrm>
              <a:off x="4343040" y="1752480"/>
              <a:ext cx="4420080" cy="3505320"/>
              <a:chOff x="4343040" y="1752480"/>
              <a:chExt cx="4420080" cy="3505320"/>
            </a:xfrm>
          </p:grpSpPr>
          <p:sp>
            <p:nvSpPr>
              <p:cNvPr id="97" name=""/>
              <p:cNvSpPr/>
              <p:nvPr/>
            </p:nvSpPr>
            <p:spPr>
              <a:xfrm>
                <a:off x="6400800" y="1752480"/>
                <a:ext cx="0" cy="22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105520" y="3962520"/>
                <a:ext cx="12952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00800" y="3962520"/>
                <a:ext cx="23623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400800" y="2742840"/>
                <a:ext cx="121932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4343040" y="3123720"/>
                <a:ext cx="205740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5715000" y="289512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6019920" y="35809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705720" y="28951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315200" y="35053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66320" y="2209680"/>
            <a:ext cx="3657960" cy="3505320"/>
            <a:chOff x="1066320" y="2209680"/>
            <a:chExt cx="3657960" cy="3505320"/>
          </a:xfrm>
        </p:grpSpPr>
        <p:grpSp>
          <p:nvGrpSpPr>
            <p:cNvPr id="107" name=""/>
            <p:cNvGrpSpPr/>
            <p:nvPr/>
          </p:nvGrpSpPr>
          <p:grpSpPr>
            <a:xfrm>
              <a:off x="1066320" y="2209680"/>
              <a:ext cx="3657960" cy="3505320"/>
              <a:chOff x="1066320" y="2209680"/>
              <a:chExt cx="3657960" cy="3505320"/>
            </a:xfrm>
          </p:grpSpPr>
          <p:sp>
            <p:nvSpPr>
              <p:cNvPr id="108" name=""/>
              <p:cNvSpPr/>
              <p:nvPr/>
            </p:nvSpPr>
            <p:spPr>
              <a:xfrm>
                <a:off x="2362320" y="2209680"/>
                <a:ext cx="0" cy="22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066320" y="4419720"/>
                <a:ext cx="129564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62320" y="4419720"/>
                <a:ext cx="2361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62320" y="4419720"/>
                <a:ext cx="10666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95280" y="3352680"/>
                <a:ext cx="106704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1905120" y="2971800"/>
                <a:ext cx="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895480" y="39621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V="1">
              <a:off x="1067040" y="4343040"/>
              <a:ext cx="1523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9600" y="4525920"/>
              <a:ext cx="32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hu-HU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176-DCEF-41EC-B705-4B54F100A26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gjegy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sszaemlékezve a kockáza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első int. most: a feltételes szórásnégy-zet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hu-H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gy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1143000" y="2390760"/>
                <a:ext cx="73152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dR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833480" y="4915080"/>
                <a:ext cx="56340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d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317-0F43-482E-B67F-6916AC6BA33D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ószínűségi változ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másik költségfüggvény: 0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&gt;0 szélességben, máshol 1.  A kockázat 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(egy: egyenle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=min, ha a felt. val. sűr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aximumát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álasztjuk a becslés eredményének (h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kicsi): max a-posteriori – MAP - becsl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2209680" y="2971800"/>
                <a:ext cx="55627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g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d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4" name=""/>
          <p:cNvSpPr/>
          <p:nvPr/>
        </p:nvSpPr>
        <p:spPr>
          <a:xfrm>
            <a:off x="385920" y="323676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9640" y="2738520"/>
            <a:ext cx="1575000" cy="498240"/>
          </a:xfrm>
          <a:custGeom>
            <a:avLst/>
            <a:gdLst/>
            <a:ahLst/>
            <a:rect l="l" t="t" r="r" b="b"/>
            <a:pathLst>
              <a:path w="992" h="314">
                <a:moveTo>
                  <a:pt x="0" y="0"/>
                </a:moveTo>
                <a:lnTo>
                  <a:pt x="435" y="0"/>
                </a:lnTo>
                <a:lnTo>
                  <a:pt x="435" y="314"/>
                </a:lnTo>
                <a:lnTo>
                  <a:pt x="605" y="314"/>
                </a:lnTo>
                <a:lnTo>
                  <a:pt x="605" y="0"/>
                </a:lnTo>
                <a:lnTo>
                  <a:pt x="9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192320" y="300672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63520" y="2660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662-EFA7-4369-8EA7-07B17B68914D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ószínűségi változ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kkor az a-post val. sűr. ill. logaritmus-ának deriváltja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u.n. MAP-egyen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log-felt-val-sűr így írható (Bayes-tétel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3657600" y="2887560"/>
                <a:ext cx="3352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143000" y="5286240"/>
                <a:ext cx="7238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1F8-9890-43F4-8E97-0CF423A7771F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ószínűségi változ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ső tag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zötti (statisztikus) összefügg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ásodik az a-priori ismeret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utolsó tag nem függ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ól, így a szélső érték szempontjából állandó; ami így max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 így a MAP egyenle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838080" y="5213520"/>
                <a:ext cx="68598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aho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8120" y="4038480"/>
                <a:ext cx="40384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57E-5E6C-40AC-8020-95C9BF4B1B19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égegyszer és megjegy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gkisebb négyzetes hibájú (MMSE) becslés az a-post. sűrűség átla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x. a-post. (MAP) becslés az a-post. sűrűség maxim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De ha: a költségfüggv.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áros és felülről konvex függvénye; valamint a felt. val. sűr. unimodális és szimmetrikus, az optimáli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cslés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-post. sűrűség átlaga –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üggetlenül a költségfüggv. konkrét alakjátó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DAA-204D-463D-B71B-104FCE5AC1D0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(becslés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ost is G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+n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üggetlen m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mindenféle becslés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76520" y="2228760"/>
                <a:ext cx="6019560" cy="24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3276720" y="4724280"/>
                <a:ext cx="40384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1E7-B4AA-4788-B01C-D4A7BA2A6C36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(becslés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zrevehetjük, hogy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R) a felt.val.sűr. szempontjából állandó, így alakja nem érdekes. Ír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586224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28600" y="3200400"/>
                <a:ext cx="83818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378-BACF-4CF0-907A-56EBD68F082A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(becslés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Gs sűrűség, aminek lényegében csak a várható értéke kell. Ehhez a kitevőt teljes négyzetté kell kiegészíteni, 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76320" y="3282840"/>
                <a:ext cx="9144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2895480" y="4714920"/>
                <a:ext cx="37386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és még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CFC-8835-47C7-BA55-2A1A1D6F4281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(becslés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djuk, hogy a MMSE becslés az a-posteriori várható érték; de u.e. a MAP becslés – gaussi lévén (átlag=mode). Most teh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1219320" y="3116160"/>
                <a:ext cx="609588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3D1-D982-4698-92C9-A42BB3DC674A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(becslés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ost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;0,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hu-H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, de csak egy nemlineáris függvényét tudjuk megfigyelni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-t; most is zaj adódik hozzá, vagy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a-posteriori sűrűségfüggv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4495680" y="2438280"/>
                <a:ext cx="18669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447920" y="3657600"/>
                <a:ext cx="632448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s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</m:d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624-5838-444D-B58A-0F35C445CFBB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a Gauss-folya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sztoh.foly Gauss-folyamat, ha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k)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etszőleg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orszámú sűrűségfüggvénye gaussi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dimenziós Gs vektor val.vált.), az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várható-érték vektor,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kovarincia-má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ezeket képezni tudjuk (tetszőlege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nél), ha meg van ad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779560" y="2895480"/>
                <a:ext cx="50691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0880" y="5583240"/>
                <a:ext cx="82724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és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C71-880D-4BCA-B333-D0D7D83B12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(becslés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mlékezzünk a MAP-egyenlet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kalmazva az előbbiek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692280" y="2438280"/>
                <a:ext cx="75373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aho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1828800" y="4737240"/>
                <a:ext cx="54864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</m:nary>
                    <m:f>
                      <m:num>
                        <m:r>
                          <m:t xml:space="preserve">∂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3A2-8112-4E10-ACE3-09F1C7AECFC7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ós álland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lyenkor csak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mérés eredmény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valószínűségi változó. Pl. ha a költségfüggv. négyzetes, a kockáza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kkor minimális, h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â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=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.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e, ennek nincs értelme: épp ezt keress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elyette: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-ből próbálunk olyan becslést, aminek az átlaga, szórása „jó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286000" y="2984400"/>
                <a:ext cx="4800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d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2B1-26F4-4E42-A7FB-BAC987350559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ós álland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ecslés átla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=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orzítatla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unbiased) becslés; a becslési eljárás: átlagérték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a torzítás) állandó: kivonható az átlagb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=f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: torzított becsl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371600" y="2286000"/>
                <a:ext cx="56386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dR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DEC-0E34-4972-95E1-A7FFDEC7F0DC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araméterbecslés – a paraméter valós álland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iba szórásnégy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, persze, ha: torzítatlan 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csi a szó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(jó) módszer: max-likelihood becs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ikelihood függv.:                   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függvény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ikelihood maximuma: gyakran alkalmazott becs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1752480" y="2057400"/>
                <a:ext cx="5410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809880" y="4191120"/>
                <a:ext cx="15242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221-1734-4466-B589-27AC13557B5F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ax. likelihood (ML) becs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ximum (szükséges) feltétele (itt az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orzítatlan max.likel. becslés szórásnégyzetére fennáll (Cramér-Rao (alsó) korlá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33520" y="4154400"/>
                <a:ext cx="44193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n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  <m:r>
                                                  <m:t xml:space="preserve">|</m:t>
                                                </m:r>
                                                <m:r>
                                                  <m:t xml:space="preserve">a</m:t>
                                                </m:r>
                                              </m:sub>
                                            </m:sSub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  <m:r>
                                                  <m:t xml:space="preserve">|</m:t>
                                                </m:r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</m:d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2209680" y="2216160"/>
                <a:ext cx="4572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aho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3429000" y="5086440"/>
                <a:ext cx="49528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D18-2CBF-4F91-9E9F-A4338F2CB84E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ax. likelihood (ML) becs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zonyítás(ok): Schwartz-egyenlőtlen-ség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egyenlő (vagyis nem nagyobb), u.n.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hatékon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(efficient) becsl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: ha van hatékony becslés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 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AB2-5685-46E6-A0D8-6E75AEE1ABC1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(becslés, való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ost is feszültség + Gauss-zaj, de a fesz. állandó (nem val.vál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x likelihood becs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2209680" y="3470400"/>
          <a:ext cx="5639040" cy="26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70400"/>
                    <a:ext cx="563904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AD8-239E-40C5-8A7C-E2C5F2D77F12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 (becslés, való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orzítot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gyi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várható értéke a valódi érték – torzítat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2362320" y="2286000"/>
                <a:ext cx="47242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77F-B31A-48B7-91A0-865C9E77E6A8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2. Digitális jelek átvitele analóg csatornán: a zaj hatás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evezető megjegyzések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igitális átvitel elmélete (legalább is részben): a döntéselmélet alkalmaz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gitális jelek-jelátvitel definíció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éges számú jelalak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gyik véges ideig tart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evő (a priori) ismeri a jelalakokat (tárolva vann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gy a vevő feladata: hipotézisvizsgál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230-926A-4C69-828D-1576D964D698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a Gauss-folya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auss-folyamatoknak – pontosabban Gs valószínűségi változóknak – egy érdekes tulajdonsá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áltozók lehetnek egy folyamat – különböző időpontokban vett - realizáci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981080" y="3236760"/>
                <a:ext cx="579132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15B-9F27-4995-93BC-7E43CE42A4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Bevezető megjegyzések – minőségrontó hatás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35440" y="1447920"/>
            <a:ext cx="8679960" cy="4495680"/>
            <a:chOff x="235440" y="1447920"/>
            <a:chExt cx="8679960" cy="4495680"/>
          </a:xfrm>
        </p:grpSpPr>
        <p:sp>
          <p:nvSpPr>
            <p:cNvPr id="924" name=""/>
            <p:cNvSpPr/>
            <p:nvPr/>
          </p:nvSpPr>
          <p:spPr>
            <a:xfrm>
              <a:off x="7467480" y="198108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DÖN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43600" y="1981080"/>
              <a:ext cx="121896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SÁVSZŰR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86000" y="1981080"/>
              <a:ext cx="121896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SÁVSZŰR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809880" y="198108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ADINGES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CSATO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81480" y="2057400"/>
              <a:ext cx="60948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28440" y="223992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486400" y="1676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104080" y="1528920"/>
              <a:ext cx="41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1760" y="198108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NEMLIN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ERŐSÍ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48040" y="1905120"/>
              <a:ext cx="589320" cy="459720"/>
              <a:chOff x="248040" y="1905120"/>
              <a:chExt cx="589320" cy="459720"/>
            </a:xfrm>
          </p:grpSpPr>
          <p:sp>
            <p:nvSpPr>
              <p:cNvPr id="934" name=""/>
              <p:cNvSpPr/>
              <p:nvPr/>
            </p:nvSpPr>
            <p:spPr>
              <a:xfrm>
                <a:off x="248040" y="1905120"/>
                <a:ext cx="58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80880" y="2362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1981080" y="2362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04960" y="2362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029200" y="2362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0960" y="23623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62560" y="2362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686800" y="2362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8080" y="3048120"/>
              <a:ext cx="1219320" cy="76176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INTER-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E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8080" y="411480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INTER-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E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8080" y="518148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INTER-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E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57400" y="34290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4724280" y="259092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57400" y="45720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5105160" y="2666880"/>
              <a:ext cx="38124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57400" y="556272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5638680" y="2590560"/>
              <a:ext cx="45720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770480" y="14479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6560" y="297180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311400" y="2971800"/>
              <a:ext cx="677880" cy="510120"/>
              <a:chOff x="311400" y="2971800"/>
              <a:chExt cx="677880" cy="510120"/>
            </a:xfrm>
          </p:grpSpPr>
          <p:sp>
            <p:nvSpPr>
              <p:cNvPr id="954" name=""/>
              <p:cNvSpPr/>
              <p:nvPr/>
            </p:nvSpPr>
            <p:spPr>
              <a:xfrm>
                <a:off x="311400" y="2971800"/>
                <a:ext cx="677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hu-H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37760" y="34290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35440" y="4038480"/>
              <a:ext cx="677880" cy="510120"/>
              <a:chOff x="235440" y="4038480"/>
              <a:chExt cx="677880" cy="510120"/>
            </a:xfrm>
          </p:grpSpPr>
          <p:sp>
            <p:nvSpPr>
              <p:cNvPr id="957" name=""/>
              <p:cNvSpPr/>
              <p:nvPr/>
            </p:nvSpPr>
            <p:spPr>
              <a:xfrm>
                <a:off x="235440" y="4038480"/>
                <a:ext cx="677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hu-H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1800" y="4495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11400" y="5105520"/>
              <a:ext cx="677880" cy="510120"/>
              <a:chOff x="311400" y="5105520"/>
              <a:chExt cx="677880" cy="510120"/>
            </a:xfrm>
          </p:grpSpPr>
          <p:sp>
            <p:nvSpPr>
              <p:cNvPr id="960" name=""/>
              <p:cNvSpPr/>
              <p:nvPr/>
            </p:nvSpPr>
            <p:spPr>
              <a:xfrm>
                <a:off x="311400" y="5105520"/>
                <a:ext cx="677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hu-H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hu-HU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37760" y="5562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2523240" y="3962520"/>
              <a:ext cx="51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99200" y="4952880"/>
              <a:ext cx="51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54840" y="297180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</a:rPr>
                <a:t>C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06760" y="40384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</a:rPr>
                <a:t>A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06760" y="4952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</a:rPr>
                <a:t>A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099-2232-4AE1-B38C-C3C11A654C58}" type="slidenum">
              <a:t>1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evezető megjegyz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őségi paraméter: a hibavalószínű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Vagyis a költség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bás döntést okoz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ditív z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ineáris torz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lineáris torz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ditív interferencia (CCI, 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raméter hibás isme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 szinkronizációs hi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2438280" y="2585880"/>
                <a:ext cx="40388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9C3-3416-4051-A913-35B1663A040C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evezető megjegyzése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akran nem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g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jel hibavalószínűsége, hanem egy jelcsoporté – keret – ami érde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Mégegy minőségi paraméter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hibás felismerése: jitt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EEB-3765-487D-9EEF-FAEE65C412B7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gyedülálló jelek átvitele additív Gauss-zaj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ok hibaforrás közül most csak ezt nézz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izsgálandó mod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609480" y="3505320"/>
            <a:ext cx="7925040" cy="2321640"/>
            <a:chOff x="609480" y="3505320"/>
            <a:chExt cx="7925040" cy="2321640"/>
          </a:xfrm>
        </p:grpSpPr>
        <p:sp>
          <p:nvSpPr>
            <p:cNvPr id="975" name=""/>
            <p:cNvSpPr/>
            <p:nvPr/>
          </p:nvSpPr>
          <p:spPr>
            <a:xfrm>
              <a:off x="609480" y="441972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828800" y="4800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38280" y="441972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JELGENE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-RÁ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67080" y="4496040"/>
              <a:ext cx="60984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57600" y="4800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14040" y="46785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4572000" y="41144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76920" y="4800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6400" y="441972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DÖN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05720" y="4800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15200" y="4419720"/>
              <a:ext cx="1219320" cy="7621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NYEL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3048120" y="3809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8120" y="381024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95880" y="3810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85800" y="350532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Időzítés (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90040" y="3967200"/>
              <a:ext cx="41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74880" y="5370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878120" y="50403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94080" y="5410440"/>
              <a:ext cx="948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22760" y="502920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954680" y="5105520"/>
              <a:ext cx="190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)= 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)+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67640" y="4057920"/>
              <a:ext cx="50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ˆ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EE0-F957-45A0-8E32-310228806919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gyedülálló jelek átvitele additív Gauss-zaj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ecifikáció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-priori valószínűségeket ismerj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         valós időfüggvények tartó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nergiájuk véges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az időfüggvény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gyzetes integrál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lcsönös-egyértelmű kapcsolat (az adó nem téves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447920" y="2743200"/>
                <a:ext cx="9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295280" y="5029200"/>
                <a:ext cx="1905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↔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2D4-14D5-4B8E-A199-3B0D48C1E97D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stacionári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folyamat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tacionáriu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ha az idő múlásával viselkedése nem (nagyon) változ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l. a vizsgált digitális jel (mint látjuk: csak majdnem) il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lefon: tudjuk, hogy elég, ha 300-3400 Hz (mindig, mindenkinek). (Mit csinálnánk, ha nem így volna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4C1-EED3-4565-B8AF-89536EC4D5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stacionári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cíz definíciók – mi az, hogy állandó jelleg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folyamat (erősen; szigorúan véve) stacionárius, ha az eloszlási függv. (tetszőleges sorszámú, akármilyen időkre és időkülönbség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d rendben stac., ha az első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eloszlás stac, a többi n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: a látott példa csak 1.-rendben s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.: h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d rendben stac, alacsonyabba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7200" y="3446640"/>
                <a:ext cx="8346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B26-1A9C-4A87-A10F-726C720C18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stacionári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j.: erős stacionaritást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általános esetben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héz bizonyíta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: Gauss-folyamat, ha másodrendben stac. (vagyis itt: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(t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változik az időeltolással), akkor erősen (minden rendben) is – mert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(t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ismeretében az összes eloszlás (inkább: sűrűség) kiszámít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72E-FD3B-4872-ABFF-7E7EAA9672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(gyengén) stacionári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ik fajta stac.: gyenge stacionaritás: a korrelációs függvény csak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időkülönbségtő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fü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szletesen: néhány definíció előb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lbert-folyamat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égyzet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árható értéke léte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B Ez azt jelenti, hogy a pillanatnyi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eljesítmé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éges – ilyenkor persze az energia végt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733920" y="4329000"/>
                <a:ext cx="2057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9B7-6B55-4CDD-8121-C8E28D0BAB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(gyengén) stacionári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ilbert-folyamat (auto)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orrelációs függvény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után: egy folyamat gyengén (v. tág értelemben) stac, 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árható érték nem függ az időtől 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csak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től függ, minden időre és minden eltolás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717640" y="2763720"/>
                <a:ext cx="36068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21A-C624-4FBF-8A22-6FBF0577A5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 gyenge-erős stacionarit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folyamat erősen stac, akkor gyengé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vábbá: ha (csak) másodrendben stac, akkor is gyengé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gy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968400" y="2932200"/>
                <a:ext cx="804384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</m:naryPr>
                              <m:sub/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sSub>
                                              <m:e/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sSub>
                                              <m:e/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</m:naryPr>
                              <m:sub/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τ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sSub>
                                              <m:e/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τ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/>
                                          <m:sub/>
                                        </m:sSub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666880" y="5257800"/>
                <a:ext cx="4038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0B0-7942-4E11-B847-FFA3EA613F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7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http://docs.mht.bme.hu/~frigyes/hirke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5AE-A939-474C-A4FF-3ECB2CFA0A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gyenge-erős stacionarit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ásfelől: ha gyengén stac. akkor még semmilyen rendben sem stac (erős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vétel a Gauss-folyamat. Ez csak akkor stac gyengén, ha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nem függ az időeltolástól; de mivel ebből az összes sűrűség kiszámítható, ilyenkor erősen is st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725-4A02-40A3-BCFD-434307FAF0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mégegyszer a bináris átvi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tuk: csak elsőrendben stac.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rrelá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gyanabban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időrés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különbözők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895480" y="3809880"/>
                <a:ext cx="3733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692440" y="5237280"/>
                <a:ext cx="431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316-C15B-49B0-AD39-4519915537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mégegyszer a bináris átvi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élig-véletlen bin. átv.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véletlenné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és stac.-sá) tehető egy (0,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-ben egyenletes eloszlású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segéd-változó bevezétésé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hez hasonló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9880" y="3432240"/>
                <a:ext cx="1981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86200" y="5232240"/>
                <a:ext cx="1676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110-64E1-4DC1-A2FA-DE47FD28F1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mégegyszer a bináris átvi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rrelác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|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,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mert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|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0400" y="2157480"/>
                <a:ext cx="5486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038480" y="2819520"/>
                <a:ext cx="4268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;</m:t>
                              </m:r>
                              <m:r>
                                <m:t xml:space="preserve">e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;különbe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76520" y="4410000"/>
                <a:ext cx="64958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93F-295E-480B-88B2-F4D8F3B77B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mégegyszer a bináris átvi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aztán így néz k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19320" y="3032280"/>
            <a:ext cx="6400800" cy="2760840"/>
            <a:chOff x="1219320" y="3032280"/>
            <a:chExt cx="6400800" cy="2760840"/>
          </a:xfrm>
        </p:grpSpPr>
        <p:sp>
          <p:nvSpPr>
            <p:cNvPr id="159" name=""/>
            <p:cNvSpPr/>
            <p:nvPr/>
          </p:nvSpPr>
          <p:spPr>
            <a:xfrm>
              <a:off x="2514960" y="516564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9720" y="303228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364200" y="3336840"/>
              <a:ext cx="10555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30880" y="3336840"/>
              <a:ext cx="10558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6760" y="5165640"/>
              <a:ext cx="21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19320" y="516564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57400" y="5089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1880" y="5089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360" y="5470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21320" y="5394240"/>
              <a:ext cx="28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EF8-64B0-40CE-A1D9-11F82E100A8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másfajta (erős) stacionarit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van két folyamat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azok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gyüttesen stacionáriusa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ha az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gyütte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loszlásai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(mind) invariánsak minden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őeltolásr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Így a komplex                             folyamat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rőse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tac., h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és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gyüttesen st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gy folyamat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iódiku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vagy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klostac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 ha eloszlásai invariánsak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őeltolással szemb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59320" y="3429000"/>
                <a:ext cx="3047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02C-610F-49CA-8834-72C2C57249C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másfajta (gyenge) stacionarit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hhez: keresztkorrelá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ét folyamat gyengén együttesen stac, ha a keresztkorrelációjuk csa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ől fü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19520" y="2374920"/>
                <a:ext cx="3962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629400" y="3809880"/>
                <a:ext cx="1676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70F-9528-4107-A3CD-1483A4359DC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megjegyzés: komplex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nél a korrelációs függvény célszerű defini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895480" y="3048120"/>
                <a:ext cx="36370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AAB-1DCD-4081-AFF9-790B738AB9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folytonossá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ülönbözőképpen definiál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Négyzetes középben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olytonos,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engén stac. esetben ilyen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ha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lyt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514600" y="2971800"/>
                <a:ext cx="5410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τ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ha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EE4-A712-413F-BDCC-F96044B0B0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sztochasztikus integrá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 egy sztoh. foly. Ha szerencsénk van: minden realizációja integrálható (Riem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kkor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gy val. vált. Ha nem: akkor is definiálható egy val. vált. ami –pl – négyzetes középben az integrál-közelítő-összegek határértékéhez konvergál. Ha ez mindre létezik, ezt tekintjük integrálna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733920" y="2400480"/>
                <a:ext cx="190476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E66-C52E-4682-BCB2-89D8C1B6D0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émakör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0. Néhány matematikai alap: a sztochasztikus folyamatok tulajdonságai; a komplex burkoló fogal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. A döntéselmélet és a becsléselmélet  alapj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 Digitális jelek átvitele analóg csatornán: zaj h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3. Digitális jelek átvitele analóg csatornán: diszperzió h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. Analóg jelek átvitele – analóg modulációs eljá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. A legfontosabb csatornák tulajdonságai: a rádiócsatorna, az optikai szál; csatornák becs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A digitális jelfeldolgozás alapjai: mintavételezés, kvantálás, jelábrázol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Elvi határok az információközlés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A kódelmélet alapj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. Az átvitel hibáinak korrigálása: hibajavító kódolás; adaptív kiegyenlí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. Spektrális hatékonyság – hatékony digitális átviteli elj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6FC-DAD8-4849-9F3F-080FF48472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sztochasztikus integrá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346040" y="1765440"/>
                <a:ext cx="55882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ha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sSub>
                                      <m:e>
                                        <m:r>
                                          <m:t xml:space="preserve">Δ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, természetesen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fedeik az teljes (a,b)-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ről kimutatható, h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438280" y="4038480"/>
                <a:ext cx="5488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t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  <m:r>
                                      <m:t xml:space="preserve">E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t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7AF-C5C3-475B-AAA6-61887EAC07F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sztoh. integrál –  megjegyz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hu-HU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hu-H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kifejezésében az integrandus: az (auto)kovariancia-függvén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Persze, akár gyengén stac. folyamatnál csak 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hu-HU" sz="3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-t</a:t>
            </a:r>
            <a:r>
              <a:rPr b="0" i="1" lang="hu-HU" sz="3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ól fü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523880" y="3286080"/>
                <a:ext cx="6324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−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327-E396-4965-B7F5-7CCAA028043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időát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ntegrálra – egyebek között – az időbeli átlag képzéséhez volt szükségü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folyama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dőbeli átlaga az „egyenáramú” összetevő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dőbeli négyzetes átlaga az átlag-teljesítmé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iniciój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0" y="493704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352680" y="4486320"/>
                <a:ext cx="31244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206-18C7-4778-A193-5CBCAA44A3E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időát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persze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általába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gy valószínűségi változó. Jó volna, ha megegyezne a (halmazra vett) átlaggal, ami feltételezi, h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sonlóan definiál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86224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14600" y="3414600"/>
                <a:ext cx="4419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és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447920" y="4603680"/>
                <a:ext cx="60195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F67-03B7-4A29-AC1E-E4EED9C3134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időát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t meg (szintén val.vált.) a korrelációs függv.-nek szeretnénk megfeleltetni, ami fennáll,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az egyenlőségek fennállnak u.n.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rgodiku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lyamatoknál. (Ilyenkor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gy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realizáció szinte mindent megmond a folyamatró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ülönböző szintű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rgodicitás. Pl. egy folyamat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várható értékben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godikus,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057400" y="2470320"/>
                <a:ext cx="48006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úgy hogy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90920" y="5334120"/>
                <a:ext cx="38862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dτ</m:t>
                        </m:r>
                        <m:r>
                          <m:t xml:space="preserve">=</m:t>
                        </m:r>
                      </m:e>
                    </m:nary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96C-0C71-4042-8E2F-7EFE15E2D7A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a spektrális sűrűség, eloszl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sztoh.foly. spektrális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űrűség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 korrelációs függvény Fourier-transzfor-mált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finiálhatunk egy spektrális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loszlá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ügg-vény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590920" y="2805120"/>
                <a:ext cx="327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819520" y="4724280"/>
                <a:ext cx="40384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ω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690-E3B4-4B9E-AEB3-500330A471D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a spektrális sűrűség, eloszl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pektrális eloszlás és a korreláció közötti kapcsol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066680" y="2666880"/>
                <a:ext cx="7620120" cy="21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ω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u</m:t>
                                    </m:r>
                                    <m:r>
                                      <m:t xml:space="preserve">τ</m:t>
                                    </m:r>
                                  </m:sup>
                                </m:sSup>
                                <m:r>
                                  <m:t xml:space="preserve">dτ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ω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u</m:t>
                                    </m:r>
                                    <m:r>
                                      <m:t xml:space="preserve">τ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d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b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ωτ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τ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ω</m:t>
                                </m:r>
                              </m:sup>
                            </m:sSub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ωτ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jτ</m:t>
                                </m:r>
                              </m:den>
                            </m:f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FE8-01B8-49BF-A49C-D31B66CE45D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a spektrális sűrűség, eloszl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nná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emiatt: ez az integrál &gt;0; (majd látjuk: az egész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85800" y="1371600"/>
                <a:ext cx="8381880" cy="30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rt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,</m:t>
                            </m:r>
                            <m:r>
                              <m:t xml:space="preserve">τ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zformációs változó párok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: 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72E-8AA3-4212-B4D9-AA5EF6B05FB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pektrális sűrűség és lineáris transzformáci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dőfüggvény lin. transzformációjáról tudjuk, hogy „megoldás” a konvolú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h(t)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úl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üggvény (miért hívják így? – igen jó elnevez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51000" y="2819520"/>
            <a:ext cx="2663640" cy="761400"/>
            <a:chOff x="3051000" y="2819520"/>
            <a:chExt cx="2663640" cy="761400"/>
          </a:xfrm>
        </p:grpSpPr>
        <p:sp>
          <p:nvSpPr>
            <p:cNvPr id="219" name=""/>
            <p:cNvSpPr/>
            <p:nvPr/>
          </p:nvSpPr>
          <p:spPr>
            <a:xfrm>
              <a:off x="3660480" y="2895480"/>
              <a:ext cx="1143000" cy="68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SZŰRŐ</a:t>
              </a:r>
              <a:br>
                <a:rPr sz="1800"/>
              </a:b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h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3480" y="32763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203280" y="3276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51000" y="28195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8760" y="28195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65160" y="3673440"/>
                <a:ext cx="46879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∗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52A-A8DA-4FAB-890E-50401D0517B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pektrális sűrűség és lineáris transzformá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j.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h(t&lt;0)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0; miért?);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s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(t) =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hu-H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[H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lauzibilis: ugyanez a sztoh.foly.-r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mutatható (a jegyzetb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 m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352680" y="3733920"/>
                <a:ext cx="38102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5105520"/>
                <a:ext cx="3276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430-55D8-4813-B4EF-627DC084790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(0. Néhány matematikai alap:  sztochasztikus folyamatok; a komplex burkoló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pektrális sűrűség és lineáris transzformá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vábbá: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S(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 ≥ 0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minden frequ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ert: tegyük fel, hogy nem; akkor biztos van egy kis tartomány, ahol &lt;0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200400"/>
            <a:ext cx="5410440" cy="1752480"/>
          </a:xfrm>
          <a:custGeom>
            <a:avLst/>
            <a:gdLst/>
            <a:ahLst/>
            <a:rect l="l" t="t" r="r" b="b"/>
            <a:pathLst>
              <a:path w="3408" h="1104">
                <a:moveTo>
                  <a:pt x="0" y="416"/>
                </a:moveTo>
                <a:cubicBezTo>
                  <a:pt x="124" y="272"/>
                  <a:pt x="248" y="128"/>
                  <a:pt x="432" y="224"/>
                </a:cubicBezTo>
                <a:cubicBezTo>
                  <a:pt x="616" y="320"/>
                  <a:pt x="912" y="880"/>
                  <a:pt x="1104" y="992"/>
                </a:cubicBezTo>
                <a:cubicBezTo>
                  <a:pt x="1296" y="1104"/>
                  <a:pt x="1392" y="1048"/>
                  <a:pt x="1584" y="896"/>
                </a:cubicBezTo>
                <a:cubicBezTo>
                  <a:pt x="1776" y="744"/>
                  <a:pt x="2000" y="160"/>
                  <a:pt x="2256" y="80"/>
                </a:cubicBezTo>
                <a:cubicBezTo>
                  <a:pt x="2512" y="0"/>
                  <a:pt x="2928" y="344"/>
                  <a:pt x="3120" y="416"/>
                </a:cubicBezTo>
                <a:cubicBezTo>
                  <a:pt x="3312" y="488"/>
                  <a:pt x="3360" y="496"/>
                  <a:pt x="3408" y="5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3860640"/>
            <a:ext cx="144792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0"/>
                </a:moveTo>
                <a:lnTo>
                  <a:pt x="432" y="336"/>
                </a:lnTo>
                <a:lnTo>
                  <a:pt x="912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42000" y="3940200"/>
            <a:ext cx="91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90920" y="5410080"/>
            <a:ext cx="5972760" cy="894240"/>
            <a:chOff x="2590920" y="5410080"/>
            <a:chExt cx="5972760" cy="894240"/>
          </a:xfrm>
        </p:grpSpPr>
        <p:sp>
          <p:nvSpPr>
            <p:cNvPr id="236" name=""/>
            <p:cNvSpPr/>
            <p:nvPr/>
          </p:nvSpPr>
          <p:spPr>
            <a:xfrm>
              <a:off x="2590920" y="54100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2680" y="5533920"/>
              <a:ext cx="914400" cy="409680"/>
            </a:xfrm>
            <a:custGeom>
              <a:avLst/>
              <a:gdLst/>
              <a:ahLst/>
              <a:rect l="l" t="t" r="r" b="b"/>
              <a:pathLst>
                <a:path w="576" h="258">
                  <a:moveTo>
                    <a:pt x="0" y="48"/>
                  </a:moveTo>
                  <a:cubicBezTo>
                    <a:pt x="29" y="79"/>
                    <a:pt x="95" y="208"/>
                    <a:pt x="174" y="233"/>
                  </a:cubicBezTo>
                  <a:cubicBezTo>
                    <a:pt x="253" y="258"/>
                    <a:pt x="408" y="236"/>
                    <a:pt x="475" y="197"/>
                  </a:cubicBezTo>
                  <a:cubicBezTo>
                    <a:pt x="542" y="158"/>
                    <a:pt x="555" y="41"/>
                    <a:pt x="57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2680" y="54100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267080" y="54100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7080" y="5715000"/>
              <a:ext cx="1447920" cy="533520"/>
            </a:xfrm>
            <a:custGeom>
              <a:avLst/>
              <a:gdLst/>
              <a:ahLst/>
              <a:rect l="l" t="t" r="r" b="b"/>
              <a:pathLst>
                <a:path w="912" h="336">
                  <a:moveTo>
                    <a:pt x="0" y="0"/>
                  </a:moveTo>
                  <a:lnTo>
                    <a:pt x="432" y="336"/>
                  </a:lnTo>
                  <a:lnTo>
                    <a:pt x="912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58720" y="5794200"/>
              <a:ext cx="350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hu-HU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hu-H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tegrálja negativ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394240" y="5904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75440" y="2743200"/>
            <a:ext cx="2662920" cy="762120"/>
            <a:chOff x="6175440" y="2743200"/>
            <a:chExt cx="2662920" cy="762120"/>
          </a:xfrm>
        </p:grpSpPr>
        <p:sp>
          <p:nvSpPr>
            <p:cNvPr id="244" name=""/>
            <p:cNvSpPr/>
            <p:nvPr/>
          </p:nvSpPr>
          <p:spPr>
            <a:xfrm>
              <a:off x="6784560" y="2819520"/>
              <a:ext cx="11426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SZŰRŐ</a:t>
              </a:r>
              <a:br>
                <a:rPr sz="1800"/>
              </a:b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h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7560" y="3200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327000" y="32004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75440" y="274320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32480" y="27432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09680" y="45720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82880" y="3479400"/>
            <a:ext cx="3427200" cy="1092600"/>
            <a:chOff x="1982880" y="3479400"/>
            <a:chExt cx="3427200" cy="1092600"/>
          </a:xfrm>
        </p:grpSpPr>
        <p:grpSp>
          <p:nvGrpSpPr>
            <p:cNvPr id="251" name=""/>
            <p:cNvGrpSpPr/>
            <p:nvPr/>
          </p:nvGrpSpPr>
          <p:grpSpPr>
            <a:xfrm>
              <a:off x="3352680" y="3479400"/>
              <a:ext cx="914400" cy="1066680"/>
              <a:chOff x="3352680" y="3479400"/>
              <a:chExt cx="914400" cy="106668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3352680" y="347940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52680" y="347976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4267080" y="347940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982880" y="4013280"/>
              <a:ext cx="3427200" cy="558720"/>
              <a:chOff x="1982880" y="4013280"/>
              <a:chExt cx="3427200" cy="558720"/>
            </a:xfrm>
          </p:grpSpPr>
          <p:sp>
            <p:nvSpPr>
              <p:cNvPr id="256" name=""/>
              <p:cNvSpPr/>
              <p:nvPr/>
            </p:nvSpPr>
            <p:spPr>
              <a:xfrm>
                <a:off x="2057400" y="4013280"/>
                <a:ext cx="1295280" cy="380880"/>
              </a:xfrm>
              <a:custGeom>
                <a:avLst/>
                <a:gdLst/>
                <a:ahLst/>
                <a:rect l="l" t="t" r="r" b="b"/>
                <a:pathLst>
                  <a:path w="816" h="240">
                    <a:moveTo>
                      <a:pt x="0" y="240"/>
                    </a:moveTo>
                    <a:lnTo>
                      <a:pt x="480" y="240"/>
                    </a:lnTo>
                    <a:lnTo>
                      <a:pt x="8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82880" y="40132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1800" spc="-1" strike="noStrike">
                    <a:solidFill>
                      <a:srgbClr val="000000"/>
                    </a:solidFill>
                    <a:latin typeface="Arial"/>
                  </a:rPr>
                  <a:t>H(</a:t>
                </a:r>
                <a:r>
                  <a:rPr b="0" i="1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ω</a:t>
                </a:r>
                <a:r>
                  <a:rPr b="0" i="1" lang="hu-H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267080" y="45720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209680" y="45720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CD4-39D8-43A8-93B7-DB17DE508EA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pektrális sűrűség és lineáris transzformáci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 telj.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sűrűség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rad/sec-ban).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ert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105520" y="2515680"/>
            <a:ext cx="4038480" cy="269244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143000" y="2438280"/>
            <a:ext cx="3200400" cy="1981440"/>
            <a:chOff x="1143000" y="2438280"/>
            <a:chExt cx="3200400" cy="1981440"/>
          </a:xfrm>
        </p:grpSpPr>
        <p:sp>
          <p:nvSpPr>
            <p:cNvPr id="264" name=""/>
            <p:cNvSpPr/>
            <p:nvPr/>
          </p:nvSpPr>
          <p:spPr>
            <a:xfrm>
              <a:off x="1143000" y="38862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2590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23880" y="2743200"/>
              <a:ext cx="2286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52680" y="2743200"/>
              <a:ext cx="2286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419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6720" y="3809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8840" y="26668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H(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74320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724280" y="2590920"/>
                <a:ext cx="419112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Teljesítmény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t xml:space="preserve">≈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A94-3207-4942-84EF-F1ECF697EE7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tuk – Hiradástechnika – hogy rádió, optikai jelek átvitelében az információs jell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zinuszos viv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amelyik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araméteré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befolyásolják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pl teszik arányossá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általános modulált j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5510160"/>
                <a:ext cx="6095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A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ϑ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6F9-1E37-4DA8-A6F3-22034329766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tt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d(t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és/vagy </a:t>
            </a:r>
            <a:r>
              <a:rPr b="0" i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(t)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rdozza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ációt – pl lin. kapcsolatban van az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m(t)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ációs jelle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ásik fajta leírás (kvadratúra-ala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d, </a:t>
            </a:r>
            <a:r>
              <a:rPr b="0" i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valós időfüggvények – determinisztikusak vagy egy sztoh.foly. realizáci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28640" y="3805200"/>
                <a:ext cx="7304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100-FFD6-4969-8142-C01AC9EC8F8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apcsolat köztü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smeretes, hogy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így is írhat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658880" y="2286000"/>
                <a:ext cx="53514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ϑ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6120" y="3809880"/>
                <a:ext cx="609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ϑ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362320" y="5396040"/>
                <a:ext cx="4038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10E-FA43-4A84-B3D3-2CD96D431AA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tt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+jq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omplex burkol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 Kérdés: mikor, hogy alkalmazha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indulás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valós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dőfüggvény Fourier-transzformáltja konjugált szimmetrik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 ha így van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&gt;0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 jelet teljesen megadja: ismerve képezhetjük az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&lt;0 részt is, majd visszatranszformálhatj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86224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933560" y="3733920"/>
                <a:ext cx="5533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és </m:t>
                    </m:r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F1B-3488-44B9-A99A-7C9CC676D17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Így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X(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elyett vehetjük ez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elles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nnek megfelelő időfüggvén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33520" y="2246400"/>
                <a:ext cx="83818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838600" y="3486240"/>
                <a:ext cx="34858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;</m:t>
                              </m:r>
                              <m:r>
                                <m:t xml:space="preserve">ω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ω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158920" y="5346720"/>
                <a:ext cx="4902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j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6480000" y="2819520"/>
            <a:ext cx="1749600" cy="1143000"/>
            <a:chOff x="6480000" y="2819520"/>
            <a:chExt cx="1749600" cy="1143000"/>
          </a:xfrm>
        </p:grpSpPr>
        <p:sp>
          <p:nvSpPr>
            <p:cNvPr id="295" name=""/>
            <p:cNvSpPr/>
            <p:nvPr/>
          </p:nvSpPr>
          <p:spPr>
            <a:xfrm>
              <a:off x="6480000" y="2819520"/>
              <a:ext cx="161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„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lbert” szűr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29400" y="35812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15200" y="35812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5200" y="3886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37339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352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370-C00C-4DDB-B814-83D7B945055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rhat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jelölt inv.Fou.trszf  éppen 1/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.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épzetes rész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x(t)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.n. Hilbert-transz-formált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9042480" y="259704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66880" y="1447920"/>
                <a:ext cx="51818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∗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09680" y="2819520"/>
                <a:ext cx="419112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j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95480" y="4957920"/>
                <a:ext cx="4800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j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j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3EF-5BC3-4FC3-8E1E-4B1D2A2DF65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ost bevezetett függvény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x(t)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z tartozó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nalitikus függvé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mert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z=t+ju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plex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áltozó analitikus függvény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ind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alapsávi vagy modulált) jelhez rendelhető analitikus függvény;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apcsolat az időfüggv. és az analitikus függv. közö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133720" y="4624560"/>
                <a:ext cx="46479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j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DE7-4B5D-4ECA-871D-736ED66427C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ulált jelekre alkalmazzuk: 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-nek az analitikus jele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hu-H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t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asonlóan 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nek analitikus jele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hu-H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t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Így, ha modulált (kvadratikus alakban felírt) jelünk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a(t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q(t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összetev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sávkorlátozottak 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atárfrekvenciájuk &lt;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keskenysávú j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k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203720" y="4017960"/>
                <a:ext cx="486396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⇒</m:t>
                        </m:r>
                        <m:limUp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=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gy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⇒</m:t>
                        </m:r>
                        <m:limUp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=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58760" y="4908600"/>
            <a:ext cx="376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B. Látjuk, hogy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,q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r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zve a moduláció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lineáris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művelet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rekv. elt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816-35F6-4416-952A-6A5401BD7406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ztochasztikus folyam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ívják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életlenszerűen változó időfüggvénynek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random waveform) is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elmezés 3-fé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sorsolások függvényéb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végtelen sok val. vált.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ealizációina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(időben rendezett) soroz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idő függvényéb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egy –szabálytalanul változó – időfüggvény-család egy e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é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függvényében: végtelen sok időfüggvényből álló összetartozó család sorsolással kiválasztott e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6E3-9772-4F9B-86B9-FAD7D19614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gy az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 komplex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urkoló az ilyen keskenysávú jeleket egyértelműen meghatározza. Az időtartományban: a komplex burkoló ismereté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gyzés:          nevének megfelelően persze lehet komplex.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  körül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ne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konj. szi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 megjegyzés: ha a sávszélesség B&gt;fc, 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nem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alitikus, valós része nem adja meg a modulált jel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3. megjegyzé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lehet két független moduláló jel (QAM) vagy lehet összefüggő (FM vagy P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905120" y="152388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81080" y="2546280"/>
                <a:ext cx="556272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⇒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752560" y="3962520"/>
                <a:ext cx="676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93E-9E13-4A31-A2E7-AE1236216DEB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 van a frekvenciatartományban? az analitikus jelét látt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447920" y="2133720"/>
                <a:ext cx="6172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és így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2" name=""/>
          <p:cNvGrpSpPr/>
          <p:nvPr/>
        </p:nvGrpSpPr>
        <p:grpSpPr>
          <a:xfrm>
            <a:off x="1677960" y="2895480"/>
            <a:ext cx="5472360" cy="3583080"/>
            <a:chOff x="1677960" y="2895480"/>
            <a:chExt cx="5472360" cy="3583080"/>
          </a:xfrm>
        </p:grpSpPr>
        <p:sp>
          <p:nvSpPr>
            <p:cNvPr id="323" name=""/>
            <p:cNvSpPr/>
            <p:nvPr/>
          </p:nvSpPr>
          <p:spPr>
            <a:xfrm>
              <a:off x="3963960" y="30481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77960" y="60958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54280" y="3251160"/>
              <a:ext cx="4419720" cy="584280"/>
              <a:chOff x="1754280" y="3251160"/>
              <a:chExt cx="4419720" cy="584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754280" y="381024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82880" y="3251160"/>
                <a:ext cx="947880" cy="559080"/>
              </a:xfrm>
              <a:custGeom>
                <a:avLst/>
                <a:gdLst/>
                <a:ahLst/>
                <a:rect l="l" t="t" r="r" b="b"/>
                <a:pathLst>
                  <a:path w="597" h="352">
                    <a:moveTo>
                      <a:pt x="0" y="352"/>
                    </a:moveTo>
                    <a:cubicBezTo>
                      <a:pt x="20" y="260"/>
                      <a:pt x="40" y="168"/>
                      <a:pt x="96" y="112"/>
                    </a:cubicBezTo>
                    <a:cubicBezTo>
                      <a:pt x="152" y="56"/>
                      <a:pt x="264" y="0"/>
                      <a:pt x="336" y="16"/>
                    </a:cubicBezTo>
                    <a:cubicBezTo>
                      <a:pt x="408" y="32"/>
                      <a:pt x="485" y="153"/>
                      <a:pt x="528" y="208"/>
                    </a:cubicBezTo>
                    <a:cubicBezTo>
                      <a:pt x="571" y="263"/>
                      <a:pt x="583" y="317"/>
                      <a:pt x="597" y="3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4996800" y="3276720"/>
                <a:ext cx="947880" cy="558720"/>
              </a:xfrm>
              <a:custGeom>
                <a:avLst/>
                <a:gdLst/>
                <a:ahLst/>
                <a:rect l="l" t="t" r="r" b="b"/>
                <a:pathLst>
                  <a:path w="597" h="352">
                    <a:moveTo>
                      <a:pt x="0" y="352"/>
                    </a:moveTo>
                    <a:cubicBezTo>
                      <a:pt x="20" y="260"/>
                      <a:pt x="40" y="168"/>
                      <a:pt x="96" y="112"/>
                    </a:cubicBezTo>
                    <a:cubicBezTo>
                      <a:pt x="152" y="56"/>
                      <a:pt x="264" y="0"/>
                      <a:pt x="336" y="16"/>
                    </a:cubicBezTo>
                    <a:cubicBezTo>
                      <a:pt x="408" y="32"/>
                      <a:pt x="485" y="153"/>
                      <a:pt x="528" y="208"/>
                    </a:cubicBezTo>
                    <a:cubicBezTo>
                      <a:pt x="571" y="263"/>
                      <a:pt x="583" y="317"/>
                      <a:pt x="597" y="3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754280" y="3860640"/>
              <a:ext cx="4419720" cy="1066680"/>
              <a:chOff x="1754280" y="3860640"/>
              <a:chExt cx="4419720" cy="1066680"/>
            </a:xfrm>
          </p:grpSpPr>
          <p:sp>
            <p:nvSpPr>
              <p:cNvPr id="330" name=""/>
              <p:cNvSpPr/>
              <p:nvPr/>
            </p:nvSpPr>
            <p:spPr>
              <a:xfrm>
                <a:off x="1754280" y="49273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96800" y="3860640"/>
                <a:ext cx="947880" cy="1066680"/>
              </a:xfrm>
              <a:custGeom>
                <a:avLst/>
                <a:gdLst/>
                <a:ahLst/>
                <a:rect l="l" t="t" r="r" b="b"/>
                <a:pathLst>
                  <a:path w="597" h="352">
                    <a:moveTo>
                      <a:pt x="0" y="352"/>
                    </a:moveTo>
                    <a:cubicBezTo>
                      <a:pt x="20" y="260"/>
                      <a:pt x="40" y="168"/>
                      <a:pt x="96" y="112"/>
                    </a:cubicBezTo>
                    <a:cubicBezTo>
                      <a:pt x="152" y="56"/>
                      <a:pt x="264" y="0"/>
                      <a:pt x="336" y="16"/>
                    </a:cubicBezTo>
                    <a:cubicBezTo>
                      <a:pt x="408" y="32"/>
                      <a:pt x="485" y="153"/>
                      <a:pt x="528" y="208"/>
                    </a:cubicBezTo>
                    <a:cubicBezTo>
                      <a:pt x="571" y="263"/>
                      <a:pt x="583" y="317"/>
                      <a:pt x="597" y="3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H="1">
              <a:off x="3506040" y="5029200"/>
              <a:ext cx="947880" cy="1066680"/>
            </a:xfrm>
            <a:custGeom>
              <a:avLst/>
              <a:gdLst/>
              <a:ahLst/>
              <a:rect l="l" t="t" r="r" b="b"/>
              <a:pathLst>
                <a:path w="597" h="352">
                  <a:moveTo>
                    <a:pt x="0" y="352"/>
                  </a:moveTo>
                  <a:cubicBezTo>
                    <a:pt x="20" y="260"/>
                    <a:pt x="40" y="168"/>
                    <a:pt x="96" y="112"/>
                  </a:cubicBezTo>
                  <a:cubicBezTo>
                    <a:pt x="152" y="56"/>
                    <a:pt x="264" y="0"/>
                    <a:pt x="336" y="16"/>
                  </a:cubicBezTo>
                  <a:cubicBezTo>
                    <a:pt x="408" y="32"/>
                    <a:pt x="485" y="153"/>
                    <a:pt x="528" y="208"/>
                  </a:cubicBezTo>
                  <a:cubicBezTo>
                    <a:pt x="571" y="263"/>
                    <a:pt x="583" y="317"/>
                    <a:pt x="597" y="3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27720" y="333072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X(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62560" y="4394160"/>
              <a:ext cx="8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˚(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ω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24400" y="547848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̃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83280" y="6324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22800" y="6110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11660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60800" y="29710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X(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CAD-C33C-4AF9-96F3-8ADC37F63B22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41480" y="2452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556240" y="1201680"/>
            <a:ext cx="1065960" cy="1066320"/>
            <a:chOff x="5556240" y="1201680"/>
            <a:chExt cx="1065960" cy="1066320"/>
          </a:xfrm>
        </p:grpSpPr>
        <p:sp>
          <p:nvSpPr>
            <p:cNvPr id="342" name=""/>
            <p:cNvSpPr/>
            <p:nvPr/>
          </p:nvSpPr>
          <p:spPr>
            <a:xfrm>
              <a:off x="5556240" y="1201680"/>
              <a:ext cx="533160" cy="1066320"/>
            </a:xfrm>
            <a:custGeom>
              <a:avLst/>
              <a:gdLst/>
              <a:ahLst/>
              <a:rect l="l" t="t" r="r" b="b"/>
              <a:pathLst>
                <a:path w="576" h="664">
                  <a:moveTo>
                    <a:pt x="0" y="664"/>
                  </a:moveTo>
                  <a:cubicBezTo>
                    <a:pt x="48" y="664"/>
                    <a:pt x="96" y="664"/>
                    <a:pt x="144" y="568"/>
                  </a:cubicBezTo>
                  <a:cubicBezTo>
                    <a:pt x="192" y="472"/>
                    <a:pt x="216" y="176"/>
                    <a:pt x="288" y="88"/>
                  </a:cubicBezTo>
                  <a:cubicBezTo>
                    <a:pt x="360" y="0"/>
                    <a:pt x="528" y="48"/>
                    <a:pt x="576" y="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088680" y="1201680"/>
              <a:ext cx="533160" cy="1066320"/>
            </a:xfrm>
            <a:custGeom>
              <a:avLst/>
              <a:gdLst/>
              <a:ahLst/>
              <a:rect l="l" t="t" r="r" b="b"/>
              <a:pathLst>
                <a:path w="576" h="664">
                  <a:moveTo>
                    <a:pt x="0" y="664"/>
                  </a:moveTo>
                  <a:cubicBezTo>
                    <a:pt x="48" y="664"/>
                    <a:pt x="96" y="664"/>
                    <a:pt x="144" y="568"/>
                  </a:cubicBezTo>
                  <a:cubicBezTo>
                    <a:pt x="192" y="472"/>
                    <a:pt x="216" y="176"/>
                    <a:pt x="288" y="88"/>
                  </a:cubicBezTo>
                  <a:cubicBezTo>
                    <a:pt x="360" y="0"/>
                    <a:pt x="528" y="48"/>
                    <a:pt x="576" y="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089760" y="135396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3760" y="4630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79720" y="22683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79720" y="58500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2440" y="1735200"/>
            <a:ext cx="6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M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3320" y="17398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ineáris transz-formáció – sáv-áteresztő szűrő –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̃(t)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re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ekvivalen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luláteresztőké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szimm: komplex lesz – vagyis áthallá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(t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é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q(t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(nem volt sin-os összetevő – most v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13716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46483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2286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58672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727440" y="2890800"/>
            <a:ext cx="4573080" cy="614520"/>
            <a:chOff x="3727440" y="2890800"/>
            <a:chExt cx="4573080" cy="614520"/>
          </a:xfrm>
        </p:grpSpPr>
        <p:sp>
          <p:nvSpPr>
            <p:cNvPr id="356" name=""/>
            <p:cNvSpPr/>
            <p:nvPr/>
          </p:nvSpPr>
          <p:spPr>
            <a:xfrm>
              <a:off x="3727440" y="348768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01960" y="3505320"/>
              <a:ext cx="449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234200" y="2890800"/>
              <a:ext cx="1066320" cy="609480"/>
              <a:chOff x="7234200" y="2890800"/>
              <a:chExt cx="1066320" cy="609480"/>
            </a:xfrm>
          </p:grpSpPr>
          <p:sp>
            <p:nvSpPr>
              <p:cNvPr id="359" name=""/>
              <p:cNvSpPr/>
              <p:nvPr/>
            </p:nvSpPr>
            <p:spPr>
              <a:xfrm>
                <a:off x="7234200" y="2890800"/>
                <a:ext cx="533520" cy="609480"/>
              </a:xfrm>
              <a:custGeom>
                <a:avLst/>
                <a:gdLst/>
                <a:ahLst/>
                <a:rect l="l" t="t" r="r" b="b"/>
                <a:pathLst>
                  <a:path w="576" h="664">
                    <a:moveTo>
                      <a:pt x="0" y="664"/>
                    </a:moveTo>
                    <a:cubicBezTo>
                      <a:pt x="48" y="664"/>
                      <a:pt x="96" y="664"/>
                      <a:pt x="144" y="568"/>
                    </a:cubicBezTo>
                    <a:cubicBezTo>
                      <a:pt x="192" y="472"/>
                      <a:pt x="216" y="176"/>
                      <a:pt x="288" y="88"/>
                    </a:cubicBezTo>
                    <a:cubicBezTo>
                      <a:pt x="360" y="0"/>
                      <a:pt x="528" y="48"/>
                      <a:pt x="576" y="4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7767000" y="2890800"/>
                <a:ext cx="533160" cy="609480"/>
              </a:xfrm>
              <a:custGeom>
                <a:avLst/>
                <a:gdLst/>
                <a:ahLst/>
                <a:rect l="l" t="t" r="r" b="b"/>
                <a:pathLst>
                  <a:path w="576" h="664">
                    <a:moveTo>
                      <a:pt x="0" y="664"/>
                    </a:moveTo>
                    <a:cubicBezTo>
                      <a:pt x="48" y="664"/>
                      <a:pt x="96" y="664"/>
                      <a:pt x="144" y="568"/>
                    </a:cubicBezTo>
                    <a:cubicBezTo>
                      <a:pt x="192" y="472"/>
                      <a:pt x="216" y="176"/>
                      <a:pt x="288" y="88"/>
                    </a:cubicBezTo>
                    <a:cubicBezTo>
                      <a:pt x="360" y="0"/>
                      <a:pt x="528" y="48"/>
                      <a:pt x="576" y="4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881520" y="2895480"/>
              <a:ext cx="1066680" cy="609840"/>
              <a:chOff x="3881520" y="2895480"/>
              <a:chExt cx="1066680" cy="60984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1520" y="2895480"/>
                <a:ext cx="533160" cy="609840"/>
              </a:xfrm>
              <a:custGeom>
                <a:avLst/>
                <a:gdLst/>
                <a:ahLst/>
                <a:rect l="l" t="t" r="r" b="b"/>
                <a:pathLst>
                  <a:path w="576" h="664">
                    <a:moveTo>
                      <a:pt x="0" y="664"/>
                    </a:moveTo>
                    <a:cubicBezTo>
                      <a:pt x="48" y="664"/>
                      <a:pt x="96" y="664"/>
                      <a:pt x="144" y="568"/>
                    </a:cubicBezTo>
                    <a:cubicBezTo>
                      <a:pt x="192" y="472"/>
                      <a:pt x="216" y="176"/>
                      <a:pt x="288" y="88"/>
                    </a:cubicBezTo>
                    <a:cubicBezTo>
                      <a:pt x="360" y="0"/>
                      <a:pt x="528" y="48"/>
                      <a:pt x="576" y="4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414680" y="2895480"/>
                <a:ext cx="533520" cy="609840"/>
              </a:xfrm>
              <a:custGeom>
                <a:avLst/>
                <a:gdLst/>
                <a:ahLst/>
                <a:rect l="l" t="t" r="r" b="b"/>
                <a:pathLst>
                  <a:path w="576" h="664">
                    <a:moveTo>
                      <a:pt x="0" y="664"/>
                    </a:moveTo>
                    <a:cubicBezTo>
                      <a:pt x="48" y="664"/>
                      <a:pt x="96" y="664"/>
                      <a:pt x="144" y="568"/>
                    </a:cubicBezTo>
                    <a:cubicBezTo>
                      <a:pt x="192" y="472"/>
                      <a:pt x="216" y="176"/>
                      <a:pt x="288" y="88"/>
                    </a:cubicBezTo>
                    <a:cubicBezTo>
                      <a:pt x="360" y="0"/>
                      <a:pt x="528" y="48"/>
                      <a:pt x="576" y="4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4773240" y="2584440"/>
            <a:ext cx="270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Myriad Condensed Web"/>
              </a:rPr>
              <a:t>X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2400" spc="-1" strike="noStrike">
                <a:solidFill>
                  <a:srgbClr val="000000"/>
                </a:solidFill>
                <a:latin typeface="Myriad Condensed Web"/>
              </a:rPr>
              <a:t>)=</a:t>
            </a:r>
            <a:r>
              <a:rPr b="0" lang="hu-HU" sz="2400" spc="-1" strike="noStrike">
                <a:solidFill>
                  <a:srgbClr val="000000"/>
                </a:solidFill>
                <a:latin typeface="Myriad Condensed Web"/>
              </a:rPr>
              <a:t>F[</a:t>
            </a:r>
            <a:r>
              <a:rPr b="0" i="1" lang="hu-HU" sz="2400" spc="-1" strike="noStrike">
                <a:solidFill>
                  <a:srgbClr val="000000"/>
                </a:solidFill>
                <a:latin typeface="Myriad Condensed Web"/>
              </a:rPr>
              <a:t>m(t)</a:t>
            </a:r>
            <a:r>
              <a:rPr b="0" lang="hu-HU" sz="2400" spc="-1" strike="noStrike">
                <a:solidFill>
                  <a:srgbClr val="000000"/>
                </a:solidFill>
                <a:latin typeface="Myriad Condensed Web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230960" y="3552840"/>
            <a:ext cx="1067040" cy="1066320"/>
            <a:chOff x="7230960" y="3552840"/>
            <a:chExt cx="1067040" cy="1066320"/>
          </a:xfrm>
        </p:grpSpPr>
        <p:sp>
          <p:nvSpPr>
            <p:cNvPr id="366" name=""/>
            <p:cNvSpPr/>
            <p:nvPr/>
          </p:nvSpPr>
          <p:spPr>
            <a:xfrm>
              <a:off x="7230960" y="3552840"/>
              <a:ext cx="533520" cy="1066320"/>
            </a:xfrm>
            <a:custGeom>
              <a:avLst/>
              <a:gdLst/>
              <a:ahLst/>
              <a:rect l="l" t="t" r="r" b="b"/>
              <a:pathLst>
                <a:path w="576" h="664">
                  <a:moveTo>
                    <a:pt x="0" y="664"/>
                  </a:moveTo>
                  <a:cubicBezTo>
                    <a:pt x="48" y="664"/>
                    <a:pt x="96" y="664"/>
                    <a:pt x="144" y="568"/>
                  </a:cubicBezTo>
                  <a:cubicBezTo>
                    <a:pt x="192" y="472"/>
                    <a:pt x="216" y="176"/>
                    <a:pt x="288" y="88"/>
                  </a:cubicBezTo>
                  <a:cubicBezTo>
                    <a:pt x="360" y="0"/>
                    <a:pt x="528" y="48"/>
                    <a:pt x="576" y="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764480" y="3552840"/>
              <a:ext cx="533520" cy="1066320"/>
            </a:xfrm>
            <a:custGeom>
              <a:avLst/>
              <a:gdLst/>
              <a:ahLst/>
              <a:rect l="l" t="t" r="r" b="b"/>
              <a:pathLst>
                <a:path w="576" h="664">
                  <a:moveTo>
                    <a:pt x="0" y="664"/>
                  </a:moveTo>
                  <a:cubicBezTo>
                    <a:pt x="48" y="664"/>
                    <a:pt x="96" y="664"/>
                    <a:pt x="144" y="568"/>
                  </a:cubicBezTo>
                  <a:cubicBezTo>
                    <a:pt x="192" y="472"/>
                    <a:pt x="216" y="176"/>
                    <a:pt x="288" y="88"/>
                  </a:cubicBezTo>
                  <a:cubicBezTo>
                    <a:pt x="360" y="0"/>
                    <a:pt x="528" y="48"/>
                    <a:pt x="576" y="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562720" y="4781520"/>
            <a:ext cx="1065960" cy="1066320"/>
            <a:chOff x="5562720" y="4781520"/>
            <a:chExt cx="1065960" cy="1066320"/>
          </a:xfrm>
        </p:grpSpPr>
        <p:sp>
          <p:nvSpPr>
            <p:cNvPr id="369" name=""/>
            <p:cNvSpPr/>
            <p:nvPr/>
          </p:nvSpPr>
          <p:spPr>
            <a:xfrm>
              <a:off x="5562720" y="4781520"/>
              <a:ext cx="533160" cy="1066320"/>
            </a:xfrm>
            <a:custGeom>
              <a:avLst/>
              <a:gdLst/>
              <a:ahLst/>
              <a:rect l="l" t="t" r="r" b="b"/>
              <a:pathLst>
                <a:path w="576" h="664">
                  <a:moveTo>
                    <a:pt x="0" y="664"/>
                  </a:moveTo>
                  <a:cubicBezTo>
                    <a:pt x="48" y="664"/>
                    <a:pt x="96" y="664"/>
                    <a:pt x="144" y="568"/>
                  </a:cubicBezTo>
                  <a:cubicBezTo>
                    <a:pt x="192" y="472"/>
                    <a:pt x="216" y="176"/>
                    <a:pt x="288" y="88"/>
                  </a:cubicBezTo>
                  <a:cubicBezTo>
                    <a:pt x="360" y="0"/>
                    <a:pt x="528" y="48"/>
                    <a:pt x="576" y="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095160" y="4781520"/>
              <a:ext cx="533160" cy="1066320"/>
            </a:xfrm>
            <a:custGeom>
              <a:avLst/>
              <a:gdLst/>
              <a:ahLst/>
              <a:rect l="l" t="t" r="r" b="b"/>
              <a:pathLst>
                <a:path w="576" h="664">
                  <a:moveTo>
                    <a:pt x="0" y="664"/>
                  </a:moveTo>
                  <a:cubicBezTo>
                    <a:pt x="48" y="664"/>
                    <a:pt x="96" y="664"/>
                    <a:pt x="144" y="568"/>
                  </a:cubicBezTo>
                  <a:cubicBezTo>
                    <a:pt x="192" y="472"/>
                    <a:pt x="216" y="176"/>
                    <a:pt x="288" y="88"/>
                  </a:cubicBezTo>
                  <a:cubicBezTo>
                    <a:pt x="360" y="0"/>
                    <a:pt x="528" y="48"/>
                    <a:pt x="576" y="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518160" y="40989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X˚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78480" y="5157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X̃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111560" y="2430360"/>
            <a:ext cx="4038120" cy="1067040"/>
            <a:chOff x="4111560" y="2430360"/>
            <a:chExt cx="4038120" cy="1067040"/>
          </a:xfrm>
        </p:grpSpPr>
        <p:sp>
          <p:nvSpPr>
            <p:cNvPr id="374" name=""/>
            <p:cNvSpPr/>
            <p:nvPr/>
          </p:nvSpPr>
          <p:spPr>
            <a:xfrm flipH="1">
              <a:off x="7463520" y="2430360"/>
              <a:ext cx="685800" cy="1067040"/>
            </a:xfrm>
            <a:custGeom>
              <a:avLst/>
              <a:gdLst/>
              <a:ahLst/>
              <a:rect l="l" t="t" r="r" b="b"/>
              <a:pathLst>
                <a:path w="597" h="352">
                  <a:moveTo>
                    <a:pt x="0" y="352"/>
                  </a:moveTo>
                  <a:cubicBezTo>
                    <a:pt x="20" y="260"/>
                    <a:pt x="40" y="168"/>
                    <a:pt x="96" y="112"/>
                  </a:cubicBezTo>
                  <a:cubicBezTo>
                    <a:pt x="152" y="56"/>
                    <a:pt x="264" y="0"/>
                    <a:pt x="336" y="16"/>
                  </a:cubicBezTo>
                  <a:cubicBezTo>
                    <a:pt x="408" y="32"/>
                    <a:pt x="485" y="153"/>
                    <a:pt x="528" y="208"/>
                  </a:cubicBezTo>
                  <a:cubicBezTo>
                    <a:pt x="571" y="263"/>
                    <a:pt x="583" y="317"/>
                    <a:pt x="597" y="3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11560" y="2430360"/>
              <a:ext cx="685800" cy="1067040"/>
            </a:xfrm>
            <a:custGeom>
              <a:avLst/>
              <a:gdLst/>
              <a:ahLst/>
              <a:rect l="l" t="t" r="r" b="b"/>
              <a:pathLst>
                <a:path w="597" h="352">
                  <a:moveTo>
                    <a:pt x="0" y="352"/>
                  </a:moveTo>
                  <a:cubicBezTo>
                    <a:pt x="20" y="260"/>
                    <a:pt x="40" y="168"/>
                    <a:pt x="96" y="112"/>
                  </a:cubicBezTo>
                  <a:cubicBezTo>
                    <a:pt x="152" y="56"/>
                    <a:pt x="264" y="0"/>
                    <a:pt x="336" y="16"/>
                  </a:cubicBezTo>
                  <a:cubicBezTo>
                    <a:pt x="408" y="32"/>
                    <a:pt x="485" y="153"/>
                    <a:pt x="528" y="208"/>
                  </a:cubicBezTo>
                  <a:cubicBezTo>
                    <a:pt x="571" y="263"/>
                    <a:pt x="583" y="317"/>
                    <a:pt x="597" y="3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033800" y="2890800"/>
            <a:ext cx="4224240" cy="609480"/>
            <a:chOff x="4033800" y="2890800"/>
            <a:chExt cx="4224240" cy="609480"/>
          </a:xfrm>
        </p:grpSpPr>
        <p:grpSp>
          <p:nvGrpSpPr>
            <p:cNvPr id="377" name=""/>
            <p:cNvGrpSpPr/>
            <p:nvPr/>
          </p:nvGrpSpPr>
          <p:grpSpPr>
            <a:xfrm>
              <a:off x="4110120" y="2890800"/>
              <a:ext cx="4038120" cy="609480"/>
              <a:chOff x="4110120" y="2890800"/>
              <a:chExt cx="4038120" cy="609480"/>
            </a:xfrm>
          </p:grpSpPr>
          <p:sp>
            <p:nvSpPr>
              <p:cNvPr id="378" name=""/>
              <p:cNvSpPr/>
              <p:nvPr/>
            </p:nvSpPr>
            <p:spPr>
              <a:xfrm flipH="1">
                <a:off x="7462080" y="2890800"/>
                <a:ext cx="685800" cy="609480"/>
              </a:xfrm>
              <a:custGeom>
                <a:avLst/>
                <a:gdLst/>
                <a:ahLst/>
                <a:rect l="l" t="t" r="r" b="b"/>
                <a:pathLst>
                  <a:path w="597" h="352">
                    <a:moveTo>
                      <a:pt x="0" y="352"/>
                    </a:moveTo>
                    <a:cubicBezTo>
                      <a:pt x="20" y="260"/>
                      <a:pt x="40" y="168"/>
                      <a:pt x="96" y="112"/>
                    </a:cubicBezTo>
                    <a:cubicBezTo>
                      <a:pt x="152" y="56"/>
                      <a:pt x="264" y="0"/>
                      <a:pt x="336" y="16"/>
                    </a:cubicBezTo>
                    <a:cubicBezTo>
                      <a:pt x="408" y="32"/>
                      <a:pt x="485" y="153"/>
                      <a:pt x="528" y="208"/>
                    </a:cubicBezTo>
                    <a:cubicBezTo>
                      <a:pt x="571" y="263"/>
                      <a:pt x="583" y="317"/>
                      <a:pt x="597" y="3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10120" y="2890800"/>
                <a:ext cx="685800" cy="609480"/>
              </a:xfrm>
              <a:custGeom>
                <a:avLst/>
                <a:gdLst/>
                <a:ahLst/>
                <a:rect l="l" t="t" r="r" b="b"/>
                <a:pathLst>
                  <a:path w="597" h="352">
                    <a:moveTo>
                      <a:pt x="0" y="352"/>
                    </a:moveTo>
                    <a:cubicBezTo>
                      <a:pt x="20" y="260"/>
                      <a:pt x="40" y="168"/>
                      <a:pt x="96" y="112"/>
                    </a:cubicBezTo>
                    <a:cubicBezTo>
                      <a:pt x="152" y="56"/>
                      <a:pt x="264" y="0"/>
                      <a:pt x="336" y="16"/>
                    </a:cubicBezTo>
                    <a:cubicBezTo>
                      <a:pt x="408" y="32"/>
                      <a:pt x="485" y="153"/>
                      <a:pt x="528" y="208"/>
                    </a:cubicBezTo>
                    <a:cubicBezTo>
                      <a:pt x="571" y="263"/>
                      <a:pt x="583" y="317"/>
                      <a:pt x="597" y="3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033800" y="3500280"/>
              <a:ext cx="42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010840" y="28526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Myriad Condensed Web"/>
              </a:rPr>
              <a:t>Y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2400" spc="-1" strike="noStrike">
                <a:solidFill>
                  <a:srgbClr val="000000"/>
                </a:solidFill>
                <a:latin typeface="Myriad Condensed Web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381080" y="3552840"/>
            <a:ext cx="685800" cy="1066680"/>
          </a:xfrm>
          <a:custGeom>
            <a:avLst/>
            <a:gdLst/>
            <a:ahLst/>
            <a:rect l="l" t="t" r="r" b="b"/>
            <a:pathLst>
              <a:path w="597" h="352">
                <a:moveTo>
                  <a:pt x="0" y="352"/>
                </a:moveTo>
                <a:cubicBezTo>
                  <a:pt x="20" y="260"/>
                  <a:pt x="40" y="168"/>
                  <a:pt x="96" y="112"/>
                </a:cubicBezTo>
                <a:cubicBezTo>
                  <a:pt x="152" y="56"/>
                  <a:pt x="264" y="0"/>
                  <a:pt x="336" y="16"/>
                </a:cubicBezTo>
                <a:cubicBezTo>
                  <a:pt x="408" y="32"/>
                  <a:pt x="485" y="153"/>
                  <a:pt x="528" y="208"/>
                </a:cubicBezTo>
                <a:cubicBezTo>
                  <a:pt x="571" y="263"/>
                  <a:pt x="583" y="317"/>
                  <a:pt x="597" y="34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73600" y="39765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Y˚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714280" y="4773600"/>
            <a:ext cx="685800" cy="1066680"/>
          </a:xfrm>
          <a:custGeom>
            <a:avLst/>
            <a:gdLst/>
            <a:ahLst/>
            <a:rect l="l" t="t" r="r" b="b"/>
            <a:pathLst>
              <a:path w="597" h="352">
                <a:moveTo>
                  <a:pt x="0" y="352"/>
                </a:moveTo>
                <a:cubicBezTo>
                  <a:pt x="20" y="260"/>
                  <a:pt x="40" y="168"/>
                  <a:pt x="96" y="112"/>
                </a:cubicBezTo>
                <a:cubicBezTo>
                  <a:pt x="152" y="56"/>
                  <a:pt x="264" y="0"/>
                  <a:pt x="336" y="16"/>
                </a:cubicBezTo>
                <a:cubicBezTo>
                  <a:pt x="408" y="32"/>
                  <a:pt x="485" y="153"/>
                  <a:pt x="528" y="208"/>
                </a:cubicBezTo>
                <a:cubicBezTo>
                  <a:pt x="571" y="263"/>
                  <a:pt x="583" y="317"/>
                  <a:pt x="597" y="34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02240" y="5348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Ỹ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5FC-1A16-4F5E-8ADE-C20BEED85CB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nalitikus jel és a komplex burkoló fogalmát determinisztikus jelekre nézt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tochasztikus folyamatokra is leh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tu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gy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190600" y="3429000"/>
                <a:ext cx="39974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438280" y="4233960"/>
                <a:ext cx="62485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gn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és még így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6508440" y="3044880"/>
            <a:ext cx="1749600" cy="1143000"/>
            <a:chOff x="6508440" y="3044880"/>
            <a:chExt cx="1749600" cy="1143000"/>
          </a:xfrm>
        </p:grpSpPr>
        <p:sp>
          <p:nvSpPr>
            <p:cNvPr id="391" name=""/>
            <p:cNvSpPr/>
            <p:nvPr/>
          </p:nvSpPr>
          <p:spPr>
            <a:xfrm>
              <a:off x="6508440" y="3044880"/>
              <a:ext cx="161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„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lbert” szűr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57840" y="3806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43640" y="380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43640" y="4111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81520" y="39592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43640" y="35780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E03-FC10-4DB6-BA8D-AE4076CDA6D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nnáll mé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folyamat és Hilbert-transzformáltjának kereszt-spektruma- keresztkorreláció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gy a kersztkorrelá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3622680"/>
                <a:ext cx="88390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gn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/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ω</m:t>
                        </m:r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971800" y="5419800"/>
                <a:ext cx="3733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839-40F9-4CEA-9613-CB36FCF2E16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alitiku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folyamato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ugyanúgy definiálhatu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is fenná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572000" y="1819440"/>
                <a:ext cx="3657600" cy="27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nnél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d>
                                  <m:r>
                                    <m:t xml:space="preserve">;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6083280" y="3938760"/>
                <a:ext cx="116676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2209680" y="5186520"/>
                <a:ext cx="5499360" cy="11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limUp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e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201-1598-422B-8F9E-2CA7EF6CB0F0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csak akkor stac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függ t-től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ersze ciklostac. lehet (az is) QAM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977760" y="2489040"/>
                <a:ext cx="7251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52280" y="3429000"/>
                <a:ext cx="876312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é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q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q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q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q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15E-A022-49D3-B77B-5FC711CBDC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ovábbá: mivel     tiszta képzetes:        páratlan – vagyis a jel és a H-trszf minden t-nél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rrelálat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657600" y="1676520"/>
                <a:ext cx="533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086600" y="1676520"/>
                <a:ext cx="533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6783480" y="6400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23000" y="6186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A01-1EC3-4812-8765-E362AA393EA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olyamat analitikus folyam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is fenná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87240" y="2122560"/>
                <a:ext cx="78408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limUpp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τ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τ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844640" y="5618160"/>
                <a:ext cx="70866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666880" y="4110120"/>
            <a:ext cx="3314880" cy="107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9F4-1C09-4516-A14E-346777961EC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22200" y="2475000"/>
                <a:ext cx="84978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/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71280" y="3697200"/>
                <a:ext cx="9072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τ</m:t>
                                    </m:r>
                                  </m:e>
                                </m:d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τ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∘</m:t>
                                </m:r>
                              </m:lim>
                            </m:limUp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τ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654120" y="154764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(t), q(t) összetevők (egyenlő)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pektrális sűrűsé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8000" y="478152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átt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2700360" y="5516640"/>
                <a:ext cx="2400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268360" y="4716360"/>
                <a:ext cx="3743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∘</m:t>
                            </m:r>
                          </m:lim>
                        </m:limUp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375-9550-4749-903B-D11742F0CEBF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24160" y="1434960"/>
            <a:ext cx="6375240" cy="5004000"/>
          </a:xfrm>
          <a:custGeom>
            <a:avLst/>
            <a:gdLst/>
            <a:ahLst/>
            <a:rect l="l" t="t" r="r" b="b"/>
            <a:pathLst>
              <a:path w="4016" h="3152">
                <a:moveTo>
                  <a:pt x="2616" y="3080"/>
                </a:moveTo>
                <a:cubicBezTo>
                  <a:pt x="2728" y="3072"/>
                  <a:pt x="3128" y="3152"/>
                  <a:pt x="3336" y="3032"/>
                </a:cubicBezTo>
                <a:cubicBezTo>
                  <a:pt x="3544" y="2912"/>
                  <a:pt x="3752" y="2640"/>
                  <a:pt x="3864" y="2360"/>
                </a:cubicBezTo>
                <a:cubicBezTo>
                  <a:pt x="3976" y="2080"/>
                  <a:pt x="4016" y="1720"/>
                  <a:pt x="4008" y="1352"/>
                </a:cubicBezTo>
                <a:cubicBezTo>
                  <a:pt x="4000" y="984"/>
                  <a:pt x="3992" y="304"/>
                  <a:pt x="3816" y="152"/>
                </a:cubicBezTo>
                <a:cubicBezTo>
                  <a:pt x="3640" y="0"/>
                  <a:pt x="3128" y="272"/>
                  <a:pt x="2952" y="440"/>
                </a:cubicBezTo>
                <a:cubicBezTo>
                  <a:pt x="2776" y="608"/>
                  <a:pt x="2808" y="912"/>
                  <a:pt x="2760" y="1160"/>
                </a:cubicBezTo>
                <a:cubicBezTo>
                  <a:pt x="2712" y="1408"/>
                  <a:pt x="2856" y="1840"/>
                  <a:pt x="2664" y="1928"/>
                </a:cubicBezTo>
                <a:cubicBezTo>
                  <a:pt x="2472" y="2016"/>
                  <a:pt x="2008" y="1688"/>
                  <a:pt x="1608" y="1688"/>
                </a:cubicBezTo>
                <a:cubicBezTo>
                  <a:pt x="1208" y="1688"/>
                  <a:pt x="528" y="1848"/>
                  <a:pt x="264" y="1928"/>
                </a:cubicBezTo>
                <a:cubicBezTo>
                  <a:pt x="0" y="2008"/>
                  <a:pt x="24" y="1992"/>
                  <a:pt x="24" y="2168"/>
                </a:cubicBezTo>
                <a:cubicBezTo>
                  <a:pt x="24" y="2344"/>
                  <a:pt x="136" y="2840"/>
                  <a:pt x="264" y="2984"/>
                </a:cubicBezTo>
                <a:cubicBezTo>
                  <a:pt x="392" y="3128"/>
                  <a:pt x="576" y="3048"/>
                  <a:pt x="792" y="3032"/>
                </a:cubicBezTo>
                <a:cubicBezTo>
                  <a:pt x="1008" y="3016"/>
                  <a:pt x="1248" y="2880"/>
                  <a:pt x="1560" y="2888"/>
                </a:cubicBezTo>
                <a:cubicBezTo>
                  <a:pt x="1872" y="2896"/>
                  <a:pt x="2488" y="3048"/>
                  <a:pt x="2664" y="3080"/>
                </a:cubicBezTo>
                <a:cubicBezTo>
                  <a:pt x="2840" y="3112"/>
                  <a:pt x="2504" y="3088"/>
                  <a:pt x="2616" y="3080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1981080"/>
            <a:ext cx="1219320" cy="3505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800600"/>
            <a:ext cx="4647960" cy="10666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ztochasztikus folyam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06200" y="2224080"/>
            <a:ext cx="6115680" cy="3645000"/>
            <a:chOff x="1906200" y="2224080"/>
            <a:chExt cx="6115680" cy="3645000"/>
          </a:xfrm>
        </p:grpSpPr>
        <p:sp>
          <p:nvSpPr>
            <p:cNvPr id="57" name=""/>
            <p:cNvSpPr/>
            <p:nvPr/>
          </p:nvSpPr>
          <p:spPr>
            <a:xfrm>
              <a:off x="2286000" y="2224080"/>
              <a:ext cx="4648320" cy="977760"/>
            </a:xfrm>
            <a:custGeom>
              <a:avLst/>
              <a:gdLst/>
              <a:ahLst/>
              <a:rect l="l" t="t" r="r" b="b"/>
              <a:pathLst>
                <a:path w="2928" h="616">
                  <a:moveTo>
                    <a:pt x="0" y="288"/>
                  </a:moveTo>
                  <a:cubicBezTo>
                    <a:pt x="72" y="224"/>
                    <a:pt x="144" y="160"/>
                    <a:pt x="240" y="192"/>
                  </a:cubicBezTo>
                  <a:cubicBezTo>
                    <a:pt x="336" y="224"/>
                    <a:pt x="432" y="464"/>
                    <a:pt x="576" y="480"/>
                  </a:cubicBezTo>
                  <a:cubicBezTo>
                    <a:pt x="720" y="496"/>
                    <a:pt x="960" y="272"/>
                    <a:pt x="1104" y="288"/>
                  </a:cubicBezTo>
                  <a:cubicBezTo>
                    <a:pt x="1248" y="304"/>
                    <a:pt x="1336" y="616"/>
                    <a:pt x="1440" y="576"/>
                  </a:cubicBezTo>
                  <a:cubicBezTo>
                    <a:pt x="1544" y="536"/>
                    <a:pt x="1600" y="96"/>
                    <a:pt x="1728" y="48"/>
                  </a:cubicBezTo>
                  <a:cubicBezTo>
                    <a:pt x="1856" y="0"/>
                    <a:pt x="2088" y="200"/>
                    <a:pt x="2208" y="288"/>
                  </a:cubicBezTo>
                  <a:cubicBezTo>
                    <a:pt x="2328" y="376"/>
                    <a:pt x="2384" y="584"/>
                    <a:pt x="2448" y="576"/>
                  </a:cubicBezTo>
                  <a:cubicBezTo>
                    <a:pt x="2512" y="568"/>
                    <a:pt x="2520" y="288"/>
                    <a:pt x="2592" y="240"/>
                  </a:cubicBezTo>
                  <a:cubicBezTo>
                    <a:pt x="2664" y="192"/>
                    <a:pt x="2832" y="264"/>
                    <a:pt x="2880" y="288"/>
                  </a:cubicBezTo>
                  <a:cubicBezTo>
                    <a:pt x="2928" y="312"/>
                    <a:pt x="2880" y="368"/>
                    <a:pt x="2880" y="38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9680" y="3214800"/>
              <a:ext cx="4572000" cy="927000"/>
            </a:xfrm>
            <a:custGeom>
              <a:avLst/>
              <a:gdLst/>
              <a:ahLst/>
              <a:rect l="l" t="t" r="r" b="b"/>
              <a:pathLst>
                <a:path w="2880" h="584">
                  <a:moveTo>
                    <a:pt x="0" y="200"/>
                  </a:moveTo>
                  <a:cubicBezTo>
                    <a:pt x="76" y="316"/>
                    <a:pt x="152" y="432"/>
                    <a:pt x="192" y="440"/>
                  </a:cubicBezTo>
                  <a:cubicBezTo>
                    <a:pt x="232" y="448"/>
                    <a:pt x="192" y="264"/>
                    <a:pt x="240" y="248"/>
                  </a:cubicBezTo>
                  <a:cubicBezTo>
                    <a:pt x="288" y="232"/>
                    <a:pt x="432" y="304"/>
                    <a:pt x="480" y="344"/>
                  </a:cubicBezTo>
                  <a:cubicBezTo>
                    <a:pt x="528" y="384"/>
                    <a:pt x="456" y="544"/>
                    <a:pt x="528" y="488"/>
                  </a:cubicBezTo>
                  <a:cubicBezTo>
                    <a:pt x="600" y="432"/>
                    <a:pt x="776" y="16"/>
                    <a:pt x="912" y="8"/>
                  </a:cubicBezTo>
                  <a:cubicBezTo>
                    <a:pt x="1048" y="0"/>
                    <a:pt x="1240" y="400"/>
                    <a:pt x="1344" y="440"/>
                  </a:cubicBezTo>
                  <a:cubicBezTo>
                    <a:pt x="1448" y="480"/>
                    <a:pt x="1472" y="256"/>
                    <a:pt x="1536" y="248"/>
                  </a:cubicBezTo>
                  <a:cubicBezTo>
                    <a:pt x="1600" y="240"/>
                    <a:pt x="1672" y="344"/>
                    <a:pt x="1728" y="392"/>
                  </a:cubicBezTo>
                  <a:cubicBezTo>
                    <a:pt x="1784" y="440"/>
                    <a:pt x="1816" y="584"/>
                    <a:pt x="1872" y="536"/>
                  </a:cubicBezTo>
                  <a:cubicBezTo>
                    <a:pt x="1928" y="488"/>
                    <a:pt x="1992" y="184"/>
                    <a:pt x="2064" y="104"/>
                  </a:cubicBezTo>
                  <a:cubicBezTo>
                    <a:pt x="2136" y="24"/>
                    <a:pt x="2256" y="32"/>
                    <a:pt x="2304" y="56"/>
                  </a:cubicBezTo>
                  <a:cubicBezTo>
                    <a:pt x="2352" y="80"/>
                    <a:pt x="2280" y="240"/>
                    <a:pt x="2352" y="248"/>
                  </a:cubicBezTo>
                  <a:cubicBezTo>
                    <a:pt x="2424" y="256"/>
                    <a:pt x="2656" y="96"/>
                    <a:pt x="2736" y="104"/>
                  </a:cubicBezTo>
                  <a:cubicBezTo>
                    <a:pt x="2816" y="112"/>
                    <a:pt x="2808" y="240"/>
                    <a:pt x="2832" y="296"/>
                  </a:cubicBezTo>
                  <a:cubicBezTo>
                    <a:pt x="2856" y="352"/>
                    <a:pt x="2868" y="396"/>
                    <a:pt x="2880" y="4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62320" y="3672000"/>
              <a:ext cx="4572000" cy="1346040"/>
            </a:xfrm>
            <a:custGeom>
              <a:avLst/>
              <a:gdLst/>
              <a:ahLst/>
              <a:rect l="l" t="t" r="r" b="b"/>
              <a:pathLst>
                <a:path w="2880" h="848">
                  <a:moveTo>
                    <a:pt x="0" y="504"/>
                  </a:moveTo>
                  <a:cubicBezTo>
                    <a:pt x="72" y="500"/>
                    <a:pt x="144" y="496"/>
                    <a:pt x="192" y="552"/>
                  </a:cubicBezTo>
                  <a:cubicBezTo>
                    <a:pt x="240" y="608"/>
                    <a:pt x="248" y="832"/>
                    <a:pt x="288" y="840"/>
                  </a:cubicBezTo>
                  <a:cubicBezTo>
                    <a:pt x="328" y="848"/>
                    <a:pt x="392" y="680"/>
                    <a:pt x="432" y="600"/>
                  </a:cubicBezTo>
                  <a:cubicBezTo>
                    <a:pt x="472" y="520"/>
                    <a:pt x="472" y="376"/>
                    <a:pt x="528" y="360"/>
                  </a:cubicBezTo>
                  <a:cubicBezTo>
                    <a:pt x="584" y="344"/>
                    <a:pt x="696" y="432"/>
                    <a:pt x="768" y="504"/>
                  </a:cubicBezTo>
                  <a:cubicBezTo>
                    <a:pt x="840" y="576"/>
                    <a:pt x="912" y="776"/>
                    <a:pt x="960" y="792"/>
                  </a:cubicBezTo>
                  <a:cubicBezTo>
                    <a:pt x="1008" y="808"/>
                    <a:pt x="1016" y="600"/>
                    <a:pt x="1056" y="600"/>
                  </a:cubicBezTo>
                  <a:cubicBezTo>
                    <a:pt x="1096" y="600"/>
                    <a:pt x="1112" y="824"/>
                    <a:pt x="1200" y="792"/>
                  </a:cubicBezTo>
                  <a:cubicBezTo>
                    <a:pt x="1288" y="760"/>
                    <a:pt x="1488" y="448"/>
                    <a:pt x="1584" y="408"/>
                  </a:cubicBezTo>
                  <a:cubicBezTo>
                    <a:pt x="1680" y="368"/>
                    <a:pt x="1736" y="512"/>
                    <a:pt x="1776" y="552"/>
                  </a:cubicBezTo>
                  <a:cubicBezTo>
                    <a:pt x="1816" y="592"/>
                    <a:pt x="1784" y="672"/>
                    <a:pt x="1824" y="648"/>
                  </a:cubicBezTo>
                  <a:cubicBezTo>
                    <a:pt x="1864" y="624"/>
                    <a:pt x="1960" y="440"/>
                    <a:pt x="2016" y="408"/>
                  </a:cubicBezTo>
                  <a:cubicBezTo>
                    <a:pt x="2072" y="376"/>
                    <a:pt x="2136" y="424"/>
                    <a:pt x="2160" y="456"/>
                  </a:cubicBezTo>
                  <a:cubicBezTo>
                    <a:pt x="2184" y="488"/>
                    <a:pt x="2160" y="552"/>
                    <a:pt x="2160" y="600"/>
                  </a:cubicBezTo>
                  <a:cubicBezTo>
                    <a:pt x="2160" y="648"/>
                    <a:pt x="2136" y="752"/>
                    <a:pt x="2160" y="744"/>
                  </a:cubicBezTo>
                  <a:cubicBezTo>
                    <a:pt x="2184" y="736"/>
                    <a:pt x="2232" y="672"/>
                    <a:pt x="2304" y="552"/>
                  </a:cubicBezTo>
                  <a:cubicBezTo>
                    <a:pt x="2376" y="432"/>
                    <a:pt x="2528" y="48"/>
                    <a:pt x="2592" y="24"/>
                  </a:cubicBezTo>
                  <a:cubicBezTo>
                    <a:pt x="2656" y="0"/>
                    <a:pt x="2648" y="320"/>
                    <a:pt x="2688" y="408"/>
                  </a:cubicBezTo>
                  <a:cubicBezTo>
                    <a:pt x="2728" y="496"/>
                    <a:pt x="2800" y="496"/>
                    <a:pt x="2832" y="552"/>
                  </a:cubicBezTo>
                  <a:cubicBezTo>
                    <a:pt x="2864" y="608"/>
                    <a:pt x="2872" y="676"/>
                    <a:pt x="2880" y="7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14600" y="5653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59040" y="55008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33720" y="42811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6200" y="374796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38280" y="466236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21320" y="4448160"/>
              <a:ext cx="70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f(t,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5720" y="3519360"/>
              <a:ext cx="70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f(t,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42040" y="2529000"/>
              <a:ext cx="70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f(t,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352680" y="252864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876920" y="23760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172200" y="26809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36720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90920" y="2681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06520" y="4947840"/>
              <a:ext cx="70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f(t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01800" y="4947840"/>
              <a:ext cx="70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f(t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25680" y="5195880"/>
              <a:ext cx="764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f(t 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11660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0120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4400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F0B-E6E1-40F3-9F92-5B0908957D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01440" y="14842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96720" y="2154240"/>
                <a:ext cx="813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τ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j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τ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1117080" y="299736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lle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971640" y="3716280"/>
                <a:ext cx="73022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g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g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A3D-9A75-4BDB-83F0-472F0C2A00ED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ulált jelek – a komplex burkoló; sztochasztikus folyam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06200" y="1413000"/>
                <a:ext cx="89298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4356000" y="321300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556000" y="1989000"/>
            <a:ext cx="3743280" cy="792360"/>
            <a:chOff x="2556000" y="1989000"/>
            <a:chExt cx="3743280" cy="792360"/>
          </a:xfrm>
        </p:grpSpPr>
        <p:sp>
          <p:nvSpPr>
            <p:cNvPr id="440" name=""/>
            <p:cNvSpPr/>
            <p:nvPr/>
          </p:nvSpPr>
          <p:spPr>
            <a:xfrm>
              <a:off x="2556000" y="2632680"/>
              <a:ext cx="37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627280" y="1989000"/>
              <a:ext cx="1728720" cy="792360"/>
              <a:chOff x="2627280" y="1989000"/>
              <a:chExt cx="1728720" cy="792360"/>
            </a:xfrm>
          </p:grpSpPr>
          <p:sp>
            <p:nvSpPr>
              <p:cNvPr id="442" name=""/>
              <p:cNvSpPr/>
              <p:nvPr/>
            </p:nvSpPr>
            <p:spPr>
              <a:xfrm>
                <a:off x="2627280" y="2187360"/>
                <a:ext cx="1008000" cy="445320"/>
              </a:xfrm>
              <a:custGeom>
                <a:avLst/>
                <a:gdLst/>
                <a:ahLst/>
                <a:rect l="l" t="t" r="r" b="b"/>
                <a:pathLst>
                  <a:path w="635" h="408">
                    <a:moveTo>
                      <a:pt x="0" y="408"/>
                    </a:moveTo>
                    <a:lnTo>
                      <a:pt x="635" y="408"/>
                    </a:lnTo>
                    <a:lnTo>
                      <a:pt x="635" y="0"/>
                    </a:lnTo>
                    <a:lnTo>
                      <a:pt x="273" y="0"/>
                    </a:lnTo>
                    <a:lnTo>
                      <a:pt x="0" y="226"/>
                    </a:lnTo>
                    <a:lnTo>
                      <a:pt x="0" y="408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356000" y="198900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354560" y="1989000"/>
              <a:ext cx="1728720" cy="792360"/>
              <a:chOff x="4354560" y="1989000"/>
              <a:chExt cx="1728720" cy="792360"/>
            </a:xfrm>
          </p:grpSpPr>
          <p:sp>
            <p:nvSpPr>
              <p:cNvPr id="445" name=""/>
              <p:cNvSpPr/>
              <p:nvPr/>
            </p:nvSpPr>
            <p:spPr>
              <a:xfrm flipH="1">
                <a:off x="5075280" y="2187360"/>
                <a:ext cx="1008000" cy="445320"/>
              </a:xfrm>
              <a:custGeom>
                <a:avLst/>
                <a:gdLst/>
                <a:ahLst/>
                <a:rect l="l" t="t" r="r" b="b"/>
                <a:pathLst>
                  <a:path w="635" h="408">
                    <a:moveTo>
                      <a:pt x="0" y="408"/>
                    </a:moveTo>
                    <a:lnTo>
                      <a:pt x="635" y="408"/>
                    </a:lnTo>
                    <a:lnTo>
                      <a:pt x="635" y="0"/>
                    </a:lnTo>
                    <a:lnTo>
                      <a:pt x="273" y="0"/>
                    </a:lnTo>
                    <a:lnTo>
                      <a:pt x="0" y="226"/>
                    </a:lnTo>
                    <a:lnTo>
                      <a:pt x="0" y="408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54560" y="198900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476360" y="3789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47640" y="3141720"/>
            <a:ext cx="100836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lnTo>
                  <a:pt x="635" y="408"/>
                </a:lnTo>
                <a:lnTo>
                  <a:pt x="635" y="0"/>
                </a:lnTo>
                <a:lnTo>
                  <a:pt x="273" y="0"/>
                </a:lnTo>
                <a:lnTo>
                  <a:pt x="0" y="226"/>
                </a:lnTo>
                <a:lnTo>
                  <a:pt x="0" y="40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995640" y="3141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lnTo>
                  <a:pt x="635" y="408"/>
                </a:lnTo>
                <a:lnTo>
                  <a:pt x="635" y="0"/>
                </a:lnTo>
                <a:lnTo>
                  <a:pt x="273" y="0"/>
                </a:lnTo>
                <a:lnTo>
                  <a:pt x="0" y="226"/>
                </a:lnTo>
                <a:lnTo>
                  <a:pt x="0" y="40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7492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276720" y="32824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07200" y="229716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565440" y="4149720"/>
            <a:ext cx="3384720" cy="863640"/>
          </a:xfrm>
          <a:custGeom>
            <a:avLst/>
            <a:gdLst/>
            <a:ahLst/>
            <a:rect l="l" t="t" r="r" b="b"/>
            <a:pathLst>
              <a:path w="2132" h="544">
                <a:moveTo>
                  <a:pt x="0" y="544"/>
                </a:moveTo>
                <a:lnTo>
                  <a:pt x="998" y="544"/>
                </a:lnTo>
                <a:lnTo>
                  <a:pt x="998" y="0"/>
                </a:lnTo>
                <a:lnTo>
                  <a:pt x="213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44720" y="5013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92360" y="2928960"/>
            <a:ext cx="3384360" cy="863640"/>
          </a:xfrm>
          <a:custGeom>
            <a:avLst/>
            <a:gdLst/>
            <a:ahLst/>
            <a:rect l="l" t="t" r="r" b="b"/>
            <a:pathLst>
              <a:path w="2132" h="544">
                <a:moveTo>
                  <a:pt x="0" y="544"/>
                </a:moveTo>
                <a:lnTo>
                  <a:pt x="998" y="544"/>
                </a:lnTo>
                <a:lnTo>
                  <a:pt x="998" y="0"/>
                </a:lnTo>
                <a:lnTo>
                  <a:pt x="2132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65440" y="5013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637080" y="436716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lnTo>
                  <a:pt x="635" y="408"/>
                </a:lnTo>
                <a:lnTo>
                  <a:pt x="635" y="0"/>
                </a:lnTo>
                <a:lnTo>
                  <a:pt x="273" y="0"/>
                </a:lnTo>
                <a:lnTo>
                  <a:pt x="0" y="226"/>
                </a:lnTo>
                <a:lnTo>
                  <a:pt x="0" y="40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65800" y="40784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084000" y="4365720"/>
            <a:ext cx="100836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lnTo>
                  <a:pt x="635" y="408"/>
                </a:lnTo>
                <a:lnTo>
                  <a:pt x="635" y="0"/>
                </a:lnTo>
                <a:lnTo>
                  <a:pt x="273" y="0"/>
                </a:lnTo>
                <a:lnTo>
                  <a:pt x="0" y="226"/>
                </a:lnTo>
                <a:lnTo>
                  <a:pt x="0" y="40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6400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76360" y="306864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692360" y="2781000"/>
            <a:ext cx="107928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084720" y="3933360"/>
            <a:ext cx="129564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12000" y="4076640"/>
            <a:ext cx="86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86520" y="3016080"/>
            <a:ext cx="158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+sig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"/>
          <p:cNvCxnSpPr>
            <a:endCxn id="466" idx="1"/>
          </p:cNvCxnSpPr>
          <p:nvPr/>
        </p:nvCxnSpPr>
        <p:spPr>
          <a:xfrm>
            <a:off x="5076360" y="2923920"/>
            <a:ext cx="1010520" cy="276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1332000" y="4575240"/>
            <a:ext cx="158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-sig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68" idx="3"/>
          </p:cNvCxnSpPr>
          <p:nvPr/>
        </p:nvCxnSpPr>
        <p:spPr>
          <a:xfrm flipV="1">
            <a:off x="2913120" y="4149000"/>
            <a:ext cx="651600" cy="610200"/>
          </a:xfrm>
          <a:prstGeom prst="curvedConnector5">
            <a:avLst>
              <a:gd name="adj1" fmla="val 49972"/>
              <a:gd name="adj2" fmla="val 50000"/>
              <a:gd name="adj3" fmla="val 4997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2987640" y="63817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35280" y="573408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lnTo>
                  <a:pt x="635" y="408"/>
                </a:lnTo>
                <a:lnTo>
                  <a:pt x="635" y="0"/>
                </a:lnTo>
                <a:lnTo>
                  <a:pt x="273" y="0"/>
                </a:lnTo>
                <a:lnTo>
                  <a:pt x="0" y="226"/>
                </a:lnTo>
                <a:lnTo>
                  <a:pt x="0" y="40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067280" y="573408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lnTo>
                  <a:pt x="635" y="408"/>
                </a:lnTo>
                <a:lnTo>
                  <a:pt x="635" y="0"/>
                </a:lnTo>
                <a:lnTo>
                  <a:pt x="273" y="0"/>
                </a:lnTo>
                <a:lnTo>
                  <a:pt x="0" y="226"/>
                </a:lnTo>
                <a:lnTo>
                  <a:pt x="0" y="40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067280" y="52293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67280" y="5229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7280" y="573408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43280" y="573408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24360" y="5734080"/>
            <a:ext cx="93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984920" y="5465880"/>
            <a:ext cx="42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32E-D940-4E36-8ADF-49A65056324F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keskenysávú (fehér) z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ehér zaj persze nem keskenysávú. Legtöbbször keskenysávúvá tehető (fiktív) sáváteresztő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505480" y="5195880"/>
            <a:ext cx="1198800" cy="368280"/>
            <a:chOff x="5505480" y="5195880"/>
            <a:chExt cx="1198800" cy="368280"/>
          </a:xfrm>
        </p:grpSpPr>
        <p:sp>
          <p:nvSpPr>
            <p:cNvPr id="483" name=""/>
            <p:cNvSpPr/>
            <p:nvPr/>
          </p:nvSpPr>
          <p:spPr>
            <a:xfrm>
              <a:off x="5505480" y="5410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45360" y="5195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962520" y="3681360"/>
            <a:ext cx="0" cy="16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752480" y="3998880"/>
            <a:ext cx="4419720" cy="912240"/>
            <a:chOff x="1752480" y="3998880"/>
            <a:chExt cx="4419720" cy="912240"/>
          </a:xfrm>
        </p:grpSpPr>
        <p:sp>
          <p:nvSpPr>
            <p:cNvPr id="487" name=""/>
            <p:cNvSpPr/>
            <p:nvPr/>
          </p:nvSpPr>
          <p:spPr>
            <a:xfrm>
              <a:off x="1752480" y="487224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81080" y="3998880"/>
              <a:ext cx="947880" cy="873360"/>
            </a:xfrm>
            <a:custGeom>
              <a:avLst/>
              <a:gdLst/>
              <a:ahLst/>
              <a:rect l="l" t="t" r="r" b="b"/>
              <a:pathLst>
                <a:path w="597" h="352">
                  <a:moveTo>
                    <a:pt x="0" y="352"/>
                  </a:moveTo>
                  <a:cubicBezTo>
                    <a:pt x="20" y="260"/>
                    <a:pt x="40" y="168"/>
                    <a:pt x="96" y="112"/>
                  </a:cubicBezTo>
                  <a:cubicBezTo>
                    <a:pt x="152" y="56"/>
                    <a:pt x="264" y="0"/>
                    <a:pt x="336" y="16"/>
                  </a:cubicBezTo>
                  <a:cubicBezTo>
                    <a:pt x="408" y="32"/>
                    <a:pt x="485" y="153"/>
                    <a:pt x="528" y="208"/>
                  </a:cubicBezTo>
                  <a:cubicBezTo>
                    <a:pt x="571" y="263"/>
                    <a:pt x="583" y="317"/>
                    <a:pt x="597" y="3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995000" y="4038480"/>
              <a:ext cx="947880" cy="872640"/>
            </a:xfrm>
            <a:custGeom>
              <a:avLst/>
              <a:gdLst/>
              <a:ahLst/>
              <a:rect l="l" t="t" r="r" b="b"/>
              <a:pathLst>
                <a:path w="597" h="352">
                  <a:moveTo>
                    <a:pt x="0" y="352"/>
                  </a:moveTo>
                  <a:cubicBezTo>
                    <a:pt x="20" y="260"/>
                    <a:pt x="40" y="168"/>
                    <a:pt x="96" y="112"/>
                  </a:cubicBezTo>
                  <a:cubicBezTo>
                    <a:pt x="152" y="56"/>
                    <a:pt x="264" y="0"/>
                    <a:pt x="336" y="16"/>
                  </a:cubicBezTo>
                  <a:cubicBezTo>
                    <a:pt x="408" y="32"/>
                    <a:pt x="485" y="153"/>
                    <a:pt x="528" y="208"/>
                  </a:cubicBezTo>
                  <a:cubicBezTo>
                    <a:pt x="571" y="263"/>
                    <a:pt x="583" y="317"/>
                    <a:pt x="597" y="3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325920" y="4122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114800" y="344340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059000" y="36648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74560" y="5057640"/>
            <a:ext cx="13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) =N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4890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51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8120" y="4662360"/>
            <a:ext cx="38088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cubicBezTo>
                  <a:pt x="52" y="292"/>
                  <a:pt x="104" y="248"/>
                  <a:pt x="144" y="192"/>
                </a:cubicBezTo>
                <a:cubicBezTo>
                  <a:pt x="184" y="136"/>
                  <a:pt x="224" y="32"/>
                  <a:pt x="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747800" y="3521160"/>
            <a:ext cx="4432320" cy="1369440"/>
            <a:chOff x="1747800" y="3521160"/>
            <a:chExt cx="4432320" cy="1369440"/>
          </a:xfrm>
        </p:grpSpPr>
        <p:grpSp>
          <p:nvGrpSpPr>
            <p:cNvPr id="498" name=""/>
            <p:cNvGrpSpPr/>
            <p:nvPr/>
          </p:nvGrpSpPr>
          <p:grpSpPr>
            <a:xfrm>
              <a:off x="4498920" y="3955680"/>
              <a:ext cx="1681200" cy="934920"/>
              <a:chOff x="4498920" y="3955680"/>
              <a:chExt cx="1681200" cy="934920"/>
            </a:xfrm>
          </p:grpSpPr>
          <p:sp>
            <p:nvSpPr>
              <p:cNvPr id="499" name=""/>
              <p:cNvSpPr/>
              <p:nvPr/>
            </p:nvSpPr>
            <p:spPr>
              <a:xfrm flipV="1">
                <a:off x="4498920" y="3955680"/>
                <a:ext cx="0" cy="93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498920" y="3956040"/>
                <a:ext cx="168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180120" y="3955680"/>
                <a:ext cx="0" cy="93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21320" y="35211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</a:rPr>
                <a:t>H(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747800" y="3955680"/>
              <a:ext cx="1681200" cy="934920"/>
              <a:chOff x="1747800" y="3955680"/>
              <a:chExt cx="1681200" cy="934920"/>
            </a:xfrm>
          </p:grpSpPr>
          <p:sp>
            <p:nvSpPr>
              <p:cNvPr id="504" name=""/>
              <p:cNvSpPr/>
              <p:nvPr/>
            </p:nvSpPr>
            <p:spPr>
              <a:xfrm flipV="1">
                <a:off x="1747800" y="3955680"/>
                <a:ext cx="0" cy="93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747800" y="3956040"/>
                <a:ext cx="168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429000" y="3955680"/>
                <a:ext cx="0" cy="93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>
            <a:off x="1600200" y="457200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752480" y="4571640"/>
            <a:ext cx="4419720" cy="305280"/>
            <a:chOff x="1752480" y="4571640"/>
            <a:chExt cx="4419720" cy="305280"/>
          </a:xfrm>
        </p:grpSpPr>
        <p:sp>
          <p:nvSpPr>
            <p:cNvPr id="509" name=""/>
            <p:cNvSpPr/>
            <p:nvPr/>
          </p:nvSpPr>
          <p:spPr>
            <a:xfrm>
              <a:off x="4495680" y="45720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495680" y="4571640"/>
              <a:ext cx="1676520" cy="305280"/>
              <a:chOff x="4495680" y="4571640"/>
              <a:chExt cx="1676520" cy="30528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4495680" y="45716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95680" y="457200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2200" y="4572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1752480" y="4571640"/>
              <a:ext cx="1676520" cy="305280"/>
              <a:chOff x="1752480" y="4571640"/>
              <a:chExt cx="1676520" cy="305280"/>
            </a:xfrm>
          </p:grpSpPr>
          <p:sp>
            <p:nvSpPr>
              <p:cNvPr id="515" name=""/>
              <p:cNvSpPr/>
              <p:nvPr/>
            </p:nvSpPr>
            <p:spPr>
              <a:xfrm flipV="1">
                <a:off x="1752480" y="457164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52480" y="457200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572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3A9-EEEB-45F3-9104-AED024C92F4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keskenysávú (fehér) zaj néhány tulajdonsá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209680" y="3297240"/>
                <a:ext cx="5334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057400" y="2057400"/>
                <a:ext cx="5410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n</m:t>
                        </m:r>
                      </m:e>
                      <m:lim>
                        <m:r>
                          <m:t xml:space="preserve">∘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n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048120" y="4313160"/>
                <a:ext cx="4038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057400" y="5181480"/>
                <a:ext cx="60199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EFB-EC2D-4B2A-B6E7-F4558840995F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1. A döntéselmélet és a becsléselmélet  alapja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i-becslési feladatok a hírközlésben, hasonlók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Digitális hírközlés: (a vevőben) ismert jelek egyike – zaj jelenlét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: (alapsávi bináris hírközlé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rdés: melyiket adtá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925640" y="2438280"/>
            <a:ext cx="4946760" cy="1295640"/>
            <a:chOff x="1925640" y="2438280"/>
            <a:chExt cx="4946760" cy="1295640"/>
          </a:xfrm>
        </p:grpSpPr>
        <p:sp>
          <p:nvSpPr>
            <p:cNvPr id="528" name=""/>
            <p:cNvSpPr/>
            <p:nvPr/>
          </p:nvSpPr>
          <p:spPr>
            <a:xfrm>
              <a:off x="1925640" y="2711520"/>
              <a:ext cx="1109520" cy="6127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DIGITÁLIS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62160" y="305280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4440" y="2438280"/>
              <a:ext cx="1330200" cy="12956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Átvitel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csato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62520" y="2779560"/>
              <a:ext cx="1109880" cy="61308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NYELŐ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84640" y="31194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362320" y="4554360"/>
                <a:ext cx="40384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A44-1C59-48B1-8FFF-A126D3AFE85F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i-becslési feladatok a hírközlésben, hasonlók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A (különben) ismert jelnek van(nak) ismeretlen (csak statisztikusan ismert) paramétere(i)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gyanaz a blokkséma, de, pl. (nem-koherens bináris hírközlés, 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90480" y="4275000"/>
                <a:ext cx="77612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</m:e>
                    </m:d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</m:e>
                    </m:d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1447920" y="4879800"/>
                <a:ext cx="548640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ϕ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ϕ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den>
                              </m:f>
                              <m:r>
                                <m:t xml:space="preserve">;</m:t>
                              </m:r>
                              <m:r>
                                <m:t xml:space="preserve">α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π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π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egyébkén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C43-624B-4F2B-868D-5DC2F71DD37D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i-becslési feladatok a hírközlésben, hasonlók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gy: másik példa (nem-koherens FSK, nem-szelektív Rayleigh- fadinges átviteli csatorn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82880" y="5486400"/>
                <a:ext cx="2984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828800" y="3809880"/>
                <a:ext cx="56386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ϕ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ϕ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den>
                              </m:f>
                              <m:r>
                                <m:t xml:space="preserve">;</m:t>
                              </m:r>
                              <m:r>
                                <m:t xml:space="preserve">α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π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π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egyébkén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46240" y="2862360"/>
                <a:ext cx="8653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bar>
                      <m:barPr>
                        <m:pos m:val="bot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</m:e>
                    </m:d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bar>
                      <m:barPr>
                        <m:pos m:val="bot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</m:e>
                    </m:d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5D0-512F-4121-BACD-C41AE6CA4F32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i-becslési feladatok a hírközlésben, hasonlók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rmadik példa: a jelalakokat ismerjük, de vannak statisztikusan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e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ismert paraméterei (rad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rdés: van jel?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 vagy nincs?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908000" y="3352680"/>
                <a:ext cx="509760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τ</m:t>
                                    </m:r>
                                  </m:e>
                                </m:bar>
                              </m:e>
                            </m:d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ϕ</m:t>
                                </m:r>
                              </m:e>
                            </m:bar>
                          </m:e>
                        </m:d>
                        <m:r>
                          <m:t xml:space="preserve">+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51B-6A7C-4B8D-B4B5-1328B7A66D32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i-becslési feladatok a hírközlésben, hasonlók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A jel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la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s véletlenszerűen válto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 (antipodális) digitális átvitel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igen gyor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fading ese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942840" y="4991040"/>
                <a:ext cx="7256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bar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bar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51" name=""/>
          <p:cNvGrpSpPr/>
          <p:nvPr/>
        </p:nvGrpSpPr>
        <p:grpSpPr>
          <a:xfrm>
            <a:off x="1905120" y="3429000"/>
            <a:ext cx="5029200" cy="1295280"/>
            <a:chOff x="1905120" y="3429000"/>
            <a:chExt cx="5029200" cy="1295280"/>
          </a:xfrm>
        </p:grpSpPr>
        <p:sp>
          <p:nvSpPr>
            <p:cNvPr id="552" name=""/>
            <p:cNvSpPr/>
            <p:nvPr/>
          </p:nvSpPr>
          <p:spPr>
            <a:xfrm>
              <a:off x="1905120" y="3701880"/>
              <a:ext cx="1109520" cy="61236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DIGITÁLIS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14640" y="404316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54440" y="3429000"/>
              <a:ext cx="1330200" cy="1295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Átvitel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Csato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T(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24440" y="3769920"/>
              <a:ext cx="1109880" cy="6127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NYELŐ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84640" y="410976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676-4108-40B4-A255-BD3574BBC03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hogyan jellemezzü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yílván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harmadik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rtelmezésnek megfelelő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 valamilyen valószínűségi eloszlás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után végtelen sok val.vált. van: ezek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gyütte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loszlásával (vagy: sűrűségé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: nemcsak végtelen sok, hanem folytonos számosság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et mind figyelembevé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6DD-570B-4F0A-9A35-B4718C2ED5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i-becslési feladatok a hírközlésben, hasonlók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Analóg rádió-hírközlés: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időben folytonos moduláló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lel a vivő egy paramétere arány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analóg FM; kérdés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gy: digitális jel átvitele frekvenciában szelektív fadinges csatornán (a döntéshe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-t ismerni kell); kérdés: melyiket adtá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573280" y="3338640"/>
                <a:ext cx="4835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bar>
                      </m:e>
                    </m:d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981080" y="5288040"/>
                <a:ext cx="54104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bar>
                      </m:e>
                    </m:nary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dτ</m:t>
                    </m:r>
                    <m:r>
                      <m:t xml:space="preserve">+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06C-EF9C-4A5D-9863-5331DEFF19B4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döntéselmélet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gegyszerűbb példa: egyszerű bináris átvitel; döntés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független minta alapj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od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622520" y="2743200"/>
            <a:ext cx="6987960" cy="4038480"/>
            <a:chOff x="1622520" y="2743200"/>
            <a:chExt cx="6987960" cy="4038480"/>
          </a:xfrm>
        </p:grpSpPr>
        <p:sp>
          <p:nvSpPr>
            <p:cNvPr id="564" name=""/>
            <p:cNvSpPr/>
            <p:nvPr/>
          </p:nvSpPr>
          <p:spPr>
            <a:xfrm>
              <a:off x="1622520" y="3276720"/>
              <a:ext cx="1218960" cy="76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41480" y="3505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41480" y="38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46400" y="3154320"/>
              <a:ext cx="304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46400" y="3840120"/>
              <a:ext cx="304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27280" y="3276720"/>
              <a:ext cx="1219320" cy="76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CSATO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46240" y="4251240"/>
              <a:ext cx="248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(Csak a statisztikája ismer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46600" y="36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Cloud"/>
            <p:cNvSpPr/>
            <p:nvPr/>
          </p:nvSpPr>
          <p:spPr>
            <a:xfrm>
              <a:off x="5432400" y="2743200"/>
              <a:ext cx="2743200" cy="18381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15240" y="3336840"/>
              <a:ext cx="1704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MEGFIGYELÉSI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TÉR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032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70480" y="5334120"/>
              <a:ext cx="1219320" cy="76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DÖN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56280" y="4800600"/>
              <a:ext cx="165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Döntési szabály</a:t>
              </a:r>
              <a:br>
                <a:rPr sz="1600"/>
              </a:b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? H</a:t>
              </a:r>
              <a:r>
                <a:rPr b="0" lang="hu-HU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34320" y="6095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5200" y="6324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19280" y="4889520"/>
            <a:ext cx="43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gjegyzés: a kalapnak (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ˆ ) most semmi</a:t>
            </a:r>
            <a:br>
              <a:rPr sz="1800"/>
            </a:b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köze a Hilbert-transzformálth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27F-4A22-4127-80AA-35C92BFA9597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döntéselmélet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hipotézi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figyelés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int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→az O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-dimenzió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figyelés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hu-HU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…,r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öntés: melyiket adt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edmények: 4-f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 adták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Ĥ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hely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 adták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Ĥ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(hib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 adták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Ĥ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(hely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 adták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Ĥ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hib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947-95C6-4E6F-B2DC-1E2DAFAF7F60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Bayes-féle dön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yes-féle dönt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.) ismerjük (eleve)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dásának a valószínűségét (a-prior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.) mindegyik döntésnek van valamekkor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öltsége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re döntöttünk mikor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 adtá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.) persze azt biztosra vehetjük, hogy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éve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öntés drágább mint 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hely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2514600" y="3084480"/>
                <a:ext cx="3886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200400" y="5562720"/>
                <a:ext cx="30862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04D-3B13-4C2F-A6EF-433676634342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Bayes-féle dön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.) döntési szabály: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átlagos költsé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u.n.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ockáza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yen minimá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271520" y="2514600"/>
                <a:ext cx="67294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5110200" y="3851280"/>
            <a:ext cx="2957400" cy="806400"/>
          </a:xfrm>
          <a:custGeom>
            <a:avLst/>
            <a:gdLst/>
            <a:ahLst/>
            <a:rect l="l" t="t" r="r" b="b"/>
            <a:pathLst>
              <a:path w="1863" h="508">
                <a:moveTo>
                  <a:pt x="0" y="508"/>
                </a:moveTo>
                <a:lnTo>
                  <a:pt x="822" y="0"/>
                </a:lnTo>
                <a:lnTo>
                  <a:pt x="186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823880" y="340992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731880" y="3981600"/>
            <a:ext cx="5549760" cy="2058840"/>
            <a:chOff x="731880" y="3981600"/>
            <a:chExt cx="5549760" cy="2058840"/>
          </a:xfrm>
        </p:grpSpPr>
        <p:sp>
          <p:nvSpPr>
            <p:cNvPr id="593" name=""/>
            <p:cNvSpPr/>
            <p:nvPr/>
          </p:nvSpPr>
          <p:spPr>
            <a:xfrm>
              <a:off x="3965760" y="4442040"/>
              <a:ext cx="269640" cy="27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1880" y="4527720"/>
              <a:ext cx="9907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89480" y="3981600"/>
              <a:ext cx="2792160" cy="2058840"/>
            </a:xfrm>
            <a:custGeom>
              <a:avLst/>
              <a:gdLst/>
              <a:ahLst/>
              <a:rect l="l" t="t" r="r" b="b"/>
              <a:pathLst>
                <a:path w="1759" h="1297">
                  <a:moveTo>
                    <a:pt x="183" y="488"/>
                  </a:moveTo>
                  <a:cubicBezTo>
                    <a:pt x="151" y="400"/>
                    <a:pt x="127" y="112"/>
                    <a:pt x="231" y="56"/>
                  </a:cubicBezTo>
                  <a:cubicBezTo>
                    <a:pt x="335" y="0"/>
                    <a:pt x="575" y="136"/>
                    <a:pt x="807" y="152"/>
                  </a:cubicBezTo>
                  <a:cubicBezTo>
                    <a:pt x="1039" y="168"/>
                    <a:pt x="1487" y="120"/>
                    <a:pt x="1623" y="152"/>
                  </a:cubicBezTo>
                  <a:cubicBezTo>
                    <a:pt x="1759" y="184"/>
                    <a:pt x="1631" y="208"/>
                    <a:pt x="1623" y="344"/>
                  </a:cubicBezTo>
                  <a:cubicBezTo>
                    <a:pt x="1615" y="480"/>
                    <a:pt x="1647" y="864"/>
                    <a:pt x="1575" y="968"/>
                  </a:cubicBezTo>
                  <a:cubicBezTo>
                    <a:pt x="1503" y="1072"/>
                    <a:pt x="1297" y="916"/>
                    <a:pt x="1191" y="968"/>
                  </a:cubicBezTo>
                  <a:cubicBezTo>
                    <a:pt x="1085" y="1020"/>
                    <a:pt x="1042" y="1265"/>
                    <a:pt x="938" y="1281"/>
                  </a:cubicBezTo>
                  <a:cubicBezTo>
                    <a:pt x="834" y="1297"/>
                    <a:pt x="708" y="1120"/>
                    <a:pt x="567" y="1064"/>
                  </a:cubicBezTo>
                  <a:cubicBezTo>
                    <a:pt x="426" y="1008"/>
                    <a:pt x="186" y="1015"/>
                    <a:pt x="94" y="942"/>
                  </a:cubicBezTo>
                  <a:cubicBezTo>
                    <a:pt x="2" y="869"/>
                    <a:pt x="0" y="702"/>
                    <a:pt x="15" y="626"/>
                  </a:cubicBezTo>
                  <a:cubicBezTo>
                    <a:pt x="30" y="550"/>
                    <a:pt x="148" y="517"/>
                    <a:pt x="183" y="488"/>
                  </a:cubicBez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23640" y="4792680"/>
              <a:ext cx="57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42960" y="4640400"/>
              <a:ext cx="57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65800" y="4146840"/>
              <a:ext cx="698400" cy="1752480"/>
            </a:xfrm>
            <a:custGeom>
              <a:avLst/>
              <a:gdLst/>
              <a:ahLst/>
              <a:rect l="l" t="t" r="r" b="b"/>
              <a:pathLst>
                <a:path w="440" h="1104">
                  <a:moveTo>
                    <a:pt x="0" y="0"/>
                  </a:moveTo>
                  <a:cubicBezTo>
                    <a:pt x="160" y="56"/>
                    <a:pt x="320" y="112"/>
                    <a:pt x="336" y="240"/>
                  </a:cubicBezTo>
                  <a:cubicBezTo>
                    <a:pt x="352" y="368"/>
                    <a:pt x="88" y="632"/>
                    <a:pt x="96" y="768"/>
                  </a:cubicBezTo>
                  <a:cubicBezTo>
                    <a:pt x="104" y="904"/>
                    <a:pt x="328" y="1008"/>
                    <a:pt x="384" y="1056"/>
                  </a:cubicBezTo>
                  <a:cubicBezTo>
                    <a:pt x="440" y="1104"/>
                    <a:pt x="424" y="1056"/>
                    <a:pt x="432" y="10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75560" y="4335480"/>
              <a:ext cx="546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Z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77200" y="5151600"/>
              <a:ext cx="546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Z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39880" y="4403880"/>
              <a:ext cx="2419560" cy="343080"/>
            </a:xfrm>
            <a:custGeom>
              <a:avLst/>
              <a:gdLst/>
              <a:ahLst/>
              <a:rect l="l" t="t" r="r" b="b"/>
              <a:pathLst>
                <a:path w="1104" h="216">
                  <a:moveTo>
                    <a:pt x="0" y="216"/>
                  </a:moveTo>
                  <a:cubicBezTo>
                    <a:pt x="28" y="132"/>
                    <a:pt x="56" y="48"/>
                    <a:pt x="240" y="24"/>
                  </a:cubicBezTo>
                  <a:cubicBezTo>
                    <a:pt x="424" y="0"/>
                    <a:pt x="960" y="64"/>
                    <a:pt x="110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960920" y="4000680"/>
              <a:ext cx="117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hu-HU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H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1720" y="4605480"/>
              <a:ext cx="2425680" cy="650880"/>
            </a:xfrm>
            <a:custGeom>
              <a:avLst/>
              <a:gdLst/>
              <a:ahLst/>
              <a:rect l="l" t="t" r="r" b="b"/>
              <a:pathLst>
                <a:path w="1528" h="410">
                  <a:moveTo>
                    <a:pt x="0" y="187"/>
                  </a:moveTo>
                  <a:cubicBezTo>
                    <a:pt x="39" y="271"/>
                    <a:pt x="76" y="410"/>
                    <a:pt x="331" y="379"/>
                  </a:cubicBezTo>
                  <a:cubicBezTo>
                    <a:pt x="586" y="348"/>
                    <a:pt x="1279" y="79"/>
                    <a:pt x="1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13200" y="5281920"/>
              <a:ext cx="117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hu-HU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H0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6051960" y="570708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rtománya; minden pont-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k megfelel két val.sű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D34-C9F4-4A8B-8A23-FF22BDEB2AD4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Bayes-féle dön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rdés: hogy válasszuk meg OS két részét, hogy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minimális legy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hhez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 részletez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vel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valahog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biztos döntü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 í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919080" y="2743200"/>
                <a:ext cx="791388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dR</m:t>
                            </m:r>
                            <m:r>
                              <m:t xml:space="preserve">+</m:t>
                            </m:r>
                          </m:e>
                        </m:nary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dR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dR</m:t>
                            </m:r>
                            <m:r>
                              <m:t xml:space="preserve">+</m:t>
                            </m:r>
                          </m:e>
                        </m:nary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dR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400800" y="4343400"/>
                <a:ext cx="16002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1981080" y="5027760"/>
                <a:ext cx="403884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sub>
                      <m:sup/>
                      <m:e/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sub>
                      <m:sup/>
                      <m:e/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9CB-6C74-4CAF-A31D-1D014ABB3C59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Bayes-féle dön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mi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lső két tag álland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két integrandus 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gy: Z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ahol az első integrandus nagyobb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ahol a másod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523880" y="2141640"/>
                <a:ext cx="670716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dR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dR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5102280" y="3675240"/>
            <a:ext cx="3886200" cy="1442880"/>
            <a:chOff x="5102280" y="3675240"/>
            <a:chExt cx="3886200" cy="1442880"/>
          </a:xfrm>
        </p:grpSpPr>
        <p:sp>
          <p:nvSpPr>
            <p:cNvPr id="615" name=""/>
            <p:cNvSpPr/>
            <p:nvPr/>
          </p:nvSpPr>
          <p:spPr>
            <a:xfrm>
              <a:off x="7366680" y="3997800"/>
              <a:ext cx="188640" cy="18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02280" y="4057920"/>
              <a:ext cx="693720" cy="48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33320" y="3675240"/>
              <a:ext cx="1955160" cy="1442880"/>
            </a:xfrm>
            <a:custGeom>
              <a:avLst/>
              <a:gdLst/>
              <a:ahLst/>
              <a:rect l="l" t="t" r="r" b="b"/>
              <a:pathLst>
                <a:path w="1759" h="1297">
                  <a:moveTo>
                    <a:pt x="183" y="488"/>
                  </a:moveTo>
                  <a:cubicBezTo>
                    <a:pt x="151" y="400"/>
                    <a:pt x="127" y="112"/>
                    <a:pt x="231" y="56"/>
                  </a:cubicBezTo>
                  <a:cubicBezTo>
                    <a:pt x="335" y="0"/>
                    <a:pt x="575" y="136"/>
                    <a:pt x="807" y="152"/>
                  </a:cubicBezTo>
                  <a:cubicBezTo>
                    <a:pt x="1039" y="168"/>
                    <a:pt x="1487" y="120"/>
                    <a:pt x="1623" y="152"/>
                  </a:cubicBezTo>
                  <a:cubicBezTo>
                    <a:pt x="1759" y="184"/>
                    <a:pt x="1631" y="208"/>
                    <a:pt x="1623" y="344"/>
                  </a:cubicBezTo>
                  <a:cubicBezTo>
                    <a:pt x="1615" y="480"/>
                    <a:pt x="1647" y="864"/>
                    <a:pt x="1575" y="968"/>
                  </a:cubicBezTo>
                  <a:cubicBezTo>
                    <a:pt x="1503" y="1072"/>
                    <a:pt x="1297" y="916"/>
                    <a:pt x="1191" y="968"/>
                  </a:cubicBezTo>
                  <a:cubicBezTo>
                    <a:pt x="1085" y="1020"/>
                    <a:pt x="1042" y="1265"/>
                    <a:pt x="938" y="1281"/>
                  </a:cubicBezTo>
                  <a:cubicBezTo>
                    <a:pt x="834" y="1297"/>
                    <a:pt x="708" y="1120"/>
                    <a:pt x="567" y="1064"/>
                  </a:cubicBezTo>
                  <a:cubicBezTo>
                    <a:pt x="426" y="1008"/>
                    <a:pt x="186" y="1015"/>
                    <a:pt x="94" y="942"/>
                  </a:cubicBezTo>
                  <a:cubicBezTo>
                    <a:pt x="2" y="869"/>
                    <a:pt x="0" y="702"/>
                    <a:pt x="15" y="626"/>
                  </a:cubicBezTo>
                  <a:cubicBezTo>
                    <a:pt x="30" y="550"/>
                    <a:pt x="148" y="517"/>
                    <a:pt x="183" y="488"/>
                  </a:cubicBez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39320" y="4243680"/>
              <a:ext cx="57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191800" y="4136760"/>
              <a:ext cx="57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16960" y="3790800"/>
              <a:ext cx="488880" cy="1227960"/>
            </a:xfrm>
            <a:custGeom>
              <a:avLst/>
              <a:gdLst/>
              <a:ahLst/>
              <a:rect l="l" t="t" r="r" b="b"/>
              <a:pathLst>
                <a:path w="440" h="1104">
                  <a:moveTo>
                    <a:pt x="0" y="0"/>
                  </a:moveTo>
                  <a:cubicBezTo>
                    <a:pt x="160" y="56"/>
                    <a:pt x="320" y="112"/>
                    <a:pt x="336" y="240"/>
                  </a:cubicBezTo>
                  <a:cubicBezTo>
                    <a:pt x="352" y="368"/>
                    <a:pt x="88" y="632"/>
                    <a:pt x="96" y="768"/>
                  </a:cubicBezTo>
                  <a:cubicBezTo>
                    <a:pt x="104" y="904"/>
                    <a:pt x="328" y="1008"/>
                    <a:pt x="384" y="1056"/>
                  </a:cubicBezTo>
                  <a:cubicBezTo>
                    <a:pt x="440" y="1104"/>
                    <a:pt x="424" y="1056"/>
                    <a:pt x="432" y="10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45520" y="3922920"/>
              <a:ext cx="546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Z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36200" y="4496040"/>
              <a:ext cx="546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Z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07880" y="3971160"/>
              <a:ext cx="1694160" cy="240120"/>
            </a:xfrm>
            <a:custGeom>
              <a:avLst/>
              <a:gdLst/>
              <a:ahLst/>
              <a:rect l="l" t="t" r="r" b="b"/>
              <a:pathLst>
                <a:path w="1104" h="216">
                  <a:moveTo>
                    <a:pt x="0" y="216"/>
                  </a:moveTo>
                  <a:cubicBezTo>
                    <a:pt x="28" y="132"/>
                    <a:pt x="56" y="48"/>
                    <a:pt x="240" y="24"/>
                  </a:cubicBezTo>
                  <a:cubicBezTo>
                    <a:pt x="424" y="0"/>
                    <a:pt x="960" y="64"/>
                    <a:pt x="110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70600" y="3687480"/>
              <a:ext cx="117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hu-HU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H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81240" y="4112280"/>
              <a:ext cx="1698480" cy="456120"/>
            </a:xfrm>
            <a:custGeom>
              <a:avLst/>
              <a:gdLst/>
              <a:ahLst/>
              <a:rect l="l" t="t" r="r" b="b"/>
              <a:pathLst>
                <a:path w="1528" h="410">
                  <a:moveTo>
                    <a:pt x="0" y="187"/>
                  </a:moveTo>
                  <a:cubicBezTo>
                    <a:pt x="39" y="271"/>
                    <a:pt x="76" y="410"/>
                    <a:pt x="331" y="379"/>
                  </a:cubicBezTo>
                  <a:cubicBezTo>
                    <a:pt x="586" y="348"/>
                    <a:pt x="1279" y="79"/>
                    <a:pt x="1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77160" y="4586400"/>
              <a:ext cx="117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hu-HU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H0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81C-6614-4B39-8C4F-B4E98BDB5A7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Bayes-féle dön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 itt H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avára döntü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öntés: H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302080" y="3121200"/>
                <a:ext cx="123048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60560" y="1816200"/>
                <a:ext cx="51055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&gt;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1960560" y="3929040"/>
                <a:ext cx="50119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&lt;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689280" y="5386320"/>
                <a:ext cx="1190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9FC-4BB2-4CC4-B136-EBE16153ADEA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Bayes-féle dön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gy is írható: döntsünk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javára,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en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javá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 baloldal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likelyhood ratio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jobboldal: (bizonyos szempontból) küszöb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egjegyzés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csak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realizációjától függ (miket mértünk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csak az a-priori val-tól és a költségekt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14600" y="2297160"/>
                <a:ext cx="40384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&gt;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DFD-1F3A-4D1C-82CA-5B278301348E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onkrétum: példa Bayes-döntés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állandó fesz+Gs z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csak Gs zaj (jelölés: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r;m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hu-H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öntés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db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üggetle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minta alapj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i-edik mintán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gy eredő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52360" y="4027320"/>
                <a:ext cx="60516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581280" y="4756320"/>
                <a:ext cx="3656160" cy="21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126-4AD5-4C06-8FC2-FAEC35CCF29A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hogyan jellemezzü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Mondjuk: sűrűsé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folyamat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ső val.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űrűség- függvén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odik: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üttes,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dik: n-szeres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üt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toh.foly-t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eljes mértékben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lemeztük, ha tudunk olyan szabályt, amellyel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etszőleg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orszámú sűrűséget felírhatunk (akár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Látunk majd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é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paramétertől függő folyamat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181480" y="2209680"/>
                <a:ext cx="1371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35360" y="3048120"/>
                <a:ext cx="2756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∀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021200" y="3733920"/>
                <a:ext cx="4741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∀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7D0-223A-4FA8-8B30-7B66019BE4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onkrétum: példa Bayes-döntés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908440" y="1371600"/>
                <a:ext cx="341604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m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lletve a logaritm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ib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54480" y="3429000"/>
                <a:ext cx="25066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347840" y="4606920"/>
                <a:ext cx="6981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2280600" y="56386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szö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 flipV="1">
            <a:off x="3276720" y="5181120"/>
            <a:ext cx="838800" cy="534240"/>
          </a:xfrm>
          <a:prstGeom prst="curvedConnector5">
            <a:avLst>
              <a:gd name="adj1" fmla="val 49978"/>
              <a:gd name="adj2" fmla="val 49966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A33-8533-4162-95A5-4BF4E72C2A49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egjegyzések a példával kapcsolat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üszö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csupa ismert mennyiséget tartalmaz, a megfigyelés(ek)től függet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Az eredmény csak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-k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gétől függ – csak ezt kell ismerni; u.n.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légséges statisztik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a Mint ebben a példában is: akárhány dimenziós az OS,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mindig 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 koordináta” – a többi független a hipotézist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3657600" y="3484440"/>
                <a:ext cx="16765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A74-9F60-418F-867D-AA4FB7E3906D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1066680" y="1752480"/>
            <a:ext cx="6553440" cy="3809520"/>
            <a:chOff x="1066680" y="1752480"/>
            <a:chExt cx="6553440" cy="3809520"/>
          </a:xfrm>
        </p:grpSpPr>
        <p:sp>
          <p:nvSpPr>
            <p:cNvPr id="651" name=""/>
            <p:cNvSpPr/>
            <p:nvPr/>
          </p:nvSpPr>
          <p:spPr>
            <a:xfrm>
              <a:off x="1066680" y="2286000"/>
              <a:ext cx="12193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6000" y="2514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86000" y="2819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216360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284940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71800" y="2286000"/>
              <a:ext cx="12193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CSATO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90760" y="3260880"/>
              <a:ext cx="248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(Csak a statisztikája ismer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9112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Cloud"/>
            <p:cNvSpPr/>
            <p:nvPr/>
          </p:nvSpPr>
          <p:spPr>
            <a:xfrm>
              <a:off x="4876920" y="1752480"/>
              <a:ext cx="2743200" cy="1838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59760" y="2346480"/>
              <a:ext cx="1704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MEGFIGYELÉSI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TÉR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(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24480" y="3581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16520" y="5318280"/>
              <a:ext cx="165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Döntési szabá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5540400" y="4114800"/>
              <a:ext cx="1600200" cy="1073160"/>
              <a:chOff x="5540400" y="4114800"/>
              <a:chExt cx="1600200" cy="1073160"/>
            </a:xfrm>
          </p:grpSpPr>
          <p:sp>
            <p:nvSpPr>
              <p:cNvPr id="664" name="Cloud"/>
              <p:cNvSpPr/>
              <p:nvPr/>
            </p:nvSpPr>
            <p:spPr>
              <a:xfrm>
                <a:off x="5540400" y="4114800"/>
                <a:ext cx="1600200" cy="1073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55680" y="4267080"/>
                <a:ext cx="108108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Arial"/>
                  </a:rPr>
                  <a:t>DÖNTÉSI </a:t>
                </a:r>
                <a:br>
                  <a:rPr sz="1800"/>
                </a:br>
                <a:r>
                  <a:rPr b="0" lang="hu-HU" sz="1800" spc="-1" strike="noStrike">
                    <a:solidFill>
                      <a:srgbClr val="000000"/>
                    </a:solidFill>
                    <a:latin typeface="Arial"/>
                  </a:rPr>
                  <a:t>TÉR</a:t>
                </a:r>
                <a:br>
                  <a:rPr sz="1800"/>
                </a:br>
                <a:r>
                  <a:rPr b="0" lang="hu-HU" sz="1800" spc="-1" strike="noStrike">
                    <a:solidFill>
                      <a:srgbClr val="000000"/>
                    </a:solidFill>
                    <a:latin typeface="Arial"/>
                  </a:rPr>
                  <a:t>(D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394020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6531120" y="3733920"/>
                  <a:ext cx="6094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668" name=""/>
            <p:cNvGrpSpPr/>
            <p:nvPr/>
          </p:nvGrpSpPr>
          <p:grpSpPr>
            <a:xfrm>
              <a:off x="1806480" y="4419720"/>
              <a:ext cx="2133720" cy="1112760"/>
              <a:chOff x="1806480" y="4419720"/>
              <a:chExt cx="2133720" cy="1112760"/>
            </a:xfrm>
          </p:grpSpPr>
          <p:sp>
            <p:nvSpPr>
              <p:cNvPr id="669" name=""/>
              <p:cNvSpPr/>
              <p:nvPr/>
            </p:nvSpPr>
            <p:spPr>
              <a:xfrm>
                <a:off x="2720880" y="4419720"/>
                <a:ext cx="1219320" cy="76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Arial"/>
                  </a:rPr>
                  <a:t>DÖNT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187720" y="5257800"/>
                <a:ext cx="30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1806480" y="48006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döntési folyamat  í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C09-78DA-4B52-9125-E4945DF3548F}" type="slidenum">
              <a:t>8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egjegyzések a példával kapcsolat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Spec. Eset: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0 és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vagyis a hibás döntés valószínűsé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</a:rPr>
              <a:t>0,1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=0,5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 küszöb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N.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914400" y="2674800"/>
                <a:ext cx="71629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  <m:supHide m:val="1"/>
                      </m:naryPr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dR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∫"/>
                        <m:supHide m:val="1"/>
                      </m:naryPr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d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0CD-A2C4-4173-A5E6-B0408A0FB727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ásik példa – otthon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sonló, de most a jel nem állandó, hanem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hu-H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szórásnégyzetű Gs z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agyis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;0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hu-H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hu-H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;0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hu-H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rdés: küszöb, elégséges statisz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0C7-4332-44D6-93F4-3C87B638DFE1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armadik példa - diszkré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n két – különböző várh. értékű – Poisson-forrás. Melyiket adtá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mlékeztető: Poisson-eloszlá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ét hipotéz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657600" y="3137040"/>
                <a:ext cx="23623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838080" y="4576680"/>
                <a:ext cx="70866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8B3-445A-4656-A0EC-FA9252CDA558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armadik példa - diszkré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ikelihood-ará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öntési szabály: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&gt;m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ecizitás kedvéér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4038480" y="1295280"/>
                <a:ext cx="288936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3657600" y="2462040"/>
                <a:ext cx="3581280" cy="19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η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: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 </m:t>
                        </m:r>
                        <m:r>
                          <m:t xml:space="preserve">n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η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: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981080" y="4602240"/>
                <a:ext cx="53722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η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: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F14-99F2-4F48-AC30-9DCCA970D712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gjegy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n olyan eset, amikor az a-priori valószínű-ségeket nem ismerj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lyenkor (egy) helyes eljárás: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t nézzük meg, hogy mekkora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aximáli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ltség (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üggvényében)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 olyan döntési szabályt alkalmazunk, amelynél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z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inimális. (U.n.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dönté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rsze ez nem lesz optimális akármilyen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n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szletesen nem nézz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495-2409-404B-BDDE-2C34B2578D79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Neyman-Pearson-féle hipotézisvizsgál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ddigitől eltérő feladatokban más hipotézis-vizsgálat lehet célszerű – radar (hírközlés helyett detekció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yzet: jel+zaj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gy z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detektá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incs jel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vagy ne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vagy vaklá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Itt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 nem ismerjük – de nem is egyforma jelentőség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Így: az átlagos hibavalószínűséget i. nem tudjuk – de ii.nem i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érdek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BAA-1737-4F02-ACD4-20E34CEC7693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eyman-Pearson-féle dön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gy a hipotézisek mo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nincs vett jel (azaz: csak z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vett jel (azaz: jel+z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edmények: 3-f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 adták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Ĥ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(vaklárma)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 adták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Ĥ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(detekció)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t adták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Ĥ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elmulasztott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tekció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jegyzés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 korábban nézett hibás dönt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58F-C969-4BEA-80B4-5152866AD6AE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ztochasztikus folyamatok: hogyan jellemezzü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jegyzés: bár precízen szigorúan meg kellene különböztetni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folyamatot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ami lényegében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üggvénye) egy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intafüggvényétő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(ami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függvénye egy adott realizációban, vagyis mondjuk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i="1" lang="hu-H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nál), gyakran ezt el fogjuk mismásol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(Csak olyankor, ha megengedhető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8CE-C53F-4815-8468-A73B4C3E46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eyman-Pearson-féle dön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auzibilis eljár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 és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zül az egyiket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választjuk (gyak.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 a másikat minimalizálj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koráb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bből a küszöb (azaz: megoldani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tárá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209680" y="3962520"/>
                <a:ext cx="5334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2316240" y="5425920"/>
                <a:ext cx="519732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182-3052-4E42-BC4C-FDD0C6603942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zután: mekkora a helyes/hibás döntés valószínűsége (Bay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hhez: a megf. integrál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1. péda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=1): Gs val. sűrűség a (rondán) sraffozott részekre integrá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228840" y="5308560"/>
            <a:ext cx="3425760" cy="1153800"/>
            <a:chOff x="3228840" y="5308560"/>
            <a:chExt cx="3425760" cy="1153800"/>
          </a:xfrm>
        </p:grpSpPr>
        <p:sp>
          <p:nvSpPr>
            <p:cNvPr id="701" name=""/>
            <p:cNvSpPr/>
            <p:nvPr/>
          </p:nvSpPr>
          <p:spPr>
            <a:xfrm>
              <a:off x="3228840" y="561492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Küszöb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4433040" y="5308560"/>
                  <a:ext cx="2221560" cy="11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η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2057040" y="2946240"/>
            <a:ext cx="5181480" cy="2403720"/>
            <a:chOff x="2057040" y="2946240"/>
            <a:chExt cx="5181480" cy="2403720"/>
          </a:xfrm>
        </p:grpSpPr>
        <p:sp>
          <p:nvSpPr>
            <p:cNvPr id="704" name=""/>
            <p:cNvSpPr/>
            <p:nvPr/>
          </p:nvSpPr>
          <p:spPr>
            <a:xfrm>
              <a:off x="3733920" y="2946240"/>
              <a:ext cx="31680" cy="24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57400" y="52322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2057040" y="3251160"/>
              <a:ext cx="3276720" cy="1904760"/>
              <a:chOff x="2057040" y="3251160"/>
              <a:chExt cx="3276720" cy="1904760"/>
            </a:xfrm>
          </p:grpSpPr>
          <p:sp>
            <p:nvSpPr>
              <p:cNvPr id="707" name=""/>
              <p:cNvSpPr/>
              <p:nvPr/>
            </p:nvSpPr>
            <p:spPr>
              <a:xfrm>
                <a:off x="3668760" y="3267360"/>
                <a:ext cx="1665000" cy="1888560"/>
              </a:xfrm>
              <a:custGeom>
                <a:avLst/>
                <a:gdLst/>
                <a:ahLst/>
                <a:rect l="l" t="t" r="r" b="b"/>
                <a:pathLst>
                  <a:path w="1561" h="1142">
                    <a:moveTo>
                      <a:pt x="0" y="24"/>
                    </a:moveTo>
                    <a:cubicBezTo>
                      <a:pt x="28" y="25"/>
                      <a:pt x="85" y="0"/>
                      <a:pt x="169" y="38"/>
                    </a:cubicBezTo>
                    <a:cubicBezTo>
                      <a:pt x="253" y="76"/>
                      <a:pt x="407" y="173"/>
                      <a:pt x="503" y="253"/>
                    </a:cubicBezTo>
                    <a:cubicBezTo>
                      <a:pt x="599" y="333"/>
                      <a:pt x="665" y="418"/>
                      <a:pt x="745" y="518"/>
                    </a:cubicBezTo>
                    <a:cubicBezTo>
                      <a:pt x="825" y="618"/>
                      <a:pt x="905" y="758"/>
                      <a:pt x="985" y="854"/>
                    </a:cubicBezTo>
                    <a:cubicBezTo>
                      <a:pt x="1065" y="950"/>
                      <a:pt x="1129" y="1046"/>
                      <a:pt x="1225" y="1094"/>
                    </a:cubicBezTo>
                    <a:cubicBezTo>
                      <a:pt x="1321" y="1142"/>
                      <a:pt x="1505" y="1134"/>
                      <a:pt x="1561" y="114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2056680" y="3251160"/>
                <a:ext cx="1665000" cy="1888560"/>
              </a:xfrm>
              <a:custGeom>
                <a:avLst/>
                <a:gdLst/>
                <a:ahLst/>
                <a:rect l="l" t="t" r="r" b="b"/>
                <a:pathLst>
                  <a:path w="1561" h="1142">
                    <a:moveTo>
                      <a:pt x="0" y="24"/>
                    </a:moveTo>
                    <a:cubicBezTo>
                      <a:pt x="28" y="25"/>
                      <a:pt x="85" y="0"/>
                      <a:pt x="169" y="38"/>
                    </a:cubicBezTo>
                    <a:cubicBezTo>
                      <a:pt x="253" y="76"/>
                      <a:pt x="407" y="173"/>
                      <a:pt x="503" y="253"/>
                    </a:cubicBezTo>
                    <a:cubicBezTo>
                      <a:pt x="599" y="333"/>
                      <a:pt x="665" y="418"/>
                      <a:pt x="745" y="518"/>
                    </a:cubicBezTo>
                    <a:cubicBezTo>
                      <a:pt x="825" y="618"/>
                      <a:pt x="905" y="758"/>
                      <a:pt x="985" y="854"/>
                    </a:cubicBezTo>
                    <a:cubicBezTo>
                      <a:pt x="1065" y="950"/>
                      <a:pt x="1129" y="1046"/>
                      <a:pt x="1225" y="1094"/>
                    </a:cubicBezTo>
                    <a:cubicBezTo>
                      <a:pt x="1321" y="1142"/>
                      <a:pt x="1505" y="1134"/>
                      <a:pt x="1561" y="114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3962520" y="3251160"/>
              <a:ext cx="3276000" cy="1904760"/>
              <a:chOff x="3962520" y="3251160"/>
              <a:chExt cx="3276000" cy="1904760"/>
            </a:xfrm>
          </p:grpSpPr>
          <p:sp>
            <p:nvSpPr>
              <p:cNvPr id="710" name=""/>
              <p:cNvSpPr/>
              <p:nvPr/>
            </p:nvSpPr>
            <p:spPr>
              <a:xfrm>
                <a:off x="5573880" y="3267360"/>
                <a:ext cx="1664640" cy="1888560"/>
              </a:xfrm>
              <a:custGeom>
                <a:avLst/>
                <a:gdLst/>
                <a:ahLst/>
                <a:rect l="l" t="t" r="r" b="b"/>
                <a:pathLst>
                  <a:path w="1561" h="1142">
                    <a:moveTo>
                      <a:pt x="0" y="24"/>
                    </a:moveTo>
                    <a:cubicBezTo>
                      <a:pt x="28" y="25"/>
                      <a:pt x="85" y="0"/>
                      <a:pt x="169" y="38"/>
                    </a:cubicBezTo>
                    <a:cubicBezTo>
                      <a:pt x="253" y="76"/>
                      <a:pt x="407" y="173"/>
                      <a:pt x="503" y="253"/>
                    </a:cubicBezTo>
                    <a:cubicBezTo>
                      <a:pt x="599" y="333"/>
                      <a:pt x="665" y="418"/>
                      <a:pt x="745" y="518"/>
                    </a:cubicBezTo>
                    <a:cubicBezTo>
                      <a:pt x="825" y="618"/>
                      <a:pt x="905" y="758"/>
                      <a:pt x="985" y="854"/>
                    </a:cubicBezTo>
                    <a:cubicBezTo>
                      <a:pt x="1065" y="950"/>
                      <a:pt x="1129" y="1046"/>
                      <a:pt x="1225" y="1094"/>
                    </a:cubicBezTo>
                    <a:cubicBezTo>
                      <a:pt x="1321" y="1142"/>
                      <a:pt x="1505" y="1134"/>
                      <a:pt x="1561" y="114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962520" y="3251160"/>
                <a:ext cx="1664640" cy="1888560"/>
              </a:xfrm>
              <a:custGeom>
                <a:avLst/>
                <a:gdLst/>
                <a:ahLst/>
                <a:rect l="l" t="t" r="r" b="b"/>
                <a:pathLst>
                  <a:path w="1561" h="1142">
                    <a:moveTo>
                      <a:pt x="0" y="24"/>
                    </a:moveTo>
                    <a:cubicBezTo>
                      <a:pt x="28" y="25"/>
                      <a:pt x="85" y="0"/>
                      <a:pt x="169" y="38"/>
                    </a:cubicBezTo>
                    <a:cubicBezTo>
                      <a:pt x="253" y="76"/>
                      <a:pt x="407" y="173"/>
                      <a:pt x="503" y="253"/>
                    </a:cubicBezTo>
                    <a:cubicBezTo>
                      <a:pt x="599" y="333"/>
                      <a:pt x="665" y="418"/>
                      <a:pt x="745" y="518"/>
                    </a:cubicBezTo>
                    <a:cubicBezTo>
                      <a:pt x="825" y="618"/>
                      <a:pt x="905" y="758"/>
                      <a:pt x="985" y="854"/>
                    </a:cubicBezTo>
                    <a:cubicBezTo>
                      <a:pt x="1065" y="950"/>
                      <a:pt x="1129" y="1046"/>
                      <a:pt x="1225" y="1094"/>
                    </a:cubicBezTo>
                    <a:cubicBezTo>
                      <a:pt x="1321" y="1142"/>
                      <a:pt x="1505" y="1134"/>
                      <a:pt x="1561" y="114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5562720" y="29462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4800600" y="386064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62520" y="49528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733920" y="42670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00600" y="4267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79360" y="3733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22360" y="3733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95680" y="48006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72000" y="46483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19720" y="49528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67080" y="510552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800240" y="5105520"/>
              <a:ext cx="15228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029200" y="5181480"/>
              <a:ext cx="7632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F86-526B-4BE2-BF84-9C923F11D60D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zután: mekkora a helyes/hibás döntés valőszínűsége (Baye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gy (az előbb bevezetett jelölésekke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ln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0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d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=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/2 (küszöb: ahol metszik egymá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egjegyzés: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-szeres min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2666880" y="2174760"/>
                <a:ext cx="441972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rfc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rfc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715000" y="5029200"/>
                <a:ext cx="29718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m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η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11E-C7DB-4BAC-9B5A-FA8D57B37835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 kettőnél több hipotézisn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lehetséges eset van (pl.: nem-bináris digitális hírközl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t előbb: minden döntésnek van költ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átlaga a kockáz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yes-döntésnél: ezt akarjuk minimalizá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t előbb: megfigyelési té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öntési szabály: ennek particionálás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4E5-80C3-4D62-924D-92D0C6418B21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 kettőnél több hipotézisn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 előbb: a kockáz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ből kijön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= 3-ná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3962520" y="1554120"/>
                <a:ext cx="403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=</m:t>
                        </m:r>
                      </m:e>
                    </m:acc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685800" y="3124080"/>
                <a:ext cx="8077320" cy="29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dR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dR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dR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E9D-71D6-4734-A962-0690CD6B5C48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 kettőnél több hipotézisn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st is jó lehet a likelihood-ará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öntési szabály (-soroza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1905120" y="2209680"/>
                <a:ext cx="52578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04920" y="3505320"/>
                <a:ext cx="8458200" cy="29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F4D-B56D-453A-BDCE-57279474A491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öntés kettőnél több hipotézisnél (</a:t>
            </a: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=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3 egyenest definiál a (2D) döntési tér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981080" y="2895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9810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981080" y="4092480"/>
            <a:ext cx="1219320" cy="32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00400" y="4419720"/>
            <a:ext cx="121932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2971800"/>
            <a:ext cx="14479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658600" y="30621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522160" y="48150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22360" y="43578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22560" y="5653080"/>
            <a:ext cx="7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326600" y="2819520"/>
            <a:ext cx="7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D81-895C-4EC2-9ADD-69567E254891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élda: speciális eset –  hibavalószínűsé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átlago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hibavalószínűsége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minimalizáljuk, az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kor kij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419720" y="1752480"/>
                <a:ext cx="26668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4" name=""/>
          <p:cNvGrpSpPr/>
          <p:nvPr/>
        </p:nvGrpSpPr>
        <p:grpSpPr>
          <a:xfrm>
            <a:off x="2763360" y="2895120"/>
            <a:ext cx="5450760" cy="3620880"/>
            <a:chOff x="2763360" y="2895120"/>
            <a:chExt cx="5450760" cy="3620880"/>
          </a:xfrm>
        </p:grpSpPr>
        <p:sp>
          <p:nvSpPr>
            <p:cNvPr id="755" name=""/>
            <p:cNvSpPr/>
            <p:nvPr/>
          </p:nvSpPr>
          <p:spPr>
            <a:xfrm>
              <a:off x="3749760" y="320040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49760" y="594360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27280" y="33670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138200" y="51195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90680" y="46623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90880" y="595800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94920" y="312408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749760" y="4114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52880" y="4114800"/>
              <a:ext cx="1584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968720" y="2895120"/>
              <a:ext cx="8985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63360" y="3967200"/>
              <a:ext cx="759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 /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577760" y="6110280"/>
              <a:ext cx="759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 /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38880" y="3583080"/>
              <a:ext cx="162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/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CE6-9755-404D-8F51-5B5CCAF97272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élda: speciális eset –  hibavalószínűsé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-112680" y="1316160"/>
                <a:ext cx="529920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299280" y="1797120"/>
                <a:ext cx="2266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-77760" y="2354400"/>
                <a:ext cx="9334440" cy="32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agy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 kisebb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2" name=""/>
          <p:cNvGrpSpPr/>
          <p:nvPr/>
        </p:nvGrpSpPr>
        <p:grpSpPr>
          <a:xfrm>
            <a:off x="4584240" y="3352680"/>
            <a:ext cx="4512240" cy="3033720"/>
            <a:chOff x="4584240" y="3352680"/>
            <a:chExt cx="4512240" cy="3033720"/>
          </a:xfrm>
        </p:grpSpPr>
        <p:sp>
          <p:nvSpPr>
            <p:cNvPr id="773" name=""/>
            <p:cNvSpPr/>
            <p:nvPr/>
          </p:nvSpPr>
          <p:spPr>
            <a:xfrm>
              <a:off x="5480640" y="3601800"/>
              <a:ext cx="0" cy="22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80640" y="5844240"/>
              <a:ext cx="360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98400" y="37378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34880" y="51706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30040" y="479700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373240" y="585612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85560" y="353952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80640" y="4349160"/>
              <a:ext cx="110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75760" y="4349160"/>
              <a:ext cx="14400" cy="14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590520" y="3352680"/>
              <a:ext cx="817560" cy="99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84240" y="4228560"/>
              <a:ext cx="759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 /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35560" y="5980680"/>
              <a:ext cx="759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 /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020000" y="3914640"/>
              <a:ext cx="162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/P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i="1" lang="hu-H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hu-H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F16-389B-480C-95D5-D92EC55E23E9}" type="slidenum">
              <a:t>9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élda: speciális eset –  hibavalószínűsé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B. Alkalmazva az előbbi egyenlőtlenségeket a megfelelő hely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mindegyiket elosztjuk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hu-HU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-rel, az jön ki Bayes tétel alapj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884240" y="2427120"/>
                <a:ext cx="6029280" cy="15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agy 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agy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agy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304920" y="5345280"/>
                <a:ext cx="8458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151080" y="4389480"/>
                <a:ext cx="4838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yes tétel: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2136600" y="605808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osterior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valószínűség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A65-D4FF-4F12-98DC-A372FE44003C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igyes: Hírkel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1:03:05Z</dcterms:created>
  <dc:creator>DOCS</dc:creator>
  <dc:description/>
  <dc:language>en-US</dc:language>
  <cp:lastModifiedBy>varip</cp:lastModifiedBy>
  <dcterms:modified xsi:type="dcterms:W3CDTF">2008-09-29T22:16:04Z</dcterms:modified>
  <cp:revision>88</cp:revision>
  <dc:subject/>
  <dc:title>HÍRKÖZLÉSELMÉLET</dc:title>
</cp:coreProperties>
</file>