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24B-49FF-42A6-8D3E-FA05D5B7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2788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314-EAB7-4D82-B680-F7C65913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2788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2788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2EB-3581-44B2-ABAB-EA7D1026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2788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2788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2788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51C-7C11-4198-B0F2-0F05B951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4148-2312-40C4-BD1D-EA16B99C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337B-BE87-4D5A-B502-D5FA5CEF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82F5-E04E-4751-A86A-DF1A0651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DDAC-948E-458B-A284-DB9D836D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2DCD-92F3-4133-9D88-96275C66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4551-2698-4BCB-AA1B-04E93B80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2788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8706-712D-4AFD-815E-F995A6C8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3BC-E029-4A9E-90BD-7F7DEDB1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2788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2CD2-8FEA-44F9-B44E-0989FDCD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2788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2F09-7517-4845-AED3-A3359034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2788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95C8-40E8-4839-813D-5FF71D8B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2788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2788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1F79-E667-4D0C-A4C7-78C6E297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2788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2788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2788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E433-4CF7-435F-A313-4244A84D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373-E6AA-4122-AC18-AC8891A4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78F-0128-46BD-87B1-7883B6CA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C90-0C2D-47C8-8D47-7DB73529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523-E8B9-403E-BAF5-1124EC9A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2788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BD5-A49A-467D-B0A8-4DAF3D3D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2788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163-B357-4BDC-928F-A3B19134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2788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FEF-4120-4754-826B-C20BA898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05280" y="6557760"/>
            <a:ext cx="21337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635C-36B9-4424-8C37-92EFB8F27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09760" y="64818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25720" y="3044880"/>
            <a:ext cx="65116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003399"/>
                </a:solidFill>
                <a:latin typeface="Garamond"/>
              </a:rPr>
              <a:t>CDMA</a:t>
            </a:r>
            <a:endParaRPr b="1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B8B7-2D44-483E-9157-7AA2E3EF41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003399"/>
                </a:solidFill>
                <a:latin typeface="Garamond"/>
              </a:rPr>
              <a:t>CDMA</a:t>
            </a:r>
            <a:endParaRPr b="1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360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DMA, Code Division Multiple Access, kódosztásos többszörös hozzáfér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Ugyanaz a frekvencia, ugyanaz az idő, más kó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a: soknyelvű reptéri vár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inden jel „szétkenve” a teljes spektrumra, de kis teljesítménny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09840" y="3558960"/>
            <a:ext cx="4682880" cy="2047320"/>
            <a:chOff x="1509840" y="3558960"/>
            <a:chExt cx="4682880" cy="2047320"/>
          </a:xfrm>
        </p:grpSpPr>
        <p:sp>
          <p:nvSpPr>
            <p:cNvPr id="89" name=""/>
            <p:cNvSpPr/>
            <p:nvPr/>
          </p:nvSpPr>
          <p:spPr>
            <a:xfrm flipV="1">
              <a:off x="1668600" y="3656880"/>
              <a:ext cx="0" cy="19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09840" y="5427360"/>
              <a:ext cx="4682880" cy="12600"/>
            </a:xfrm>
            <a:custGeom>
              <a:avLst/>
              <a:gdLst/>
              <a:ahLst/>
              <a:rect l="l" t="t" r="r" b="b"/>
              <a:pathLst>
                <a:path w="2950" h="8">
                  <a:moveTo>
                    <a:pt x="0" y="8"/>
                  </a:moveTo>
                  <a:lnTo>
                    <a:pt x="295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46800" y="3558960"/>
              <a:ext cx="15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53040" y="507780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608280" y="3701880"/>
              <a:ext cx="0" cy="18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73480" y="3855960"/>
              <a:ext cx="677880" cy="1591920"/>
            </a:xfrm>
            <a:custGeom>
              <a:avLst/>
              <a:gdLst/>
              <a:ahLst/>
              <a:rect l="l" t="t" r="r" b="b"/>
              <a:pathLst>
                <a:path w="427" h="1003">
                  <a:moveTo>
                    <a:pt x="0" y="992"/>
                  </a:moveTo>
                  <a:cubicBezTo>
                    <a:pt x="18" y="855"/>
                    <a:pt x="70" y="332"/>
                    <a:pt x="105" y="170"/>
                  </a:cubicBezTo>
                  <a:cubicBezTo>
                    <a:pt x="140" y="8"/>
                    <a:pt x="175" y="21"/>
                    <a:pt x="211" y="20"/>
                  </a:cubicBezTo>
                  <a:cubicBezTo>
                    <a:pt x="247" y="19"/>
                    <a:pt x="286" y="0"/>
                    <a:pt x="322" y="164"/>
                  </a:cubicBezTo>
                  <a:cubicBezTo>
                    <a:pt x="358" y="328"/>
                    <a:pt x="405" y="828"/>
                    <a:pt x="427" y="1003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6560" y="5051160"/>
              <a:ext cx="3597480" cy="388800"/>
            </a:xfrm>
            <a:custGeom>
              <a:avLst/>
              <a:gdLst/>
              <a:ahLst/>
              <a:rect l="l" t="t" r="r" b="b"/>
              <a:pathLst>
                <a:path w="2266" h="245">
                  <a:moveTo>
                    <a:pt x="0" y="239"/>
                  </a:moveTo>
                  <a:cubicBezTo>
                    <a:pt x="38" y="219"/>
                    <a:pt x="77" y="154"/>
                    <a:pt x="227" y="117"/>
                  </a:cubicBezTo>
                  <a:cubicBezTo>
                    <a:pt x="377" y="80"/>
                    <a:pt x="732" y="34"/>
                    <a:pt x="900" y="17"/>
                  </a:cubicBezTo>
                  <a:cubicBezTo>
                    <a:pt x="1068" y="0"/>
                    <a:pt x="1046" y="2"/>
                    <a:pt x="1233" y="17"/>
                  </a:cubicBezTo>
                  <a:cubicBezTo>
                    <a:pt x="1420" y="32"/>
                    <a:pt x="1850" y="68"/>
                    <a:pt x="2022" y="106"/>
                  </a:cubicBezTo>
                  <a:cubicBezTo>
                    <a:pt x="2194" y="144"/>
                    <a:pt x="2215" y="216"/>
                    <a:pt x="2266" y="245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881520" y="4054320"/>
              <a:ext cx="317520" cy="15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537080" y="4938480"/>
              <a:ext cx="317520" cy="15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64560" y="3852360"/>
              <a:ext cx="1031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Tahoma"/>
                </a:rPr>
                <a:t>e helyet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5240" y="4743000"/>
              <a:ext cx="26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Tahoma"/>
                </a:rPr>
                <a:t>e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3FB-E06E-4FCF-AB8F-4869CA6BE8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003399"/>
                </a:solidFill>
                <a:latin typeface="Garamond"/>
              </a:rPr>
              <a:t>CDMA</a:t>
            </a:r>
            <a:endParaRPr b="1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993600"/>
            <a:ext cx="844236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űködés: a digitális jelet összeszorozzuk egy ún. szórókóddal (spreading code), és ezt sugározzuk 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orzás pontosabban: NOT(XOR(bit1,bit2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isugárzott jel hozzáadódik a többi adó által kisugárzotth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szórókód bitsebességge (chiprate) sokkal nagyobb (kb. 100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szórókódok ortogonálisak, azaz egy bitidőre átlagolva két szórókód szorzatát nullát kapu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6440" y="3733920"/>
            <a:ext cx="8801280" cy="25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13A-A98E-4D34-80C2-64AA653A35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003399"/>
                </a:solidFill>
                <a:latin typeface="Garamond"/>
              </a:rPr>
              <a:t>CDMA</a:t>
            </a:r>
            <a:endParaRPr b="1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0000" y="861840"/>
            <a:ext cx="844236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csit részleteseb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ódo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00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TEP 1. A szórókódot és az elkódolni kívánt adatot is reprezentáljuk a következőkép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3438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hu-HU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3438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hu-HU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3438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gyük észre: ekkor NOT(XOR(a,b)) valójában a*b, azaz szorz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2920" indent="-309600">
              <a:spcBef>
                <a:spcPts val="326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1*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1, 1*-1=-1, -1*1=-1, -1*-1=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00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TEP 2. Végezzük el a szórókód összeszorzását a küldendő adat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3438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zórókód összes bitjét szorozzuk az adat egy adott bitjével, így jelentősen megnő a jelsebes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00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TEP 3. Sugározzuk ki az így kapott je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3438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odellünkben egyszerűen adjuk össze az összes így kapott j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ekódo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00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TEP 1. A vett jelet (a kódolás STEP 3 összege) szorozzuk meg az adó szórókódjának a bitjeivel sorban. Ahány bitet kívánunk venni, annyiszor ismételjük ezt m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00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TEP 2. Az így kapott értékeket átlagoljuk bitidők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00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TEP 3. Ha az átlag 1: a küldött bit 1. Ha az átlag -1: a küldött bi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00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TEP 4. Ismételjük meg mindezt az összes vevő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A61-7108-4439-809A-2EE7FAD7E3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003399"/>
                </a:solidFill>
                <a:latin typeface="Garamond"/>
              </a:rPr>
              <a:t>CDMA</a:t>
            </a:r>
            <a:endParaRPr b="1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8000" y="914040"/>
            <a:ext cx="84420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ódolás szemlélteté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m szerepel az ábrán a többi jellel való összeg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3200" y="1720800"/>
            <a:ext cx="8658360" cy="480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601-5EF5-414E-A963-043B432329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003399"/>
                </a:solidFill>
                <a:latin typeface="Garamond"/>
              </a:rPr>
              <a:t>CDMA</a:t>
            </a:r>
            <a:endParaRPr b="1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8000" y="852120"/>
            <a:ext cx="87660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dekódolás szemlélteté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ábra nem egy összegzett jel dekódolását mutatja sajnos, hanem a küldött jel vételét, és egy másik jel vételét külön-külö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e szemlélteti, hogy az ortogonalitás miatt a többi adó jele nem za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az ábrán csak kvázi-ortogonalitás van, így az így kapott bitidő átlaga nem teljesen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3920" y="2349360"/>
            <a:ext cx="8248680" cy="437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C11-3E70-4681-8B81-89AEC0ADEC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003399"/>
                </a:solidFill>
                <a:latin typeface="Garamond"/>
              </a:rPr>
              <a:t>CDMA</a:t>
            </a:r>
            <a:endParaRPr b="1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8000" y="914400"/>
            <a:ext cx="8442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ézzünk egy példá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4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gyük át az (1, 0) és az (1, 1) jeleket az (1, 1, 0, 0), ill. (1, 0, 0, 1) szórókódokat haszná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84600" y="1639800"/>
            <a:ext cx="32418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ekódolá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EP 1. A szorza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lnSpc>
                <a:spcPct val="10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: 2, 0, 2, 0, 0, -2, 0,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lnSpc>
                <a:spcPct val="10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: 2, 0, 2, 0, 0, 2, 0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EP 2. Az átlago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lnSpc>
                <a:spcPct val="10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: 1,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lnSpc>
                <a:spcPct val="10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: 1,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EP 3: A vett je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lnSpc>
                <a:spcPct val="10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: 1,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lnSpc>
                <a:spcPct val="10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: 1,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960" y="4711680"/>
            <a:ext cx="73864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j: mindez azért sikerülhetett, mert a szórókódok valóban ortogonálisak, azaz a kettő szorzatának az átlaga null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6280" indent="-31860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zorza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1880" indent="-343800">
              <a:lnSpc>
                <a:spcPct val="10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, -1, 1,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6280" indent="-31860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átla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1880" indent="-343800">
              <a:lnSpc>
                <a:spcPct val="10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4560" y="1577880"/>
            <a:ext cx="3486240" cy="29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ódolá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120" indent="-3218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EP 1. Az átviendő jel legy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1960" indent="-347400">
              <a:lnSpc>
                <a:spcPct val="10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: (1, 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1960" indent="-347400">
              <a:lnSpc>
                <a:spcPct val="10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: (1, 1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120" indent="-3218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EP 1. A két szórókód legy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1960" indent="-347400">
              <a:lnSpc>
                <a:spcPct val="10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: (1, 1, -1, -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1960" indent="-347400">
              <a:lnSpc>
                <a:spcPct val="10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: (1, -1, -1,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120" indent="-3218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EP 2. Az elküldendő jele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1960" indent="-347400">
              <a:lnSpc>
                <a:spcPct val="10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: 1,1,-1,-1,-1,-1,1,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1960" indent="-347400">
              <a:lnSpc>
                <a:spcPct val="10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: 1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, -1, 1, 1, -1, -1,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120" indent="-3218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EP 3.Ezek összeg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1960" indent="-347400">
              <a:lnSpc>
                <a:spcPct val="10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2, 0, -2, 0, 0, -2, 0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C20-E0F5-45BF-8B17-60047306C9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0:38:54Z</dcterms:created>
  <dc:creator>Németh Krisztián</dc:creator>
  <dc:description/>
  <dc:language>en-US</dc:language>
  <cp:lastModifiedBy>varip</cp:lastModifiedBy>
  <cp:lastPrinted>2006-02-15T00:55:30Z</cp:lastPrinted>
  <dcterms:modified xsi:type="dcterms:W3CDTF">2009-12-18T11:19:41Z</dcterms:modified>
  <cp:revision>307</cp:revision>
  <dc:subject/>
  <dc:title>Nincs diacím</dc:title>
</cp:coreProperties>
</file>