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0034-ECF7-445C-A31E-894A950E8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2976-467B-4BBA-B40F-3BA38416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D1BC-4B0D-4405-B394-7AD4DABCE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EECF-5E5B-471C-B907-C69716F21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2C14-C708-408B-A329-BB07918F3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A3AA-43F6-4DE1-BAA3-7C4F2119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BDD2-8BF3-425F-865D-E2D80401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4577-9C4B-4932-A644-39DC280A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4425-F5C4-402E-82B4-79F361E8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95CE-2707-4332-952A-92BA11A2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D1D6-4485-49E6-8948-4B9B5FDD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C93C-694B-47E5-B7E9-4DA6ED6F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DAFE-1DBF-41F9-A201-7E9C7F74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313F-A6DF-47AC-B104-EA6E5D81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4CF3-3DBE-4ABF-A660-712E3F1A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C496-D9E9-429E-A94E-7B1F2D251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250B-335A-4EEB-9BC7-C88B72F96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F42E-B64E-4D8C-99AA-5BE3C55E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6E74-43E4-44FA-83D6-2CB46AA7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126D-8CEC-4727-980A-E695CF2F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CC99-BB8A-4A94-8D22-03606EED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FB0D-0760-4A3D-9006-9D4FF062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B743-D66C-413A-8AD5-3D682347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980E-5FB1-4F7A-BB61-9B59C45B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F046-BA4E-44F2-BCE5-D15F2255DE1B}" type="slidenum"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C429-C1D0-4781-B78C-573AA6573C61}" type="slidenum"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digidia.fr/_include/wpFichiers/1/2/Upload/FLYER%20DRM%20260508.pdf" TargetMode="Externa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DRM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igital Radio Mond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rga Gábor villamosmérnökBSC hallg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ádiórendszerek szakirá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172360" y="260280"/>
            <a:ext cx="733680" cy="876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103480" y="208080"/>
            <a:ext cx="225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26028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échenyi István Egye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űszaki Tudományi 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lik Ányos Gépész-, Informatikai és Villamosmérnöki Inté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000" y="1197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ráskódolási lehetősége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57200" y="2440080"/>
            <a:ext cx="8229600" cy="29685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50920" y="18900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échenyi István Egye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űszaki Tudományi 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lik Ányos Gépész-, Informatikai és Villamosmérnöki Inté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733320" cy="876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000" y="1268280"/>
            <a:ext cx="75438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500" spc="-1" strike="noStrike">
                <a:solidFill>
                  <a:srgbClr val="330066"/>
                </a:solidFill>
                <a:latin typeface="Arial"/>
              </a:rPr>
              <a:t>AAC=Advanced Audio Coding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Általános célú hangkódolási eljárá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Hatékonysága 20 kbit/s felett a legjobb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bitsebesség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20b/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lépésekben állíthat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mintavételi frekvencia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12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vagy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24k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z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Rugalmas hibakezelést alkalmaz, támogatja az UEP-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kódolásnál 5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(12kHz)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vagy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10 (24kHz)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darab audió keret alkot egy un. szuperkeret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szuperkeret hossza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400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18900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échenyi István Egye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űszaki Tudományi 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lik Ányos Gépész-, Informatikai és Villamosmérnöki Inté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733320" cy="876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79640" y="1844640"/>
            <a:ext cx="753264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AC-keretek felépíté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95280" y="3213000"/>
            <a:ext cx="8229600" cy="25894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50920" y="18900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échenyi István Egye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űszaki Tudományi 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lik Ányos Gépész-, Informatikai és Villamosmérnöki Inté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733320" cy="876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9280" y="1989000"/>
            <a:ext cx="75438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0066"/>
                </a:solidFill>
                <a:latin typeface="Arial"/>
              </a:rPr>
              <a:t>SBR ( Spectral Band Replication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24000" y="3213000"/>
            <a:ext cx="8229600" cy="23688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50920" y="18900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échenyi István Egye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űszaki Tudományi 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lik Ányos Gépész-, Informatikai és Villamosmérnöki Inté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733320" cy="876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1700280"/>
            <a:ext cx="7532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MPEG 4 CELP</a:t>
            </a:r>
            <a:r>
              <a:rPr b="1" lang="hu-HU" sz="3100" spc="-1" strike="noStrike">
                <a:solidFill>
                  <a:srgbClr val="330066"/>
                </a:solidFill>
                <a:latin typeface="Arial"/>
              </a:rPr>
              <a:t>(Code Excited Linear Prediction</a:t>
            </a:r>
            <a:r>
              <a:rPr b="1" lang="hu-HU" sz="3500" spc="-1" strike="noStrike">
                <a:solidFill>
                  <a:srgbClr val="330066"/>
                </a:solidFill>
                <a:latin typeface="Arial"/>
              </a:rPr>
              <a:t>),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4920" y="2133360"/>
            <a:ext cx="8302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Beszédkódolásra tervezték, így gyenge minőséget ad zene esetéb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Kétféle mintavételi frekvenciát alkalmaz, 8 vagy 16 kHz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Jó minőségű beszédet biztosít a kódolás 10 kbit/s adatsebességné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Robosztus a hibákkal szembe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Segítségével lehetővé válik a többnyelvű adás sugárzása egy csatornába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0920" y="18900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échenyi István Egye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űszaki Tudományi 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lik Ányos Gépész-, Informatikai és Villamosmérnöki Inté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733320" cy="876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4920" y="112500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MPEG CELP kód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692360" y="2781360"/>
            <a:ext cx="5572080" cy="24289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50920" y="18900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échenyi István Egye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űszaki Tudományi 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lik Ányos Gépész-, Informatikai és Villamosmérnöki Inté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733320" cy="876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4920" y="1628640"/>
            <a:ext cx="7543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LPC-kódol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9640" y="2445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LPC-kóder:kód gerjesztésű prediktív kódolá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Beszéd, többcsatornás beszédre fejleszt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Bemenő jele mintavételezett beszédj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CELP algoritmusát alkalmazz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0920" y="18900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échenyi István Egye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űszaki Tudományi 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lik Ányos Gépész-, Informatikai és Villamosmérnöki Inté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733320" cy="876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560" y="155700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PC kódol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2781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mentére a beszéd mintavett jelei kerüln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tavétel 8kHz vagy 16 kHz-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z emberi beszédet periodikus és nem periodikus jelekre osztja ezek kódolására két kódtábla áll a rendelkezésé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0920" y="18900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échenyi István Egye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űszaki Tudományi 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lik Ányos Gépész-, Informatikai és Villamosmérnöki Inté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733320" cy="876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280" y="177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gitális rádiórendszerek rendszertechnikáj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4000" y="31417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MPX= Multiplexálás, több adatfolyam összegzése egy adatfolyamba, így több egyszerre akár négy adatfolyam is sugározhat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0920" y="18900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échenyi István Egye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űszaki Tudományi 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lik Ányos Gépész-, Informatikai és Villamosmérnöki Inté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733320" cy="8762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476360" y="5084640"/>
            <a:ext cx="5505480" cy="1247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9806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életlenszerűsíté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adatok véletlenszerűsítése a hibacsomók elleni védekezés miatt szükséges, valamit a diszkrét spektrumvonalak elkerülése mia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hasznos adatot és a kvázi álvéletlen jelsorozatot XOR kapcsolatba hozzu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shift regiszterek segítségével történik a lépte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18900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échenyi István Egye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űszaki Tudományi 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lik Ányos Gépész-, Informatikai és Villamosmérnöki Inté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733320" cy="876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4920" y="1699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ről is lesz szó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27079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M-műsorszórás régen és napjainkb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DRM rendszertechniká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zolgáltatáso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Összegzé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18900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échenyi István Egye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űszaki Tudományi 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lik Ányos Gépész-, Informatikai és Villamosmérnöki Inté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733320" cy="876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68000" y="764640"/>
            <a:ext cx="4537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satornakódol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Véletlenszerűsítést, konvolúciós kódolást és időbeli bitátszövést tartalma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DAB rendszerrel megegyezik ( lásd Virágh Péter villamosmérnök MSC hallgató előadás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0920" y="18900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échenyi István Egye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űszaki Tudományi 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lik Ányos Gépész-, Informatikai és Villamosmérnöki Inté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733320" cy="876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uláció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lőször billentyűzéses megoldások volta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SK,FSK,PSK ( 2 állapotú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QPSK használata műholdas távközlésb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QPSK lénye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16QAM, 64Q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OFD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onstelláció: amplitúdó- és fázis-ábrázolás egy diagram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0920" y="18900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échenyi István Egye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űszaki Tudományi 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lik Ányos Gépész-, Informatikai és Villamosmérnöki Inté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733320" cy="876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000" y="148392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8PSK konstellációj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835280" y="2852640"/>
            <a:ext cx="4686120" cy="30290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50920" y="18900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échenyi István Egye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űszaki Tudományi 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lik Ányos Gépész-, Informatikai és Villamosmérnöki Inté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733320" cy="876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539640" y="227664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OFDM: több ezer vivő hordozza az információt egy vivő helyett, és az eredő adatfolyam szét van szórva a vivők között, csökkentve a hibák csomósodásá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Védelmi idő használata a reflektált jelek lecsengéséhez szükségesek, számítása adótervezésnél létfontosság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Rövid védelmi idő ISI-t eredménye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ISI= szimbólumközi áthallá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0920" y="18900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échenyi István Egye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űszaki Tudományi 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lik Ányos Gépész-, Informatikai és Villamosmérnöki Inté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733320" cy="8762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468000" y="148392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FD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3640" y="234900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alizált spektrumké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08000" y="2733840"/>
            <a:ext cx="8666280" cy="41241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50920" y="18900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échenyi István Egye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űszaki Tudományi 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lik Ányos Gépész-, Informatikai és Villamosmérnöki Inté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733320" cy="876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4920" y="1052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Átviteltechnik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2445840"/>
            <a:ext cx="815832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z átviendő adatok három részre vannak szétoszt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három alfolyam: MSC,SDC,FA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MSC: 4 műsor 16QAM, 64Q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SDC: szolgáltatást írja le, kibontást,sugárzási mó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FAC: milyen szolgáltatás utazik az adatfolyamban ( négy bittel jelölve),szinkron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0920" y="18900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échenyi István Egye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űszaki Tudományi 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lik Ányos Gépész-, Informatikai és Villamosmérnöki Inté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733320" cy="876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02920" y="9075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FN hálózat kialakítása I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6964200" cy="44114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250920" y="18900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échenyi István Egye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űszaki Tudományi 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lik Ányos Gépész-, Informatikai és Villamosmérnöki Inté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733320" cy="876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56000" y="980640"/>
            <a:ext cx="7100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FN hálózatok II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studio1 jelét két antenna sugározza ki, egy cellát lefedve, AM-jellel együt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studio1 jelét AM-ben és DRM-ben is lesugározz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studio2 tartalomszolgáltatója egyben van a DRM adóvezérlőjével, és DRM-ben, DRM+-ban valamint AM-ben is sugáro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0920" y="18900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échenyi István Egye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űszaki Tudományi 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lik Ányos Gépész-, Informatikai és Villamosmérnöki Inté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733320" cy="876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4920" y="980640"/>
            <a:ext cx="76057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RM+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30 MHz és 174 MHz közöt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Szintén MPEG4 AA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Térhangzás támogatá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Névleges sávszélessége 100 kH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36 kbit/s-187 kbit/s adatsebessé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0920" y="18900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échenyi István Egye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űszaki Tudományi 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lik Ányos Gépész-, Informatikai és Villamosmérnöki Inté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733320" cy="876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55640" y="1197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ráskódolás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8229600" cy="30114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50920" y="18900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échenyi István Egye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űszaki Tudományi 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lik Ányos Gépész-, Informatikai és Villamosmérnöki Inté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733320" cy="876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1700280"/>
            <a:ext cx="75438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 30 MHz alatti műsorszórá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2565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Sérülékeny vivő ( kioltás, reflexiós té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lacsony HF-sávszélessé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z FM-el nem tudja felvenni a verseny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Vevőkészülékei egyszerű konstrukciók (detektor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18900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échenyi István Egye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űszaki Tudományi 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lik Ányos Gépész-, Informatikai és Villamosmérnöki Inté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733320" cy="876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15640" y="134100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Együttműködés az FM-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8229600" cy="38260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50920" y="18900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échenyi István Egye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űszaki Tudományi 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lik Ányos Gépész-, Informatikai és Villamosmérnöki Inté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733320" cy="876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10920" y="1700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RM rendszer extra szolgáltatása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9640" y="2997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Állóképek átvite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zöveges információ megjelenítése ( eszközfüggő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atátvitel, kódolás típu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atsebessé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l/zaj viszo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ulációs jellemző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920" y="18900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échenyi István Egye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űszaki Tudományi 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lik Ányos Gépész-, Informatikai és Villamosmérnöki Inté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733320" cy="876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4920" y="1484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rások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Draft ETSI EN 201 980 (2009-08) DRM rendszerspecifikáci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digidia.fr/_include/wpFichiers/1/2/Upload/FLYER%20DRM%20260508.pd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DRM Broadcaster’s manu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BU Coverage Pla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www.drm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50920" y="18900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échenyi István Egye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űszaki Tudományi 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lik Ányos Gépész-, Informatikai és Villamosmérnöki Inté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124000" y="328464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öszönöm a figyelme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0920" y="18900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échenyi István Egye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űszaki Tudományi 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lik Ányos Gépész-, Informatikai és Villamosmérnöki Inté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733320" cy="876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0920" y="1628280"/>
            <a:ext cx="75438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gyenes vevők a múltból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8288280" cy="2925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50920" y="18900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échenyi István Egye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űszaki Tudományi 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lik Ányos Gépész-, Informatikai és Villamosmérnöki Inté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733320" cy="876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75438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rekvenciakiosztás I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30682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osszúhullámú sáv (148,5 kHz-283,5 kHz, csak ITU 1-es régió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özéphullámú sáv (526kHz-1606,5 kHz, ITU 1-es és 3-as régió és 525 kHz-1705 kHz ITU 2-es régió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övidhullámú sáv (3MHz-27 MHz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18900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échenyi István Egye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űszaki Tudományi 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lik Ányos Gépész-, Informatikai és Villamosmérnöki Inté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733320" cy="876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79640" y="1915920"/>
            <a:ext cx="48960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Frekvenciakiosztás II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000" y="2924280"/>
            <a:ext cx="86756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1-es sáv (analóg tv-műsorszórás)47-68 MH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OIRT FM-sáv 65,8-74 MH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3-as sáv ( OIRT FM-műsorszórás)87,5-107,9 MH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18900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échenyi István Egye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űszaki Tudományi 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lik Ányos Gépész-, Informatikai és Villamosmérnöki Inté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733320" cy="876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40000" y="1916280"/>
            <a:ext cx="374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TU régió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68360" y="2852640"/>
            <a:ext cx="8229600" cy="37353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50920" y="18900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échenyi István Egye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űszaki Tudományi 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lik Ányos Gépész-, Informatikai és Villamosmérnöki Inté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733320" cy="876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280" y="1700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gitális rádiórendszerek rendszertechnikáj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4000" y="31417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1.Forráskódolá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2. MP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3. Energia diszperzi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4. Csatornakódolás (véletlenszerüsítés konvolúciós kódolás időbeli bitátszövés) DA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Moduláci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18900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échenyi István Egye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űszaki Tudományi 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lik Ányos Gépész-, Informatikai és Villamosmérnöki Inté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733320" cy="876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10920" y="1052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ráskódol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Forráskódolások közül zenére az általános audio kóder a legjobb ( AAC 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Jellemző bitsebessége 20 kbit/s körü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12 kHz vagy 24 kHz mintavételi frekvenciával dolgozi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Használja a pszichoakusztikai model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Parametrikus sztereóval képes sztereó élményt nyújtan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900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échenyi István Egye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űszaki Tudományi 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lik Ányos Gépész-, Informatikai és Villamosmérnöki Inté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733320" cy="876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8:59:22Z</dcterms:created>
  <dc:creator>Varga</dc:creator>
  <dc:description/>
  <dc:language>en-US</dc:language>
  <cp:lastModifiedBy>Vári Péter</cp:lastModifiedBy>
  <dcterms:modified xsi:type="dcterms:W3CDTF">2009-11-11T22:34:13Z</dcterms:modified>
  <cp:revision>24</cp:revision>
  <dc:subject/>
  <dc:title>DRM</dc:title>
</cp:coreProperties>
</file>