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13.png" ContentType="image/png"/>
  <Override PartName="/ppt/media/image5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5B0-DC2A-45EA-88E4-605D8777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905-A050-43F0-B698-78CE452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6CA-AAAE-4F24-867D-8D9D3307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E8D-8A6A-4ADB-8D19-ABA08D78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FAB-4F25-4B21-8D47-97B029D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33B-EE15-4871-8DDE-5569DDDE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060-F2DD-4112-8253-BC63673A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86F-13B1-4646-83D7-745F0DD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E2B-3CCF-47E0-9ED7-1A76F83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CAF-BA9A-49F4-900B-44583C49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175-0A73-491E-A872-D42F8DDC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383-A3C2-434F-B6B6-4A54499F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63D-9999-44B7-83F0-EF60A69A6C68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1A34-1A7B-4E70-BEEF-A0F31A70D2D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A342-76CC-4680-BE10-C792AD8206DA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D9A9-E8AF-4941-A8CF-1044C0A179A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Digitális rádióz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lméleti a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DAB és a DAB+ 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frekvenciás hálóz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371600" y="56386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észítette: Virágh Pé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fy József diasorozata alapj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10F0-53DB-465A-B67B-8BDAFBA0059D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CE12-9276-420B-83E0-014417EEC19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 a megold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részt fel kell adni a lineáris kvantálá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szer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 kis jelszinteket nagy felbont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 nagy jelszinteket kisebb felbont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vantá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részt tömörítést (redundancia csökkentést) kell alkalmaz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mit nem hallunk azt nem kell átvin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meg kell vizsgálni, mi az amit hallunk, azaz milyen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s az emberi hallás sajátosság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0A41-A610-4864-A0B4-79078BC98DF8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2B8-36FA-4B35-8C19-70003B62ADE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azonos hangosság görb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ngintenzitás (ph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bjektív hangerős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ger erőssé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ngosság (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ubjektív hangerős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érzet erőssé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izofon"/>
          <p:cNvPicPr/>
          <p:nvPr/>
        </p:nvPicPr>
        <p:blipFill>
          <a:blip r:embed="rId1"/>
          <a:stretch/>
        </p:blipFill>
        <p:spPr>
          <a:xfrm>
            <a:off x="3733920" y="1452600"/>
            <a:ext cx="5410080" cy="4314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phonson"/>
          <p:cNvPicPr/>
          <p:nvPr/>
        </p:nvPicPr>
        <p:blipFill>
          <a:blip r:embed="rId2"/>
          <a:stretch/>
        </p:blipFill>
        <p:spPr>
          <a:xfrm>
            <a:off x="1905120" y="5819760"/>
            <a:ext cx="52909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8013-2210-43EE-91D4-6F194BA0F47D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499C-8AA0-4AC2-A0D9-677E50569EA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angelfedési jelen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267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beni lefe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nzitásbeli lefe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rekvenciabeli lefe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7"/>
          <p:cNvGrpSpPr/>
          <p:nvPr/>
        </p:nvGrpSpPr>
        <p:grpSpPr>
          <a:xfrm>
            <a:off x="5181480" y="990720"/>
            <a:ext cx="3699000" cy="1913760"/>
            <a:chOff x="5181480" y="990720"/>
            <a:chExt cx="3699000" cy="1913760"/>
          </a:xfrm>
        </p:grpSpPr>
        <p:sp>
          <p:nvSpPr>
            <p:cNvPr id="386" name="Rectangle 8"/>
            <p:cNvSpPr/>
            <p:nvPr/>
          </p:nvSpPr>
          <p:spPr>
            <a:xfrm>
              <a:off x="7680240" y="1739880"/>
              <a:ext cx="11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Utó-lefed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5181480" y="1739880"/>
              <a:ext cx="966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Elő-lefed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5294160" y="1378080"/>
              <a:ext cx="844560" cy="128268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1282680"/>
                <a:gd name="textAreaBottom" fmla="*/ 1282680 h 1282680"/>
              </a:gdLst>
              <a:ahLst/>
              <a:rect l="textAreaLeft" t="textAreaTop" r="textAreaRight" b="textAreaBottom"/>
              <a:pathLst>
                <a:path w="1250" h="1627">
                  <a:moveTo>
                    <a:pt x="1249" y="0"/>
                  </a:moveTo>
                  <a:lnTo>
                    <a:pt x="1163" y="10"/>
                  </a:lnTo>
                  <a:lnTo>
                    <a:pt x="1108" y="60"/>
                  </a:lnTo>
                  <a:lnTo>
                    <a:pt x="1059" y="192"/>
                  </a:lnTo>
                  <a:lnTo>
                    <a:pt x="968" y="545"/>
                  </a:lnTo>
                  <a:lnTo>
                    <a:pt x="883" y="836"/>
                  </a:lnTo>
                  <a:lnTo>
                    <a:pt x="814" y="996"/>
                  </a:lnTo>
                  <a:lnTo>
                    <a:pt x="729" y="1144"/>
                  </a:lnTo>
                  <a:lnTo>
                    <a:pt x="630" y="1242"/>
                  </a:lnTo>
                  <a:lnTo>
                    <a:pt x="554" y="1286"/>
                  </a:lnTo>
                  <a:lnTo>
                    <a:pt x="473" y="1326"/>
                  </a:lnTo>
                  <a:lnTo>
                    <a:pt x="401" y="1350"/>
                  </a:lnTo>
                  <a:lnTo>
                    <a:pt x="306" y="1362"/>
                  </a:lnTo>
                  <a:lnTo>
                    <a:pt x="223" y="1368"/>
                  </a:lnTo>
                  <a:lnTo>
                    <a:pt x="112" y="1380"/>
                  </a:lnTo>
                  <a:lnTo>
                    <a:pt x="0" y="1384"/>
                  </a:lnTo>
                  <a:lnTo>
                    <a:pt x="0" y="1620"/>
                  </a:lnTo>
                  <a:lnTo>
                    <a:pt x="1248" y="1626"/>
                  </a:lnTo>
                  <a:lnTo>
                    <a:pt x="1249" y="0"/>
                  </a:lnTo>
                </a:path>
              </a:pathLst>
            </a:custGeom>
            <a:solidFill>
              <a:srgbClr val="f4ac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7235640" y="1378080"/>
              <a:ext cx="1411560" cy="128268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1282680"/>
                <a:gd name="textAreaBottom" fmla="*/ 1282680 h 1282680"/>
              </a:gdLst>
              <a:ahLst/>
              <a:rect l="textAreaLeft" t="textAreaTop" r="textAreaRight" b="textAreaBottom"/>
              <a:pathLst>
                <a:path w="2086" h="1627">
                  <a:moveTo>
                    <a:pt x="0" y="0"/>
                  </a:moveTo>
                  <a:lnTo>
                    <a:pt x="144" y="159"/>
                  </a:lnTo>
                  <a:lnTo>
                    <a:pt x="245" y="269"/>
                  </a:lnTo>
                  <a:lnTo>
                    <a:pt x="323" y="348"/>
                  </a:lnTo>
                  <a:lnTo>
                    <a:pt x="415" y="437"/>
                  </a:lnTo>
                  <a:lnTo>
                    <a:pt x="585" y="593"/>
                  </a:lnTo>
                  <a:lnTo>
                    <a:pt x="736" y="712"/>
                  </a:lnTo>
                  <a:lnTo>
                    <a:pt x="886" y="807"/>
                  </a:lnTo>
                  <a:lnTo>
                    <a:pt x="1036" y="904"/>
                  </a:lnTo>
                  <a:lnTo>
                    <a:pt x="1203" y="985"/>
                  </a:lnTo>
                  <a:lnTo>
                    <a:pt x="1369" y="1066"/>
                  </a:lnTo>
                  <a:lnTo>
                    <a:pt x="1507" y="1134"/>
                  </a:lnTo>
                  <a:lnTo>
                    <a:pt x="1638" y="1173"/>
                  </a:lnTo>
                  <a:lnTo>
                    <a:pt x="1732" y="1198"/>
                  </a:lnTo>
                  <a:lnTo>
                    <a:pt x="1867" y="1230"/>
                  </a:lnTo>
                  <a:lnTo>
                    <a:pt x="1950" y="1230"/>
                  </a:lnTo>
                  <a:lnTo>
                    <a:pt x="2085" y="1224"/>
                  </a:lnTo>
                  <a:lnTo>
                    <a:pt x="2083" y="1626"/>
                  </a:lnTo>
                  <a:lnTo>
                    <a:pt x="0" y="1622"/>
                  </a:lnTo>
                  <a:lnTo>
                    <a:pt x="0" y="0"/>
                  </a:lnTo>
                </a:path>
              </a:pathLst>
            </a:custGeom>
            <a:solidFill>
              <a:srgbClr val="f4ac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"/>
            <p:cNvSpPr/>
            <p:nvPr/>
          </p:nvSpPr>
          <p:spPr>
            <a:xfrm>
              <a:off x="8475480" y="2693880"/>
              <a:ext cx="351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id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3"/>
            <p:cNvSpPr/>
            <p:nvPr/>
          </p:nvSpPr>
          <p:spPr>
            <a:xfrm>
              <a:off x="5257800" y="990720"/>
              <a:ext cx="998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Hangnyomá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4"/>
            <p:cNvSpPr/>
            <p:nvPr/>
          </p:nvSpPr>
          <p:spPr>
            <a:xfrm>
              <a:off x="6124320" y="1378080"/>
              <a:ext cx="1106640" cy="1279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294160" y="1212840"/>
              <a:ext cx="3586320" cy="1447920"/>
            </a:xfrm>
            <a:custGeom>
              <a:avLst/>
              <a:gdLst>
                <a:gd name="textAreaLeft" fmla="*/ 0 w 3586320"/>
                <a:gd name="textAreaRight" fmla="*/ 3586680 w 358632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5305" h="1837">
                  <a:moveTo>
                    <a:pt x="0" y="0"/>
                  </a:moveTo>
                  <a:lnTo>
                    <a:pt x="0" y="1836"/>
                  </a:lnTo>
                  <a:lnTo>
                    <a:pt x="5304" y="183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6"/>
          <p:cNvGrpSpPr/>
          <p:nvPr/>
        </p:nvGrpSpPr>
        <p:grpSpPr>
          <a:xfrm>
            <a:off x="5257800" y="2666880"/>
            <a:ext cx="3375000" cy="1812240"/>
            <a:chOff x="5257800" y="2666880"/>
            <a:chExt cx="3375000" cy="1812240"/>
          </a:xfrm>
        </p:grpSpPr>
        <p:sp>
          <p:nvSpPr>
            <p:cNvPr id="395" name="Rectangle 17"/>
            <p:cNvSpPr/>
            <p:nvPr/>
          </p:nvSpPr>
          <p:spPr>
            <a:xfrm>
              <a:off x="8002800" y="4268520"/>
              <a:ext cx="57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20 k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8"/>
            <p:cNvSpPr/>
            <p:nvPr/>
          </p:nvSpPr>
          <p:spPr>
            <a:xfrm>
              <a:off x="5257800" y="4217760"/>
              <a:ext cx="533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20 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"/>
            <p:cNvSpPr/>
            <p:nvPr/>
          </p:nvSpPr>
          <p:spPr>
            <a:xfrm>
              <a:off x="6627960" y="3671640"/>
              <a:ext cx="639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1 k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0"/>
            <p:cNvSpPr/>
            <p:nvPr/>
          </p:nvSpPr>
          <p:spPr>
            <a:xfrm>
              <a:off x="6477120" y="3166920"/>
              <a:ext cx="987480" cy="99036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1583" h="1898">
                  <a:moveTo>
                    <a:pt x="0" y="1878"/>
                  </a:moveTo>
                  <a:lnTo>
                    <a:pt x="125" y="1652"/>
                  </a:lnTo>
                  <a:lnTo>
                    <a:pt x="359" y="1325"/>
                  </a:lnTo>
                  <a:lnTo>
                    <a:pt x="489" y="939"/>
                  </a:lnTo>
                  <a:lnTo>
                    <a:pt x="558" y="474"/>
                  </a:lnTo>
                  <a:lnTo>
                    <a:pt x="597" y="203"/>
                  </a:lnTo>
                  <a:lnTo>
                    <a:pt x="622" y="53"/>
                  </a:lnTo>
                  <a:lnTo>
                    <a:pt x="660" y="0"/>
                  </a:lnTo>
                  <a:lnTo>
                    <a:pt x="722" y="88"/>
                  </a:lnTo>
                  <a:lnTo>
                    <a:pt x="761" y="361"/>
                  </a:lnTo>
                  <a:lnTo>
                    <a:pt x="783" y="527"/>
                  </a:lnTo>
                  <a:lnTo>
                    <a:pt x="839" y="722"/>
                  </a:lnTo>
                  <a:lnTo>
                    <a:pt x="900" y="967"/>
                  </a:lnTo>
                  <a:lnTo>
                    <a:pt x="994" y="1202"/>
                  </a:lnTo>
                  <a:lnTo>
                    <a:pt x="1150" y="1441"/>
                  </a:lnTo>
                  <a:lnTo>
                    <a:pt x="1296" y="1608"/>
                  </a:lnTo>
                  <a:lnTo>
                    <a:pt x="1405" y="1712"/>
                  </a:lnTo>
                  <a:lnTo>
                    <a:pt x="1568" y="1843"/>
                  </a:lnTo>
                  <a:lnTo>
                    <a:pt x="1582" y="1897"/>
                  </a:lnTo>
                  <a:lnTo>
                    <a:pt x="0" y="187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1"/>
            <p:cNvSpPr/>
            <p:nvPr/>
          </p:nvSpPr>
          <p:spPr>
            <a:xfrm>
              <a:off x="7043760" y="3392280"/>
              <a:ext cx="147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Lefedési tartomá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2"/>
            <p:cNvSpPr/>
            <p:nvPr/>
          </p:nvSpPr>
          <p:spPr>
            <a:xfrm>
              <a:off x="6723000" y="2958840"/>
              <a:ext cx="851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1 kHz s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3"/>
            <p:cNvSpPr/>
            <p:nvPr/>
          </p:nvSpPr>
          <p:spPr>
            <a:xfrm flipV="1">
              <a:off x="6902640" y="31539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4"/>
            <p:cNvSpPr/>
            <p:nvPr/>
          </p:nvSpPr>
          <p:spPr>
            <a:xfrm>
              <a:off x="5276880" y="2666880"/>
              <a:ext cx="1065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Hangnyomá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5"/>
            <p:cNvSpPr/>
            <p:nvPr/>
          </p:nvSpPr>
          <p:spPr>
            <a:xfrm>
              <a:off x="5322960" y="2904840"/>
              <a:ext cx="3309840" cy="1254240"/>
            </a:xfrm>
            <a:custGeom>
              <a:avLst/>
              <a:gdLst>
                <a:gd name="textAreaLeft" fmla="*/ 0 w 3309840"/>
                <a:gd name="textAreaRight" fmla="*/ 3310200 w 330984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5305" h="2404">
                  <a:moveTo>
                    <a:pt x="0" y="0"/>
                  </a:moveTo>
                  <a:lnTo>
                    <a:pt x="0" y="2403"/>
                  </a:lnTo>
                  <a:lnTo>
                    <a:pt x="5304" y="24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6"/>
            <p:cNvSpPr/>
            <p:nvPr/>
          </p:nvSpPr>
          <p:spPr>
            <a:xfrm>
              <a:off x="6491160" y="3409560"/>
              <a:ext cx="987480" cy="73692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736920"/>
                <a:gd name="textAreaBottom" fmla="*/ 736920 h 736920"/>
              </a:gdLst>
              <a:ahLst/>
              <a:rect l="textAreaLeft" t="textAreaTop" r="textAreaRight" b="textAreaBottom"/>
              <a:pathLst>
                <a:path w="1583" h="1898">
                  <a:moveTo>
                    <a:pt x="0" y="1878"/>
                  </a:moveTo>
                  <a:lnTo>
                    <a:pt x="125" y="1652"/>
                  </a:lnTo>
                  <a:lnTo>
                    <a:pt x="359" y="1325"/>
                  </a:lnTo>
                  <a:lnTo>
                    <a:pt x="489" y="939"/>
                  </a:lnTo>
                  <a:lnTo>
                    <a:pt x="558" y="474"/>
                  </a:lnTo>
                  <a:lnTo>
                    <a:pt x="597" y="203"/>
                  </a:lnTo>
                  <a:lnTo>
                    <a:pt x="622" y="53"/>
                  </a:lnTo>
                  <a:lnTo>
                    <a:pt x="660" y="0"/>
                  </a:lnTo>
                  <a:lnTo>
                    <a:pt x="722" y="88"/>
                  </a:lnTo>
                  <a:lnTo>
                    <a:pt x="761" y="361"/>
                  </a:lnTo>
                  <a:lnTo>
                    <a:pt x="783" y="527"/>
                  </a:lnTo>
                  <a:lnTo>
                    <a:pt x="839" y="722"/>
                  </a:lnTo>
                  <a:lnTo>
                    <a:pt x="900" y="967"/>
                  </a:lnTo>
                  <a:lnTo>
                    <a:pt x="994" y="1202"/>
                  </a:lnTo>
                  <a:lnTo>
                    <a:pt x="1150" y="1441"/>
                  </a:lnTo>
                  <a:lnTo>
                    <a:pt x="1296" y="1608"/>
                  </a:lnTo>
                  <a:lnTo>
                    <a:pt x="1405" y="1712"/>
                  </a:lnTo>
                  <a:lnTo>
                    <a:pt x="1568" y="1843"/>
                  </a:lnTo>
                  <a:lnTo>
                    <a:pt x="1582" y="1897"/>
                  </a:lnTo>
                  <a:lnTo>
                    <a:pt x="0" y="1878"/>
                  </a:lnTo>
                </a:path>
              </a:pathLst>
            </a:custGeom>
            <a:solidFill>
              <a:srgbClr val="333399"/>
            </a:solidFill>
            <a:ln cap="rnd" w="1260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7"/>
            <p:cNvSpPr/>
            <p:nvPr/>
          </p:nvSpPr>
          <p:spPr>
            <a:xfrm>
              <a:off x="5322960" y="3074760"/>
              <a:ext cx="3097080" cy="110484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104840"/>
                <a:gd name="textAreaBottom" fmla="*/ 1105200 h 1104840"/>
              </a:gdLst>
              <a:ahLst/>
              <a:rect l="textAreaLeft" t="textAreaTop" r="textAreaRight" b="textAreaBottom"/>
              <a:pathLst>
                <a:path w="4963" h="2119">
                  <a:moveTo>
                    <a:pt x="0" y="0"/>
                  </a:moveTo>
                  <a:lnTo>
                    <a:pt x="148" y="273"/>
                  </a:lnTo>
                  <a:lnTo>
                    <a:pt x="390" y="587"/>
                  </a:lnTo>
                  <a:lnTo>
                    <a:pt x="771" y="958"/>
                  </a:lnTo>
                  <a:lnTo>
                    <a:pt x="1197" y="1316"/>
                  </a:lnTo>
                  <a:lnTo>
                    <a:pt x="1455" y="1493"/>
                  </a:lnTo>
                  <a:lnTo>
                    <a:pt x="1804" y="1624"/>
                  </a:lnTo>
                  <a:lnTo>
                    <a:pt x="2249" y="1737"/>
                  </a:lnTo>
                  <a:lnTo>
                    <a:pt x="2692" y="1854"/>
                  </a:lnTo>
                  <a:lnTo>
                    <a:pt x="3128" y="1923"/>
                  </a:lnTo>
                  <a:lnTo>
                    <a:pt x="3251" y="2011"/>
                  </a:lnTo>
                  <a:lnTo>
                    <a:pt x="3393" y="2029"/>
                  </a:lnTo>
                  <a:lnTo>
                    <a:pt x="3493" y="1976"/>
                  </a:lnTo>
                  <a:lnTo>
                    <a:pt x="3702" y="1933"/>
                  </a:lnTo>
                  <a:lnTo>
                    <a:pt x="4022" y="1870"/>
                  </a:lnTo>
                  <a:lnTo>
                    <a:pt x="4225" y="1756"/>
                  </a:lnTo>
                  <a:lnTo>
                    <a:pt x="4498" y="1581"/>
                  </a:lnTo>
                  <a:lnTo>
                    <a:pt x="4684" y="1351"/>
                  </a:lnTo>
                  <a:lnTo>
                    <a:pt x="4840" y="1046"/>
                  </a:lnTo>
                  <a:lnTo>
                    <a:pt x="4940" y="660"/>
                  </a:lnTo>
                  <a:lnTo>
                    <a:pt x="4962" y="494"/>
                  </a:lnTo>
                  <a:lnTo>
                    <a:pt x="4962" y="2118"/>
                  </a:lnTo>
                  <a:lnTo>
                    <a:pt x="0" y="2118"/>
                  </a:lnTo>
                  <a:lnTo>
                    <a:pt x="0" y="0"/>
                  </a:lnTo>
                </a:path>
              </a:pathLst>
            </a:custGeom>
            <a:solidFill>
              <a:srgbClr val="f4ac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47"/>
          <p:cNvGrpSpPr/>
          <p:nvPr/>
        </p:nvGrpSpPr>
        <p:grpSpPr>
          <a:xfrm>
            <a:off x="5264280" y="4533840"/>
            <a:ext cx="3689280" cy="1812600"/>
            <a:chOff x="5264280" y="4533840"/>
            <a:chExt cx="3689280" cy="1812600"/>
          </a:xfrm>
        </p:grpSpPr>
        <p:sp>
          <p:nvSpPr>
            <p:cNvPr id="407" name="Freeform 4"/>
            <p:cNvSpPr/>
            <p:nvPr/>
          </p:nvSpPr>
          <p:spPr>
            <a:xfrm>
              <a:off x="6675480" y="5302080"/>
              <a:ext cx="1305000" cy="736920"/>
            </a:xfrm>
            <a:custGeom>
              <a:avLst/>
              <a:gdLst>
                <a:gd name="textAreaLeft" fmla="*/ 0 w 1305000"/>
                <a:gd name="textAreaRight" fmla="*/ 1305360 w 1305000"/>
                <a:gd name="textAreaTop" fmla="*/ 0 h 736920"/>
                <a:gd name="textAreaBottom" fmla="*/ 736920 h 736920"/>
              </a:gdLst>
              <a:ahLst/>
              <a:rect l="textAreaLeft" t="textAreaTop" r="textAreaRight" b="textAreaBottom"/>
              <a:pathLst>
                <a:path w="1583" h="1898">
                  <a:moveTo>
                    <a:pt x="0" y="1878"/>
                  </a:moveTo>
                  <a:lnTo>
                    <a:pt x="125" y="1652"/>
                  </a:lnTo>
                  <a:lnTo>
                    <a:pt x="359" y="1325"/>
                  </a:lnTo>
                  <a:lnTo>
                    <a:pt x="489" y="939"/>
                  </a:lnTo>
                  <a:lnTo>
                    <a:pt x="558" y="474"/>
                  </a:lnTo>
                  <a:lnTo>
                    <a:pt x="597" y="203"/>
                  </a:lnTo>
                  <a:lnTo>
                    <a:pt x="622" y="53"/>
                  </a:lnTo>
                  <a:lnTo>
                    <a:pt x="660" y="0"/>
                  </a:lnTo>
                  <a:lnTo>
                    <a:pt x="722" y="88"/>
                  </a:lnTo>
                  <a:lnTo>
                    <a:pt x="761" y="361"/>
                  </a:lnTo>
                  <a:lnTo>
                    <a:pt x="783" y="527"/>
                  </a:lnTo>
                  <a:lnTo>
                    <a:pt x="839" y="722"/>
                  </a:lnTo>
                  <a:lnTo>
                    <a:pt x="900" y="967"/>
                  </a:lnTo>
                  <a:lnTo>
                    <a:pt x="994" y="1202"/>
                  </a:lnTo>
                  <a:lnTo>
                    <a:pt x="1150" y="1441"/>
                  </a:lnTo>
                  <a:lnTo>
                    <a:pt x="1296" y="1608"/>
                  </a:lnTo>
                  <a:lnTo>
                    <a:pt x="1405" y="1712"/>
                  </a:lnTo>
                  <a:lnTo>
                    <a:pt x="1568" y="1843"/>
                  </a:lnTo>
                  <a:lnTo>
                    <a:pt x="1582" y="1897"/>
                  </a:lnTo>
                  <a:lnTo>
                    <a:pt x="0" y="187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6956280" y="5291280"/>
              <a:ext cx="1533600" cy="774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583" h="1898">
                  <a:moveTo>
                    <a:pt x="0" y="1878"/>
                  </a:moveTo>
                  <a:lnTo>
                    <a:pt x="125" y="1652"/>
                  </a:lnTo>
                  <a:lnTo>
                    <a:pt x="359" y="1325"/>
                  </a:lnTo>
                  <a:lnTo>
                    <a:pt x="489" y="939"/>
                  </a:lnTo>
                  <a:lnTo>
                    <a:pt x="558" y="474"/>
                  </a:lnTo>
                  <a:lnTo>
                    <a:pt x="597" y="203"/>
                  </a:lnTo>
                  <a:lnTo>
                    <a:pt x="622" y="53"/>
                  </a:lnTo>
                  <a:lnTo>
                    <a:pt x="660" y="0"/>
                  </a:lnTo>
                  <a:lnTo>
                    <a:pt x="722" y="88"/>
                  </a:lnTo>
                  <a:lnTo>
                    <a:pt x="761" y="361"/>
                  </a:lnTo>
                  <a:lnTo>
                    <a:pt x="783" y="527"/>
                  </a:lnTo>
                  <a:lnTo>
                    <a:pt x="839" y="722"/>
                  </a:lnTo>
                  <a:lnTo>
                    <a:pt x="900" y="967"/>
                  </a:lnTo>
                  <a:lnTo>
                    <a:pt x="994" y="1202"/>
                  </a:lnTo>
                  <a:lnTo>
                    <a:pt x="1150" y="1441"/>
                  </a:lnTo>
                  <a:lnTo>
                    <a:pt x="1296" y="1608"/>
                  </a:lnTo>
                  <a:lnTo>
                    <a:pt x="1405" y="1712"/>
                  </a:lnTo>
                  <a:lnTo>
                    <a:pt x="1568" y="1843"/>
                  </a:lnTo>
                  <a:lnTo>
                    <a:pt x="1582" y="1897"/>
                  </a:lnTo>
                  <a:lnTo>
                    <a:pt x="0" y="187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5619600" y="5002200"/>
              <a:ext cx="1762200" cy="88884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583" h="1898">
                  <a:moveTo>
                    <a:pt x="0" y="1878"/>
                  </a:moveTo>
                  <a:lnTo>
                    <a:pt x="125" y="1652"/>
                  </a:lnTo>
                  <a:lnTo>
                    <a:pt x="359" y="1325"/>
                  </a:lnTo>
                  <a:lnTo>
                    <a:pt x="489" y="939"/>
                  </a:lnTo>
                  <a:lnTo>
                    <a:pt x="558" y="474"/>
                  </a:lnTo>
                  <a:lnTo>
                    <a:pt x="597" y="203"/>
                  </a:lnTo>
                  <a:lnTo>
                    <a:pt x="622" y="53"/>
                  </a:lnTo>
                  <a:lnTo>
                    <a:pt x="660" y="0"/>
                  </a:lnTo>
                  <a:lnTo>
                    <a:pt x="722" y="88"/>
                  </a:lnTo>
                  <a:lnTo>
                    <a:pt x="761" y="361"/>
                  </a:lnTo>
                  <a:lnTo>
                    <a:pt x="783" y="527"/>
                  </a:lnTo>
                  <a:lnTo>
                    <a:pt x="839" y="722"/>
                  </a:lnTo>
                  <a:lnTo>
                    <a:pt x="900" y="967"/>
                  </a:lnTo>
                  <a:lnTo>
                    <a:pt x="994" y="1202"/>
                  </a:lnTo>
                  <a:lnTo>
                    <a:pt x="1150" y="1441"/>
                  </a:lnTo>
                  <a:lnTo>
                    <a:pt x="1296" y="1608"/>
                  </a:lnTo>
                  <a:lnTo>
                    <a:pt x="1405" y="1712"/>
                  </a:lnTo>
                  <a:lnTo>
                    <a:pt x="1568" y="1843"/>
                  </a:lnTo>
                  <a:lnTo>
                    <a:pt x="1582" y="1897"/>
                  </a:lnTo>
                  <a:lnTo>
                    <a:pt x="0" y="187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8"/>
            <p:cNvSpPr/>
            <p:nvPr/>
          </p:nvSpPr>
          <p:spPr>
            <a:xfrm>
              <a:off x="8008920" y="6135840"/>
              <a:ext cx="57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20 k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9"/>
            <p:cNvSpPr/>
            <p:nvPr/>
          </p:nvSpPr>
          <p:spPr>
            <a:xfrm>
              <a:off x="5264280" y="6084720"/>
              <a:ext cx="53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20 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0"/>
            <p:cNvSpPr/>
            <p:nvPr/>
          </p:nvSpPr>
          <p:spPr>
            <a:xfrm>
              <a:off x="6634080" y="5538960"/>
              <a:ext cx="639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1 kH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1"/>
            <p:cNvSpPr/>
            <p:nvPr/>
          </p:nvSpPr>
          <p:spPr>
            <a:xfrm>
              <a:off x="6159600" y="4910040"/>
              <a:ext cx="1758960" cy="11178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583" h="1898">
                  <a:moveTo>
                    <a:pt x="0" y="1878"/>
                  </a:moveTo>
                  <a:lnTo>
                    <a:pt x="125" y="1652"/>
                  </a:lnTo>
                  <a:lnTo>
                    <a:pt x="359" y="1325"/>
                  </a:lnTo>
                  <a:lnTo>
                    <a:pt x="489" y="939"/>
                  </a:lnTo>
                  <a:lnTo>
                    <a:pt x="558" y="474"/>
                  </a:lnTo>
                  <a:lnTo>
                    <a:pt x="597" y="203"/>
                  </a:lnTo>
                  <a:lnTo>
                    <a:pt x="622" y="53"/>
                  </a:lnTo>
                  <a:lnTo>
                    <a:pt x="660" y="0"/>
                  </a:lnTo>
                  <a:lnTo>
                    <a:pt x="722" y="88"/>
                  </a:lnTo>
                  <a:lnTo>
                    <a:pt x="761" y="361"/>
                  </a:lnTo>
                  <a:lnTo>
                    <a:pt x="783" y="527"/>
                  </a:lnTo>
                  <a:lnTo>
                    <a:pt x="839" y="722"/>
                  </a:lnTo>
                  <a:lnTo>
                    <a:pt x="900" y="967"/>
                  </a:lnTo>
                  <a:lnTo>
                    <a:pt x="994" y="1202"/>
                  </a:lnTo>
                  <a:lnTo>
                    <a:pt x="1150" y="1441"/>
                  </a:lnTo>
                  <a:lnTo>
                    <a:pt x="1296" y="1608"/>
                  </a:lnTo>
                  <a:lnTo>
                    <a:pt x="1405" y="1712"/>
                  </a:lnTo>
                  <a:lnTo>
                    <a:pt x="1568" y="1843"/>
                  </a:lnTo>
                  <a:lnTo>
                    <a:pt x="1582" y="1897"/>
                  </a:lnTo>
                  <a:lnTo>
                    <a:pt x="0" y="187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2"/>
            <p:cNvSpPr/>
            <p:nvPr/>
          </p:nvSpPr>
          <p:spPr>
            <a:xfrm>
              <a:off x="7481880" y="4815000"/>
              <a:ext cx="147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Lefedési tartomá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3"/>
            <p:cNvSpPr/>
            <p:nvPr/>
          </p:nvSpPr>
          <p:spPr>
            <a:xfrm>
              <a:off x="6719760" y="4695840"/>
              <a:ext cx="851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1 kHz s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4"/>
            <p:cNvSpPr/>
            <p:nvPr/>
          </p:nvSpPr>
          <p:spPr>
            <a:xfrm>
              <a:off x="6896160" y="487188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5"/>
            <p:cNvSpPr/>
            <p:nvPr/>
          </p:nvSpPr>
          <p:spPr>
            <a:xfrm>
              <a:off x="5283360" y="4533840"/>
              <a:ext cx="1064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Hangnyomá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6"/>
            <p:cNvSpPr/>
            <p:nvPr/>
          </p:nvSpPr>
          <p:spPr>
            <a:xfrm>
              <a:off x="5329080" y="4772160"/>
              <a:ext cx="3310200" cy="1253880"/>
            </a:xfrm>
            <a:custGeom>
              <a:avLst/>
              <a:gdLst>
                <a:gd name="textAreaLeft" fmla="*/ 0 w 3310200"/>
                <a:gd name="textAreaRight" fmla="*/ 3310560 w 3310200"/>
                <a:gd name="textAreaTop" fmla="*/ 0 h 1253880"/>
                <a:gd name="textAreaBottom" fmla="*/ 1254240 h 1253880"/>
              </a:gdLst>
              <a:ahLst/>
              <a:rect l="textAreaLeft" t="textAreaTop" r="textAreaRight" b="textAreaBottom"/>
              <a:pathLst>
                <a:path w="5305" h="2404">
                  <a:moveTo>
                    <a:pt x="0" y="0"/>
                  </a:moveTo>
                  <a:lnTo>
                    <a:pt x="0" y="2403"/>
                  </a:lnTo>
                  <a:lnTo>
                    <a:pt x="5304" y="2403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7"/>
            <p:cNvSpPr/>
            <p:nvPr/>
          </p:nvSpPr>
          <p:spPr>
            <a:xfrm>
              <a:off x="5419800" y="5214960"/>
              <a:ext cx="1520640" cy="82872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583" h="1898">
                  <a:moveTo>
                    <a:pt x="0" y="1878"/>
                  </a:moveTo>
                  <a:lnTo>
                    <a:pt x="125" y="1652"/>
                  </a:lnTo>
                  <a:lnTo>
                    <a:pt x="359" y="1325"/>
                  </a:lnTo>
                  <a:lnTo>
                    <a:pt x="489" y="939"/>
                  </a:lnTo>
                  <a:lnTo>
                    <a:pt x="558" y="474"/>
                  </a:lnTo>
                  <a:lnTo>
                    <a:pt x="597" y="203"/>
                  </a:lnTo>
                  <a:lnTo>
                    <a:pt x="622" y="53"/>
                  </a:lnTo>
                  <a:lnTo>
                    <a:pt x="660" y="0"/>
                  </a:lnTo>
                  <a:lnTo>
                    <a:pt x="722" y="88"/>
                  </a:lnTo>
                  <a:lnTo>
                    <a:pt x="761" y="361"/>
                  </a:lnTo>
                  <a:lnTo>
                    <a:pt x="783" y="527"/>
                  </a:lnTo>
                  <a:lnTo>
                    <a:pt x="839" y="722"/>
                  </a:lnTo>
                  <a:lnTo>
                    <a:pt x="900" y="967"/>
                  </a:lnTo>
                  <a:lnTo>
                    <a:pt x="994" y="1202"/>
                  </a:lnTo>
                  <a:lnTo>
                    <a:pt x="1150" y="1441"/>
                  </a:lnTo>
                  <a:lnTo>
                    <a:pt x="1296" y="1608"/>
                  </a:lnTo>
                  <a:lnTo>
                    <a:pt x="1405" y="1712"/>
                  </a:lnTo>
                  <a:lnTo>
                    <a:pt x="1568" y="1843"/>
                  </a:lnTo>
                  <a:lnTo>
                    <a:pt x="1582" y="1897"/>
                  </a:lnTo>
                  <a:lnTo>
                    <a:pt x="0" y="187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8"/>
            <p:cNvSpPr/>
            <p:nvPr/>
          </p:nvSpPr>
          <p:spPr>
            <a:xfrm>
              <a:off x="5329080" y="4941720"/>
              <a:ext cx="3097440" cy="110520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1105200"/>
                <a:gd name="textAreaBottom" fmla="*/ 1105560 h 1105200"/>
              </a:gdLst>
              <a:ahLst/>
              <a:rect l="textAreaLeft" t="textAreaTop" r="textAreaRight" b="textAreaBottom"/>
              <a:pathLst>
                <a:path w="4963" h="2119">
                  <a:moveTo>
                    <a:pt x="0" y="0"/>
                  </a:moveTo>
                  <a:lnTo>
                    <a:pt x="148" y="273"/>
                  </a:lnTo>
                  <a:lnTo>
                    <a:pt x="390" y="587"/>
                  </a:lnTo>
                  <a:lnTo>
                    <a:pt x="771" y="958"/>
                  </a:lnTo>
                  <a:lnTo>
                    <a:pt x="1197" y="1316"/>
                  </a:lnTo>
                  <a:lnTo>
                    <a:pt x="1455" y="1493"/>
                  </a:lnTo>
                  <a:lnTo>
                    <a:pt x="1804" y="1624"/>
                  </a:lnTo>
                  <a:lnTo>
                    <a:pt x="2249" y="1737"/>
                  </a:lnTo>
                  <a:lnTo>
                    <a:pt x="2692" y="1854"/>
                  </a:lnTo>
                  <a:lnTo>
                    <a:pt x="3128" y="1923"/>
                  </a:lnTo>
                  <a:lnTo>
                    <a:pt x="3251" y="2011"/>
                  </a:lnTo>
                  <a:lnTo>
                    <a:pt x="3393" y="2029"/>
                  </a:lnTo>
                  <a:lnTo>
                    <a:pt x="3493" y="1976"/>
                  </a:lnTo>
                  <a:lnTo>
                    <a:pt x="3702" y="1933"/>
                  </a:lnTo>
                  <a:lnTo>
                    <a:pt x="4022" y="1870"/>
                  </a:lnTo>
                  <a:lnTo>
                    <a:pt x="4225" y="1756"/>
                  </a:lnTo>
                  <a:lnTo>
                    <a:pt x="4498" y="1581"/>
                  </a:lnTo>
                  <a:lnTo>
                    <a:pt x="4684" y="1351"/>
                  </a:lnTo>
                  <a:lnTo>
                    <a:pt x="4840" y="1046"/>
                  </a:lnTo>
                  <a:lnTo>
                    <a:pt x="4940" y="660"/>
                  </a:lnTo>
                  <a:lnTo>
                    <a:pt x="4962" y="494"/>
                  </a:lnTo>
                  <a:lnTo>
                    <a:pt x="4962" y="2118"/>
                  </a:lnTo>
                  <a:lnTo>
                    <a:pt x="0" y="2118"/>
                  </a:lnTo>
                  <a:lnTo>
                    <a:pt x="0" y="0"/>
                  </a:lnTo>
                </a:path>
              </a:pathLst>
            </a:custGeom>
            <a:solidFill>
              <a:srgbClr val="f4ac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9"/>
            <p:cNvSpPr/>
            <p:nvPr/>
          </p:nvSpPr>
          <p:spPr>
            <a:xfrm>
              <a:off x="6019920" y="4776840"/>
              <a:ext cx="850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0,5 kHz s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0"/>
            <p:cNvSpPr/>
            <p:nvPr/>
          </p:nvSpPr>
          <p:spPr>
            <a:xfrm>
              <a:off x="7470720" y="5103720"/>
              <a:ext cx="851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5kHz s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1"/>
            <p:cNvSpPr/>
            <p:nvPr/>
          </p:nvSpPr>
          <p:spPr>
            <a:xfrm>
              <a:off x="5479920" y="4992840"/>
              <a:ext cx="851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0,3 kHz s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2"/>
            <p:cNvSpPr/>
            <p:nvPr/>
          </p:nvSpPr>
          <p:spPr>
            <a:xfrm>
              <a:off x="6934320" y="5029200"/>
              <a:ext cx="850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"/>
                </a:rPr>
                <a:t>1,5 kHz s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3"/>
            <p:cNvSpPr/>
            <p:nvPr/>
          </p:nvSpPr>
          <p:spPr>
            <a:xfrm>
              <a:off x="6066000" y="515304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44"/>
            <p:cNvSpPr/>
            <p:nvPr/>
          </p:nvSpPr>
          <p:spPr>
            <a:xfrm>
              <a:off x="6353280" y="495144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5"/>
            <p:cNvSpPr/>
            <p:nvPr/>
          </p:nvSpPr>
          <p:spPr>
            <a:xfrm>
              <a:off x="7227720" y="523224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6"/>
            <p:cNvSpPr/>
            <p:nvPr/>
          </p:nvSpPr>
          <p:spPr>
            <a:xfrm flipH="1" flipV="1">
              <a:off x="7597440" y="5252760"/>
              <a:ext cx="32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960-CD42-468F-82AA-7C88A6867381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EDA-394E-4DC8-9180-E86CFA9D02A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gy átlagos h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átlagos hang lefedési görbéje látható a raj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EREDOHAL"/>
          <p:cNvPicPr/>
          <p:nvPr/>
        </p:nvPicPr>
        <p:blipFill>
          <a:blip r:embed="rId1"/>
          <a:stretch/>
        </p:blipFill>
        <p:spPr>
          <a:xfrm>
            <a:off x="1600200" y="1905120"/>
            <a:ext cx="6764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610D-A67A-43EE-891D-275C69345B77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4DCF-56E1-4470-8796-A3110583758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rrás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ranszformáció kódolá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menő jel egy időben határolt szeletét FFT (vagy DCT) transzformációval a frekvenciatartományba transzformáljá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pektrumot a PSZIHOAKUSZTIKUS modell szerinti értékeléssel, minimális felbontással kódoljá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vitel után dekódolják, majd IFFT-vel az időtartományba visszatranszformáljá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ész-sávú kódolá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angtartományt részsávokra bontják (ez tulajdonképpen megfelel a frekvenciatartományba transzformálásnak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ntavétel és kódolás részsávonként történik (A minták különbözőképpen kvantálhatók rögzített, vagy időben változó léptékkel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ételi oldalon dekódolás után  egy inverz szűrőbankkal a szélessávú hangjel visszaállítha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96EC-1164-4F97-BB74-3DE87475B39D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EA20-1998-420C-90B4-52854D9F86E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rrás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O/IEC MPEG (Motion Picture Experts Group)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kitűzés: Egységes digitális kép és hang redundancia csökkentő rendszer-család kidolgoz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PEG-1: „ISO/IEC 11172 Information Technology coding of Moving Pictures and Associated Audio for Digital Storage Media at up to about 1,5 Mb/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angkódolás lényegesebb szempontj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indulási hangminőség a CD minősé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önböző tömörítési fokozatok és hangminőségű változatok létrehozá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édettség az átviteli rendszer hibáival  szem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ódolás/dekódolás bonyolultsága és a késleltetési id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DAB az ISO MPEG AUDIO LAYER II kódolási eljárást használ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AB+ MPEG-4 HE AACv2 kódolást alkalm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3CD7-C8EF-4A7B-B678-28D4D158B3A1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E71-9D2F-42B5-A9F6-7C23BAA5C8B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satornakódolás =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formáció átv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ádiócsatornában az információátvitel három lépésben történi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ó generál egy szinuszos vivő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vivőt moduláljuk a továbbítandó információs jellel. (A vivő jellemzőiben minden olyan változás, amely észlelhető - hordozhat információ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vevő a vivő jellemzőiben történt változásokat felismeri és demodulál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szinuszos jelnek csupán három olyan jellemzője van, melyet időben változtathatu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mplitúd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ázi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rekv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ázis és a frekvencia nem más, mint ugyanannak a jelbeli változásnak a kétféle módon való megközelítése és méré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3124080" y="5506920"/>
                <a:ext cx="2925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985-10AE-4471-8747-12B5314F208C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D72-4FE4-4137-BC05-E98FB145B9F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ülönféle moduláci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 esetén a nagyfrekvenciás vivő a moduláló adatjel pillanatnyi amplitúdójával arányosan változi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FM esetén a vivő amplitúdója állandó marad, míg annak frekvenciáját változtatja meg a moduláló adatj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mplitúdó és a fázis egyszerre, vagy külön is változtatható, de ezt nehéz generálni és nehéz detektálni. Ehelyett a gyakorlatban a jelet független komponensekre bontjá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 (In phase), vagyis azonos fázisú 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Q (Qudrature), azaz kvadratúra komponensek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ek ortogonálisak egymásra, így nem kerülnek interferenciába egymás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8862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876-A2F6-438D-822C-F17D85986B56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E33-1963-4C6B-AEE3-73A87B79FBA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ejlesztési irányvona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nalóg (klasszikus) moduláció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mplitúdó moduláci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rekvencia moduláci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ázis moduláci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elmúlt néhány évben a legfőbb váltás az egyszerű analóg AM-ről és FM/PM-ről az újfajta digitális modulációs technológiára való átállás vo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igitális moduláció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éldáu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QPSK (kvadratúra-fázisbillentyűzé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SK (frekvencia-billentyűzé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SK (minimális változású billentyűzé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QAM (kvadratúra amplitúdómoduláció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omplexitás egy újabb rétege számos rendszerben a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ultiplexál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ét alapvető típusa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TDMA (Time Division Multiple Acces) 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CDMA (Code Division Multiple Acces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z két különböző módszer, amely a jelátviteli utak többszörös kihasználására szolgál, azaz több különböző, egymástól valamilyen módon megkülönböztetett jelet küldhetünk egyszer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5" descr=""/>
          <p:cNvPicPr/>
          <p:nvPr/>
        </p:nvPicPr>
        <p:blipFill>
          <a:blip r:embed="rId1"/>
          <a:stretch/>
        </p:blipFill>
        <p:spPr>
          <a:xfrm>
            <a:off x="5248440" y="2057400"/>
            <a:ext cx="3819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B72-8574-47E3-8C61-2404B2B20075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05FF-7BFE-43A4-B12E-72FC167CECE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ért válasszuk a digitális moduláció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igitális modulác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gyobb információ kapacitást biztosí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mpatibilitást a digitális adatszolgáltatásokk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asabb adatvédelme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obb kommunikációs minőséget és gyorsabb rendszer elérhetőséget 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ommunikációs rendszerek tervezői a következő korlátokkal szembesüln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érhető sávszéles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engedett teljesítm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ndszerre jellemző zajsz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RF spektrumot meg kell osztani, m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re több felhasználó kíván hozzáférni a spektrumhoz és kívánja igénybe venni a kommunikációs rendszerek szolgáltatás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igitális modulációs módszerek nagyobb kapacitást biztosítanak nagy adatmennyiségek továbbítására, mint az analóg módsze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5061-4D8A-4732-B8E5-D48DF4B781BB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B51-D160-4BEC-9158-1D81708135A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információ-átvitel rendszertechnik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508720" y="5805360"/>
            <a:ext cx="3384360" cy="432000"/>
          </a:xfrm>
          <a:prstGeom prst="wedgeRoundRectCallout">
            <a:avLst>
              <a:gd name="adj1" fmla="val -69277"/>
              <a:gd name="adj2" fmla="val -395953"/>
              <a:gd name="adj3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1c07b5"/>
                </a:solidFill>
                <a:latin typeface="Arial CE"/>
              </a:rPr>
              <a:t>RÁDIÓCSATO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1"/>
          <a:stretch/>
        </p:blipFill>
        <p:spPr>
          <a:xfrm>
            <a:off x="228600" y="974880"/>
            <a:ext cx="861048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79E2-2923-4010-AA2D-1E7E17F877B7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E7E-AF27-4A06-B421-74F966F0695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oláris megjelen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mplitúdó és a fázis ábrázolásának egyszerű módja a polár-diagra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tt a vivő frekvencia- és fázis-referenciaként jelenik me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elet poláris alakban amplitúdójával és fázisával adju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ázis egy referencia-jelhez viszonyul, amely a legtöbb rendszerben maga a viv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mplitúdó vagy abszolút vagy relatív érték, mindkét forma használatos a digitális kommunikációs rendszerek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olár-diagram az alapja számos megjelenítési formának a digitális kommunikáció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szokott dolog a jelvektor leírá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zonos fázisú (I)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vadratúra (Q) komponensek derékszögű koordinátáinak megadásával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5943600" y="1962000"/>
            <a:ext cx="30193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C0F-F0CE-4D17-9324-830085FC56FE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CA6C-D908-40C5-8B0C-2C0C561C500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jel változása a polár diagra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49532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ábra a különböző modulációs módok leírását mutatja be a poláris diagram segítségé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mplitúdót a középponttól való távolsá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ázist a szög adja m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mplitúdómoduláció (AM) csak a jel amplitúdóját változtatja m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ázismoduláció (PM) csak a jel fázis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ettőt egyszerre is alkalmazhatju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rekvenciamoduláció (FM) hasonlít a fázismodulációhoz, bár a frekvencia gyakrabban az ellenőrzött paraméter, mint a relatív fáz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M generálásakor, ha nem kapcsolunk hozzá szögmodulációt, egy egyenes vonalat kaphatunk a polár diagramon, amely az origótól az amplitúdó csúcsértékig nyúlha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gyakorlatban ez a vonal nem egyenes. Az amplitúdómoduláció önmagában gyakran okozhat némi véletlen fázismodulációt. Ennek eredménye hullámos vonal. Hurokká is válhat, ha a rendszer átviteli függvényében bárminemű hiszterézis előfordu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5238720" y="1676520"/>
            <a:ext cx="38289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6F50-73E4-4D49-BEBF-81BD4E5E8E9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53C0-5987-49BE-932A-8EC04054480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onos fázisú ill. kvadratúra komponen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igitális kommunikációban a modulációt gyakran fejezzük ki az azonos fázisú (I)  ill. (Q) kvadratúra kifejezésekkel. Ez a poláris diagram derékszögű megfelelő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olár diagramon az azonos fázisú (I) tengely a nulla fokos fázisreferenciára illeszkedi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(Q) kvadratúra tengely ehhez képest 9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kal elforgat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el vektorát az I tengelyre levetítve kapjuk meg a jel azonos fázisú (I) komponensé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Q tengelyre vetítve pedig a (Q) kvadratúra kompone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686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C6CE-24E2-4C0D-848C-FC3B04770817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C8B-456D-4959-81CA-D21895EBBBB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 és Q komponensek az adó old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óban ugyanaz a helyi oszcillátor (LO) szorozza meg az I és Q jele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oszcillátor egyik csatornáján egy kilencven fokos fázistoló helyezkedik el. (Az egymástól kilencven fokban eltolt fázisú jeleket derékszögűnek vagy ortogonálisnak is nevezik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áziskvadratúrában lévő jelek nem zavarják egymást. A jelnek két független komponense v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mikor ezeket összeadják, akkor egy kompozit kimenő jel keletkez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onos fázisban (I), illetve fáziskvadratúrában (Q) két két független jel van tehát, amelyek egyszerű áramkörök segítségével sugározhatók ki és vehető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I/Q moduláció legfőbb előnye, hogy szimmetrikusan kombinálhatók az egymástól független jelkomponensek egyetlen kompozit jellé, amely később újból szétválaszthat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733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260C-5650-40EA-B719-D6D067C3EF77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220C-056B-4089-912C-045334CF7E9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I és a Q komponensek a vevő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evő bemenetére kompozit jel érkezik, mely az adatokat az amplitúdójában és a fázisában ( vagy az I és Q komponenseiben) tartalma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ett jelet két ágra bontva megszorozzuk a helyi oszcillátor jelével a amely vivő frekvenciáján reze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ik ágban a szorzás egy tetszőlegesen megválasztott nullfázisban törté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ásik ág jele 90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os fáziseltolás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ompozit bemenő jel (annak amplitúdója és fázisa) így egy azonos fázisú (I) és egy kvadratúra (Q) komponensre válik sz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a két összetevő egymástól független és ortogonális. Az egyiket a másik befolyásolása nélkül változtathatju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401004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6EAB-7F2E-4743-8D0D-EAD227FCC09B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6D3-5A02-4458-AA9A-02B8A62E650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bitráta és szimbólumráta fog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bitráta egy rendszer bitfolyamának frekvenciá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jel sávszélessége, amit a kommunikációs csatornán igényel, a szimbólumrátától függ, nem a bitrátátó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gyünk egy 8 bites mintavevő rendszert, amely 10 kHz-cel vesz mintát  A bitráta, az alapvető bitfolyam sebessége az adóban: 8 bit szorozva 10K mintával másodpercenként, azaz 80 Kbit másodpercenké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ábra egy QPSK jel állapotdiagram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z állapotokat nullákkal és egyesekkel ábrázolhatju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zimbólumráta tehát a bitráta osztva azon bitek számával, melyek egy szimbólummal továbbításra kerülhetn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Ha szimbólumonként egy bit kerül sugárzásra, mint a BPSK esetén, akkor a szimbólumráta megegyezik a bitrátával, ami a példánkban 80 Kbit/se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Ha két bit kerül sugárzásra szimbólumonként, mint a QPSK esetén, akkor a szimbólumráta a bitráta fele lesz, azaz 40 Kbit/se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 szimbólumrátát néha </a:t>
            </a:r>
            <a:r>
              <a:rPr b="0" i="1" lang="hu-HU" sz="1000" spc="-1" strike="noStrike">
                <a:solidFill>
                  <a:srgbClr val="000000"/>
                </a:solidFill>
                <a:latin typeface="Arial"/>
              </a:rPr>
              <a:t>baudrátának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is hívják. Jegyezzük meg, hogy a baudráta nem ugyanaz, mint a bitrá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 több bitet sugározhatunk ki szimbólumonként, akkor ugyanazt az adatmennyiséget egy keskenyebb spektrumon sugározhatjuk ki. Ezért van az, hogy a bonyolultabb, nagyobb állapotszámú modulációfajták ugyanazt az információt az RF spektrum keskenyebb sávján képesek továbbíta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77208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1" name="Object 5"/>
              <p:cNvSpPr txBox="1"/>
              <p:nvPr/>
            </p:nvSpPr>
            <p:spPr>
              <a:xfrm>
                <a:off x="1066680" y="2200320"/>
                <a:ext cx="364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zimbólumrát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trát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zimbólumonkén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átvit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ite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záma</m:t>
                        </m:r>
                        <m:r>
                          <m:t xml:space="preserve">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3424-8D28-401F-9869-5D74C6F9BBA6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C5CB-114B-4FF2-9ECD-8A22C06334C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ázisbillentyűzés (Phase Shift Keying, P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egyik legegyszerűbb digitális moduláció a kétállapotú PSK, a BP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 állandó amplitúdójú vivő fázisa nulla és 180 fok között mozo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/Q diagramon az I két lehetséges értéket vehet fel: egy bináris egyet, vagy nullát sugározhatunk k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imbólumráta szimbólumonként egy b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 sokkal gyakoribb moduláció típus a QP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kvadratúra azt jelenti, hogy a jel olyan fázisállapotok között változik, amelyek egymástól 90 foknyira van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jel 90 fokos ugrásokkal lép 45</a:t>
            </a:r>
            <a:r>
              <a:rPr b="0" lang="hu-H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135</a:t>
            </a:r>
            <a:r>
              <a:rPr b="0" lang="hu-H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-45</a:t>
            </a:r>
            <a:r>
              <a:rPr b="0" lang="hu-H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-130</a:t>
            </a:r>
            <a:r>
              <a:rPr b="0" lang="hu-H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lamelyikéb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zeket a pontokat könnyű egy I/Q modulátort használva előállítani. Csak két I és csak két Q érték szükséges, ami szimbólumonként két bitet jel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égy állapota létezik, mivel 2</a:t>
            </a:r>
            <a:r>
              <a:rPr b="0" lang="hu-HU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z a modulációfajta sávszélesség kihasználás szempontjából kétszeresen olyan hatékony, mint a BPS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4057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04D-80B0-4278-B46D-E75420F71907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30D-9868-4600-B192-66CE73D288F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ázisbillentyűzés (P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ask"/>
          <p:cNvPicPr/>
          <p:nvPr/>
        </p:nvPicPr>
        <p:blipFill>
          <a:blip r:embed="rId1"/>
          <a:stretch/>
        </p:blipFill>
        <p:spPr>
          <a:xfrm>
            <a:off x="343080" y="1521000"/>
            <a:ext cx="84960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C7C3-75ED-4B27-8DBA-7619B7053EB4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81CA-D928-4CF8-A00F-E09F91BC396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5334120" y="4410000"/>
            <a:ext cx="2600280" cy="22957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343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QPSK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QPSK / Quadrature Phase Shift Keying / modulációban a vivőt mindig azonos amplitúdóval de négy különböző fázishelyzettel visszük á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oduláló jelsorozatot két jelsorozattá párhuzamosítjá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ikkel a vivővel azonos fázis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ásikkal egy 90°-al eltolt fázisú jelet modulálnak, hasonlóan a BPSK modulációhoz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vivővel azonos fázisban dolgozó modulátor moduláló jelét „I” (inphase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90°-ra eltolt jellel működőét pedig „Q” (quadrature) betűvel jelö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ét jelből álló csoportot, vagy blokkot dibit-nek neve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ét modulátor kimeneti jelét összegezve kapjuk a QPSK jelet, amelyben 45°, 135°, 225°, 315°-os fázishelyzetű vivők vannak kapcsolgatva a bitszekvenciáknak megfelelő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2"/>
          <a:stretch/>
        </p:blipFill>
        <p:spPr>
          <a:xfrm>
            <a:off x="4390920" y="0"/>
            <a:ext cx="4753080" cy="1657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"/>
          <p:cNvPicPr/>
          <p:nvPr/>
        </p:nvPicPr>
        <p:blipFill>
          <a:blip r:embed="rId3"/>
          <a:stretch/>
        </p:blipFill>
        <p:spPr>
          <a:xfrm>
            <a:off x="5334120" y="1762200"/>
            <a:ext cx="25905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4AB8-48BA-44AD-99C8-31D3B7E29B2C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9EDA-C920-4005-884A-324F10AFEB6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vadratúra amplitúdó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16 állapotú QAM esetén négy I és négy Q érték van, ami összesen 16 lehetséges állapotot jelent. A jel bármely állapotról bármely állapotra átmehet minden szimbólum-idő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ivel 16=2</a:t>
            </a:r>
            <a:r>
              <a:rPr b="1" lang="hu-HU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, szimbólumonként 4 bit küldhető. Ez 2 bit az I és 2 bit a Q számá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szimbólum jelarány negyede a bitaránynak. Így ez a modulációs forma egy spektrálisan sokkal hatékonyabb sugárzást biztosít, mint az eddigiek. Hatékonyabb, mint a BPSK, QPSK vagy a 8P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gyezzük meg, hogy a QPSK ugyanaz, mint a 4Q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32QAM-ben 6 I és 6 Q értékünk van, ez 36 lehetséges állapot (6×6=3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u-HU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= 32, így a 4 sarok-szimbólumot, melyek a legtöbb teljesítményt veszik fel, kihagyju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5 bit jut egy szimbólumra, a szimbólum jelarány a bitarány egyötö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5181480" y="2268360"/>
            <a:ext cx="39625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C92A-898A-4CB5-B513-C1B92E635655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A806-A31D-430E-AE46-4D904E381A1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rádióátvitel rendszertechnik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824040" y="1925640"/>
            <a:ext cx="7799400" cy="4006440"/>
            <a:chOff x="824040" y="1925640"/>
            <a:chExt cx="7799400" cy="4006440"/>
          </a:xfrm>
        </p:grpSpPr>
        <p:grpSp>
          <p:nvGrpSpPr>
            <p:cNvPr id="55" name="Group 5"/>
            <p:cNvGrpSpPr/>
            <p:nvPr/>
          </p:nvGrpSpPr>
          <p:grpSpPr>
            <a:xfrm>
              <a:off x="824040" y="1925640"/>
              <a:ext cx="5594400" cy="720360"/>
              <a:chOff x="824040" y="1925640"/>
              <a:chExt cx="5594400" cy="7203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824040" y="1925640"/>
                <a:ext cx="900360" cy="720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948320" y="1925640"/>
                <a:ext cx="900000" cy="720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3118320" y="1925640"/>
                <a:ext cx="914400" cy="720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4334040" y="1925640"/>
                <a:ext cx="914400" cy="720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5504040" y="1925640"/>
                <a:ext cx="914400" cy="720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1"/>
              <p:cNvSpPr/>
              <p:nvPr/>
            </p:nvSpPr>
            <p:spPr>
              <a:xfrm>
                <a:off x="912960" y="2151000"/>
                <a:ext cx="80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000" spc="-1" strike="noStrike">
                    <a:solidFill>
                      <a:srgbClr val="000000"/>
                    </a:solidFill>
                    <a:latin typeface="Arial CE"/>
                  </a:rPr>
                  <a:t>Hangforrá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"/>
              <p:cNvSpPr/>
              <p:nvPr/>
            </p:nvSpPr>
            <p:spPr>
              <a:xfrm>
                <a:off x="2038680" y="2106360"/>
                <a:ext cx="720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000" spc="-1" strike="noStrike">
                    <a:solidFill>
                      <a:srgbClr val="000000"/>
                    </a:solidFill>
                    <a:latin typeface="Arial CE"/>
                  </a:rPr>
                  <a:t>Forrás kódol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3"/>
              <p:cNvSpPr/>
              <p:nvPr/>
            </p:nvSpPr>
            <p:spPr>
              <a:xfrm>
                <a:off x="3164040" y="1971360"/>
                <a:ext cx="85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000" spc="-1" strike="noStrike">
                    <a:solidFill>
                      <a:srgbClr val="000000"/>
                    </a:solidFill>
                    <a:latin typeface="Arial CE"/>
                  </a:rPr>
                  <a:t>Csatorna kódoló (modulátor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14"/>
              <p:cNvSpPr/>
              <p:nvPr/>
            </p:nvSpPr>
            <p:spPr>
              <a:xfrm>
                <a:off x="4334040" y="2060280"/>
                <a:ext cx="946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000" spc="-1" strike="noStrike">
                    <a:solidFill>
                      <a:srgbClr val="000000"/>
                    </a:solidFill>
                    <a:latin typeface="Arial CE"/>
                  </a:rPr>
                  <a:t>Teljesítmény erősít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5"/>
              <p:cNvSpPr/>
              <p:nvPr/>
            </p:nvSpPr>
            <p:spPr>
              <a:xfrm>
                <a:off x="5594760" y="2060280"/>
                <a:ext cx="765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000" spc="-1" strike="noStrike">
                    <a:solidFill>
                      <a:srgbClr val="000000"/>
                    </a:solidFill>
                    <a:latin typeface="Arial CE"/>
                  </a:rPr>
                  <a:t>Adó anten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6"/>
              <p:cNvSpPr/>
              <p:nvPr/>
            </p:nvSpPr>
            <p:spPr>
              <a:xfrm>
                <a:off x="1724400" y="22856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7"/>
              <p:cNvSpPr/>
              <p:nvPr/>
            </p:nvSpPr>
            <p:spPr>
              <a:xfrm>
                <a:off x="5234400" y="2285640"/>
                <a:ext cx="26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8"/>
              <p:cNvSpPr/>
              <p:nvPr/>
            </p:nvSpPr>
            <p:spPr>
              <a:xfrm>
                <a:off x="4018320" y="2285640"/>
                <a:ext cx="31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9"/>
              <p:cNvSpPr/>
              <p:nvPr/>
            </p:nvSpPr>
            <p:spPr>
              <a:xfrm>
                <a:off x="2848320" y="2285640"/>
                <a:ext cx="27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20"/>
            <p:cNvSpPr/>
            <p:nvPr/>
          </p:nvSpPr>
          <p:spPr>
            <a:xfrm>
              <a:off x="3029400" y="5211360"/>
              <a:ext cx="900000" cy="7207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4199400" y="5211360"/>
              <a:ext cx="900000" cy="7207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2"/>
            <p:cNvSpPr/>
            <p:nvPr/>
          </p:nvSpPr>
          <p:spPr>
            <a:xfrm>
              <a:off x="5369040" y="5211360"/>
              <a:ext cx="914400" cy="7207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3"/>
            <p:cNvSpPr/>
            <p:nvPr/>
          </p:nvSpPr>
          <p:spPr>
            <a:xfrm>
              <a:off x="6539040" y="5211360"/>
              <a:ext cx="914400" cy="7207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4"/>
            <p:cNvSpPr/>
            <p:nvPr/>
          </p:nvSpPr>
          <p:spPr>
            <a:xfrm>
              <a:off x="7709040" y="5211360"/>
              <a:ext cx="914400" cy="7207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5"/>
            <p:cNvSpPr/>
            <p:nvPr/>
          </p:nvSpPr>
          <p:spPr>
            <a:xfrm>
              <a:off x="3073680" y="5346360"/>
              <a:ext cx="80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Vevő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anten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4153320" y="5275080"/>
              <a:ext cx="90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Csatorna kiválasztó és erősít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5413680" y="5346360"/>
              <a:ext cx="81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Csatorna dekódol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6629760" y="5346360"/>
              <a:ext cx="765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Forrá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dekódol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9"/>
            <p:cNvSpPr/>
            <p:nvPr/>
          </p:nvSpPr>
          <p:spPr>
            <a:xfrm>
              <a:off x="7799760" y="5437080"/>
              <a:ext cx="76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Hallgat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0"/>
            <p:cNvSpPr/>
            <p:nvPr/>
          </p:nvSpPr>
          <p:spPr>
            <a:xfrm>
              <a:off x="3929400" y="5616360"/>
              <a:ext cx="27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1"/>
            <p:cNvSpPr/>
            <p:nvPr/>
          </p:nvSpPr>
          <p:spPr>
            <a:xfrm>
              <a:off x="7439400" y="561636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2"/>
            <p:cNvSpPr/>
            <p:nvPr/>
          </p:nvSpPr>
          <p:spPr>
            <a:xfrm>
              <a:off x="6269400" y="561636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3"/>
            <p:cNvSpPr/>
            <p:nvPr/>
          </p:nvSpPr>
          <p:spPr>
            <a:xfrm>
              <a:off x="5099400" y="5616360"/>
              <a:ext cx="26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2264040" y="2285640"/>
              <a:ext cx="4500720" cy="3330360"/>
            </a:xfrm>
            <a:custGeom>
              <a:avLst/>
              <a:gdLst>
                <a:gd name="textAreaLeft" fmla="*/ 0 w 4500720"/>
                <a:gd name="textAreaRight" fmla="*/ 4501080 w 450072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2835" h="2098">
                  <a:moveTo>
                    <a:pt x="2608" y="0"/>
                  </a:moveTo>
                  <a:lnTo>
                    <a:pt x="2835" y="0"/>
                  </a:lnTo>
                  <a:lnTo>
                    <a:pt x="2835" y="369"/>
                  </a:lnTo>
                  <a:lnTo>
                    <a:pt x="624" y="1219"/>
                  </a:lnTo>
                  <a:lnTo>
                    <a:pt x="1757" y="992"/>
                  </a:lnTo>
                  <a:lnTo>
                    <a:pt x="0" y="1729"/>
                  </a:lnTo>
                  <a:lnTo>
                    <a:pt x="0" y="2098"/>
                  </a:lnTo>
                  <a:lnTo>
                    <a:pt x="482" y="20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5"/>
            <p:cNvSpPr/>
            <p:nvPr/>
          </p:nvSpPr>
          <p:spPr>
            <a:xfrm rot="20570400">
              <a:off x="2735640" y="3050640"/>
              <a:ext cx="3735360" cy="1483920"/>
            </a:xfrm>
            <a:prstGeom prst="irregularSeal2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6"/>
            <p:cNvSpPr/>
            <p:nvPr/>
          </p:nvSpPr>
          <p:spPr>
            <a:xfrm rot="20130000">
              <a:off x="4018680" y="3681000"/>
              <a:ext cx="117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Szabad té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37"/>
          <p:cNvSpPr/>
          <p:nvPr/>
        </p:nvSpPr>
        <p:spPr>
          <a:xfrm>
            <a:off x="4676760" y="1063800"/>
            <a:ext cx="1660680" cy="441000"/>
          </a:xfrm>
          <a:prstGeom prst="wedgeRectCallout">
            <a:avLst>
              <a:gd name="adj1" fmla="val -84416"/>
              <a:gd name="adj2" fmla="val 218347"/>
            </a:avLst>
          </a:prstGeom>
          <a:solidFill>
            <a:srgbClr val="fab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4683240" y="1111320"/>
            <a:ext cx="16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ff0000"/>
                </a:solidFill>
                <a:latin typeface="Arial"/>
              </a:rPr>
              <a:t>MODULÁLT RÁDIÓFREKVENCIÁS J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9"/>
          <p:cNvSpPr/>
          <p:nvPr/>
        </p:nvSpPr>
        <p:spPr>
          <a:xfrm>
            <a:off x="343080" y="3425760"/>
            <a:ext cx="2036520" cy="558720"/>
          </a:xfrm>
          <a:prstGeom prst="wedgeRectCallout">
            <a:avLst>
              <a:gd name="adj1" fmla="val 80240"/>
              <a:gd name="adj2" fmla="val -250282"/>
            </a:avLst>
          </a:prstGeom>
          <a:solidFill>
            <a:srgbClr val="fab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363600" y="3451320"/>
            <a:ext cx="2006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z információt hordozó jel 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ff0000"/>
                </a:solidFill>
                <a:latin typeface="Arial"/>
              </a:rPr>
              <a:t>ALAPSÁVI, ANALÓG ELEKTROMOS J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3984-4F2F-4E8F-B744-AD3738E961B3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5462-6075-490D-8B8A-5151FB46285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QAM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a az amplitúdóhoz is több állapotot rendelünk, egy újabb modulációs eljárást kapun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égy amplitúdó és négy fázishelyzettel már 16 különböző állapotot kapunk és ezt a modulációt nevezzük 16 QAM-n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16 QAM modulátort az ábrán látható QPSK modulátorból alakítjuk k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QPSK modulátor esetében a két modulátor egy-egy digitális szorzó, amelyik a bemenetére kapcsolt jelet +1-el vagy –1-el szorozza m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16 QAM modulátor esetében olyan szorzókra van szükség, amelyik a bemenőjelet a +1, +1/3, -1/3, -1 értékekkel képes megszorozni. Ez a szorzó lehet analóg, lehet digitális, vagy a kettő kombináció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impulzusformáló az érkező bemeneti bitfolyamból meghatározza a konstellációs pontokat kijelölő I és Q értékeket, mind a nagyságokat, mind pedig az előjelek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16 QAM"/>
          <p:cNvPicPr/>
          <p:nvPr/>
        </p:nvPicPr>
        <p:blipFill>
          <a:blip r:embed="rId1"/>
          <a:stretch/>
        </p:blipFill>
        <p:spPr>
          <a:xfrm>
            <a:off x="3981600" y="1944720"/>
            <a:ext cx="50860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FF9F-D27A-4048-B6F3-43B25B551670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79F8-9693-4512-A58C-07E8B2FDCFF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 állapotú kvadratúra amplitúdómoduláció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5943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MQAM modulációknál a jelenlegi gyakorlat felső határa körülbelül a 256Q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256QAM-es rendszer 16 I és 16 Q értékkel működik, ez 256 lehetséges állapotot jelent, mivel 2</a:t>
            </a:r>
            <a:r>
              <a:rPr b="0" lang="hu-HU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256, minden szimbólumjel 8 bitet hordoz, ami spektrálisan nagyon hatékonynak szám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imbólumjelek nagyon közel vannak egymáshoz, így nagyobb az esélye a zaj, vagy torzítás okozta hibák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ávszélesség-hatákonyságot tekintve a 256QAM moduláció ugyanannyi adatmennyiséget mint a BPSK, a sávszélességnek csupán 1/8-án visz 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endszer azonban sokkal érzékenyebb a hibákra, melyeket a zaj és a torzítás ok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agasabbrendű QAM rendszerek bit-hiba aránya sokkal gyorsabban romlik, mint a QPSK-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64QAM"/>
          <p:cNvPicPr/>
          <p:nvPr/>
        </p:nvPicPr>
        <p:blipFill>
          <a:blip r:embed="rId1"/>
          <a:stretch/>
        </p:blipFill>
        <p:spPr>
          <a:xfrm>
            <a:off x="6477120" y="1219320"/>
            <a:ext cx="2479680" cy="2479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256QAM"/>
          <p:cNvPicPr/>
          <p:nvPr/>
        </p:nvPicPr>
        <p:blipFill>
          <a:blip r:embed="rId2"/>
          <a:stretch/>
        </p:blipFill>
        <p:spPr>
          <a:xfrm>
            <a:off x="6494400" y="3733920"/>
            <a:ext cx="24973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CA34-CE6B-4F3F-B464-F77149DABE34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2B7-CB99-4A6E-8593-650EC1E36F2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-QAM moduláci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yakorlatban a 16-nál nagyobb állapotszámú változatokat alkalmaznak, így 32, 64, 128 ill. 256 állapotot tartalmazó modulációk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állapotok számának növekedése azzal a következménnyel jár, hogy az egyes pontokhoz mutató vektorok mozgástere lecsökken, így a magasabb állapotszámú változatokat csak zárt rendszerekben alkalmazzá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ábeltelevíziós hálózatokban általában a 64, 128 és 256QAM modulációkat alkalmazzák. Az ábra összehasonlítást mutat a különböző állapotszámú QAM modulációk között, a bithibaarány BER / Bit Error Ratio / és a jel/zaj viszony függvényé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BER SNR"/>
          <p:cNvPicPr/>
          <p:nvPr/>
        </p:nvPicPr>
        <p:blipFill>
          <a:blip r:embed="rId1"/>
          <a:stretch/>
        </p:blipFill>
        <p:spPr>
          <a:xfrm>
            <a:off x="4824360" y="2286000"/>
            <a:ext cx="43196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DFA-5AD1-4689-BF92-665889BC760B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E8F-77CC-4F02-ACDC-5D210D97C19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ullámterjedési sajátossá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többutas terjedés következtében az átviteli csatorna amplitúdó- és futásidő-karakterisztikája egyenetlenné válik, úgynevezett szelektív fading jön létre. Egyes frekvenciákon a jelben akár 20 – 40 dB-es csillapítások is felléphet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OFDM3"/>
          <p:cNvPicPr/>
          <p:nvPr/>
        </p:nvPicPr>
        <p:blipFill>
          <a:blip r:embed="rId1"/>
          <a:stretch/>
        </p:blipFill>
        <p:spPr>
          <a:xfrm>
            <a:off x="1600200" y="2557440"/>
            <a:ext cx="60008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1AE3-5608-4D2D-B739-7E37CA1895EF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77B-CA4B-4FE2-8D0E-C72C0C7FAB9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imbólumközi áthallás (I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övid idejű, szélessávú impulzusok esetén a reflektált szimbólumok késleltetése azok időtartamánál jóval nagyobb, ezért a sok szomszédos szimbólum kölcsönösen zavarhatja egymást, ahogyan ez az ábrán látható. Ezt szimbólumközi áthallásnak (ISI) neve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 lehetőség az egymást kölcsönösen befolyásoló szimbólumok számának minimalizálására, időtartamuk megnövelése. Ez a megoldás látható az ábrán, ahol bármelyik szimbólumhoz csak az előtte lévő vége adódik hozz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ISI teljesen ilyenkor is csak az un. védőintervallum (guard interval) alkalmazásával küszöbölhető ki, és csakis akkor, ha annak időtartama (Tg) hosszabb, mint a közvetlen, illetve a reflektált terjedéssel érkező szimbólumok közötti legnagyobb futásidő-különbsé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ktuális szimbólum kiértékelése csak a tranziensek lezajlása, azaz a védőintervallum után kezdődik 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5011560" y="1093680"/>
            <a:ext cx="4208760" cy="1725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OFDM7"/>
          <p:cNvPicPr/>
          <p:nvPr/>
        </p:nvPicPr>
        <p:blipFill>
          <a:blip r:embed="rId2"/>
          <a:stretch/>
        </p:blipFill>
        <p:spPr>
          <a:xfrm>
            <a:off x="5181480" y="3311640"/>
            <a:ext cx="37306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B4F-5FD9-4DB7-8AC9-779228CC4C90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DA7-E004-4916-834D-5EDF52B831C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OFDM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 lehetőség az ISI hatásának mérséklésére:  osszuk meg az információt több párhuzamos átviteli út között. Ekkor az egyes szimbólumok hossza megnövelhető, amivel az egymást kölcsönösen befolyásoló szimbólumok hatása minimalizálható. A szimbólumok időtartamának megnövelése azt eredményezi, hogy  bármelyik szimbólumhoz csak az előtte lévő vége adódik hozz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helyzet hasonló ahhoz, mint amikor az árút az útviszonyok miatt kamionnal nem tudjuk eljuttatni a célba, de megosztva több kisteherautó között az mégis eljut a célb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SI teljesen ilyenkor is csak az un. védőintervallum alkalmazásával küszöbölhető ki, és csakis akkor, ha annak időtartama hosszabb, mint a közvetlen, illetve a reflektált terjedéssel érkező szimbólumok közötti legnagyobb futásidő-különbség. Az aktuális szimbólum kiértékelése csak a tranziensek lezajlása, azaz a védőintervallum után kezdődik 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5034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"/>
          <p:cNvPicPr/>
          <p:nvPr/>
        </p:nvPicPr>
        <p:blipFill>
          <a:blip r:embed="rId2"/>
          <a:stretch/>
        </p:blipFill>
        <p:spPr>
          <a:xfrm>
            <a:off x="6438960" y="2514600"/>
            <a:ext cx="2705040" cy="1841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OFDM9"/>
          <p:cNvPicPr/>
          <p:nvPr/>
        </p:nvPicPr>
        <p:blipFill>
          <a:blip r:embed="rId3"/>
          <a:stretch/>
        </p:blipFill>
        <p:spPr>
          <a:xfrm>
            <a:off x="5334120" y="4419720"/>
            <a:ext cx="38098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0A2-14BA-419A-83E3-C85324F8FC6D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E86A-0677-465E-996E-F5537F839F3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OFDM szimbólumok láthatók az időtartományban az áb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pcsolat az aktív szimbólumidő (Tu) és az fs vivőtávolság között: fs=1/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a feltétel biztosítja a vivők ortogonalitását, ami azt jelenti, hogy a vivőket bármilyen kombinációban összeszorozva, és a legnagyobb periódusidőre átlagolva, 0-tól eltérő eredményt csak az azonos frekvenciájú tényezők szorzata 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az elvi alapja annak, hogy még a modulációs oldalsávok átlapolódása esetén is lehetséges a demoduláció, azaz visszanyerhetők az alszimbólum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vel az aktív szimbólumok spektruma sin x/x alakú, ahol x = π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, ezért a spektrum nullhelyei szintén f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1/T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gész számú többszöröseinél vannak, így a vivőkre az átnyúló spektrumrészek nincsenek hatással, ahogyan az az ábrán is látha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2895480" cy="1695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3429000" cy="294156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OFDM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4155-9120-4840-A1F9-FD2FEB2744AF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054A-B5E1-4337-94BD-6727FCD204E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más melletti vivők spektrumai ugyan átlapolják egymást, de a vivők ortogonalitása miatt minden vivő a többitől függetlenül szétválasztható és demodulál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FDM modulált jel a csatornát egyenletesen, zajszerűen terheli, azaz a csatorna spektrálisan kihasznál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OFDM10"/>
          <p:cNvPicPr/>
          <p:nvPr/>
        </p:nvPicPr>
        <p:blipFill>
          <a:blip r:embed="rId1"/>
          <a:stretch/>
        </p:blipFill>
        <p:spPr>
          <a:xfrm>
            <a:off x="914400" y="2895480"/>
            <a:ext cx="7391520" cy="31975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OFDM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1B7-364A-42EB-86D9-5F7BCA415C03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7525-F319-40DD-B167-2F632DB9BBA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OFDM jel az idő- és frekvenciatengel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75"/>
          <p:cNvGrpSpPr/>
          <p:nvPr/>
        </p:nvGrpSpPr>
        <p:grpSpPr>
          <a:xfrm>
            <a:off x="3960" y="1244520"/>
            <a:ext cx="8436600" cy="4955400"/>
            <a:chOff x="3960" y="1244520"/>
            <a:chExt cx="8436600" cy="4955400"/>
          </a:xfrm>
        </p:grpSpPr>
        <p:sp>
          <p:nvSpPr>
            <p:cNvPr id="562" name="Line 4"/>
            <p:cNvSpPr/>
            <p:nvPr/>
          </p:nvSpPr>
          <p:spPr>
            <a:xfrm flipH="1">
              <a:off x="1898640" y="3022560"/>
              <a:ext cx="6541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5"/>
            <p:cNvSpPr/>
            <p:nvPr/>
          </p:nvSpPr>
          <p:spPr>
            <a:xfrm flipH="1">
              <a:off x="491760" y="3022560"/>
              <a:ext cx="140652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6"/>
            <p:cNvSpPr/>
            <p:nvPr/>
          </p:nvSpPr>
          <p:spPr>
            <a:xfrm flipV="1">
              <a:off x="1898640" y="1574640"/>
              <a:ext cx="0" cy="1447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7738200" y="27176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3300"/>
                  </a:solidFill>
                  <a:latin typeface="Arial"/>
                </a:rPr>
                <a:t>Id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254160" y="5892840"/>
              <a:ext cx="124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3300"/>
                  </a:solidFill>
                  <a:latin typeface="Arial"/>
                </a:rPr>
                <a:t>Frekv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9"/>
            <p:cNvGrpSpPr/>
            <p:nvPr/>
          </p:nvGrpSpPr>
          <p:grpSpPr>
            <a:xfrm>
              <a:off x="3960" y="2774520"/>
              <a:ext cx="8406000" cy="2654280"/>
              <a:chOff x="3960" y="2774520"/>
              <a:chExt cx="8406000" cy="2654280"/>
            </a:xfrm>
          </p:grpSpPr>
          <p:sp>
            <p:nvSpPr>
              <p:cNvPr id="568" name="Line 10"/>
              <p:cNvSpPr/>
              <p:nvPr/>
            </p:nvSpPr>
            <p:spPr>
              <a:xfrm flipV="1">
                <a:off x="996480" y="3765240"/>
                <a:ext cx="0" cy="1066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9" name="Group 11"/>
              <p:cNvGrpSpPr/>
              <p:nvPr/>
            </p:nvGrpSpPr>
            <p:grpSpPr>
              <a:xfrm>
                <a:off x="3960" y="2774520"/>
                <a:ext cx="8406000" cy="2654280"/>
                <a:chOff x="3960" y="2774520"/>
                <a:chExt cx="8406000" cy="2654280"/>
              </a:xfrm>
            </p:grpSpPr>
            <p:sp>
              <p:nvSpPr>
                <p:cNvPr id="570" name="Line 12"/>
                <p:cNvSpPr/>
                <p:nvPr/>
              </p:nvSpPr>
              <p:spPr>
                <a:xfrm flipH="1">
                  <a:off x="1559160" y="3612960"/>
                  <a:ext cx="56952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3"/>
                <p:cNvSpPr/>
                <p:nvPr/>
              </p:nvSpPr>
              <p:spPr>
                <a:xfrm flipH="1">
                  <a:off x="1488600" y="3765600"/>
                  <a:ext cx="569520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4"/>
                <p:cNvSpPr/>
                <p:nvPr/>
              </p:nvSpPr>
              <p:spPr>
                <a:xfrm flipH="1">
                  <a:off x="1418400" y="3917880"/>
                  <a:ext cx="569520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5"/>
                <p:cNvSpPr/>
                <p:nvPr/>
              </p:nvSpPr>
              <p:spPr>
                <a:xfrm flipH="1">
                  <a:off x="1348200" y="4070160"/>
                  <a:ext cx="569520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6"/>
                <p:cNvSpPr/>
                <p:nvPr/>
              </p:nvSpPr>
              <p:spPr>
                <a:xfrm flipH="1">
                  <a:off x="1277640" y="4222800"/>
                  <a:ext cx="569520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17"/>
                <p:cNvSpPr/>
                <p:nvPr/>
              </p:nvSpPr>
              <p:spPr>
                <a:xfrm flipH="1">
                  <a:off x="1207440" y="4375080"/>
                  <a:ext cx="569520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8"/>
                <p:cNvSpPr/>
                <p:nvPr/>
              </p:nvSpPr>
              <p:spPr>
                <a:xfrm flipH="1">
                  <a:off x="1137240" y="4527360"/>
                  <a:ext cx="569520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9"/>
                <p:cNvSpPr/>
                <p:nvPr/>
              </p:nvSpPr>
              <p:spPr>
                <a:xfrm flipH="1">
                  <a:off x="1066680" y="4680000"/>
                  <a:ext cx="569520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0"/>
                <p:cNvSpPr/>
                <p:nvPr/>
              </p:nvSpPr>
              <p:spPr>
                <a:xfrm flipH="1">
                  <a:off x="996480" y="4832280"/>
                  <a:ext cx="56952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21"/>
                <p:cNvSpPr/>
                <p:nvPr/>
              </p:nvSpPr>
              <p:spPr>
                <a:xfrm>
                  <a:off x="1559160" y="2774880"/>
                  <a:ext cx="0" cy="8380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2"/>
                <p:cNvSpPr/>
                <p:nvPr/>
              </p:nvSpPr>
              <p:spPr>
                <a:xfrm flipV="1">
                  <a:off x="996480" y="2774520"/>
                  <a:ext cx="562320" cy="1143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3"/>
                <p:cNvSpPr/>
                <p:nvPr/>
              </p:nvSpPr>
              <p:spPr>
                <a:xfrm>
                  <a:off x="3960" y="2959200"/>
                  <a:ext cx="14198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8000"/>
                      </a:solidFill>
                      <a:latin typeface="Arial"/>
                    </a:rPr>
                    <a:t>R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008000"/>
                      </a:solidFill>
                      <a:latin typeface="Arial"/>
                    </a:rPr>
                    <a:t>csator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008000"/>
                      </a:solidFill>
                      <a:latin typeface="Arial"/>
                    </a:rPr>
                    <a:t>sávszélesség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4"/>
                <p:cNvSpPr/>
                <p:nvPr/>
              </p:nvSpPr>
              <p:spPr>
                <a:xfrm flipH="1">
                  <a:off x="120744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5"/>
                <p:cNvSpPr/>
                <p:nvPr/>
              </p:nvSpPr>
              <p:spPr>
                <a:xfrm flipH="1">
                  <a:off x="134820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6"/>
                <p:cNvSpPr/>
                <p:nvPr/>
              </p:nvSpPr>
              <p:spPr>
                <a:xfrm flipH="1">
                  <a:off x="148824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7"/>
                <p:cNvSpPr/>
                <p:nvPr/>
              </p:nvSpPr>
              <p:spPr>
                <a:xfrm flipH="1">
                  <a:off x="162936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8"/>
                <p:cNvSpPr/>
                <p:nvPr/>
              </p:nvSpPr>
              <p:spPr>
                <a:xfrm flipH="1">
                  <a:off x="177012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9"/>
                <p:cNvSpPr/>
                <p:nvPr/>
              </p:nvSpPr>
              <p:spPr>
                <a:xfrm flipH="1">
                  <a:off x="191016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Line 30"/>
                <p:cNvSpPr/>
                <p:nvPr/>
              </p:nvSpPr>
              <p:spPr>
                <a:xfrm flipH="1">
                  <a:off x="205128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31"/>
                <p:cNvSpPr/>
                <p:nvPr/>
              </p:nvSpPr>
              <p:spPr>
                <a:xfrm flipH="1">
                  <a:off x="219168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32"/>
                <p:cNvSpPr/>
                <p:nvPr/>
              </p:nvSpPr>
              <p:spPr>
                <a:xfrm flipH="1">
                  <a:off x="233208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33"/>
                <p:cNvSpPr/>
                <p:nvPr/>
              </p:nvSpPr>
              <p:spPr>
                <a:xfrm flipH="1">
                  <a:off x="247320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Line 34"/>
                <p:cNvSpPr/>
                <p:nvPr/>
              </p:nvSpPr>
              <p:spPr>
                <a:xfrm flipH="1">
                  <a:off x="261360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35"/>
                <p:cNvSpPr/>
                <p:nvPr/>
              </p:nvSpPr>
              <p:spPr>
                <a:xfrm flipH="1">
                  <a:off x="275400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36"/>
                <p:cNvSpPr/>
                <p:nvPr/>
              </p:nvSpPr>
              <p:spPr>
                <a:xfrm flipH="1">
                  <a:off x="289512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37"/>
                <p:cNvSpPr/>
                <p:nvPr/>
              </p:nvSpPr>
              <p:spPr>
                <a:xfrm flipH="1">
                  <a:off x="303552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38"/>
                <p:cNvSpPr/>
                <p:nvPr/>
              </p:nvSpPr>
              <p:spPr>
                <a:xfrm flipH="1">
                  <a:off x="317592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39"/>
                <p:cNvSpPr/>
                <p:nvPr/>
              </p:nvSpPr>
              <p:spPr>
                <a:xfrm flipH="1">
                  <a:off x="3317040" y="3612960"/>
                  <a:ext cx="562320" cy="12193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0"/>
                <p:cNvSpPr/>
                <p:nvPr/>
              </p:nvSpPr>
              <p:spPr>
                <a:xfrm flipH="1">
                  <a:off x="3457440" y="3612960"/>
                  <a:ext cx="562320" cy="12193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"/>
                <p:cNvSpPr/>
                <p:nvPr/>
              </p:nvSpPr>
              <p:spPr>
                <a:xfrm flipH="1">
                  <a:off x="359784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"/>
                <p:cNvSpPr/>
                <p:nvPr/>
              </p:nvSpPr>
              <p:spPr>
                <a:xfrm flipH="1">
                  <a:off x="373896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3"/>
                <p:cNvSpPr/>
                <p:nvPr/>
              </p:nvSpPr>
              <p:spPr>
                <a:xfrm flipH="1">
                  <a:off x="387936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4"/>
                <p:cNvSpPr/>
                <p:nvPr/>
              </p:nvSpPr>
              <p:spPr>
                <a:xfrm flipH="1">
                  <a:off x="401940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5"/>
                <p:cNvSpPr/>
                <p:nvPr/>
              </p:nvSpPr>
              <p:spPr>
                <a:xfrm flipH="1">
                  <a:off x="416088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6"/>
                <p:cNvSpPr/>
                <p:nvPr/>
              </p:nvSpPr>
              <p:spPr>
                <a:xfrm flipH="1">
                  <a:off x="430128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7"/>
                <p:cNvSpPr/>
                <p:nvPr/>
              </p:nvSpPr>
              <p:spPr>
                <a:xfrm flipH="1">
                  <a:off x="444132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8"/>
                <p:cNvSpPr/>
                <p:nvPr/>
              </p:nvSpPr>
              <p:spPr>
                <a:xfrm flipH="1">
                  <a:off x="458280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9"/>
                <p:cNvSpPr/>
                <p:nvPr/>
              </p:nvSpPr>
              <p:spPr>
                <a:xfrm flipH="1">
                  <a:off x="472320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50"/>
                <p:cNvSpPr/>
                <p:nvPr/>
              </p:nvSpPr>
              <p:spPr>
                <a:xfrm flipH="1">
                  <a:off x="486324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51"/>
                <p:cNvSpPr/>
                <p:nvPr/>
              </p:nvSpPr>
              <p:spPr>
                <a:xfrm flipH="1">
                  <a:off x="500472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52"/>
                <p:cNvSpPr/>
                <p:nvPr/>
              </p:nvSpPr>
              <p:spPr>
                <a:xfrm flipH="1">
                  <a:off x="514512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53"/>
                <p:cNvSpPr/>
                <p:nvPr/>
              </p:nvSpPr>
              <p:spPr>
                <a:xfrm flipH="1">
                  <a:off x="528516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54"/>
                <p:cNvSpPr/>
                <p:nvPr/>
              </p:nvSpPr>
              <p:spPr>
                <a:xfrm flipH="1">
                  <a:off x="542664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55"/>
                <p:cNvSpPr/>
                <p:nvPr/>
              </p:nvSpPr>
              <p:spPr>
                <a:xfrm flipH="1">
                  <a:off x="556704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56"/>
                <p:cNvSpPr/>
                <p:nvPr/>
              </p:nvSpPr>
              <p:spPr>
                <a:xfrm flipH="1">
                  <a:off x="570708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57"/>
                <p:cNvSpPr/>
                <p:nvPr/>
              </p:nvSpPr>
              <p:spPr>
                <a:xfrm flipH="1">
                  <a:off x="584820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58"/>
                <p:cNvSpPr/>
                <p:nvPr/>
              </p:nvSpPr>
              <p:spPr>
                <a:xfrm flipH="1">
                  <a:off x="598896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59"/>
                <p:cNvSpPr/>
                <p:nvPr/>
              </p:nvSpPr>
              <p:spPr>
                <a:xfrm flipH="1">
                  <a:off x="612900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60"/>
                <p:cNvSpPr/>
                <p:nvPr/>
              </p:nvSpPr>
              <p:spPr>
                <a:xfrm flipH="1">
                  <a:off x="627012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61"/>
                <p:cNvSpPr/>
                <p:nvPr/>
              </p:nvSpPr>
              <p:spPr>
                <a:xfrm flipH="1">
                  <a:off x="641088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62"/>
                <p:cNvSpPr/>
                <p:nvPr/>
              </p:nvSpPr>
              <p:spPr>
                <a:xfrm flipH="1">
                  <a:off x="6550920" y="3612960"/>
                  <a:ext cx="56268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63"/>
                <p:cNvSpPr/>
                <p:nvPr/>
              </p:nvSpPr>
              <p:spPr>
                <a:xfrm flipH="1">
                  <a:off x="6692040" y="3612960"/>
                  <a:ext cx="562320" cy="12193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64"/>
                <p:cNvSpPr/>
                <p:nvPr/>
              </p:nvSpPr>
              <p:spPr>
                <a:xfrm flipV="1">
                  <a:off x="7043760" y="3917520"/>
                  <a:ext cx="210600" cy="1522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65"/>
                <p:cNvSpPr/>
                <p:nvPr/>
              </p:nvSpPr>
              <p:spPr>
                <a:xfrm>
                  <a:off x="7254720" y="3917880"/>
                  <a:ext cx="92880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66"/>
                <p:cNvSpPr/>
                <p:nvPr/>
              </p:nvSpPr>
              <p:spPr>
                <a:xfrm>
                  <a:off x="6973200" y="4222800"/>
                  <a:ext cx="70200" cy="1522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67"/>
                <p:cNvSpPr/>
                <p:nvPr/>
              </p:nvSpPr>
              <p:spPr>
                <a:xfrm>
                  <a:off x="7043760" y="4375080"/>
                  <a:ext cx="98424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Text Box 68"/>
                <p:cNvSpPr/>
                <p:nvPr/>
              </p:nvSpPr>
              <p:spPr>
                <a:xfrm>
                  <a:off x="7166880" y="3857400"/>
                  <a:ext cx="12430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400" spc="-1" strike="noStrike">
                      <a:solidFill>
                        <a:srgbClr val="008000"/>
                      </a:solidFill>
                      <a:latin typeface="Arial"/>
                    </a:rPr>
                    <a:t>Alvivő frekv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400" spc="-1" strike="noStrike">
                      <a:solidFill>
                        <a:srgbClr val="008000"/>
                      </a:solidFill>
                      <a:latin typeface="Arial"/>
                    </a:rPr>
                    <a:t> </a:t>
                  </a:r>
                  <a:r>
                    <a:rPr b="1" i="1" lang="hu-HU" sz="1400" spc="-1" strike="noStrike">
                      <a:solidFill>
                        <a:srgbClr val="008000"/>
                      </a:solidFill>
                      <a:latin typeface="Arial"/>
                    </a:rPr>
                    <a:t>sávj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69"/>
                <p:cNvSpPr/>
                <p:nvPr/>
              </p:nvSpPr>
              <p:spPr>
                <a:xfrm flipH="1">
                  <a:off x="2894760" y="4832280"/>
                  <a:ext cx="421560" cy="2286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0"/>
                <p:cNvSpPr/>
                <p:nvPr/>
              </p:nvSpPr>
              <p:spPr>
                <a:xfrm>
                  <a:off x="3457440" y="4832280"/>
                  <a:ext cx="281160" cy="2286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71"/>
                <p:cNvSpPr/>
                <p:nvPr/>
              </p:nvSpPr>
              <p:spPr>
                <a:xfrm flipH="1">
                  <a:off x="3597840" y="5060880"/>
                  <a:ext cx="140760" cy="3049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72"/>
                <p:cNvSpPr/>
                <p:nvPr/>
              </p:nvSpPr>
              <p:spPr>
                <a:xfrm flipH="1">
                  <a:off x="2754000" y="5060880"/>
                  <a:ext cx="140760" cy="30492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Text Box 73"/>
                <p:cNvSpPr/>
                <p:nvPr/>
              </p:nvSpPr>
              <p:spPr>
                <a:xfrm>
                  <a:off x="2727720" y="4908600"/>
                  <a:ext cx="10418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400" spc="-1" strike="noStrike">
                      <a:solidFill>
                        <a:srgbClr val="008000"/>
                      </a:solidFill>
                      <a:latin typeface="Arial"/>
                    </a:rPr>
                    <a:t>Idő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400" spc="-1" strike="noStrike">
                      <a:solidFill>
                        <a:srgbClr val="008000"/>
                      </a:solidFill>
                      <a:latin typeface="Arial"/>
                    </a:rPr>
                    <a:t>szegme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Text Box 74"/>
            <p:cNvSpPr/>
            <p:nvPr/>
          </p:nvSpPr>
          <p:spPr>
            <a:xfrm>
              <a:off x="1917720" y="12445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0000"/>
                  </a:solidFill>
                  <a:latin typeface="Arial"/>
                </a:rPr>
                <a:t>Jelsz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06A5-6936-4EBC-96D9-06687B83A9BA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AC5-E540-4A26-9DA6-AE6C87D8159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védőintervallum és a vivők átlapoló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233"/>
          <p:cNvGrpSpPr/>
          <p:nvPr/>
        </p:nvGrpSpPr>
        <p:grpSpPr>
          <a:xfrm>
            <a:off x="0" y="1523880"/>
            <a:ext cx="8440560" cy="4708800"/>
            <a:chOff x="0" y="1523880"/>
            <a:chExt cx="8440560" cy="4708800"/>
          </a:xfrm>
        </p:grpSpPr>
        <p:sp>
          <p:nvSpPr>
            <p:cNvPr id="637" name="Line 4"/>
            <p:cNvSpPr/>
            <p:nvPr/>
          </p:nvSpPr>
          <p:spPr>
            <a:xfrm flipH="1">
              <a:off x="1898640" y="3060720"/>
              <a:ext cx="6541920" cy="1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5"/>
            <p:cNvSpPr/>
            <p:nvPr/>
          </p:nvSpPr>
          <p:spPr>
            <a:xfrm flipH="1">
              <a:off x="491760" y="3060720"/>
              <a:ext cx="140652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"/>
            <p:cNvSpPr/>
            <p:nvPr/>
          </p:nvSpPr>
          <p:spPr>
            <a:xfrm flipV="1">
              <a:off x="1898640" y="1612800"/>
              <a:ext cx="0" cy="1447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7"/>
            <p:cNvSpPr/>
            <p:nvPr/>
          </p:nvSpPr>
          <p:spPr>
            <a:xfrm>
              <a:off x="7849440" y="27432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3300"/>
                  </a:solidFill>
                  <a:latin typeface="Arial"/>
                </a:rPr>
                <a:t>Id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8"/>
            <p:cNvSpPr/>
            <p:nvPr/>
          </p:nvSpPr>
          <p:spPr>
            <a:xfrm>
              <a:off x="0" y="5956200"/>
              <a:ext cx="110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3300"/>
                  </a:solidFill>
                  <a:latin typeface="Arial"/>
                </a:rPr>
                <a:t>Frekve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 flipH="1">
              <a:off x="1476000" y="3898800"/>
              <a:ext cx="66121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"/>
            <p:cNvSpPr/>
            <p:nvPr/>
          </p:nvSpPr>
          <p:spPr>
            <a:xfrm flipH="1">
              <a:off x="914400" y="5194440"/>
              <a:ext cx="66117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1"/>
            <p:cNvSpPr/>
            <p:nvPr/>
          </p:nvSpPr>
          <p:spPr>
            <a:xfrm flipH="1">
              <a:off x="1406160" y="4051440"/>
              <a:ext cx="661212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2"/>
            <p:cNvSpPr/>
            <p:nvPr/>
          </p:nvSpPr>
          <p:spPr>
            <a:xfrm flipH="1">
              <a:off x="1336680" y="4203720"/>
              <a:ext cx="661176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3"/>
            <p:cNvSpPr/>
            <p:nvPr/>
          </p:nvSpPr>
          <p:spPr>
            <a:xfrm flipH="1">
              <a:off x="1266840" y="4356000"/>
              <a:ext cx="6611760" cy="1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4"/>
            <p:cNvSpPr/>
            <p:nvPr/>
          </p:nvSpPr>
          <p:spPr>
            <a:xfrm flipH="1">
              <a:off x="1195560" y="4508640"/>
              <a:ext cx="661176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5"/>
            <p:cNvSpPr/>
            <p:nvPr/>
          </p:nvSpPr>
          <p:spPr>
            <a:xfrm flipH="1">
              <a:off x="1125000" y="4660920"/>
              <a:ext cx="661212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6"/>
            <p:cNvSpPr/>
            <p:nvPr/>
          </p:nvSpPr>
          <p:spPr>
            <a:xfrm flipH="1">
              <a:off x="1055160" y="4813200"/>
              <a:ext cx="6612120" cy="1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7"/>
            <p:cNvSpPr/>
            <p:nvPr/>
          </p:nvSpPr>
          <p:spPr>
            <a:xfrm flipH="1">
              <a:off x="983880" y="4965840"/>
              <a:ext cx="661212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8"/>
            <p:cNvSpPr/>
            <p:nvPr/>
          </p:nvSpPr>
          <p:spPr>
            <a:xfrm flipV="1">
              <a:off x="5256360" y="1562040"/>
              <a:ext cx="0" cy="1447920"/>
            </a:xfrm>
            <a:prstGeom prst="line">
              <a:avLst/>
            </a:prstGeom>
            <a:ln cap="rnd" w="1260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9"/>
            <p:cNvSpPr/>
            <p:nvPr/>
          </p:nvSpPr>
          <p:spPr>
            <a:xfrm flipV="1">
              <a:off x="5479920" y="1999800"/>
              <a:ext cx="1700280" cy="1009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0"/>
            <p:cNvSpPr/>
            <p:nvPr/>
          </p:nvSpPr>
          <p:spPr>
            <a:xfrm flipV="1">
              <a:off x="7167600" y="1562040"/>
              <a:ext cx="0" cy="4572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1"/>
            <p:cNvSpPr/>
            <p:nvPr/>
          </p:nvSpPr>
          <p:spPr>
            <a:xfrm>
              <a:off x="5268960" y="1577880"/>
              <a:ext cx="17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8000"/>
                  </a:solidFill>
                  <a:latin typeface="Arial"/>
                </a:rPr>
                <a:t>Hasznos szimbó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2"/>
            <p:cNvSpPr/>
            <p:nvPr/>
          </p:nvSpPr>
          <p:spPr>
            <a:xfrm>
              <a:off x="3825720" y="1577880"/>
              <a:ext cx="144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8000"/>
                  </a:solidFill>
                  <a:latin typeface="Arial"/>
                </a:rPr>
                <a:t>Védő interval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3"/>
            <p:cNvSpPr/>
            <p:nvPr/>
          </p:nvSpPr>
          <p:spPr>
            <a:xfrm flipV="1">
              <a:off x="3862440" y="1562040"/>
              <a:ext cx="0" cy="4572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4"/>
            <p:cNvSpPr/>
            <p:nvPr/>
          </p:nvSpPr>
          <p:spPr>
            <a:xfrm flipH="1" flipV="1">
              <a:off x="3862440" y="2019240"/>
              <a:ext cx="1195200" cy="9907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5"/>
            <p:cNvSpPr/>
            <p:nvPr/>
          </p:nvSpPr>
          <p:spPr>
            <a:xfrm flipV="1">
              <a:off x="4638600" y="3029040"/>
              <a:ext cx="422280" cy="8380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6"/>
            <p:cNvSpPr/>
            <p:nvPr/>
          </p:nvSpPr>
          <p:spPr>
            <a:xfrm flipV="1">
              <a:off x="5060880" y="3029040"/>
              <a:ext cx="422280" cy="8380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7"/>
            <p:cNvSpPr/>
            <p:nvPr/>
          </p:nvSpPr>
          <p:spPr>
            <a:xfrm flipV="1">
              <a:off x="4836960" y="3029040"/>
              <a:ext cx="422280" cy="838080"/>
            </a:xfrm>
            <a:prstGeom prst="line">
              <a:avLst/>
            </a:prstGeom>
            <a:ln cap="rnd" w="1260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8"/>
            <p:cNvGrpSpPr/>
            <p:nvPr/>
          </p:nvGrpSpPr>
          <p:grpSpPr>
            <a:xfrm>
              <a:off x="3309480" y="5156280"/>
              <a:ext cx="1375560" cy="718560"/>
              <a:chOff x="3309480" y="5156280"/>
              <a:chExt cx="1375560" cy="718560"/>
            </a:xfrm>
          </p:grpSpPr>
          <p:sp>
            <p:nvSpPr>
              <p:cNvPr id="662" name="Line 29"/>
              <p:cNvSpPr/>
              <p:nvPr/>
            </p:nvSpPr>
            <p:spPr>
              <a:xfrm flipH="1">
                <a:off x="3543120" y="5156280"/>
                <a:ext cx="421920" cy="2286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30"/>
              <p:cNvSpPr/>
              <p:nvPr/>
            </p:nvSpPr>
            <p:spPr>
              <a:xfrm>
                <a:off x="4381560" y="5156280"/>
                <a:ext cx="281520" cy="2286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31"/>
              <p:cNvSpPr/>
              <p:nvPr/>
            </p:nvSpPr>
            <p:spPr>
              <a:xfrm flipH="1">
                <a:off x="4521600" y="5384880"/>
                <a:ext cx="140760" cy="304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32"/>
              <p:cNvSpPr/>
              <p:nvPr/>
            </p:nvSpPr>
            <p:spPr>
              <a:xfrm flipH="1">
                <a:off x="3401640" y="5384880"/>
                <a:ext cx="140760" cy="304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Text Box 33"/>
              <p:cNvSpPr/>
              <p:nvPr/>
            </p:nvSpPr>
            <p:spPr>
              <a:xfrm>
                <a:off x="3309480" y="5232240"/>
                <a:ext cx="137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8000"/>
                    </a:solidFill>
                    <a:latin typeface="Arial"/>
                  </a:rPr>
                  <a:t>OFD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800" spc="-1" strike="noStrike">
                    <a:solidFill>
                      <a:srgbClr val="008000"/>
                    </a:solidFill>
                    <a:latin typeface="Arial"/>
                  </a:rPr>
                  <a:t>szimbólu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34"/>
            <p:cNvGrpSpPr/>
            <p:nvPr/>
          </p:nvGrpSpPr>
          <p:grpSpPr>
            <a:xfrm>
              <a:off x="1195560" y="3244680"/>
              <a:ext cx="6752520" cy="1936440"/>
              <a:chOff x="1195560" y="3244680"/>
              <a:chExt cx="6752520" cy="1936440"/>
            </a:xfrm>
          </p:grpSpPr>
          <p:grpSp>
            <p:nvGrpSpPr>
              <p:cNvPr id="668" name="Group 35"/>
              <p:cNvGrpSpPr/>
              <p:nvPr/>
            </p:nvGrpSpPr>
            <p:grpSpPr>
              <a:xfrm>
                <a:off x="1195560" y="3244680"/>
                <a:ext cx="843840" cy="1905120"/>
                <a:chOff x="1195560" y="3244680"/>
                <a:chExt cx="843840" cy="1905120"/>
              </a:xfrm>
            </p:grpSpPr>
            <p:sp>
              <p:nvSpPr>
                <p:cNvPr id="669" name="Line 36"/>
                <p:cNvSpPr/>
                <p:nvPr/>
              </p:nvSpPr>
              <p:spPr>
                <a:xfrm flipH="1">
                  <a:off x="119556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7"/>
                <p:cNvSpPr/>
                <p:nvPr/>
              </p:nvSpPr>
              <p:spPr>
                <a:xfrm flipH="1">
                  <a:off x="140652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Group 38"/>
                <p:cNvGrpSpPr/>
                <p:nvPr/>
              </p:nvGrpSpPr>
              <p:grpSpPr>
                <a:xfrm>
                  <a:off x="1335960" y="3244680"/>
                  <a:ext cx="632520" cy="1812960"/>
                  <a:chOff x="1335960" y="3244680"/>
                  <a:chExt cx="632520" cy="1812960"/>
                </a:xfrm>
              </p:grpSpPr>
              <p:sp>
                <p:nvSpPr>
                  <p:cNvPr id="672" name="AutoShape 39"/>
                  <p:cNvSpPr/>
                  <p:nvPr/>
                </p:nvSpPr>
                <p:spPr>
                  <a:xfrm>
                    <a:off x="1828080" y="32446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AutoShape 40"/>
                  <p:cNvSpPr/>
                  <p:nvPr/>
                </p:nvSpPr>
                <p:spPr>
                  <a:xfrm>
                    <a:off x="1757880" y="33969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AutoShape 41"/>
                  <p:cNvSpPr/>
                  <p:nvPr/>
                </p:nvSpPr>
                <p:spPr>
                  <a:xfrm>
                    <a:off x="1687680" y="35496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AutoShape 42"/>
                  <p:cNvSpPr/>
                  <p:nvPr/>
                </p:nvSpPr>
                <p:spPr>
                  <a:xfrm>
                    <a:off x="1617120" y="37018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AutoShape 43"/>
                  <p:cNvSpPr/>
                  <p:nvPr/>
                </p:nvSpPr>
                <p:spPr>
                  <a:xfrm>
                    <a:off x="1546920" y="38541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AutoShape 44"/>
                  <p:cNvSpPr/>
                  <p:nvPr/>
                </p:nvSpPr>
                <p:spPr>
                  <a:xfrm>
                    <a:off x="1476720" y="40068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AutoShape 45"/>
                  <p:cNvSpPr/>
                  <p:nvPr/>
                </p:nvSpPr>
                <p:spPr>
                  <a:xfrm>
                    <a:off x="1406160" y="41590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AutoShape 46"/>
                  <p:cNvSpPr/>
                  <p:nvPr/>
                </p:nvSpPr>
                <p:spPr>
                  <a:xfrm>
                    <a:off x="1335960" y="43113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0" name="Group 47"/>
              <p:cNvGrpSpPr/>
              <p:nvPr/>
            </p:nvGrpSpPr>
            <p:grpSpPr>
              <a:xfrm>
                <a:off x="1617480" y="3244680"/>
                <a:ext cx="843840" cy="1905120"/>
                <a:chOff x="1617480" y="3244680"/>
                <a:chExt cx="843840" cy="1905120"/>
              </a:xfrm>
            </p:grpSpPr>
            <p:sp>
              <p:nvSpPr>
                <p:cNvPr id="681" name="Line 48"/>
                <p:cNvSpPr/>
                <p:nvPr/>
              </p:nvSpPr>
              <p:spPr>
                <a:xfrm flipH="1">
                  <a:off x="161748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9"/>
                <p:cNvSpPr/>
                <p:nvPr/>
              </p:nvSpPr>
              <p:spPr>
                <a:xfrm flipH="1">
                  <a:off x="182844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" name="Group 50"/>
                <p:cNvGrpSpPr/>
                <p:nvPr/>
              </p:nvGrpSpPr>
              <p:grpSpPr>
                <a:xfrm>
                  <a:off x="1757880" y="3244680"/>
                  <a:ext cx="632520" cy="1812960"/>
                  <a:chOff x="1757880" y="3244680"/>
                  <a:chExt cx="632520" cy="1812960"/>
                </a:xfrm>
              </p:grpSpPr>
              <p:sp>
                <p:nvSpPr>
                  <p:cNvPr id="684" name="AutoShape 51"/>
                  <p:cNvSpPr/>
                  <p:nvPr/>
                </p:nvSpPr>
                <p:spPr>
                  <a:xfrm>
                    <a:off x="2250000" y="32446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AutoShape 52"/>
                  <p:cNvSpPr/>
                  <p:nvPr/>
                </p:nvSpPr>
                <p:spPr>
                  <a:xfrm>
                    <a:off x="2179800" y="33969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AutoShape 53"/>
                  <p:cNvSpPr/>
                  <p:nvPr/>
                </p:nvSpPr>
                <p:spPr>
                  <a:xfrm>
                    <a:off x="2109600" y="35496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AutoShape 54"/>
                  <p:cNvSpPr/>
                  <p:nvPr/>
                </p:nvSpPr>
                <p:spPr>
                  <a:xfrm>
                    <a:off x="2039040" y="37018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AutoShape 55"/>
                  <p:cNvSpPr/>
                  <p:nvPr/>
                </p:nvSpPr>
                <p:spPr>
                  <a:xfrm>
                    <a:off x="1968840" y="38541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AutoShape 56"/>
                  <p:cNvSpPr/>
                  <p:nvPr/>
                </p:nvSpPr>
                <p:spPr>
                  <a:xfrm>
                    <a:off x="1898640" y="40068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AutoShape 57"/>
                  <p:cNvSpPr/>
                  <p:nvPr/>
                </p:nvSpPr>
                <p:spPr>
                  <a:xfrm>
                    <a:off x="1828080" y="41590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AutoShape 58"/>
                  <p:cNvSpPr/>
                  <p:nvPr/>
                </p:nvSpPr>
                <p:spPr>
                  <a:xfrm>
                    <a:off x="1757880" y="43113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2" name="Group 59"/>
              <p:cNvGrpSpPr/>
              <p:nvPr/>
            </p:nvGrpSpPr>
            <p:grpSpPr>
              <a:xfrm>
                <a:off x="2039400" y="3244680"/>
                <a:ext cx="843840" cy="1905120"/>
                <a:chOff x="2039400" y="3244680"/>
                <a:chExt cx="843840" cy="1905120"/>
              </a:xfrm>
            </p:grpSpPr>
            <p:sp>
              <p:nvSpPr>
                <p:cNvPr id="693" name="Line 60"/>
                <p:cNvSpPr/>
                <p:nvPr/>
              </p:nvSpPr>
              <p:spPr>
                <a:xfrm flipH="1">
                  <a:off x="203940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61"/>
                <p:cNvSpPr/>
                <p:nvPr/>
              </p:nvSpPr>
              <p:spPr>
                <a:xfrm flipH="1">
                  <a:off x="225036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2"/>
                <p:cNvGrpSpPr/>
                <p:nvPr/>
              </p:nvGrpSpPr>
              <p:grpSpPr>
                <a:xfrm>
                  <a:off x="2179800" y="3244680"/>
                  <a:ext cx="632520" cy="1812960"/>
                  <a:chOff x="2179800" y="3244680"/>
                  <a:chExt cx="632520" cy="1812960"/>
                </a:xfrm>
              </p:grpSpPr>
              <p:sp>
                <p:nvSpPr>
                  <p:cNvPr id="696" name="AutoShape 63"/>
                  <p:cNvSpPr/>
                  <p:nvPr/>
                </p:nvSpPr>
                <p:spPr>
                  <a:xfrm>
                    <a:off x="2671920" y="32446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AutoShape 64"/>
                  <p:cNvSpPr/>
                  <p:nvPr/>
                </p:nvSpPr>
                <p:spPr>
                  <a:xfrm>
                    <a:off x="2601720" y="33969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AutoShape 65"/>
                  <p:cNvSpPr/>
                  <p:nvPr/>
                </p:nvSpPr>
                <p:spPr>
                  <a:xfrm>
                    <a:off x="2531520" y="35496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AutoShape 66"/>
                  <p:cNvSpPr/>
                  <p:nvPr/>
                </p:nvSpPr>
                <p:spPr>
                  <a:xfrm>
                    <a:off x="2460960" y="37018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AutoShape 67"/>
                  <p:cNvSpPr/>
                  <p:nvPr/>
                </p:nvSpPr>
                <p:spPr>
                  <a:xfrm>
                    <a:off x="2390760" y="38541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AutoShape 68"/>
                  <p:cNvSpPr/>
                  <p:nvPr/>
                </p:nvSpPr>
                <p:spPr>
                  <a:xfrm>
                    <a:off x="2320560" y="40068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AutoShape 69"/>
                  <p:cNvSpPr/>
                  <p:nvPr/>
                </p:nvSpPr>
                <p:spPr>
                  <a:xfrm>
                    <a:off x="2250000" y="41590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AutoShape 70"/>
                  <p:cNvSpPr/>
                  <p:nvPr/>
                </p:nvSpPr>
                <p:spPr>
                  <a:xfrm>
                    <a:off x="2179800" y="43113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" name="Group 71"/>
              <p:cNvGrpSpPr/>
              <p:nvPr/>
            </p:nvGrpSpPr>
            <p:grpSpPr>
              <a:xfrm>
                <a:off x="2461680" y="3244680"/>
                <a:ext cx="843840" cy="1905120"/>
                <a:chOff x="2461680" y="3244680"/>
                <a:chExt cx="843840" cy="1905120"/>
              </a:xfrm>
            </p:grpSpPr>
            <p:sp>
              <p:nvSpPr>
                <p:cNvPr id="705" name="Line 72"/>
                <p:cNvSpPr/>
                <p:nvPr/>
              </p:nvSpPr>
              <p:spPr>
                <a:xfrm flipH="1">
                  <a:off x="246168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73"/>
                <p:cNvSpPr/>
                <p:nvPr/>
              </p:nvSpPr>
              <p:spPr>
                <a:xfrm flipH="1">
                  <a:off x="267264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" name="Group 74"/>
                <p:cNvGrpSpPr/>
                <p:nvPr/>
              </p:nvGrpSpPr>
              <p:grpSpPr>
                <a:xfrm>
                  <a:off x="2602080" y="3244680"/>
                  <a:ext cx="632520" cy="1812960"/>
                  <a:chOff x="2602080" y="3244680"/>
                  <a:chExt cx="632520" cy="1812960"/>
                </a:xfrm>
              </p:grpSpPr>
              <p:sp>
                <p:nvSpPr>
                  <p:cNvPr id="708" name="AutoShape 75"/>
                  <p:cNvSpPr/>
                  <p:nvPr/>
                </p:nvSpPr>
                <p:spPr>
                  <a:xfrm>
                    <a:off x="3094200" y="32446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AutoShape 76"/>
                  <p:cNvSpPr/>
                  <p:nvPr/>
                </p:nvSpPr>
                <p:spPr>
                  <a:xfrm>
                    <a:off x="3024000" y="33969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AutoShape 77"/>
                  <p:cNvSpPr/>
                  <p:nvPr/>
                </p:nvSpPr>
                <p:spPr>
                  <a:xfrm>
                    <a:off x="2953800" y="35496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AutoShape 78"/>
                  <p:cNvSpPr/>
                  <p:nvPr/>
                </p:nvSpPr>
                <p:spPr>
                  <a:xfrm>
                    <a:off x="2883240" y="37018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AutoShape 79"/>
                  <p:cNvSpPr/>
                  <p:nvPr/>
                </p:nvSpPr>
                <p:spPr>
                  <a:xfrm>
                    <a:off x="2813040" y="38541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AutoShape 80"/>
                  <p:cNvSpPr/>
                  <p:nvPr/>
                </p:nvSpPr>
                <p:spPr>
                  <a:xfrm>
                    <a:off x="2742840" y="40068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AutoShape 81"/>
                  <p:cNvSpPr/>
                  <p:nvPr/>
                </p:nvSpPr>
                <p:spPr>
                  <a:xfrm>
                    <a:off x="2672280" y="41590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AutoShape 82"/>
                  <p:cNvSpPr/>
                  <p:nvPr/>
                </p:nvSpPr>
                <p:spPr>
                  <a:xfrm>
                    <a:off x="2602080" y="43113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6" name="Group 83"/>
              <p:cNvGrpSpPr/>
              <p:nvPr/>
            </p:nvGrpSpPr>
            <p:grpSpPr>
              <a:xfrm>
                <a:off x="2883600" y="3244680"/>
                <a:ext cx="843840" cy="1905120"/>
                <a:chOff x="2883600" y="3244680"/>
                <a:chExt cx="843840" cy="1905120"/>
              </a:xfrm>
            </p:grpSpPr>
            <p:sp>
              <p:nvSpPr>
                <p:cNvPr id="717" name="Line 84"/>
                <p:cNvSpPr/>
                <p:nvPr/>
              </p:nvSpPr>
              <p:spPr>
                <a:xfrm flipH="1">
                  <a:off x="288360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85"/>
                <p:cNvSpPr/>
                <p:nvPr/>
              </p:nvSpPr>
              <p:spPr>
                <a:xfrm flipH="1">
                  <a:off x="309456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9" name="Group 86"/>
                <p:cNvGrpSpPr/>
                <p:nvPr/>
              </p:nvGrpSpPr>
              <p:grpSpPr>
                <a:xfrm>
                  <a:off x="3024000" y="3244680"/>
                  <a:ext cx="632520" cy="1812960"/>
                  <a:chOff x="3024000" y="3244680"/>
                  <a:chExt cx="632520" cy="1812960"/>
                </a:xfrm>
              </p:grpSpPr>
              <p:sp>
                <p:nvSpPr>
                  <p:cNvPr id="720" name="AutoShape 87"/>
                  <p:cNvSpPr/>
                  <p:nvPr/>
                </p:nvSpPr>
                <p:spPr>
                  <a:xfrm>
                    <a:off x="3516120" y="32446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88"/>
                  <p:cNvSpPr/>
                  <p:nvPr/>
                </p:nvSpPr>
                <p:spPr>
                  <a:xfrm>
                    <a:off x="3445920" y="33969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89"/>
                  <p:cNvSpPr/>
                  <p:nvPr/>
                </p:nvSpPr>
                <p:spPr>
                  <a:xfrm>
                    <a:off x="3375720" y="35496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AutoShape 90"/>
                  <p:cNvSpPr/>
                  <p:nvPr/>
                </p:nvSpPr>
                <p:spPr>
                  <a:xfrm>
                    <a:off x="3305160" y="37018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AutoShape 91"/>
                  <p:cNvSpPr/>
                  <p:nvPr/>
                </p:nvSpPr>
                <p:spPr>
                  <a:xfrm>
                    <a:off x="3234960" y="38541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92"/>
                  <p:cNvSpPr/>
                  <p:nvPr/>
                </p:nvSpPr>
                <p:spPr>
                  <a:xfrm>
                    <a:off x="3164760" y="40068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93"/>
                  <p:cNvSpPr/>
                  <p:nvPr/>
                </p:nvSpPr>
                <p:spPr>
                  <a:xfrm>
                    <a:off x="3094200" y="41590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94"/>
                  <p:cNvSpPr/>
                  <p:nvPr/>
                </p:nvSpPr>
                <p:spPr>
                  <a:xfrm>
                    <a:off x="3024000" y="43113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8" name="Group 95"/>
              <p:cNvGrpSpPr/>
              <p:nvPr/>
            </p:nvGrpSpPr>
            <p:grpSpPr>
              <a:xfrm>
                <a:off x="3305520" y="3244680"/>
                <a:ext cx="843840" cy="1905120"/>
                <a:chOff x="3305520" y="3244680"/>
                <a:chExt cx="843840" cy="1905120"/>
              </a:xfrm>
            </p:grpSpPr>
            <p:sp>
              <p:nvSpPr>
                <p:cNvPr id="729" name="Line 96"/>
                <p:cNvSpPr/>
                <p:nvPr/>
              </p:nvSpPr>
              <p:spPr>
                <a:xfrm flipH="1">
                  <a:off x="330552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97"/>
                <p:cNvSpPr/>
                <p:nvPr/>
              </p:nvSpPr>
              <p:spPr>
                <a:xfrm flipH="1">
                  <a:off x="351648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1" name="Group 98"/>
                <p:cNvGrpSpPr/>
                <p:nvPr/>
              </p:nvGrpSpPr>
              <p:grpSpPr>
                <a:xfrm>
                  <a:off x="3445920" y="3244680"/>
                  <a:ext cx="632520" cy="1812960"/>
                  <a:chOff x="3445920" y="3244680"/>
                  <a:chExt cx="632520" cy="1812960"/>
                </a:xfrm>
              </p:grpSpPr>
              <p:sp>
                <p:nvSpPr>
                  <p:cNvPr id="732" name="AutoShape 99"/>
                  <p:cNvSpPr/>
                  <p:nvPr/>
                </p:nvSpPr>
                <p:spPr>
                  <a:xfrm>
                    <a:off x="3938040" y="32446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AutoShape 100"/>
                  <p:cNvSpPr/>
                  <p:nvPr/>
                </p:nvSpPr>
                <p:spPr>
                  <a:xfrm>
                    <a:off x="3867840" y="33969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AutoShape 101"/>
                  <p:cNvSpPr/>
                  <p:nvPr/>
                </p:nvSpPr>
                <p:spPr>
                  <a:xfrm>
                    <a:off x="3797640" y="35496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AutoShape 102"/>
                  <p:cNvSpPr/>
                  <p:nvPr/>
                </p:nvSpPr>
                <p:spPr>
                  <a:xfrm>
                    <a:off x="3727080" y="37018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AutoShape 103"/>
                  <p:cNvSpPr/>
                  <p:nvPr/>
                </p:nvSpPr>
                <p:spPr>
                  <a:xfrm>
                    <a:off x="3656880" y="38541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AutoShape 104"/>
                  <p:cNvSpPr/>
                  <p:nvPr/>
                </p:nvSpPr>
                <p:spPr>
                  <a:xfrm>
                    <a:off x="3586680" y="40068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AutoShape 105"/>
                  <p:cNvSpPr/>
                  <p:nvPr/>
                </p:nvSpPr>
                <p:spPr>
                  <a:xfrm>
                    <a:off x="3516120" y="41590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AutoShape 106"/>
                  <p:cNvSpPr/>
                  <p:nvPr/>
                </p:nvSpPr>
                <p:spPr>
                  <a:xfrm>
                    <a:off x="3445920" y="43113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" name="Group 107"/>
              <p:cNvGrpSpPr/>
              <p:nvPr/>
            </p:nvGrpSpPr>
            <p:grpSpPr>
              <a:xfrm>
                <a:off x="3727800" y="3244680"/>
                <a:ext cx="843840" cy="1905120"/>
                <a:chOff x="3727800" y="3244680"/>
                <a:chExt cx="843840" cy="1905120"/>
              </a:xfrm>
            </p:grpSpPr>
            <p:sp>
              <p:nvSpPr>
                <p:cNvPr id="741" name="Line 108"/>
                <p:cNvSpPr/>
                <p:nvPr/>
              </p:nvSpPr>
              <p:spPr>
                <a:xfrm flipH="1">
                  <a:off x="372780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09"/>
                <p:cNvSpPr/>
                <p:nvPr/>
              </p:nvSpPr>
              <p:spPr>
                <a:xfrm flipH="1">
                  <a:off x="3938760" y="3854160"/>
                  <a:ext cx="632880" cy="129564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Group 110"/>
                <p:cNvGrpSpPr/>
                <p:nvPr/>
              </p:nvGrpSpPr>
              <p:grpSpPr>
                <a:xfrm>
                  <a:off x="3868200" y="3244680"/>
                  <a:ext cx="632520" cy="1812960"/>
                  <a:chOff x="3868200" y="3244680"/>
                  <a:chExt cx="632520" cy="1812960"/>
                </a:xfrm>
              </p:grpSpPr>
              <p:sp>
                <p:nvSpPr>
                  <p:cNvPr id="744" name="AutoShape 111"/>
                  <p:cNvSpPr/>
                  <p:nvPr/>
                </p:nvSpPr>
                <p:spPr>
                  <a:xfrm>
                    <a:off x="4360320" y="32446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AutoShape 112"/>
                  <p:cNvSpPr/>
                  <p:nvPr/>
                </p:nvSpPr>
                <p:spPr>
                  <a:xfrm>
                    <a:off x="4290120" y="33969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13"/>
                  <p:cNvSpPr/>
                  <p:nvPr/>
                </p:nvSpPr>
                <p:spPr>
                  <a:xfrm>
                    <a:off x="4219920" y="35496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14"/>
                  <p:cNvSpPr/>
                  <p:nvPr/>
                </p:nvSpPr>
                <p:spPr>
                  <a:xfrm>
                    <a:off x="4149360" y="37018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15"/>
                  <p:cNvSpPr/>
                  <p:nvPr/>
                </p:nvSpPr>
                <p:spPr>
                  <a:xfrm>
                    <a:off x="4079160" y="38541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AutoShape 116"/>
                  <p:cNvSpPr/>
                  <p:nvPr/>
                </p:nvSpPr>
                <p:spPr>
                  <a:xfrm>
                    <a:off x="4008960" y="400680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AutoShape 117"/>
                  <p:cNvSpPr/>
                  <p:nvPr/>
                </p:nvSpPr>
                <p:spPr>
                  <a:xfrm>
                    <a:off x="3938400" y="4159080"/>
                    <a:ext cx="14040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18"/>
                  <p:cNvSpPr/>
                  <p:nvPr/>
                </p:nvSpPr>
                <p:spPr>
                  <a:xfrm>
                    <a:off x="3868200" y="4311360"/>
                    <a:ext cx="140760" cy="746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Group 119"/>
              <p:cNvGrpSpPr/>
              <p:nvPr/>
            </p:nvGrpSpPr>
            <p:grpSpPr>
              <a:xfrm>
                <a:off x="4149720" y="3276720"/>
                <a:ext cx="843840" cy="1904400"/>
                <a:chOff x="4149720" y="3276720"/>
                <a:chExt cx="843840" cy="1904400"/>
              </a:xfrm>
            </p:grpSpPr>
            <p:sp>
              <p:nvSpPr>
                <p:cNvPr id="753" name="Line 120"/>
                <p:cNvSpPr/>
                <p:nvPr/>
              </p:nvSpPr>
              <p:spPr>
                <a:xfrm flipH="1">
                  <a:off x="414972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21"/>
                <p:cNvSpPr/>
                <p:nvPr/>
              </p:nvSpPr>
              <p:spPr>
                <a:xfrm flipH="1">
                  <a:off x="436068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Group 122"/>
                <p:cNvGrpSpPr/>
                <p:nvPr/>
              </p:nvGrpSpPr>
              <p:grpSpPr>
                <a:xfrm>
                  <a:off x="4290120" y="3276720"/>
                  <a:ext cx="632520" cy="1812240"/>
                  <a:chOff x="4290120" y="3276720"/>
                  <a:chExt cx="632520" cy="1812240"/>
                </a:xfrm>
              </p:grpSpPr>
              <p:sp>
                <p:nvSpPr>
                  <p:cNvPr id="756" name="AutoShape 123"/>
                  <p:cNvSpPr/>
                  <p:nvPr/>
                </p:nvSpPr>
                <p:spPr>
                  <a:xfrm>
                    <a:off x="478224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AutoShape 124"/>
                  <p:cNvSpPr/>
                  <p:nvPr/>
                </p:nvSpPr>
                <p:spPr>
                  <a:xfrm>
                    <a:off x="471204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AutoShape 125"/>
                  <p:cNvSpPr/>
                  <p:nvPr/>
                </p:nvSpPr>
                <p:spPr>
                  <a:xfrm>
                    <a:off x="464184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AutoShape 126"/>
                  <p:cNvSpPr/>
                  <p:nvPr/>
                </p:nvSpPr>
                <p:spPr>
                  <a:xfrm>
                    <a:off x="457128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AutoShape 127"/>
                  <p:cNvSpPr/>
                  <p:nvPr/>
                </p:nvSpPr>
                <p:spPr>
                  <a:xfrm>
                    <a:off x="450108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AutoShape 128"/>
                  <p:cNvSpPr/>
                  <p:nvPr/>
                </p:nvSpPr>
                <p:spPr>
                  <a:xfrm>
                    <a:off x="443088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AutoShape 129"/>
                  <p:cNvSpPr/>
                  <p:nvPr/>
                </p:nvSpPr>
                <p:spPr>
                  <a:xfrm>
                    <a:off x="436032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AutoShape 130"/>
                  <p:cNvSpPr/>
                  <p:nvPr/>
                </p:nvSpPr>
                <p:spPr>
                  <a:xfrm>
                    <a:off x="429012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4" name="Group 131"/>
              <p:cNvGrpSpPr/>
              <p:nvPr/>
            </p:nvGrpSpPr>
            <p:grpSpPr>
              <a:xfrm>
                <a:off x="4572000" y="3276720"/>
                <a:ext cx="843840" cy="1904400"/>
                <a:chOff x="4572000" y="3276720"/>
                <a:chExt cx="843840" cy="1904400"/>
              </a:xfrm>
            </p:grpSpPr>
            <p:sp>
              <p:nvSpPr>
                <p:cNvPr id="765" name="Line 132"/>
                <p:cNvSpPr/>
                <p:nvPr/>
              </p:nvSpPr>
              <p:spPr>
                <a:xfrm flipH="1">
                  <a:off x="457200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3"/>
                <p:cNvSpPr/>
                <p:nvPr/>
              </p:nvSpPr>
              <p:spPr>
                <a:xfrm flipH="1">
                  <a:off x="478296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7" name="Group 134"/>
                <p:cNvGrpSpPr/>
                <p:nvPr/>
              </p:nvGrpSpPr>
              <p:grpSpPr>
                <a:xfrm>
                  <a:off x="4712400" y="3276720"/>
                  <a:ext cx="632520" cy="1812240"/>
                  <a:chOff x="4712400" y="3276720"/>
                  <a:chExt cx="632520" cy="1812240"/>
                </a:xfrm>
              </p:grpSpPr>
              <p:sp>
                <p:nvSpPr>
                  <p:cNvPr id="768" name="AutoShape 135"/>
                  <p:cNvSpPr/>
                  <p:nvPr/>
                </p:nvSpPr>
                <p:spPr>
                  <a:xfrm>
                    <a:off x="520452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AutoShape 136"/>
                  <p:cNvSpPr/>
                  <p:nvPr/>
                </p:nvSpPr>
                <p:spPr>
                  <a:xfrm>
                    <a:off x="513432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AutoShape 137"/>
                  <p:cNvSpPr/>
                  <p:nvPr/>
                </p:nvSpPr>
                <p:spPr>
                  <a:xfrm>
                    <a:off x="506412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AutoShape 138"/>
                  <p:cNvSpPr/>
                  <p:nvPr/>
                </p:nvSpPr>
                <p:spPr>
                  <a:xfrm>
                    <a:off x="499356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39"/>
                  <p:cNvSpPr/>
                  <p:nvPr/>
                </p:nvSpPr>
                <p:spPr>
                  <a:xfrm>
                    <a:off x="492336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40"/>
                  <p:cNvSpPr/>
                  <p:nvPr/>
                </p:nvSpPr>
                <p:spPr>
                  <a:xfrm>
                    <a:off x="485316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41"/>
                  <p:cNvSpPr/>
                  <p:nvPr/>
                </p:nvSpPr>
                <p:spPr>
                  <a:xfrm>
                    <a:off x="478260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AutoShape 142"/>
                  <p:cNvSpPr/>
                  <p:nvPr/>
                </p:nvSpPr>
                <p:spPr>
                  <a:xfrm>
                    <a:off x="471240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6" name="Group 143"/>
              <p:cNvGrpSpPr/>
              <p:nvPr/>
            </p:nvGrpSpPr>
            <p:grpSpPr>
              <a:xfrm>
                <a:off x="4993920" y="3276720"/>
                <a:ext cx="843840" cy="1904400"/>
                <a:chOff x="4993920" y="3276720"/>
                <a:chExt cx="843840" cy="1904400"/>
              </a:xfrm>
            </p:grpSpPr>
            <p:sp>
              <p:nvSpPr>
                <p:cNvPr id="777" name="Line 144"/>
                <p:cNvSpPr/>
                <p:nvPr/>
              </p:nvSpPr>
              <p:spPr>
                <a:xfrm flipH="1">
                  <a:off x="499392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45"/>
                <p:cNvSpPr/>
                <p:nvPr/>
              </p:nvSpPr>
              <p:spPr>
                <a:xfrm flipH="1">
                  <a:off x="520488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9" name="Group 146"/>
                <p:cNvGrpSpPr/>
                <p:nvPr/>
              </p:nvGrpSpPr>
              <p:grpSpPr>
                <a:xfrm>
                  <a:off x="5134320" y="3276720"/>
                  <a:ext cx="632520" cy="1812240"/>
                  <a:chOff x="5134320" y="3276720"/>
                  <a:chExt cx="632520" cy="1812240"/>
                </a:xfrm>
              </p:grpSpPr>
              <p:sp>
                <p:nvSpPr>
                  <p:cNvPr id="780" name="AutoShape 147"/>
                  <p:cNvSpPr/>
                  <p:nvPr/>
                </p:nvSpPr>
                <p:spPr>
                  <a:xfrm>
                    <a:off x="562644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AutoShape 148"/>
                  <p:cNvSpPr/>
                  <p:nvPr/>
                </p:nvSpPr>
                <p:spPr>
                  <a:xfrm>
                    <a:off x="555624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AutoShape 149"/>
                  <p:cNvSpPr/>
                  <p:nvPr/>
                </p:nvSpPr>
                <p:spPr>
                  <a:xfrm>
                    <a:off x="548604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AutoShape 150"/>
                  <p:cNvSpPr/>
                  <p:nvPr/>
                </p:nvSpPr>
                <p:spPr>
                  <a:xfrm>
                    <a:off x="541548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AutoShape 151"/>
                  <p:cNvSpPr/>
                  <p:nvPr/>
                </p:nvSpPr>
                <p:spPr>
                  <a:xfrm>
                    <a:off x="534528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AutoShape 152"/>
                  <p:cNvSpPr/>
                  <p:nvPr/>
                </p:nvSpPr>
                <p:spPr>
                  <a:xfrm>
                    <a:off x="527508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AutoShape 153"/>
                  <p:cNvSpPr/>
                  <p:nvPr/>
                </p:nvSpPr>
                <p:spPr>
                  <a:xfrm>
                    <a:off x="520452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AutoShape 154"/>
                  <p:cNvSpPr/>
                  <p:nvPr/>
                </p:nvSpPr>
                <p:spPr>
                  <a:xfrm>
                    <a:off x="513432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8" name="Group 155"/>
              <p:cNvGrpSpPr/>
              <p:nvPr/>
            </p:nvGrpSpPr>
            <p:grpSpPr>
              <a:xfrm>
                <a:off x="5415840" y="3276720"/>
                <a:ext cx="843840" cy="1904400"/>
                <a:chOff x="5415840" y="3276720"/>
                <a:chExt cx="843840" cy="1904400"/>
              </a:xfrm>
            </p:grpSpPr>
            <p:sp>
              <p:nvSpPr>
                <p:cNvPr id="789" name="Line 156"/>
                <p:cNvSpPr/>
                <p:nvPr/>
              </p:nvSpPr>
              <p:spPr>
                <a:xfrm flipH="1">
                  <a:off x="541584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57"/>
                <p:cNvSpPr/>
                <p:nvPr/>
              </p:nvSpPr>
              <p:spPr>
                <a:xfrm flipH="1">
                  <a:off x="562680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1" name="Group 158"/>
                <p:cNvGrpSpPr/>
                <p:nvPr/>
              </p:nvGrpSpPr>
              <p:grpSpPr>
                <a:xfrm>
                  <a:off x="5556240" y="3276720"/>
                  <a:ext cx="632520" cy="1812240"/>
                  <a:chOff x="5556240" y="3276720"/>
                  <a:chExt cx="632520" cy="1812240"/>
                </a:xfrm>
              </p:grpSpPr>
              <p:sp>
                <p:nvSpPr>
                  <p:cNvPr id="792" name="AutoShape 159"/>
                  <p:cNvSpPr/>
                  <p:nvPr/>
                </p:nvSpPr>
                <p:spPr>
                  <a:xfrm>
                    <a:off x="604836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AutoShape 160"/>
                  <p:cNvSpPr/>
                  <p:nvPr/>
                </p:nvSpPr>
                <p:spPr>
                  <a:xfrm>
                    <a:off x="597816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AutoShape 161"/>
                  <p:cNvSpPr/>
                  <p:nvPr/>
                </p:nvSpPr>
                <p:spPr>
                  <a:xfrm>
                    <a:off x="590796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AutoShape 162"/>
                  <p:cNvSpPr/>
                  <p:nvPr/>
                </p:nvSpPr>
                <p:spPr>
                  <a:xfrm>
                    <a:off x="583740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AutoShape 163"/>
                  <p:cNvSpPr/>
                  <p:nvPr/>
                </p:nvSpPr>
                <p:spPr>
                  <a:xfrm>
                    <a:off x="576720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AutoShape 164"/>
                  <p:cNvSpPr/>
                  <p:nvPr/>
                </p:nvSpPr>
                <p:spPr>
                  <a:xfrm>
                    <a:off x="569700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AutoShape 165"/>
                  <p:cNvSpPr/>
                  <p:nvPr/>
                </p:nvSpPr>
                <p:spPr>
                  <a:xfrm>
                    <a:off x="562644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AutoShape 166"/>
                  <p:cNvSpPr/>
                  <p:nvPr/>
                </p:nvSpPr>
                <p:spPr>
                  <a:xfrm>
                    <a:off x="555624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0" name="Group 167"/>
              <p:cNvGrpSpPr/>
              <p:nvPr/>
            </p:nvGrpSpPr>
            <p:grpSpPr>
              <a:xfrm>
                <a:off x="5838120" y="3276720"/>
                <a:ext cx="843840" cy="1904400"/>
                <a:chOff x="5838120" y="3276720"/>
                <a:chExt cx="843840" cy="1904400"/>
              </a:xfrm>
            </p:grpSpPr>
            <p:sp>
              <p:nvSpPr>
                <p:cNvPr id="801" name="Line 168"/>
                <p:cNvSpPr/>
                <p:nvPr/>
              </p:nvSpPr>
              <p:spPr>
                <a:xfrm flipH="1">
                  <a:off x="583812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69"/>
                <p:cNvSpPr/>
                <p:nvPr/>
              </p:nvSpPr>
              <p:spPr>
                <a:xfrm flipH="1">
                  <a:off x="604908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3" name="Group 170"/>
                <p:cNvGrpSpPr/>
                <p:nvPr/>
              </p:nvGrpSpPr>
              <p:grpSpPr>
                <a:xfrm>
                  <a:off x="5978520" y="3276720"/>
                  <a:ext cx="632520" cy="1812240"/>
                  <a:chOff x="5978520" y="3276720"/>
                  <a:chExt cx="632520" cy="1812240"/>
                </a:xfrm>
              </p:grpSpPr>
              <p:sp>
                <p:nvSpPr>
                  <p:cNvPr id="804" name="AutoShape 171"/>
                  <p:cNvSpPr/>
                  <p:nvPr/>
                </p:nvSpPr>
                <p:spPr>
                  <a:xfrm>
                    <a:off x="647064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AutoShape 172"/>
                  <p:cNvSpPr/>
                  <p:nvPr/>
                </p:nvSpPr>
                <p:spPr>
                  <a:xfrm>
                    <a:off x="640044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AutoShape 173"/>
                  <p:cNvSpPr/>
                  <p:nvPr/>
                </p:nvSpPr>
                <p:spPr>
                  <a:xfrm>
                    <a:off x="633024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74"/>
                  <p:cNvSpPr/>
                  <p:nvPr/>
                </p:nvSpPr>
                <p:spPr>
                  <a:xfrm>
                    <a:off x="625968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75"/>
                  <p:cNvSpPr/>
                  <p:nvPr/>
                </p:nvSpPr>
                <p:spPr>
                  <a:xfrm>
                    <a:off x="618948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76"/>
                  <p:cNvSpPr/>
                  <p:nvPr/>
                </p:nvSpPr>
                <p:spPr>
                  <a:xfrm>
                    <a:off x="611928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AutoShape 177"/>
                  <p:cNvSpPr/>
                  <p:nvPr/>
                </p:nvSpPr>
                <p:spPr>
                  <a:xfrm>
                    <a:off x="604872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AutoShape 178"/>
                  <p:cNvSpPr/>
                  <p:nvPr/>
                </p:nvSpPr>
                <p:spPr>
                  <a:xfrm>
                    <a:off x="597852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2" name="Group 179"/>
              <p:cNvGrpSpPr/>
              <p:nvPr/>
            </p:nvGrpSpPr>
            <p:grpSpPr>
              <a:xfrm>
                <a:off x="6260040" y="3276720"/>
                <a:ext cx="843840" cy="1904400"/>
                <a:chOff x="6260040" y="3276720"/>
                <a:chExt cx="843840" cy="1904400"/>
              </a:xfrm>
            </p:grpSpPr>
            <p:sp>
              <p:nvSpPr>
                <p:cNvPr id="813" name="Line 180"/>
                <p:cNvSpPr/>
                <p:nvPr/>
              </p:nvSpPr>
              <p:spPr>
                <a:xfrm flipH="1">
                  <a:off x="626004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81"/>
                <p:cNvSpPr/>
                <p:nvPr/>
              </p:nvSpPr>
              <p:spPr>
                <a:xfrm flipH="1">
                  <a:off x="647100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5" name="Group 182"/>
                <p:cNvGrpSpPr/>
                <p:nvPr/>
              </p:nvGrpSpPr>
              <p:grpSpPr>
                <a:xfrm>
                  <a:off x="6400440" y="3276720"/>
                  <a:ext cx="632520" cy="1812240"/>
                  <a:chOff x="6400440" y="3276720"/>
                  <a:chExt cx="632520" cy="1812240"/>
                </a:xfrm>
              </p:grpSpPr>
              <p:sp>
                <p:nvSpPr>
                  <p:cNvPr id="816" name="AutoShape 183"/>
                  <p:cNvSpPr/>
                  <p:nvPr/>
                </p:nvSpPr>
                <p:spPr>
                  <a:xfrm>
                    <a:off x="689256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AutoShape 184"/>
                  <p:cNvSpPr/>
                  <p:nvPr/>
                </p:nvSpPr>
                <p:spPr>
                  <a:xfrm>
                    <a:off x="682236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AutoShape 185"/>
                  <p:cNvSpPr/>
                  <p:nvPr/>
                </p:nvSpPr>
                <p:spPr>
                  <a:xfrm>
                    <a:off x="675216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AutoShape 186"/>
                  <p:cNvSpPr/>
                  <p:nvPr/>
                </p:nvSpPr>
                <p:spPr>
                  <a:xfrm>
                    <a:off x="668160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AutoShape 187"/>
                  <p:cNvSpPr/>
                  <p:nvPr/>
                </p:nvSpPr>
                <p:spPr>
                  <a:xfrm>
                    <a:off x="661140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AutoShape 188"/>
                  <p:cNvSpPr/>
                  <p:nvPr/>
                </p:nvSpPr>
                <p:spPr>
                  <a:xfrm>
                    <a:off x="654120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AutoShape 189"/>
                  <p:cNvSpPr/>
                  <p:nvPr/>
                </p:nvSpPr>
                <p:spPr>
                  <a:xfrm>
                    <a:off x="647064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AutoShape 190"/>
                  <p:cNvSpPr/>
                  <p:nvPr/>
                </p:nvSpPr>
                <p:spPr>
                  <a:xfrm>
                    <a:off x="640044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4" name="Group 191"/>
              <p:cNvGrpSpPr/>
              <p:nvPr/>
            </p:nvGrpSpPr>
            <p:grpSpPr>
              <a:xfrm>
                <a:off x="6681960" y="3276720"/>
                <a:ext cx="843840" cy="1904400"/>
                <a:chOff x="6681960" y="3276720"/>
                <a:chExt cx="843840" cy="1904400"/>
              </a:xfrm>
            </p:grpSpPr>
            <p:sp>
              <p:nvSpPr>
                <p:cNvPr id="825" name="Line 192"/>
                <p:cNvSpPr/>
                <p:nvPr/>
              </p:nvSpPr>
              <p:spPr>
                <a:xfrm flipH="1">
                  <a:off x="668196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93"/>
                <p:cNvSpPr/>
                <p:nvPr/>
              </p:nvSpPr>
              <p:spPr>
                <a:xfrm flipH="1">
                  <a:off x="689292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7" name="Group 194"/>
                <p:cNvGrpSpPr/>
                <p:nvPr/>
              </p:nvGrpSpPr>
              <p:grpSpPr>
                <a:xfrm>
                  <a:off x="6822360" y="3276720"/>
                  <a:ext cx="632520" cy="1812240"/>
                  <a:chOff x="6822360" y="3276720"/>
                  <a:chExt cx="632520" cy="1812240"/>
                </a:xfrm>
              </p:grpSpPr>
              <p:sp>
                <p:nvSpPr>
                  <p:cNvPr id="828" name="AutoShape 195"/>
                  <p:cNvSpPr/>
                  <p:nvPr/>
                </p:nvSpPr>
                <p:spPr>
                  <a:xfrm>
                    <a:off x="731448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AutoShape 196"/>
                  <p:cNvSpPr/>
                  <p:nvPr/>
                </p:nvSpPr>
                <p:spPr>
                  <a:xfrm>
                    <a:off x="724428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97"/>
                  <p:cNvSpPr/>
                  <p:nvPr/>
                </p:nvSpPr>
                <p:spPr>
                  <a:xfrm>
                    <a:off x="717408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98"/>
                  <p:cNvSpPr/>
                  <p:nvPr/>
                </p:nvSpPr>
                <p:spPr>
                  <a:xfrm>
                    <a:off x="710352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99"/>
                  <p:cNvSpPr/>
                  <p:nvPr/>
                </p:nvSpPr>
                <p:spPr>
                  <a:xfrm>
                    <a:off x="703332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AutoShape 200"/>
                  <p:cNvSpPr/>
                  <p:nvPr/>
                </p:nvSpPr>
                <p:spPr>
                  <a:xfrm>
                    <a:off x="696312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AutoShape 201"/>
                  <p:cNvSpPr/>
                  <p:nvPr/>
                </p:nvSpPr>
                <p:spPr>
                  <a:xfrm>
                    <a:off x="689256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202"/>
                  <p:cNvSpPr/>
                  <p:nvPr/>
                </p:nvSpPr>
                <p:spPr>
                  <a:xfrm>
                    <a:off x="682236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6" name="Group 203"/>
              <p:cNvGrpSpPr/>
              <p:nvPr/>
            </p:nvGrpSpPr>
            <p:grpSpPr>
              <a:xfrm>
                <a:off x="7104240" y="3276720"/>
                <a:ext cx="843840" cy="1904400"/>
                <a:chOff x="7104240" y="3276720"/>
                <a:chExt cx="843840" cy="1904400"/>
              </a:xfrm>
            </p:grpSpPr>
            <p:sp>
              <p:nvSpPr>
                <p:cNvPr id="837" name="Line 204"/>
                <p:cNvSpPr/>
                <p:nvPr/>
              </p:nvSpPr>
              <p:spPr>
                <a:xfrm flipH="1">
                  <a:off x="710424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205"/>
                <p:cNvSpPr/>
                <p:nvPr/>
              </p:nvSpPr>
              <p:spPr>
                <a:xfrm flipH="1">
                  <a:off x="7315200" y="3885840"/>
                  <a:ext cx="632880" cy="1295280"/>
                </a:xfrm>
                <a:prstGeom prst="line">
                  <a:avLst/>
                </a:prstGeom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Group 206"/>
                <p:cNvGrpSpPr/>
                <p:nvPr/>
              </p:nvGrpSpPr>
              <p:grpSpPr>
                <a:xfrm>
                  <a:off x="7244640" y="3276720"/>
                  <a:ext cx="632520" cy="1812240"/>
                  <a:chOff x="7244640" y="3276720"/>
                  <a:chExt cx="632520" cy="1812240"/>
                </a:xfrm>
              </p:grpSpPr>
              <p:sp>
                <p:nvSpPr>
                  <p:cNvPr id="840" name="AutoShape 207"/>
                  <p:cNvSpPr/>
                  <p:nvPr/>
                </p:nvSpPr>
                <p:spPr>
                  <a:xfrm>
                    <a:off x="7736760" y="327672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AutoShape 208"/>
                  <p:cNvSpPr/>
                  <p:nvPr/>
                </p:nvSpPr>
                <p:spPr>
                  <a:xfrm>
                    <a:off x="7666560" y="34286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AutoShape 209"/>
                  <p:cNvSpPr/>
                  <p:nvPr/>
                </p:nvSpPr>
                <p:spPr>
                  <a:xfrm>
                    <a:off x="7596360" y="35812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AutoShape 210"/>
                  <p:cNvSpPr/>
                  <p:nvPr/>
                </p:nvSpPr>
                <p:spPr>
                  <a:xfrm>
                    <a:off x="7525800" y="37335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AutoShape 211"/>
                  <p:cNvSpPr/>
                  <p:nvPr/>
                </p:nvSpPr>
                <p:spPr>
                  <a:xfrm>
                    <a:off x="7455600" y="38858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AutoShape 212"/>
                  <p:cNvSpPr/>
                  <p:nvPr/>
                </p:nvSpPr>
                <p:spPr>
                  <a:xfrm>
                    <a:off x="7385400" y="4038480"/>
                    <a:ext cx="140400" cy="745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AutoShape 213"/>
                  <p:cNvSpPr/>
                  <p:nvPr/>
                </p:nvSpPr>
                <p:spPr>
                  <a:xfrm>
                    <a:off x="7314840" y="4190760"/>
                    <a:ext cx="14040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AutoShape 214"/>
                  <p:cNvSpPr/>
                  <p:nvPr/>
                </p:nvSpPr>
                <p:spPr>
                  <a:xfrm>
                    <a:off x="7244640" y="4343040"/>
                    <a:ext cx="140760" cy="7459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66"/>
                  </a:solidFill>
                  <a:ln w="1260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48" name="Text Box 215"/>
            <p:cNvSpPr/>
            <p:nvPr/>
          </p:nvSpPr>
          <p:spPr>
            <a:xfrm>
              <a:off x="4762440" y="2184480"/>
              <a:ext cx="12384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8000"/>
                  </a:solidFill>
                  <a:latin typeface="Arial"/>
                </a:rPr>
                <a:t>időtart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216"/>
            <p:cNvSpPr/>
            <p:nvPr/>
          </p:nvSpPr>
          <p:spPr>
            <a:xfrm>
              <a:off x="990720" y="1523880"/>
              <a:ext cx="9777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0000"/>
                  </a:solidFill>
                  <a:latin typeface="Arial"/>
                </a:rPr>
                <a:t>Jelsz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218"/>
            <p:cNvGrpSpPr/>
            <p:nvPr/>
          </p:nvGrpSpPr>
          <p:grpSpPr>
            <a:xfrm>
              <a:off x="304920" y="2286000"/>
              <a:ext cx="1626840" cy="2057400"/>
              <a:chOff x="304920" y="2286000"/>
              <a:chExt cx="1626840" cy="2057400"/>
            </a:xfrm>
          </p:grpSpPr>
          <p:grpSp>
            <p:nvGrpSpPr>
              <p:cNvPr id="851" name="Group 219"/>
              <p:cNvGrpSpPr/>
              <p:nvPr/>
            </p:nvGrpSpPr>
            <p:grpSpPr>
              <a:xfrm>
                <a:off x="457200" y="2286000"/>
                <a:ext cx="1406880" cy="838080"/>
                <a:chOff x="457200" y="2286000"/>
                <a:chExt cx="1406880" cy="838080"/>
              </a:xfrm>
            </p:grpSpPr>
            <p:sp>
              <p:nvSpPr>
                <p:cNvPr id="852" name="Line 220"/>
                <p:cNvSpPr/>
                <p:nvPr/>
              </p:nvSpPr>
              <p:spPr>
                <a:xfrm flipH="1">
                  <a:off x="457200" y="2971800"/>
                  <a:ext cx="1406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221"/>
                <p:cNvSpPr/>
                <p:nvPr/>
              </p:nvSpPr>
              <p:spPr>
                <a:xfrm>
                  <a:off x="457200" y="2289240"/>
                  <a:ext cx="351720" cy="83484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4840"/>
                    <a:gd name="textAreaBottom" fmla="*/ 835200 h 83484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222"/>
                <p:cNvSpPr/>
                <p:nvPr/>
              </p:nvSpPr>
              <p:spPr>
                <a:xfrm>
                  <a:off x="57420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223"/>
                <p:cNvSpPr/>
                <p:nvPr/>
              </p:nvSpPr>
              <p:spPr>
                <a:xfrm>
                  <a:off x="69156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224"/>
                <p:cNvSpPr/>
                <p:nvPr/>
              </p:nvSpPr>
              <p:spPr>
                <a:xfrm>
                  <a:off x="80892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25"/>
                <p:cNvSpPr/>
                <p:nvPr/>
              </p:nvSpPr>
              <p:spPr>
                <a:xfrm>
                  <a:off x="92628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26"/>
                <p:cNvSpPr/>
                <p:nvPr/>
              </p:nvSpPr>
              <p:spPr>
                <a:xfrm>
                  <a:off x="1043280" y="2289240"/>
                  <a:ext cx="351720" cy="83484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4840"/>
                    <a:gd name="textAreaBottom" fmla="*/ 835200 h 83484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7"/>
                <p:cNvSpPr/>
                <p:nvPr/>
              </p:nvSpPr>
              <p:spPr>
                <a:xfrm>
                  <a:off x="116064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28"/>
                <p:cNvSpPr/>
                <p:nvPr/>
              </p:nvSpPr>
              <p:spPr>
                <a:xfrm>
                  <a:off x="127800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29"/>
                <p:cNvSpPr/>
                <p:nvPr/>
              </p:nvSpPr>
              <p:spPr>
                <a:xfrm>
                  <a:off x="139500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30"/>
                <p:cNvSpPr/>
                <p:nvPr/>
              </p:nvSpPr>
              <p:spPr>
                <a:xfrm>
                  <a:off x="1512360" y="2286000"/>
                  <a:ext cx="351720" cy="835200"/>
                </a:xfrm>
                <a:custGeom>
                  <a:avLst/>
                  <a:gdLst>
                    <a:gd name="textAreaLeft" fmla="*/ 0 w 351720"/>
                    <a:gd name="textAreaRight" fmla="*/ 352080 w 35172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576" h="526">
                      <a:moveTo>
                        <a:pt x="0" y="430"/>
                      </a:moveTo>
                      <a:cubicBezTo>
                        <a:pt x="16" y="406"/>
                        <a:pt x="32" y="382"/>
                        <a:pt x="48" y="382"/>
                      </a:cubicBezTo>
                      <a:cubicBezTo>
                        <a:pt x="64" y="382"/>
                        <a:pt x="80" y="406"/>
                        <a:pt x="96" y="430"/>
                      </a:cubicBezTo>
                      <a:cubicBezTo>
                        <a:pt x="112" y="454"/>
                        <a:pt x="128" y="526"/>
                        <a:pt x="144" y="526"/>
                      </a:cubicBezTo>
                      <a:cubicBezTo>
                        <a:pt x="160" y="526"/>
                        <a:pt x="168" y="518"/>
                        <a:pt x="192" y="430"/>
                      </a:cubicBezTo>
                      <a:cubicBezTo>
                        <a:pt x="216" y="342"/>
                        <a:pt x="256" y="0"/>
                        <a:pt x="288" y="0"/>
                      </a:cubicBezTo>
                      <a:cubicBezTo>
                        <a:pt x="320" y="0"/>
                        <a:pt x="360" y="342"/>
                        <a:pt x="384" y="430"/>
                      </a:cubicBezTo>
                      <a:cubicBezTo>
                        <a:pt x="408" y="518"/>
                        <a:pt x="417" y="526"/>
                        <a:pt x="433" y="526"/>
                      </a:cubicBezTo>
                      <a:cubicBezTo>
                        <a:pt x="449" y="526"/>
                        <a:pt x="464" y="454"/>
                        <a:pt x="480" y="430"/>
                      </a:cubicBezTo>
                      <a:cubicBezTo>
                        <a:pt x="496" y="406"/>
                        <a:pt x="512" y="382"/>
                        <a:pt x="528" y="382"/>
                      </a:cubicBezTo>
                      <a:cubicBezTo>
                        <a:pt x="544" y="382"/>
                        <a:pt x="568" y="422"/>
                        <a:pt x="576" y="43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Freeform 231"/>
              <p:cNvSpPr/>
              <p:nvPr/>
            </p:nvSpPr>
            <p:spPr>
              <a:xfrm>
                <a:off x="304920" y="2971800"/>
                <a:ext cx="1067400" cy="1371600"/>
              </a:xfrm>
              <a:custGeom>
                <a:avLst/>
                <a:gdLst>
                  <a:gd name="textAreaLeft" fmla="*/ 0 w 1067400"/>
                  <a:gd name="textAreaRight" fmla="*/ 1067760 w 106740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728" h="864">
                    <a:moveTo>
                      <a:pt x="728" y="864"/>
                    </a:moveTo>
                    <a:cubicBezTo>
                      <a:pt x="468" y="792"/>
                      <a:pt x="208" y="720"/>
                      <a:pt x="104" y="576"/>
                    </a:cubicBezTo>
                    <a:cubicBezTo>
                      <a:pt x="0" y="432"/>
                      <a:pt x="104" y="96"/>
                      <a:pt x="10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32"/>
              <p:cNvSpPr/>
              <p:nvPr/>
            </p:nvSpPr>
            <p:spPr>
              <a:xfrm>
                <a:off x="1852920" y="2971800"/>
                <a:ext cx="78840" cy="2858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54" h="180">
                    <a:moveTo>
                      <a:pt x="54" y="180"/>
                    </a:moveTo>
                    <a:cubicBezTo>
                      <a:pt x="46" y="174"/>
                      <a:pt x="16" y="174"/>
                      <a:pt x="8" y="144"/>
                    </a:cubicBezTo>
                    <a:cubicBezTo>
                      <a:pt x="0" y="114"/>
                      <a:pt x="4" y="60"/>
                      <a:pt x="8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76ED-9D2F-4F17-94A7-BE5B221B5B53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0FF7-C7AB-432B-A090-B2327ED2A94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analóg j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információt hordozó jel időben változó jel: időfüggvé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információt hordozó jel sávhatárolt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Ez azt jelenti, hogy a jel jellemzőinek változási sebessége alulról és felülről is korlá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nalóg j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jel jellemzői (amplitúdója, illetve frekvenciája, vagy fázisa) bizonyos kijelölt alsó és felső határok között időben folytonosan változva minden értéket felvehet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484200" y="3429000"/>
            <a:ext cx="8175600" cy="2592000"/>
            <a:chOff x="484200" y="3429000"/>
            <a:chExt cx="8175600" cy="2592000"/>
          </a:xfrm>
        </p:grpSpPr>
        <p:sp>
          <p:nvSpPr>
            <p:cNvPr id="96" name="Line 5"/>
            <p:cNvSpPr/>
            <p:nvPr/>
          </p:nvSpPr>
          <p:spPr>
            <a:xfrm flipH="1" flipV="1">
              <a:off x="855360" y="3635280"/>
              <a:ext cx="9720" cy="21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484200" y="571824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714600" y="4024440"/>
              <a:ext cx="29304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781440" y="571824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825480" y="3549600"/>
              <a:ext cx="889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2524320" y="3787560"/>
              <a:ext cx="127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943200" y="3978360"/>
              <a:ext cx="2178000" cy="1485720"/>
            </a:xfrm>
            <a:custGeom>
              <a:avLst/>
              <a:gdLst>
                <a:gd name="textAreaLeft" fmla="*/ 0 w 2178000"/>
                <a:gd name="textAreaRight" fmla="*/ 2178360 w 217800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558" h="408">
                  <a:moveTo>
                    <a:pt x="0" y="283"/>
                  </a:moveTo>
                  <a:cubicBezTo>
                    <a:pt x="3" y="208"/>
                    <a:pt x="6" y="134"/>
                    <a:pt x="9" y="127"/>
                  </a:cubicBezTo>
                  <a:cubicBezTo>
                    <a:pt x="12" y="120"/>
                    <a:pt x="12" y="255"/>
                    <a:pt x="18" y="238"/>
                  </a:cubicBezTo>
                  <a:cubicBezTo>
                    <a:pt x="24" y="221"/>
                    <a:pt x="38" y="1"/>
                    <a:pt x="45" y="25"/>
                  </a:cubicBezTo>
                  <a:cubicBezTo>
                    <a:pt x="52" y="49"/>
                    <a:pt x="57" y="356"/>
                    <a:pt x="60" y="382"/>
                  </a:cubicBezTo>
                  <a:cubicBezTo>
                    <a:pt x="63" y="408"/>
                    <a:pt x="61" y="201"/>
                    <a:pt x="66" y="181"/>
                  </a:cubicBezTo>
                  <a:cubicBezTo>
                    <a:pt x="71" y="161"/>
                    <a:pt x="82" y="262"/>
                    <a:pt x="93" y="259"/>
                  </a:cubicBezTo>
                  <a:cubicBezTo>
                    <a:pt x="104" y="256"/>
                    <a:pt x="123" y="153"/>
                    <a:pt x="132" y="163"/>
                  </a:cubicBezTo>
                  <a:cubicBezTo>
                    <a:pt x="141" y="173"/>
                    <a:pt x="145" y="338"/>
                    <a:pt x="150" y="322"/>
                  </a:cubicBezTo>
                  <a:cubicBezTo>
                    <a:pt x="155" y="306"/>
                    <a:pt x="160" y="93"/>
                    <a:pt x="165" y="67"/>
                  </a:cubicBezTo>
                  <a:cubicBezTo>
                    <a:pt x="170" y="41"/>
                    <a:pt x="179" y="169"/>
                    <a:pt x="183" y="166"/>
                  </a:cubicBezTo>
                  <a:cubicBezTo>
                    <a:pt x="187" y="163"/>
                    <a:pt x="187" y="20"/>
                    <a:pt x="189" y="49"/>
                  </a:cubicBezTo>
                  <a:cubicBezTo>
                    <a:pt x="191" y="78"/>
                    <a:pt x="190" y="310"/>
                    <a:pt x="195" y="343"/>
                  </a:cubicBezTo>
                  <a:cubicBezTo>
                    <a:pt x="200" y="376"/>
                    <a:pt x="212" y="252"/>
                    <a:pt x="216" y="250"/>
                  </a:cubicBezTo>
                  <a:cubicBezTo>
                    <a:pt x="220" y="248"/>
                    <a:pt x="210" y="367"/>
                    <a:pt x="219" y="331"/>
                  </a:cubicBezTo>
                  <a:cubicBezTo>
                    <a:pt x="228" y="295"/>
                    <a:pt x="258" y="63"/>
                    <a:pt x="270" y="34"/>
                  </a:cubicBezTo>
                  <a:cubicBezTo>
                    <a:pt x="282" y="5"/>
                    <a:pt x="286" y="157"/>
                    <a:pt x="291" y="157"/>
                  </a:cubicBezTo>
                  <a:cubicBezTo>
                    <a:pt x="296" y="157"/>
                    <a:pt x="297" y="40"/>
                    <a:pt x="303" y="37"/>
                  </a:cubicBezTo>
                  <a:cubicBezTo>
                    <a:pt x="309" y="34"/>
                    <a:pt x="321" y="142"/>
                    <a:pt x="330" y="139"/>
                  </a:cubicBezTo>
                  <a:cubicBezTo>
                    <a:pt x="339" y="136"/>
                    <a:pt x="351" y="20"/>
                    <a:pt x="360" y="19"/>
                  </a:cubicBezTo>
                  <a:cubicBezTo>
                    <a:pt x="369" y="18"/>
                    <a:pt x="378" y="130"/>
                    <a:pt x="387" y="133"/>
                  </a:cubicBezTo>
                  <a:cubicBezTo>
                    <a:pt x="396" y="136"/>
                    <a:pt x="404" y="0"/>
                    <a:pt x="414" y="37"/>
                  </a:cubicBezTo>
                  <a:cubicBezTo>
                    <a:pt x="424" y="74"/>
                    <a:pt x="440" y="334"/>
                    <a:pt x="450" y="358"/>
                  </a:cubicBezTo>
                  <a:cubicBezTo>
                    <a:pt x="460" y="382"/>
                    <a:pt x="468" y="193"/>
                    <a:pt x="474" y="178"/>
                  </a:cubicBezTo>
                  <a:cubicBezTo>
                    <a:pt x="480" y="163"/>
                    <a:pt x="478" y="292"/>
                    <a:pt x="486" y="265"/>
                  </a:cubicBezTo>
                  <a:cubicBezTo>
                    <a:pt x="494" y="238"/>
                    <a:pt x="510" y="23"/>
                    <a:pt x="522" y="13"/>
                  </a:cubicBezTo>
                  <a:cubicBezTo>
                    <a:pt x="534" y="3"/>
                    <a:pt x="552" y="171"/>
                    <a:pt x="558" y="20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47720" y="5403960"/>
              <a:ext cx="29322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79760" y="5413320"/>
              <a:ext cx="124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H="1" flipV="1">
              <a:off x="5333760" y="3611160"/>
              <a:ext cx="9720" cy="22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4962600" y="569448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5624640" y="4078080"/>
              <a:ext cx="7920" cy="176868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8259840" y="5694480"/>
              <a:ext cx="39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5226120" y="3429000"/>
              <a:ext cx="123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Spektrum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9"/>
            <p:cNvSpPr/>
            <p:nvPr/>
          </p:nvSpPr>
          <p:spPr>
            <a:xfrm>
              <a:off x="7510680" y="5805360"/>
              <a:ext cx="73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frekv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 flipH="1" flipV="1">
              <a:off x="7821720" y="4092120"/>
              <a:ext cx="7920" cy="176868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5315040" y="5802120"/>
              <a:ext cx="124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frekv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2"/>
            <p:cNvSpPr/>
            <p:nvPr/>
          </p:nvSpPr>
          <p:spPr>
            <a:xfrm>
              <a:off x="5397480" y="4322880"/>
              <a:ext cx="2616480" cy="366480"/>
            </a:xfrm>
            <a:custGeom>
              <a:avLst/>
              <a:gdLst>
                <a:gd name="textAreaLeft" fmla="*/ 0 w 2616480"/>
                <a:gd name="textAreaRight" fmla="*/ 2616840 w 2616480"/>
                <a:gd name="textAreaTop" fmla="*/ 0 h 366480"/>
                <a:gd name="textAreaBottom" fmla="*/ 366480 h 366480"/>
              </a:gdLst>
              <a:ahLst/>
              <a:rect l="textAreaLeft" t="textAreaTop" r="textAreaRight" b="textAreaBottom"/>
              <a:pathLst>
                <a:path w="980" h="101">
                  <a:moveTo>
                    <a:pt x="0" y="23"/>
                  </a:moveTo>
                  <a:cubicBezTo>
                    <a:pt x="19" y="12"/>
                    <a:pt x="39" y="1"/>
                    <a:pt x="90" y="2"/>
                  </a:cubicBezTo>
                  <a:cubicBezTo>
                    <a:pt x="141" y="3"/>
                    <a:pt x="242" y="29"/>
                    <a:pt x="309" y="29"/>
                  </a:cubicBezTo>
                  <a:cubicBezTo>
                    <a:pt x="376" y="29"/>
                    <a:pt x="398" y="4"/>
                    <a:pt x="495" y="2"/>
                  </a:cubicBezTo>
                  <a:cubicBezTo>
                    <a:pt x="592" y="0"/>
                    <a:pt x="816" y="3"/>
                    <a:pt x="894" y="17"/>
                  </a:cubicBezTo>
                  <a:cubicBezTo>
                    <a:pt x="972" y="31"/>
                    <a:pt x="952" y="72"/>
                    <a:pt x="966" y="86"/>
                  </a:cubicBezTo>
                  <a:cubicBezTo>
                    <a:pt x="980" y="100"/>
                    <a:pt x="978" y="100"/>
                    <a:pt x="978" y="10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08BC-007C-4597-8575-AE6AACFC35F4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0470-6C20-4644-9420-E27D687408D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OFDM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00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FDM moduláció után a jel „zajszerű”les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zajszerű jel spektruma biztosítja a rendelkezésre álló frekvenciasáv gazdaságos kihasználás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szerre kisugárzott vivők száma több ezer is leh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k (DVB-T, DAB, DAB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k (DVB-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k (DVB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vivők modulációja rendszerenként eltérő, de mind digitális (QPSK,  16QAM…256Q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8" descr=""/>
          <p:cNvPicPr/>
          <p:nvPr/>
        </p:nvPicPr>
        <p:blipFill>
          <a:blip r:embed="rId1"/>
          <a:stretch/>
        </p:blipFill>
        <p:spPr>
          <a:xfrm>
            <a:off x="5791320" y="1332000"/>
            <a:ext cx="3076560" cy="27064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0" descr=""/>
          <p:cNvPicPr/>
          <p:nvPr/>
        </p:nvPicPr>
        <p:blipFill>
          <a:blip r:embed="rId2"/>
          <a:stretch/>
        </p:blipFill>
        <p:spPr>
          <a:xfrm>
            <a:off x="5029200" y="4119480"/>
            <a:ext cx="41148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6836-53B9-4E2E-B8BB-70467B27D287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D65-2288-4EEB-BE6D-01555AA7DA7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DAB és DAB+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39F5-64E1-4EBA-97DC-5CBBE911ED3B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7C64-3F8D-47F8-B9F0-0E6A78164E3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DAB rendszerrel szemben támasztott követel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dio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adcasting - D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D-vel összemérhető hangminő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pi és egyéb járulékos információk tovább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lcsó vevőkészül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multiplexen belül több műsor sugár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adásmódok használat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jlettebb forráskódolás használata: DAB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9CA9-2491-4FE9-ABF3-8DC22CF7DC9E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B337-F3FE-4576-8013-5696F065BFE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DAB jel összeállítása szolgálatösszetevők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43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324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3B1-2E65-4AB4-9F8D-E2859BCD421C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CC32-9D8D-40C7-B912-1A36C9A7B5F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Egyszerűsített blokkváz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5"/>
          <p:cNvSpPr/>
          <p:nvPr/>
        </p:nvSpPr>
        <p:spPr>
          <a:xfrm>
            <a:off x="1014480" y="1969920"/>
            <a:ext cx="698652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39"/>
          <p:cNvGrpSpPr/>
          <p:nvPr/>
        </p:nvGrpSpPr>
        <p:grpSpPr>
          <a:xfrm>
            <a:off x="1360440" y="2108160"/>
            <a:ext cx="6502320" cy="3749760"/>
            <a:chOff x="1360440" y="2108160"/>
            <a:chExt cx="6502320" cy="3749760"/>
          </a:xfrm>
        </p:grpSpPr>
        <p:sp>
          <p:nvSpPr>
            <p:cNvPr id="887" name="Text Box 6"/>
            <p:cNvSpPr/>
            <p:nvPr/>
          </p:nvSpPr>
          <p:spPr>
            <a:xfrm>
              <a:off x="1636560" y="2108160"/>
              <a:ext cx="95580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údió #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7"/>
            <p:cNvSpPr/>
            <p:nvPr/>
          </p:nvSpPr>
          <p:spPr>
            <a:xfrm>
              <a:off x="1360440" y="2664000"/>
              <a:ext cx="95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údió #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8"/>
            <p:cNvSpPr/>
            <p:nvPr/>
          </p:nvSpPr>
          <p:spPr>
            <a:xfrm>
              <a:off x="1636560" y="3218040"/>
              <a:ext cx="9558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údió #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9"/>
            <p:cNvSpPr/>
            <p:nvPr/>
          </p:nvSpPr>
          <p:spPr>
            <a:xfrm>
              <a:off x="1636560" y="3773520"/>
              <a:ext cx="9558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údió #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0"/>
            <p:cNvSpPr/>
            <p:nvPr/>
          </p:nvSpPr>
          <p:spPr>
            <a:xfrm>
              <a:off x="1360440" y="4327560"/>
              <a:ext cx="9540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údió #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11"/>
            <p:cNvSpPr/>
            <p:nvPr/>
          </p:nvSpPr>
          <p:spPr>
            <a:xfrm>
              <a:off x="1636560" y="4883040"/>
              <a:ext cx="9558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údió #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12"/>
            <p:cNvSpPr/>
            <p:nvPr/>
          </p:nvSpPr>
          <p:spPr>
            <a:xfrm>
              <a:off x="1771560" y="5437080"/>
              <a:ext cx="68256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3"/>
            <p:cNvSpPr/>
            <p:nvPr/>
          </p:nvSpPr>
          <p:spPr>
            <a:xfrm>
              <a:off x="3025800" y="2525760"/>
              <a:ext cx="1092240" cy="62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olgálat multiplex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4"/>
            <p:cNvSpPr/>
            <p:nvPr/>
          </p:nvSpPr>
          <p:spPr>
            <a:xfrm>
              <a:off x="3025800" y="4189320"/>
              <a:ext cx="1092240" cy="62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olgálat multiplex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5"/>
            <p:cNvSpPr/>
            <p:nvPr/>
          </p:nvSpPr>
          <p:spPr>
            <a:xfrm>
              <a:off x="4551480" y="3495600"/>
              <a:ext cx="1092240" cy="62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gyüttes multiplex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16"/>
            <p:cNvSpPr/>
            <p:nvPr/>
          </p:nvSpPr>
          <p:spPr>
            <a:xfrm>
              <a:off x="5938920" y="3357720"/>
              <a:ext cx="10904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odulátor</a:t>
              </a:r>
              <a:br>
                <a:rPr sz="1200"/>
              </a:b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br>
                <a:rPr sz="1200"/>
              </a:b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7"/>
            <p:cNvSpPr/>
            <p:nvPr/>
          </p:nvSpPr>
          <p:spPr>
            <a:xfrm>
              <a:off x="6781680" y="2247840"/>
              <a:ext cx="80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8"/>
            <p:cNvSpPr/>
            <p:nvPr/>
          </p:nvSpPr>
          <p:spPr>
            <a:xfrm>
              <a:off x="2325600" y="2801880"/>
              <a:ext cx="68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9"/>
            <p:cNvSpPr/>
            <p:nvPr/>
          </p:nvSpPr>
          <p:spPr>
            <a:xfrm>
              <a:off x="2598840" y="2247840"/>
              <a:ext cx="4093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20"/>
            <p:cNvSpPr/>
            <p:nvPr/>
          </p:nvSpPr>
          <p:spPr>
            <a:xfrm flipV="1">
              <a:off x="2598840" y="2801520"/>
              <a:ext cx="40932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1"/>
            <p:cNvSpPr/>
            <p:nvPr/>
          </p:nvSpPr>
          <p:spPr>
            <a:xfrm>
              <a:off x="2598840" y="3911760"/>
              <a:ext cx="40932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2"/>
            <p:cNvSpPr/>
            <p:nvPr/>
          </p:nvSpPr>
          <p:spPr>
            <a:xfrm>
              <a:off x="2325600" y="4467240"/>
              <a:ext cx="68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23"/>
            <p:cNvSpPr/>
            <p:nvPr/>
          </p:nvSpPr>
          <p:spPr>
            <a:xfrm flipV="1">
              <a:off x="2598840" y="4467240"/>
              <a:ext cx="4093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24"/>
            <p:cNvSpPr/>
            <p:nvPr/>
          </p:nvSpPr>
          <p:spPr>
            <a:xfrm>
              <a:off x="4122720" y="2801880"/>
              <a:ext cx="27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25"/>
            <p:cNvSpPr/>
            <p:nvPr/>
          </p:nvSpPr>
          <p:spPr>
            <a:xfrm>
              <a:off x="4119480" y="44672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26"/>
            <p:cNvSpPr/>
            <p:nvPr/>
          </p:nvSpPr>
          <p:spPr>
            <a:xfrm>
              <a:off x="4395960" y="2801880"/>
              <a:ext cx="144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27"/>
            <p:cNvSpPr/>
            <p:nvPr/>
          </p:nvSpPr>
          <p:spPr>
            <a:xfrm flipH="1">
              <a:off x="4397040" y="363528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8"/>
            <p:cNvSpPr/>
            <p:nvPr/>
          </p:nvSpPr>
          <p:spPr>
            <a:xfrm flipV="1">
              <a:off x="4255920" y="3773520"/>
              <a:ext cx="180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29"/>
            <p:cNvSpPr/>
            <p:nvPr/>
          </p:nvSpPr>
          <p:spPr>
            <a:xfrm>
              <a:off x="4260960" y="377352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30"/>
            <p:cNvSpPr/>
            <p:nvPr/>
          </p:nvSpPr>
          <p:spPr>
            <a:xfrm>
              <a:off x="2486160" y="5576760"/>
              <a:ext cx="1909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31"/>
            <p:cNvSpPr/>
            <p:nvPr/>
          </p:nvSpPr>
          <p:spPr>
            <a:xfrm flipV="1">
              <a:off x="4395960" y="3911400"/>
              <a:ext cx="1440" cy="167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32"/>
            <p:cNvSpPr/>
            <p:nvPr/>
          </p:nvSpPr>
          <p:spPr>
            <a:xfrm>
              <a:off x="4397400" y="39117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33"/>
            <p:cNvSpPr/>
            <p:nvPr/>
          </p:nvSpPr>
          <p:spPr>
            <a:xfrm>
              <a:off x="5648400" y="377352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34"/>
            <p:cNvSpPr/>
            <p:nvPr/>
          </p:nvSpPr>
          <p:spPr>
            <a:xfrm>
              <a:off x="7040520" y="3773520"/>
              <a:ext cx="68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35"/>
            <p:cNvSpPr/>
            <p:nvPr/>
          </p:nvSpPr>
          <p:spPr>
            <a:xfrm flipV="1">
              <a:off x="7723080" y="2247480"/>
              <a:ext cx="1800" cy="15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36"/>
            <p:cNvSpPr/>
            <p:nvPr/>
          </p:nvSpPr>
          <p:spPr>
            <a:xfrm flipH="1" flipV="1">
              <a:off x="7586280" y="2247840"/>
              <a:ext cx="13644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7"/>
            <p:cNvSpPr/>
            <p:nvPr/>
          </p:nvSpPr>
          <p:spPr>
            <a:xfrm flipV="1">
              <a:off x="7724880" y="2247840"/>
              <a:ext cx="13788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DAB jel összeáll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334D-F43F-4FD2-B605-9F4FF1E90F33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EA1F-F0AB-4DC2-8C9B-519B709D7D1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rrás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0" y="3886200"/>
            <a:ext cx="4038480" cy="2349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5029200" y="3879720"/>
            <a:ext cx="4114800" cy="240048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6"/>
          <p:cNvSpPr/>
          <p:nvPr/>
        </p:nvSpPr>
        <p:spPr>
          <a:xfrm>
            <a:off x="457200" y="106668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AB+ rendszereknél hatékonyabb forráskódolás, mint a DAB-n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által az azonos minőségben továbbítható programok száma megnőtt, több bevételt jelenthet a műsorszóró cég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pektrális sávismétlés - SBR (Spectral Band Replication): a hang sávszélességének korlátozása, A felsőbb sávok elhagyhatóak, de az átvitel során továbbítani kell az elhagyott sáv burkológörbéjére jellemző adatokat, hogy ezekből az adatokból vissza lehessen állítani a sáv felső rész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SBR-adatok sebessége hangcsatornánként átlagosan 1-3 kbit/s (tapasztalati érté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274320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ó ol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8"/>
          <p:cNvSpPr/>
          <p:nvPr/>
        </p:nvSpPr>
        <p:spPr>
          <a:xfrm>
            <a:off x="502920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evő ol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561-26CC-4355-9FAA-3AB3B98AE70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234-66B9-4E32-A0E1-76699223267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arametrikus sztereo kódolás: a PS-adatok a sztereohatás jellemzőiből létrehozott információkat tartalmazzák (pl. a hangcsatornák közötti idő- és fáziskülönb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tereo műsor esetén a kódolóból csak egy mono adatfolyam és a PS-adatok kerülnek ki. A PS információk szintén csak kis adatsebesség növekedést okoz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AB+ rendszereknél a forráskódolás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zárólag MPEG-4 AAC (+SBR +PS)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PEG-4 HE AAC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4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200400" cy="216684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rrás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C350-446A-4E6D-BF6C-C9EFD85C973F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D0A9-C66A-4AA0-BFAB-4D87FD17392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ultiplex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inkronizáló csator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modulálási célokra használják (fázisreferencia, adók azonosító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ors információs csatorna (Fast Information Channel – FIC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evő számára tartalmaz hasznos szolgálati információkat a kisugárzott adásról (pl. multiplex konfigurálási információk és egyéb szolgálati adatok, amelyek a helyes dekódoláshoz szükségesek)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időátszövéses csat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ő szolgálati csatorna (Main Service Channel – MSC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rtalmazhat hang- vagy adat-szolgálatösszetevőket. A CIF keretek hordozzák az hallgatók számára sugárzott programok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4" descr=""/>
          <p:cNvPicPr/>
          <p:nvPr/>
        </p:nvPicPr>
        <p:blipFill>
          <a:blip r:embed="rId1"/>
          <a:stretch/>
        </p:blipFill>
        <p:spPr>
          <a:xfrm>
            <a:off x="1828800" y="4282920"/>
            <a:ext cx="5410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93E5-60ED-47EF-A592-D7B8E66719C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A0D-8035-46E2-A46B-1F9FF9B7C34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átviteli csato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ádiócsatornában a zavarok, hibák okozó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utas terjedésből eredő interferenc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onos és szomszédcsatornás zavaró adó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Zajo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tviteli hibák hatásainak korrigálására különböző eljárásokat, illetve ezek kombinációját alkalmazzák, amely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kalmazott moduláció (OFDM+DQPSK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vivők frekvencia és időbeni átszövé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tkeveré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bajavító kódol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6324480" y="5105520"/>
          <a:ext cx="2278080" cy="1098360"/>
        </p:xfrm>
        <a:graphic>
          <a:graphicData uri="http://schemas.openxmlformats.org/drawingml/2006/table">
            <a:tbl>
              <a:tblPr/>
              <a:tblGrid>
                <a:gridCol w="1051200"/>
                <a:gridCol w="1226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10</a:t>
                      </a:r>
                      <a:r>
                        <a:rPr b="0" lang="hu-H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sz vé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hu-H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ltalá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5·10</a:t>
                      </a:r>
                      <a:r>
                        <a:rPr b="0" lang="hu-H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váló vé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4" name="Text Box 21"/>
          <p:cNvSpPr/>
          <p:nvPr/>
        </p:nvSpPr>
        <p:spPr>
          <a:xfrm>
            <a:off x="533520" y="5029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étel minősítése a bithiba-arány függvényé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E407-EFD5-4DE9-93CE-6B19377B3CA7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07B2-A51B-41D9-BE7E-AE027B8AAEA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volúciós kód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IC-nél kb. 1/3-os ar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SC-ben a program bitsebességétől és védelmi szintjétől fü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ódolás lehetséges megvalósítá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EP (Unequal Error Protection) – egyenlőtlen hibavédelem, a fontosabb bájtokat robosztusabb védelemmel látják el, a kevésbé fontosakat gyengébb védelemm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EP (Equal Error Protection) – egyenletes hibavédelem, minden bitet azonos védelemmel látnak 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AB+ rendszer a fő-szolgálatcsatornában (MSC-ben)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ak EE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t használ! Ezt egészítik ki Reed-Solomon kódol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övidített Reed-Solomon kódolás (110/120) – ezzel 5 bájt javít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teli oldalon a hibajavítás Viterbi-dekódolással törté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6CC-FD40-4319-9D15-9D250D4B195B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FF2-112E-4B8F-B6FE-996ECCA52D6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digitális j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72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jel jellemzői (amplitúdója, illetve frekvenciája, vagy fázisa)  csak kijelölt diszkrét értékeket  vehetnek fel, az egyes állapotok közötti változás ugrásszer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es állapotokhoz logikai értékeket rendelünk (pl. „0”, „1”, „00”, „01”, „10”, „11”,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a csak két értéket engedünk meg a változási tartományban: a jel binári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a több értéket jelölünk ki : a jel n-á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olaritását tekintve a jel lehet unipoláris, poláris, vagy bipolá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25"/>
          <p:cNvGrpSpPr/>
          <p:nvPr/>
        </p:nvGrpSpPr>
        <p:grpSpPr>
          <a:xfrm>
            <a:off x="0" y="3200400"/>
            <a:ext cx="3276360" cy="1302480"/>
            <a:chOff x="0" y="3200400"/>
            <a:chExt cx="3276360" cy="1302480"/>
          </a:xfrm>
        </p:grpSpPr>
        <p:sp>
          <p:nvSpPr>
            <p:cNvPr id="119" name="Text Box 61"/>
            <p:cNvSpPr/>
            <p:nvPr/>
          </p:nvSpPr>
          <p:spPr>
            <a:xfrm>
              <a:off x="2985480" y="4287240"/>
              <a:ext cx="29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2"/>
            <p:cNvSpPr/>
            <p:nvPr/>
          </p:nvSpPr>
          <p:spPr>
            <a:xfrm>
              <a:off x="0" y="3652920"/>
              <a:ext cx="37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3"/>
            <p:cNvSpPr/>
            <p:nvPr/>
          </p:nvSpPr>
          <p:spPr>
            <a:xfrm>
              <a:off x="60480" y="4094640"/>
              <a:ext cx="27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1"/>
            <p:cNvSpPr/>
            <p:nvPr/>
          </p:nvSpPr>
          <p:spPr>
            <a:xfrm flipH="1" flipV="1">
              <a:off x="416880" y="3529800"/>
              <a:ext cx="1440" cy="83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02"/>
            <p:cNvSpPr/>
            <p:nvPr/>
          </p:nvSpPr>
          <p:spPr>
            <a:xfrm>
              <a:off x="386640" y="4247280"/>
              <a:ext cx="27165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3"/>
            <p:cNvSpPr/>
            <p:nvPr/>
          </p:nvSpPr>
          <p:spPr>
            <a:xfrm>
              <a:off x="432000" y="3515040"/>
              <a:ext cx="64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4"/>
            <p:cNvSpPr/>
            <p:nvPr/>
          </p:nvSpPr>
          <p:spPr>
            <a:xfrm>
              <a:off x="2089800" y="3519000"/>
              <a:ext cx="927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5"/>
            <p:cNvSpPr/>
            <p:nvPr/>
          </p:nvSpPr>
          <p:spPr>
            <a:xfrm>
              <a:off x="322560" y="4251240"/>
              <a:ext cx="254844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6"/>
            <p:cNvSpPr/>
            <p:nvPr/>
          </p:nvSpPr>
          <p:spPr>
            <a:xfrm>
              <a:off x="1918080" y="4269960"/>
              <a:ext cx="90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07"/>
            <p:cNvSpPr/>
            <p:nvPr/>
          </p:nvSpPr>
          <p:spPr>
            <a:xfrm>
              <a:off x="514440" y="387540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8"/>
            <p:cNvSpPr/>
            <p:nvPr/>
          </p:nvSpPr>
          <p:spPr>
            <a:xfrm>
              <a:off x="1590480" y="387540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9"/>
            <p:cNvSpPr/>
            <p:nvPr/>
          </p:nvSpPr>
          <p:spPr>
            <a:xfrm>
              <a:off x="2091240" y="387540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0"/>
            <p:cNvSpPr/>
            <p:nvPr/>
          </p:nvSpPr>
          <p:spPr>
            <a:xfrm>
              <a:off x="1023840" y="387936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1"/>
            <p:cNvSpPr/>
            <p:nvPr/>
          </p:nvSpPr>
          <p:spPr>
            <a:xfrm>
              <a:off x="2592360" y="3850920"/>
              <a:ext cx="2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12"/>
            <p:cNvSpPr/>
            <p:nvPr/>
          </p:nvSpPr>
          <p:spPr>
            <a:xfrm>
              <a:off x="418320" y="3801960"/>
              <a:ext cx="2466000" cy="447120"/>
            </a:xfrm>
            <a:custGeom>
              <a:avLst/>
              <a:gdLst>
                <a:gd name="textAreaLeft" fmla="*/ 0 w 2466000"/>
                <a:gd name="textAreaRight" fmla="*/ 2466360 w 246600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467" h="237">
                  <a:moveTo>
                    <a:pt x="0" y="6"/>
                  </a:moveTo>
                  <a:lnTo>
                    <a:pt x="303" y="6"/>
                  </a:lnTo>
                  <a:lnTo>
                    <a:pt x="306" y="237"/>
                  </a:lnTo>
                  <a:lnTo>
                    <a:pt x="615" y="234"/>
                  </a:lnTo>
                  <a:lnTo>
                    <a:pt x="615" y="6"/>
                  </a:lnTo>
                  <a:lnTo>
                    <a:pt x="1236" y="0"/>
                  </a:lnTo>
                  <a:lnTo>
                    <a:pt x="1242" y="234"/>
                  </a:lnTo>
                  <a:lnTo>
                    <a:pt x="1467" y="23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3"/>
            <p:cNvSpPr/>
            <p:nvPr/>
          </p:nvSpPr>
          <p:spPr>
            <a:xfrm>
              <a:off x="879120" y="320040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Unipoláris j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4"/>
            <p:cNvSpPr/>
            <p:nvPr/>
          </p:nvSpPr>
          <p:spPr>
            <a:xfrm>
              <a:off x="339480" y="3809520"/>
              <a:ext cx="254844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23"/>
          <p:cNvGrpSpPr/>
          <p:nvPr/>
        </p:nvGrpSpPr>
        <p:grpSpPr>
          <a:xfrm>
            <a:off x="4800600" y="3124080"/>
            <a:ext cx="3017880" cy="1550880"/>
            <a:chOff x="4800600" y="3124080"/>
            <a:chExt cx="3017880" cy="1550880"/>
          </a:xfrm>
        </p:grpSpPr>
        <p:sp>
          <p:nvSpPr>
            <p:cNvPr id="137" name="Text Box 64"/>
            <p:cNvSpPr/>
            <p:nvPr/>
          </p:nvSpPr>
          <p:spPr>
            <a:xfrm>
              <a:off x="7543800" y="4114800"/>
              <a:ext cx="27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5"/>
            <p:cNvSpPr/>
            <p:nvPr/>
          </p:nvSpPr>
          <p:spPr>
            <a:xfrm>
              <a:off x="4800600" y="3581280"/>
              <a:ext cx="35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4"/>
            <p:cNvSpPr/>
            <p:nvPr/>
          </p:nvSpPr>
          <p:spPr>
            <a:xfrm flipH="1" flipV="1">
              <a:off x="5181480" y="3465360"/>
              <a:ext cx="648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5"/>
            <p:cNvSpPr/>
            <p:nvPr/>
          </p:nvSpPr>
          <p:spPr>
            <a:xfrm>
              <a:off x="5153040" y="4068000"/>
              <a:ext cx="2565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6"/>
            <p:cNvSpPr/>
            <p:nvPr/>
          </p:nvSpPr>
          <p:spPr>
            <a:xfrm>
              <a:off x="5195880" y="3452760"/>
              <a:ext cx="61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7"/>
            <p:cNvSpPr/>
            <p:nvPr/>
          </p:nvSpPr>
          <p:spPr>
            <a:xfrm>
              <a:off x="6761160" y="3456000"/>
              <a:ext cx="87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88"/>
            <p:cNvSpPr/>
            <p:nvPr/>
          </p:nvSpPr>
          <p:spPr>
            <a:xfrm>
              <a:off x="5121360" y="4452840"/>
              <a:ext cx="24066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9"/>
            <p:cNvSpPr/>
            <p:nvPr/>
          </p:nvSpPr>
          <p:spPr>
            <a:xfrm>
              <a:off x="6808680" y="4459320"/>
              <a:ext cx="8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0"/>
            <p:cNvSpPr/>
            <p:nvPr/>
          </p:nvSpPr>
          <p:spPr>
            <a:xfrm>
              <a:off x="4878360" y="3959280"/>
              <a:ext cx="257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91"/>
            <p:cNvSpPr/>
            <p:nvPr/>
          </p:nvSpPr>
          <p:spPr>
            <a:xfrm>
              <a:off x="4859280" y="4349880"/>
              <a:ext cx="3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92"/>
            <p:cNvSpPr/>
            <p:nvPr/>
          </p:nvSpPr>
          <p:spPr>
            <a:xfrm>
              <a:off x="5788080" y="383220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3"/>
            <p:cNvSpPr/>
            <p:nvPr/>
          </p:nvSpPr>
          <p:spPr>
            <a:xfrm>
              <a:off x="7237440" y="384660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4"/>
            <p:cNvSpPr/>
            <p:nvPr/>
          </p:nvSpPr>
          <p:spPr>
            <a:xfrm>
              <a:off x="5307120" y="384480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5"/>
            <p:cNvSpPr/>
            <p:nvPr/>
          </p:nvSpPr>
          <p:spPr>
            <a:xfrm>
              <a:off x="6273720" y="406872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6"/>
            <p:cNvSpPr/>
            <p:nvPr/>
          </p:nvSpPr>
          <p:spPr>
            <a:xfrm>
              <a:off x="5867280" y="3124080"/>
              <a:ext cx="8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Poláris j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7"/>
            <p:cNvSpPr/>
            <p:nvPr/>
          </p:nvSpPr>
          <p:spPr>
            <a:xfrm>
              <a:off x="5178600" y="3710160"/>
              <a:ext cx="2333520" cy="747720"/>
            </a:xfrm>
            <a:custGeom>
              <a:avLst/>
              <a:gdLst>
                <a:gd name="textAreaLeft" fmla="*/ 0 w 2333520"/>
                <a:gd name="textAreaRight" fmla="*/ 2333880 w 23335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470" h="471">
                  <a:moveTo>
                    <a:pt x="0" y="0"/>
                  </a:moveTo>
                  <a:lnTo>
                    <a:pt x="309" y="3"/>
                  </a:lnTo>
                  <a:lnTo>
                    <a:pt x="315" y="225"/>
                  </a:lnTo>
                  <a:lnTo>
                    <a:pt x="621" y="225"/>
                  </a:lnTo>
                  <a:lnTo>
                    <a:pt x="624" y="471"/>
                  </a:lnTo>
                  <a:lnTo>
                    <a:pt x="939" y="468"/>
                  </a:lnTo>
                  <a:lnTo>
                    <a:pt x="936" y="228"/>
                  </a:lnTo>
                  <a:lnTo>
                    <a:pt x="936" y="3"/>
                  </a:lnTo>
                  <a:lnTo>
                    <a:pt x="1242" y="3"/>
                  </a:lnTo>
                  <a:lnTo>
                    <a:pt x="1245" y="225"/>
                  </a:lnTo>
                  <a:lnTo>
                    <a:pt x="1470" y="225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8"/>
            <p:cNvSpPr/>
            <p:nvPr/>
          </p:nvSpPr>
          <p:spPr>
            <a:xfrm>
              <a:off x="6784920" y="385128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9"/>
            <p:cNvSpPr/>
            <p:nvPr/>
          </p:nvSpPr>
          <p:spPr>
            <a:xfrm>
              <a:off x="5103720" y="3720960"/>
              <a:ext cx="24066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5"/>
            <p:cNvSpPr/>
            <p:nvPr/>
          </p:nvSpPr>
          <p:spPr>
            <a:xfrm>
              <a:off x="5486400" y="3809880"/>
              <a:ext cx="37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-1/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26"/>
          <p:cNvGrpSpPr/>
          <p:nvPr/>
        </p:nvGrpSpPr>
        <p:grpSpPr>
          <a:xfrm>
            <a:off x="0" y="4572000"/>
            <a:ext cx="3504960" cy="1651680"/>
            <a:chOff x="0" y="4572000"/>
            <a:chExt cx="3504960" cy="1651680"/>
          </a:xfrm>
        </p:grpSpPr>
        <p:sp>
          <p:nvSpPr>
            <p:cNvPr id="157" name="Line 67"/>
            <p:cNvSpPr/>
            <p:nvPr/>
          </p:nvSpPr>
          <p:spPr>
            <a:xfrm flipH="1" flipV="1">
              <a:off x="418320" y="4858200"/>
              <a:ext cx="7200" cy="13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8"/>
            <p:cNvSpPr/>
            <p:nvPr/>
          </p:nvSpPr>
          <p:spPr>
            <a:xfrm>
              <a:off x="385200" y="5556240"/>
              <a:ext cx="29793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9"/>
            <p:cNvSpPr/>
            <p:nvPr/>
          </p:nvSpPr>
          <p:spPr>
            <a:xfrm>
              <a:off x="435240" y="4843800"/>
              <a:ext cx="70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0"/>
            <p:cNvSpPr/>
            <p:nvPr/>
          </p:nvSpPr>
          <p:spPr>
            <a:xfrm>
              <a:off x="2253240" y="4847400"/>
              <a:ext cx="1017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1"/>
            <p:cNvSpPr/>
            <p:nvPr/>
          </p:nvSpPr>
          <p:spPr>
            <a:xfrm>
              <a:off x="348480" y="6000480"/>
              <a:ext cx="279504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2"/>
            <p:cNvSpPr/>
            <p:nvPr/>
          </p:nvSpPr>
          <p:spPr>
            <a:xfrm>
              <a:off x="2308320" y="6008040"/>
              <a:ext cx="99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420480" y="5142960"/>
              <a:ext cx="2704680" cy="864720"/>
            </a:xfrm>
            <a:custGeom>
              <a:avLst/>
              <a:gdLst>
                <a:gd name="textAreaLeft" fmla="*/ 0 w 2704680"/>
                <a:gd name="textAreaRight" fmla="*/ 2705040 w 27046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2132" h="876">
                  <a:moveTo>
                    <a:pt x="0" y="4"/>
                  </a:moveTo>
                  <a:lnTo>
                    <a:pt x="444" y="4"/>
                  </a:lnTo>
                  <a:lnTo>
                    <a:pt x="444" y="872"/>
                  </a:lnTo>
                  <a:lnTo>
                    <a:pt x="900" y="872"/>
                  </a:lnTo>
                  <a:lnTo>
                    <a:pt x="896" y="0"/>
                  </a:lnTo>
                  <a:lnTo>
                    <a:pt x="1352" y="0"/>
                  </a:lnTo>
                  <a:lnTo>
                    <a:pt x="1804" y="0"/>
                  </a:lnTo>
                  <a:lnTo>
                    <a:pt x="1804" y="876"/>
                  </a:lnTo>
                  <a:lnTo>
                    <a:pt x="2132" y="87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4"/>
            <p:cNvSpPr/>
            <p:nvPr/>
          </p:nvSpPr>
          <p:spPr>
            <a:xfrm>
              <a:off x="0" y="4999680"/>
              <a:ext cx="40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5"/>
            <p:cNvSpPr/>
            <p:nvPr/>
          </p:nvSpPr>
          <p:spPr>
            <a:xfrm>
              <a:off x="66240" y="5429520"/>
              <a:ext cx="29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6"/>
            <p:cNvSpPr/>
            <p:nvPr/>
          </p:nvSpPr>
          <p:spPr>
            <a:xfrm>
              <a:off x="44280" y="5880960"/>
              <a:ext cx="36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7"/>
            <p:cNvSpPr/>
            <p:nvPr/>
          </p:nvSpPr>
          <p:spPr>
            <a:xfrm>
              <a:off x="536760" y="5299200"/>
              <a:ext cx="30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8"/>
            <p:cNvSpPr/>
            <p:nvPr/>
          </p:nvSpPr>
          <p:spPr>
            <a:xfrm>
              <a:off x="1705320" y="529344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9"/>
            <p:cNvSpPr/>
            <p:nvPr/>
          </p:nvSpPr>
          <p:spPr>
            <a:xfrm>
              <a:off x="2266200" y="529344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80"/>
            <p:cNvSpPr/>
            <p:nvPr/>
          </p:nvSpPr>
          <p:spPr>
            <a:xfrm>
              <a:off x="1122840" y="556704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1"/>
            <p:cNvSpPr/>
            <p:nvPr/>
          </p:nvSpPr>
          <p:spPr>
            <a:xfrm>
              <a:off x="2815560" y="557280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2"/>
            <p:cNvSpPr/>
            <p:nvPr/>
          </p:nvSpPr>
          <p:spPr>
            <a:xfrm>
              <a:off x="1014120" y="4572000"/>
              <a:ext cx="100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Bipoláris j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>
              <a:off x="306000" y="5137560"/>
              <a:ext cx="279504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0"/>
            <p:cNvSpPr/>
            <p:nvPr/>
          </p:nvSpPr>
          <p:spPr>
            <a:xfrm>
              <a:off x="3186000" y="5629320"/>
              <a:ext cx="31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24"/>
          <p:cNvGrpSpPr/>
          <p:nvPr/>
        </p:nvGrpSpPr>
        <p:grpSpPr>
          <a:xfrm>
            <a:off x="4800600" y="4800600"/>
            <a:ext cx="3200040" cy="1828440"/>
            <a:chOff x="4800600" y="4800600"/>
            <a:chExt cx="3200040" cy="1828440"/>
          </a:xfrm>
        </p:grpSpPr>
        <p:sp>
          <p:nvSpPr>
            <p:cNvPr id="176" name="Text Box 131"/>
            <p:cNvSpPr/>
            <p:nvPr/>
          </p:nvSpPr>
          <p:spPr>
            <a:xfrm>
              <a:off x="6015960" y="4800600"/>
              <a:ext cx="89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n-áris j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7"/>
            <p:cNvSpPr/>
            <p:nvPr/>
          </p:nvSpPr>
          <p:spPr>
            <a:xfrm flipH="1" flipV="1">
              <a:off x="5193000" y="5301720"/>
              <a:ext cx="6480" cy="12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18"/>
            <p:cNvSpPr/>
            <p:nvPr/>
          </p:nvSpPr>
          <p:spPr>
            <a:xfrm>
              <a:off x="5175000" y="5942880"/>
              <a:ext cx="2653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9"/>
            <p:cNvSpPr/>
            <p:nvPr/>
          </p:nvSpPr>
          <p:spPr>
            <a:xfrm>
              <a:off x="5178240" y="515124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0"/>
            <p:cNvSpPr/>
            <p:nvPr/>
          </p:nvSpPr>
          <p:spPr>
            <a:xfrm>
              <a:off x="6826680" y="5292000"/>
              <a:ext cx="90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1"/>
            <p:cNvSpPr/>
            <p:nvPr/>
          </p:nvSpPr>
          <p:spPr>
            <a:xfrm>
              <a:off x="5132160" y="6384960"/>
              <a:ext cx="248904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2"/>
            <p:cNvSpPr/>
            <p:nvPr/>
          </p:nvSpPr>
          <p:spPr>
            <a:xfrm>
              <a:off x="6876000" y="6327720"/>
              <a:ext cx="88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3"/>
            <p:cNvSpPr/>
            <p:nvPr/>
          </p:nvSpPr>
          <p:spPr>
            <a:xfrm>
              <a:off x="4820040" y="5428080"/>
              <a:ext cx="36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4"/>
            <p:cNvSpPr/>
            <p:nvPr/>
          </p:nvSpPr>
          <p:spPr>
            <a:xfrm>
              <a:off x="4879440" y="5811480"/>
              <a:ext cx="26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25"/>
            <p:cNvSpPr/>
            <p:nvPr/>
          </p:nvSpPr>
          <p:spPr>
            <a:xfrm>
              <a:off x="4859640" y="6214680"/>
              <a:ext cx="32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6"/>
            <p:cNvSpPr/>
            <p:nvPr/>
          </p:nvSpPr>
          <p:spPr>
            <a:xfrm>
              <a:off x="5273280" y="5498640"/>
              <a:ext cx="35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27"/>
            <p:cNvSpPr/>
            <p:nvPr/>
          </p:nvSpPr>
          <p:spPr>
            <a:xfrm>
              <a:off x="6265440" y="5921280"/>
              <a:ext cx="37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8"/>
            <p:cNvSpPr/>
            <p:nvPr/>
          </p:nvSpPr>
          <p:spPr>
            <a:xfrm>
              <a:off x="6803640" y="5581800"/>
              <a:ext cx="36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9"/>
            <p:cNvSpPr/>
            <p:nvPr/>
          </p:nvSpPr>
          <p:spPr>
            <a:xfrm>
              <a:off x="5790600" y="6150960"/>
              <a:ext cx="32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0"/>
            <p:cNvSpPr/>
            <p:nvPr/>
          </p:nvSpPr>
          <p:spPr>
            <a:xfrm>
              <a:off x="7327440" y="5939640"/>
              <a:ext cx="27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2"/>
            <p:cNvSpPr/>
            <p:nvPr/>
          </p:nvSpPr>
          <p:spPr>
            <a:xfrm>
              <a:off x="5102640" y="5496840"/>
              <a:ext cx="248904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3"/>
            <p:cNvSpPr/>
            <p:nvPr/>
          </p:nvSpPr>
          <p:spPr>
            <a:xfrm>
              <a:off x="5166720" y="5788440"/>
              <a:ext cx="2516760" cy="14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4"/>
            <p:cNvSpPr/>
            <p:nvPr/>
          </p:nvSpPr>
          <p:spPr>
            <a:xfrm>
              <a:off x="5151960" y="6088320"/>
              <a:ext cx="2516760" cy="14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35"/>
            <p:cNvSpPr/>
            <p:nvPr/>
          </p:nvSpPr>
          <p:spPr>
            <a:xfrm>
              <a:off x="6706800" y="5036400"/>
              <a:ext cx="0" cy="15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6"/>
            <p:cNvSpPr/>
            <p:nvPr/>
          </p:nvSpPr>
          <p:spPr>
            <a:xfrm>
              <a:off x="5189400" y="5493600"/>
              <a:ext cx="2507400" cy="894600"/>
            </a:xfrm>
            <a:custGeom>
              <a:avLst/>
              <a:gdLst>
                <a:gd name="textAreaLeft" fmla="*/ 0 w 2507400"/>
                <a:gd name="textAreaRight" fmla="*/ 2507760 w 250740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1527" h="546">
                  <a:moveTo>
                    <a:pt x="0" y="0"/>
                  </a:moveTo>
                  <a:lnTo>
                    <a:pt x="309" y="0"/>
                  </a:lnTo>
                  <a:lnTo>
                    <a:pt x="309" y="546"/>
                  </a:lnTo>
                  <a:lnTo>
                    <a:pt x="621" y="546"/>
                  </a:lnTo>
                  <a:lnTo>
                    <a:pt x="621" y="369"/>
                  </a:lnTo>
                  <a:lnTo>
                    <a:pt x="921" y="369"/>
                  </a:lnTo>
                  <a:lnTo>
                    <a:pt x="921" y="186"/>
                  </a:lnTo>
                  <a:lnTo>
                    <a:pt x="1242" y="186"/>
                  </a:lnTo>
                  <a:lnTo>
                    <a:pt x="1242" y="0"/>
                  </a:lnTo>
                  <a:lnTo>
                    <a:pt x="152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7"/>
            <p:cNvSpPr/>
            <p:nvPr/>
          </p:nvSpPr>
          <p:spPr>
            <a:xfrm>
              <a:off x="4800600" y="562644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/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8"/>
            <p:cNvSpPr/>
            <p:nvPr/>
          </p:nvSpPr>
          <p:spPr>
            <a:xfrm>
              <a:off x="7289640" y="5505120"/>
              <a:ext cx="35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21"/>
            <p:cNvSpPr/>
            <p:nvPr/>
          </p:nvSpPr>
          <p:spPr>
            <a:xfrm>
              <a:off x="7716600" y="5980320"/>
              <a:ext cx="28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05C9-D967-429D-A02D-67D09683712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CB1-E0DC-48FC-8B62-86AD31E5BDB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rekvencia-átszöv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más után következő vivőket a spektrumban összekever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járás eredménye, hogy a csatorna zavarai (pl. szelektív fading) nem egy programot törölnek ki, hanem minden programban csak egy kis, javítható hibát okoz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z alvivőket időben is összekeverik, tovább javíthatók a vételi viszonyok. Ez az időbeli átszövés, azaz az interle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5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210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D900-9B2E-4560-8528-9F1FB4AC732B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8996-58CE-4112-ABAF-8F62D7F5E00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dőbeli bitátszöv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SC-ben 16 logikai kereten keresztüli bitátszö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ására a vételi oldalon a burst-ös meghibásodások szétszóródnak az egyes hib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4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53146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655-949E-4D47-94B8-B4419273C76C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A59C-8A07-49D0-AC11-20BF5C409F2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dásmódok a DAB és DAB+ rendszerekné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600200" y="1600200"/>
          <a:ext cx="5778360" cy="438948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143000"/>
                <a:gridCol w="952560"/>
                <a:gridCol w="10159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mé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adásm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adásm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adásm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adásm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ő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őtávol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jes szimbólum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6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3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2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édelmi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μ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uttó MSC adat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04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04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04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04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uttó FIC adat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évleges maximális adótávol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 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ználható frekvenciatartom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5 MHz-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GHz-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GHz-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GHz-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vasolt alkalm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öldfelszí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öldfelszíni</a:t>
                      </a:r>
                      <a:br>
                        <a:rPr sz="1200"/>
                      </a:b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elyi műsorszórá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űholdas és földfelszí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ábeles, műholdas és vegyes műholdas-földfelszí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C0A-2532-4B90-85F9-F5144F3D2AB0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E397-49E9-4B9C-96E3-5771BB69DB0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AB általános blokkváz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66"/>
          <p:cNvGrpSpPr/>
          <p:nvPr/>
        </p:nvGrpSpPr>
        <p:grpSpPr>
          <a:xfrm>
            <a:off x="380880" y="1600200"/>
            <a:ext cx="8173800" cy="3637080"/>
            <a:chOff x="380880" y="1600200"/>
            <a:chExt cx="8173800" cy="3637080"/>
          </a:xfrm>
        </p:grpSpPr>
        <p:sp>
          <p:nvSpPr>
            <p:cNvPr id="967" name="AutoShape 5"/>
            <p:cNvSpPr/>
            <p:nvPr/>
          </p:nvSpPr>
          <p:spPr>
            <a:xfrm>
              <a:off x="533160" y="2100240"/>
              <a:ext cx="7772400" cy="31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6"/>
            <p:cNvSpPr/>
            <p:nvPr/>
          </p:nvSpPr>
          <p:spPr>
            <a:xfrm>
              <a:off x="380880" y="3548160"/>
              <a:ext cx="1087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. adat-szolgál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7"/>
            <p:cNvSpPr/>
            <p:nvPr/>
          </p:nvSpPr>
          <p:spPr>
            <a:xfrm>
              <a:off x="380880" y="2328840"/>
              <a:ext cx="108720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N. hang-szolgál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8"/>
            <p:cNvSpPr/>
            <p:nvPr/>
          </p:nvSpPr>
          <p:spPr>
            <a:xfrm>
              <a:off x="3504960" y="4121280"/>
              <a:ext cx="1371600" cy="2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gyéb szolgálat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9"/>
            <p:cNvSpPr/>
            <p:nvPr/>
          </p:nvSpPr>
          <p:spPr>
            <a:xfrm>
              <a:off x="3581280" y="2878200"/>
              <a:ext cx="13716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gyéb szolgálat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0"/>
            <p:cNvSpPr/>
            <p:nvPr/>
          </p:nvSpPr>
          <p:spPr>
            <a:xfrm>
              <a:off x="1477800" y="2100240"/>
              <a:ext cx="9334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Hang</a:t>
              </a:r>
              <a:br>
                <a:rPr sz="1200"/>
              </a:b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ódol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11"/>
            <p:cNvSpPr/>
            <p:nvPr/>
          </p:nvSpPr>
          <p:spPr>
            <a:xfrm>
              <a:off x="2566800" y="2100240"/>
              <a:ext cx="108756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satorna</a:t>
              </a:r>
              <a:br>
                <a:rPr sz="1200"/>
              </a:b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ódol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3809880" y="2100240"/>
              <a:ext cx="9334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dőbeli átszöv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13"/>
            <p:cNvSpPr/>
            <p:nvPr/>
          </p:nvSpPr>
          <p:spPr>
            <a:xfrm>
              <a:off x="1477800" y="3343320"/>
              <a:ext cx="9334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Hang</a:t>
              </a:r>
              <a:br>
                <a:rPr sz="1200"/>
              </a:b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ódol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2566800" y="3343320"/>
              <a:ext cx="108756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satorna</a:t>
              </a:r>
              <a:br>
                <a:rPr sz="1200"/>
              </a:b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ódol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3809880" y="3343320"/>
              <a:ext cx="9334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dőbeli átszöv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6"/>
            <p:cNvSpPr/>
            <p:nvPr/>
          </p:nvSpPr>
          <p:spPr>
            <a:xfrm>
              <a:off x="1012680" y="241164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7"/>
            <p:cNvSpPr/>
            <p:nvPr/>
          </p:nvSpPr>
          <p:spPr>
            <a:xfrm>
              <a:off x="1012680" y="3654360"/>
              <a:ext cx="465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2"/>
            <p:cNvSpPr/>
            <p:nvPr/>
          </p:nvSpPr>
          <p:spPr>
            <a:xfrm>
              <a:off x="5105160" y="2100240"/>
              <a:ext cx="609480" cy="186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25"/>
            <p:cNvSpPr/>
            <p:nvPr/>
          </p:nvSpPr>
          <p:spPr>
            <a:xfrm flipV="1">
              <a:off x="4876560" y="2405160"/>
              <a:ext cx="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26"/>
            <p:cNvSpPr/>
            <p:nvPr/>
          </p:nvSpPr>
          <p:spPr>
            <a:xfrm>
              <a:off x="4809960" y="3624480"/>
              <a:ext cx="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8"/>
            <p:cNvSpPr/>
            <p:nvPr/>
          </p:nvSpPr>
          <p:spPr>
            <a:xfrm>
              <a:off x="5943240" y="2710080"/>
              <a:ext cx="1244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Frekvencia átszöv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9"/>
            <p:cNvSpPr/>
            <p:nvPr/>
          </p:nvSpPr>
          <p:spPr>
            <a:xfrm>
              <a:off x="4952880" y="4614840"/>
              <a:ext cx="91440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UX vezérl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30"/>
            <p:cNvSpPr/>
            <p:nvPr/>
          </p:nvSpPr>
          <p:spPr>
            <a:xfrm>
              <a:off x="6019560" y="3776760"/>
              <a:ext cx="107964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FIC előállít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31"/>
            <p:cNvSpPr/>
            <p:nvPr/>
          </p:nvSpPr>
          <p:spPr>
            <a:xfrm>
              <a:off x="7543440" y="2710080"/>
              <a:ext cx="9334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OFD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32"/>
            <p:cNvSpPr/>
            <p:nvPr/>
          </p:nvSpPr>
          <p:spPr>
            <a:xfrm>
              <a:off x="3581280" y="4614840"/>
              <a:ext cx="1114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olgálatok konfiguráció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33"/>
            <p:cNvSpPr/>
            <p:nvPr/>
          </p:nvSpPr>
          <p:spPr>
            <a:xfrm>
              <a:off x="4647960" y="491976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38"/>
            <p:cNvSpPr/>
            <p:nvPr/>
          </p:nvSpPr>
          <p:spPr>
            <a:xfrm>
              <a:off x="7467480" y="3776760"/>
              <a:ext cx="108720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inkron generá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41"/>
            <p:cNvSpPr/>
            <p:nvPr/>
          </p:nvSpPr>
          <p:spPr>
            <a:xfrm>
              <a:off x="7640280" y="1600200"/>
              <a:ext cx="698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DAB j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AutoShape 48"/>
            <p:cNvCxnSpPr>
              <a:stCxn id="972" idx="3"/>
              <a:endCxn id="973" idx="1"/>
            </p:cNvCxnSpPr>
            <p:nvPr/>
          </p:nvCxnSpPr>
          <p:spPr>
            <a:xfrm>
              <a:off x="2411280" y="2411280"/>
              <a:ext cx="155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2" name="AutoShape 49"/>
            <p:cNvCxnSpPr>
              <a:stCxn id="975" idx="3"/>
              <a:endCxn id="976" idx="1"/>
            </p:cNvCxnSpPr>
            <p:nvPr/>
          </p:nvCxnSpPr>
          <p:spPr>
            <a:xfrm>
              <a:off x="2411280" y="3654000"/>
              <a:ext cx="155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3" name="AutoShape 50"/>
            <p:cNvCxnSpPr>
              <a:stCxn id="973" idx="3"/>
              <a:endCxn id="974" idx="1"/>
            </p:cNvCxnSpPr>
            <p:nvPr/>
          </p:nvCxnSpPr>
          <p:spPr>
            <a:xfrm>
              <a:off x="3654360" y="2411280"/>
              <a:ext cx="155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4" name="AutoShape 51"/>
            <p:cNvCxnSpPr>
              <a:stCxn id="976" idx="3"/>
              <a:endCxn id="977" idx="1"/>
            </p:cNvCxnSpPr>
            <p:nvPr/>
          </p:nvCxnSpPr>
          <p:spPr>
            <a:xfrm>
              <a:off x="3654360" y="3654000"/>
              <a:ext cx="155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5" name="Line 54"/>
            <p:cNvSpPr/>
            <p:nvPr/>
          </p:nvSpPr>
          <p:spPr>
            <a:xfrm>
              <a:off x="4724280" y="3624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55"/>
            <p:cNvSpPr/>
            <p:nvPr/>
          </p:nvSpPr>
          <p:spPr>
            <a:xfrm>
              <a:off x="4724280" y="2405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7" name="AutoShape 56"/>
            <p:cNvCxnSpPr>
              <a:stCxn id="980" idx="3"/>
              <a:endCxn id="983" idx="1"/>
            </p:cNvCxnSpPr>
            <p:nvPr/>
          </p:nvCxnSpPr>
          <p:spPr>
            <a:xfrm flipV="1">
              <a:off x="5714280" y="3020400"/>
              <a:ext cx="229320" cy="1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8" name="AutoShape 57"/>
            <p:cNvCxnSpPr>
              <a:stCxn id="983" idx="3"/>
              <a:endCxn id="986" idx="1"/>
            </p:cNvCxnSpPr>
            <p:nvPr/>
          </p:nvCxnSpPr>
          <p:spPr>
            <a:xfrm>
              <a:off x="7187760" y="3020760"/>
              <a:ext cx="356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9" name="AutoShape 58"/>
            <p:cNvCxnSpPr>
              <a:stCxn id="985" idx="0"/>
              <a:endCxn id="983" idx="2"/>
            </p:cNvCxnSpPr>
            <p:nvPr/>
          </p:nvCxnSpPr>
          <p:spPr>
            <a:xfrm flipV="1">
              <a:off x="6559200" y="3331440"/>
              <a:ext cx="7200" cy="44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0" name="AutoShape 59"/>
            <p:cNvCxnSpPr>
              <a:stCxn id="989" idx="0"/>
              <a:endCxn id="986" idx="2"/>
            </p:cNvCxnSpPr>
            <p:nvPr/>
          </p:nvCxnSpPr>
          <p:spPr>
            <a:xfrm flipH="1" flipV="1">
              <a:off x="8010000" y="3331440"/>
              <a:ext cx="2160" cy="44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1" name="Line 60"/>
            <p:cNvSpPr/>
            <p:nvPr/>
          </p:nvSpPr>
          <p:spPr>
            <a:xfrm flipV="1">
              <a:off x="8000640" y="18712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2" name="AutoShape 64"/>
            <p:cNvCxnSpPr>
              <a:stCxn id="984" idx="0"/>
              <a:endCxn id="980" idx="2"/>
            </p:cNvCxnSpPr>
            <p:nvPr/>
          </p:nvCxnSpPr>
          <p:spPr>
            <a:xfrm flipV="1">
              <a:off x="5409720" y="3965040"/>
              <a:ext cx="108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3" name="AutoShape 65"/>
            <p:cNvCxnSpPr>
              <a:stCxn id="984" idx="3"/>
              <a:endCxn id="985" idx="2"/>
            </p:cNvCxnSpPr>
            <p:nvPr/>
          </p:nvCxnSpPr>
          <p:spPr>
            <a:xfrm flipV="1">
              <a:off x="5867280" y="4398840"/>
              <a:ext cx="692640" cy="527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055E-B24B-4400-BE5E-7749EEBE157F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5570-2F53-45A0-BCE2-1C9E64B9554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OFDM alvivők modul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FDM – kódolt OF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-DAB I. adásmód: 1536 vivő, 1 kHz-es, távolságra védősávval együtt 1,712 MHz-es csatornákat használ, VHF III. (174-240 MHz) sáv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FDM által előállított vivők közül vannak, amelyek a szinkronitás fenntartásáért felelnek, a hanginformációt a vivők IQ modulációjával továbbítj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6" descr=""/>
          <p:cNvPicPr/>
          <p:nvPr/>
        </p:nvPicPr>
        <p:blipFill>
          <a:blip r:embed="rId1"/>
          <a:stretch/>
        </p:blipFill>
        <p:spPr>
          <a:xfrm>
            <a:off x="1600200" y="3648240"/>
            <a:ext cx="60199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DC04-081D-4734-B56C-567D44436828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664C-E5FD-4F1A-9E14-37C6168AFD1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QPSK mod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egyes ODFM alvivő modulációja π/4 eltolású D-QPSK (differenciális, 4 állapotú fázismoduláci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ifferenciális QPSK-val modulált jel egy állapota 2 bit információt hord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ithiba-arány minél alacsonyabban tartása érdekében nem bináris, hanem Gray-kódolást használnak az egyes állapotok azonosítás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4" descr=""/>
          <p:cNvPicPr/>
          <p:nvPr/>
        </p:nvPicPr>
        <p:blipFill>
          <a:blip r:embed="rId1"/>
          <a:stretch/>
        </p:blipFill>
        <p:spPr>
          <a:xfrm>
            <a:off x="6286680" y="1828800"/>
            <a:ext cx="285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9BD4-106F-42E2-9AB8-D8D2C8674F22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2C8-6A4E-4054-89B3-DEC94714ABA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egyfrekvenciás hálózatok (SFN-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D23-020A-4F3C-8B5B-E2B376552321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77A-B778-40B1-A9F9-8A2472EE3C2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álózati alap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álózatok kialakításának lehetősé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F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z adók különböző frekvenciákon sugároznak egymástól függetlenül, akár eltérő programokat is. – Nem szinkronizálják az adók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nye: regionális programok sugárzása egyszer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F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z adók együttesen lefedett területet biztosítva, azonos frekvencián működnek, valamint ugyanazt a programcsomagot sugározzá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AB+-nál a VHF sávban 1,536 MHz-es csatornákat használva az OFDM modulációs eljárásnak köszönhetően nagy spektrumhatékonyságot érnek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gyfrekvenciás hálózatok típu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gykiterjedésű S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őként nagyteljesítményű adókkal, nagy területek lefedésére használha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i S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nagyteljesítményű adó több kisteljesítményű adóval kiegészítve látja el az adott terüle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űrű háló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bben az esetben több, kisteljesítményű adóval biztosítják az egyenletes lefed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8D1B-2BB8-4C09-8F48-801F84FF464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D3DC-E0F5-4BE1-894F-8024A2AB8B6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egyfrekvenciás hálózatok (SFN-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FN-ek hálózatnyere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nalóg hálózatoknál a vett térerősség véletlenszerű változását az adóteljesítmény növelésével lehet kompenzálni. Egyfrekvenciás hálózatoknál a több adótól érkező jelek vétele nagyobb átlagos térerősséget és kisebb vételi jelszint-ingadozást eredmény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hálózatnyereség főként az ellátottsági terület határán fontos tényező, jobb vételi lehetőséget eredményez mobil és hordozható vétel esetén, mint ami a többfrekvenciás hálózatokban jellemz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FN hálózati struktúr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6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1752840" cy="1366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7" descr=""/>
          <p:cNvPicPr/>
          <p:nvPr/>
        </p:nvPicPr>
        <p:blipFill>
          <a:blip r:embed="rId2"/>
          <a:stretch/>
        </p:blipFill>
        <p:spPr>
          <a:xfrm>
            <a:off x="5638680" y="3946680"/>
            <a:ext cx="1752840" cy="136980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8"/>
          <p:cNvSpPr/>
          <p:nvPr/>
        </p:nvSpPr>
        <p:spPr>
          <a:xfrm>
            <a:off x="1295280" y="53341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yílt hálózati struktúra (mint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9"/>
          <p:cNvSpPr/>
          <p:nvPr/>
        </p:nvSpPr>
        <p:spPr>
          <a:xfrm>
            <a:off x="5029200" y="53341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Zárt hálózati struktúra (mint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0"/>
          <p:cNvSpPr/>
          <p:nvPr/>
        </p:nvSpPr>
        <p:spPr>
          <a:xfrm>
            <a:off x="1219320" y="5638680"/>
            <a:ext cx="327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ók nem csak az ellátottsági terület közepe felé sugározn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D0B-E4FC-4D3C-A45C-CDB6A0B6EFF0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1C37-CA10-4D30-945C-C96D94725AF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egyfrekvenciás hálózatok (SFN-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FN-ek követelmény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gyanazt az információt sugározzá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gyanazon a frekvenciá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gyanabban a pillanat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4"/>
          <p:cNvGrpSpPr/>
          <p:nvPr/>
        </p:nvGrpSpPr>
        <p:grpSpPr>
          <a:xfrm>
            <a:off x="1828800" y="3048120"/>
            <a:ext cx="5486400" cy="3418920"/>
            <a:chOff x="1828800" y="3048120"/>
            <a:chExt cx="5486400" cy="3418920"/>
          </a:xfrm>
        </p:grpSpPr>
        <p:pic>
          <p:nvPicPr>
            <p:cNvPr id="1035" name="Picture 5" descr=""/>
            <p:cNvPicPr/>
            <p:nvPr/>
          </p:nvPicPr>
          <p:blipFill>
            <a:blip r:embed="rId1"/>
            <a:stretch/>
          </p:blipFill>
          <p:spPr>
            <a:xfrm>
              <a:off x="1828800" y="3124080"/>
              <a:ext cx="5486400" cy="3342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36" name="Object 6"/>
                <p:cNvSpPr txBox="1"/>
                <p:nvPr/>
              </p:nvSpPr>
              <p:spPr>
                <a:xfrm>
                  <a:off x="3200400" y="3428640"/>
                  <a:ext cx="457200" cy="40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Object 7"/>
                <p:cNvSpPr txBox="1"/>
                <p:nvPr/>
              </p:nvSpPr>
              <p:spPr>
                <a:xfrm>
                  <a:off x="5562720" y="3581280"/>
                  <a:ext cx="504720" cy="40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8" name="Object 8"/>
                <p:cNvSpPr txBox="1"/>
                <p:nvPr/>
              </p:nvSpPr>
              <p:spPr>
                <a:xfrm>
                  <a:off x="3962520" y="5257440"/>
                  <a:ext cx="4953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39" name="Text Box 9"/>
            <p:cNvSpPr/>
            <p:nvPr/>
          </p:nvSpPr>
          <p:spPr>
            <a:xfrm>
              <a:off x="4876920" y="5181480"/>
              <a:ext cx="9144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DAB vev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10"/>
            <p:cNvSpPr/>
            <p:nvPr/>
          </p:nvSpPr>
          <p:spPr>
            <a:xfrm>
              <a:off x="2743200" y="480024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x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11"/>
            <p:cNvSpPr/>
            <p:nvPr/>
          </p:nvSpPr>
          <p:spPr>
            <a:xfrm>
              <a:off x="1828800" y="3048120"/>
              <a:ext cx="457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x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12"/>
            <p:cNvSpPr/>
            <p:nvPr/>
          </p:nvSpPr>
          <p:spPr>
            <a:xfrm>
              <a:off x="6248520" y="3124080"/>
              <a:ext cx="457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x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FDB4-508B-4C8A-964B-AC0DCFC4E20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609-83C1-4AC9-AC61-54DD78DC4E7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igitalizálás (analóg-digitális átalakí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nalóg jelből digitális jelet például pulzus- kód modulációval hozhatunk létre, ennek lépés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ávhatárolás (frekvencia tartományb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325760" y="1427040"/>
            <a:ext cx="5350320" cy="4744440"/>
            <a:chOff x="4325760" y="1427040"/>
            <a:chExt cx="5350320" cy="4744440"/>
          </a:xfrm>
        </p:grpSpPr>
        <p:grpSp>
          <p:nvGrpSpPr>
            <p:cNvPr id="204" name="Group 5"/>
            <p:cNvGrpSpPr/>
            <p:nvPr/>
          </p:nvGrpSpPr>
          <p:grpSpPr>
            <a:xfrm>
              <a:off x="4332600" y="4185360"/>
              <a:ext cx="4164120" cy="299880"/>
              <a:chOff x="4332600" y="4185360"/>
              <a:chExt cx="4164120" cy="29988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5427000" y="4455720"/>
                <a:ext cx="306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7"/>
              <p:cNvSpPr/>
              <p:nvPr/>
            </p:nvSpPr>
            <p:spPr>
              <a:xfrm>
                <a:off x="6003000" y="442404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8"/>
              <p:cNvSpPr/>
              <p:nvPr/>
            </p:nvSpPr>
            <p:spPr>
              <a:xfrm>
                <a:off x="6498360" y="442944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9"/>
              <p:cNvSpPr/>
              <p:nvPr/>
            </p:nvSpPr>
            <p:spPr>
              <a:xfrm>
                <a:off x="6986880" y="4434840"/>
                <a:ext cx="5904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10"/>
              <p:cNvSpPr/>
              <p:nvPr/>
            </p:nvSpPr>
            <p:spPr>
              <a:xfrm>
                <a:off x="7484760" y="442548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1"/>
              <p:cNvSpPr/>
              <p:nvPr/>
            </p:nvSpPr>
            <p:spPr>
              <a:xfrm>
                <a:off x="7977960" y="442404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12"/>
              <p:cNvSpPr/>
              <p:nvPr/>
            </p:nvSpPr>
            <p:spPr>
              <a:xfrm>
                <a:off x="5864040" y="4185360"/>
                <a:ext cx="41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13"/>
              <p:cNvSpPr/>
              <p:nvPr/>
            </p:nvSpPr>
            <p:spPr>
              <a:xfrm>
                <a:off x="6318000" y="4200120"/>
                <a:ext cx="42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4"/>
              <p:cNvSpPr/>
              <p:nvPr/>
            </p:nvSpPr>
            <p:spPr>
              <a:xfrm>
                <a:off x="6804720" y="4186800"/>
                <a:ext cx="41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5"/>
              <p:cNvSpPr/>
              <p:nvPr/>
            </p:nvSpPr>
            <p:spPr>
              <a:xfrm>
                <a:off x="7291440" y="4196160"/>
                <a:ext cx="41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16"/>
              <p:cNvSpPr/>
              <p:nvPr/>
            </p:nvSpPr>
            <p:spPr>
              <a:xfrm>
                <a:off x="7804440" y="4188960"/>
                <a:ext cx="410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7"/>
              <p:cNvSpPr/>
              <p:nvPr/>
            </p:nvSpPr>
            <p:spPr>
              <a:xfrm>
                <a:off x="4332600" y="4207680"/>
                <a:ext cx="1550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vantált értékek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8"/>
            <p:cNvGrpSpPr/>
            <p:nvPr/>
          </p:nvGrpSpPr>
          <p:grpSpPr>
            <a:xfrm>
              <a:off x="4336560" y="5045040"/>
              <a:ext cx="4165200" cy="296640"/>
              <a:chOff x="4336560" y="5045040"/>
              <a:chExt cx="4165200" cy="296640"/>
            </a:xfrm>
          </p:grpSpPr>
          <p:sp>
            <p:nvSpPr>
              <p:cNvPr id="218" name="Line 19"/>
              <p:cNvSpPr/>
              <p:nvPr/>
            </p:nvSpPr>
            <p:spPr>
              <a:xfrm>
                <a:off x="5431680" y="5311800"/>
                <a:ext cx="30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20"/>
              <p:cNvSpPr/>
              <p:nvPr/>
            </p:nvSpPr>
            <p:spPr>
              <a:xfrm>
                <a:off x="6007320" y="527976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1"/>
              <p:cNvSpPr/>
              <p:nvPr/>
            </p:nvSpPr>
            <p:spPr>
              <a:xfrm>
                <a:off x="6502680" y="5285520"/>
                <a:ext cx="5832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2"/>
              <p:cNvSpPr/>
              <p:nvPr/>
            </p:nvSpPr>
            <p:spPr>
              <a:xfrm>
                <a:off x="6991560" y="529128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23"/>
              <p:cNvSpPr/>
              <p:nvPr/>
            </p:nvSpPr>
            <p:spPr>
              <a:xfrm>
                <a:off x="7489440" y="528192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4"/>
              <p:cNvSpPr/>
              <p:nvPr/>
            </p:nvSpPr>
            <p:spPr>
              <a:xfrm>
                <a:off x="7982640" y="5279760"/>
                <a:ext cx="5832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25"/>
              <p:cNvSpPr/>
              <p:nvPr/>
            </p:nvSpPr>
            <p:spPr>
              <a:xfrm>
                <a:off x="5757480" y="5046480"/>
                <a:ext cx="580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26"/>
              <p:cNvSpPr/>
              <p:nvPr/>
            </p:nvSpPr>
            <p:spPr>
              <a:xfrm>
                <a:off x="6250680" y="5045040"/>
                <a:ext cx="573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27"/>
              <p:cNvSpPr/>
              <p:nvPr/>
            </p:nvSpPr>
            <p:spPr>
              <a:xfrm>
                <a:off x="6743880" y="5048640"/>
                <a:ext cx="61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28"/>
              <p:cNvSpPr/>
              <p:nvPr/>
            </p:nvSpPr>
            <p:spPr>
              <a:xfrm>
                <a:off x="7224120" y="5052600"/>
                <a:ext cx="599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29"/>
              <p:cNvSpPr/>
              <p:nvPr/>
            </p:nvSpPr>
            <p:spPr>
              <a:xfrm>
                <a:off x="7730280" y="5050440"/>
                <a:ext cx="639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0"/>
              <p:cNvSpPr/>
              <p:nvPr/>
            </p:nvSpPr>
            <p:spPr>
              <a:xfrm>
                <a:off x="4336560" y="5063760"/>
                <a:ext cx="1551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ódolt értékek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31"/>
            <p:cNvGrpSpPr/>
            <p:nvPr/>
          </p:nvGrpSpPr>
          <p:grpSpPr>
            <a:xfrm>
              <a:off x="4325760" y="5737680"/>
              <a:ext cx="4165200" cy="433800"/>
              <a:chOff x="4325760" y="5737680"/>
              <a:chExt cx="4165200" cy="433800"/>
            </a:xfrm>
          </p:grpSpPr>
          <p:sp>
            <p:nvSpPr>
              <p:cNvPr id="231" name="Line 32"/>
              <p:cNvSpPr/>
              <p:nvPr/>
            </p:nvSpPr>
            <p:spPr>
              <a:xfrm>
                <a:off x="5420880" y="6160680"/>
                <a:ext cx="30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33"/>
              <p:cNvSpPr/>
              <p:nvPr/>
            </p:nvSpPr>
            <p:spPr>
              <a:xfrm>
                <a:off x="5746680" y="5737680"/>
                <a:ext cx="580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34"/>
              <p:cNvSpPr/>
              <p:nvPr/>
            </p:nvSpPr>
            <p:spPr>
              <a:xfrm>
                <a:off x="6205320" y="5739120"/>
                <a:ext cx="573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35"/>
              <p:cNvSpPr/>
              <p:nvPr/>
            </p:nvSpPr>
            <p:spPr>
              <a:xfrm>
                <a:off x="6691680" y="5743080"/>
                <a:ext cx="61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36"/>
              <p:cNvSpPr/>
              <p:nvPr/>
            </p:nvSpPr>
            <p:spPr>
              <a:xfrm>
                <a:off x="7202520" y="5748480"/>
                <a:ext cx="599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37"/>
              <p:cNvSpPr/>
              <p:nvPr/>
            </p:nvSpPr>
            <p:spPr>
              <a:xfrm>
                <a:off x="7695720" y="5748480"/>
                <a:ext cx="638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38"/>
              <p:cNvSpPr/>
              <p:nvPr/>
            </p:nvSpPr>
            <p:spPr>
              <a:xfrm>
                <a:off x="4325760" y="5912280"/>
                <a:ext cx="1551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ódolt bináris jelsorozat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39"/>
              <p:cNvSpPr/>
              <p:nvPr/>
            </p:nvSpPr>
            <p:spPr>
              <a:xfrm>
                <a:off x="5911560" y="5989680"/>
                <a:ext cx="0" cy="16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40"/>
              <p:cNvSpPr/>
              <p:nvPr/>
            </p:nvSpPr>
            <p:spPr>
              <a:xfrm>
                <a:off x="5979240" y="5991120"/>
                <a:ext cx="0" cy="16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41"/>
              <p:cNvSpPr/>
              <p:nvPr/>
            </p:nvSpPr>
            <p:spPr>
              <a:xfrm>
                <a:off x="6044040" y="5989680"/>
                <a:ext cx="0" cy="16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42"/>
              <p:cNvSpPr/>
              <p:nvPr/>
            </p:nvSpPr>
            <p:spPr>
              <a:xfrm>
                <a:off x="6109560" y="5989680"/>
                <a:ext cx="0" cy="16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43"/>
              <p:cNvSpPr/>
              <p:nvPr/>
            </p:nvSpPr>
            <p:spPr>
              <a:xfrm>
                <a:off x="6418080" y="5993280"/>
                <a:ext cx="0" cy="16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4"/>
              <p:cNvSpPr/>
              <p:nvPr/>
            </p:nvSpPr>
            <p:spPr>
              <a:xfrm>
                <a:off x="6485760" y="5995080"/>
                <a:ext cx="0" cy="16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5"/>
              <p:cNvSpPr/>
              <p:nvPr/>
            </p:nvSpPr>
            <p:spPr>
              <a:xfrm>
                <a:off x="6550560" y="5993280"/>
                <a:ext cx="0" cy="16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46"/>
              <p:cNvSpPr/>
              <p:nvPr/>
            </p:nvSpPr>
            <p:spPr>
              <a:xfrm>
                <a:off x="6615720" y="5993280"/>
                <a:ext cx="0" cy="16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47"/>
              <p:cNvSpPr/>
              <p:nvPr/>
            </p:nvSpPr>
            <p:spPr>
              <a:xfrm>
                <a:off x="6906960" y="5993280"/>
                <a:ext cx="0" cy="16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48"/>
              <p:cNvSpPr/>
              <p:nvPr/>
            </p:nvSpPr>
            <p:spPr>
              <a:xfrm>
                <a:off x="6974280" y="5995080"/>
                <a:ext cx="0" cy="16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49"/>
              <p:cNvSpPr/>
              <p:nvPr/>
            </p:nvSpPr>
            <p:spPr>
              <a:xfrm>
                <a:off x="7039440" y="5993280"/>
                <a:ext cx="0" cy="16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50"/>
              <p:cNvSpPr/>
              <p:nvPr/>
            </p:nvSpPr>
            <p:spPr>
              <a:xfrm>
                <a:off x="7104600" y="5993280"/>
                <a:ext cx="0" cy="16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51"/>
              <p:cNvSpPr/>
              <p:nvPr/>
            </p:nvSpPr>
            <p:spPr>
              <a:xfrm>
                <a:off x="7409160" y="5995080"/>
                <a:ext cx="0" cy="16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52"/>
              <p:cNvSpPr/>
              <p:nvPr/>
            </p:nvSpPr>
            <p:spPr>
              <a:xfrm>
                <a:off x="7476120" y="5996880"/>
                <a:ext cx="0" cy="16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53"/>
              <p:cNvSpPr/>
              <p:nvPr/>
            </p:nvSpPr>
            <p:spPr>
              <a:xfrm>
                <a:off x="7541640" y="5995080"/>
                <a:ext cx="0" cy="16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54"/>
              <p:cNvSpPr/>
              <p:nvPr/>
            </p:nvSpPr>
            <p:spPr>
              <a:xfrm>
                <a:off x="7606440" y="5995080"/>
                <a:ext cx="0" cy="16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55"/>
              <p:cNvSpPr/>
              <p:nvPr/>
            </p:nvSpPr>
            <p:spPr>
              <a:xfrm>
                <a:off x="7899840" y="6000480"/>
                <a:ext cx="0" cy="16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6"/>
              <p:cNvSpPr/>
              <p:nvPr/>
            </p:nvSpPr>
            <p:spPr>
              <a:xfrm>
                <a:off x="7967160" y="6002640"/>
                <a:ext cx="0" cy="16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7"/>
              <p:cNvSpPr/>
              <p:nvPr/>
            </p:nvSpPr>
            <p:spPr>
              <a:xfrm>
                <a:off x="8032320" y="6000480"/>
                <a:ext cx="0" cy="16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8"/>
              <p:cNvSpPr/>
              <p:nvPr/>
            </p:nvSpPr>
            <p:spPr>
              <a:xfrm>
                <a:off x="8097840" y="6000480"/>
                <a:ext cx="0" cy="16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59"/>
            <p:cNvGrpSpPr/>
            <p:nvPr/>
          </p:nvGrpSpPr>
          <p:grpSpPr>
            <a:xfrm>
              <a:off x="4688640" y="1427040"/>
              <a:ext cx="4987440" cy="2418120"/>
              <a:chOff x="4688640" y="1427040"/>
              <a:chExt cx="4987440" cy="2418120"/>
            </a:xfrm>
          </p:grpSpPr>
          <p:sp>
            <p:nvSpPr>
              <p:cNvPr id="259" name="Line 60"/>
              <p:cNvSpPr/>
              <p:nvPr/>
            </p:nvSpPr>
            <p:spPr>
              <a:xfrm>
                <a:off x="5548680" y="201384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61"/>
              <p:cNvSpPr/>
              <p:nvPr/>
            </p:nvSpPr>
            <p:spPr>
              <a:xfrm>
                <a:off x="5487480" y="2119320"/>
                <a:ext cx="3017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62"/>
              <p:cNvSpPr/>
              <p:nvPr/>
            </p:nvSpPr>
            <p:spPr>
              <a:xfrm>
                <a:off x="5548680" y="222624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63"/>
              <p:cNvSpPr/>
              <p:nvPr/>
            </p:nvSpPr>
            <p:spPr>
              <a:xfrm>
                <a:off x="5487480" y="2333880"/>
                <a:ext cx="3017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64"/>
              <p:cNvSpPr/>
              <p:nvPr/>
            </p:nvSpPr>
            <p:spPr>
              <a:xfrm>
                <a:off x="5548680" y="243936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5"/>
              <p:cNvSpPr/>
              <p:nvPr/>
            </p:nvSpPr>
            <p:spPr>
              <a:xfrm>
                <a:off x="5487480" y="2546280"/>
                <a:ext cx="3017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6"/>
              <p:cNvSpPr/>
              <p:nvPr/>
            </p:nvSpPr>
            <p:spPr>
              <a:xfrm>
                <a:off x="5548680" y="265356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7"/>
              <p:cNvSpPr/>
              <p:nvPr/>
            </p:nvSpPr>
            <p:spPr>
              <a:xfrm>
                <a:off x="5487480" y="2760840"/>
                <a:ext cx="3017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8"/>
              <p:cNvSpPr/>
              <p:nvPr/>
            </p:nvSpPr>
            <p:spPr>
              <a:xfrm>
                <a:off x="5487480" y="1906920"/>
                <a:ext cx="3017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9"/>
              <p:cNvSpPr/>
              <p:nvPr/>
            </p:nvSpPr>
            <p:spPr>
              <a:xfrm>
                <a:off x="5487480" y="2973600"/>
                <a:ext cx="3017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0"/>
              <p:cNvSpPr/>
              <p:nvPr/>
            </p:nvSpPr>
            <p:spPr>
              <a:xfrm>
                <a:off x="5548680" y="307872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5487480" y="3186000"/>
                <a:ext cx="3017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2"/>
              <p:cNvSpPr/>
              <p:nvPr/>
            </p:nvSpPr>
            <p:spPr>
              <a:xfrm>
                <a:off x="5548680" y="329364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73"/>
              <p:cNvSpPr/>
              <p:nvPr/>
            </p:nvSpPr>
            <p:spPr>
              <a:xfrm flipV="1">
                <a:off x="5487480" y="3398760"/>
                <a:ext cx="3017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4"/>
              <p:cNvSpPr/>
              <p:nvPr/>
            </p:nvSpPr>
            <p:spPr>
              <a:xfrm>
                <a:off x="5548680" y="350604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5"/>
              <p:cNvSpPr/>
              <p:nvPr/>
            </p:nvSpPr>
            <p:spPr>
              <a:xfrm>
                <a:off x="5548680" y="361296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6"/>
              <p:cNvSpPr/>
              <p:nvPr/>
            </p:nvSpPr>
            <p:spPr>
              <a:xfrm>
                <a:off x="5548680" y="2866320"/>
                <a:ext cx="295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7"/>
              <p:cNvSpPr/>
              <p:nvPr/>
            </p:nvSpPr>
            <p:spPr>
              <a:xfrm flipV="1">
                <a:off x="5548680" y="1639440"/>
                <a:ext cx="0" cy="20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8"/>
              <p:cNvSpPr/>
              <p:nvPr/>
            </p:nvSpPr>
            <p:spPr>
              <a:xfrm>
                <a:off x="5487480" y="3612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9"/>
              <p:cNvSpPr/>
              <p:nvPr/>
            </p:nvSpPr>
            <p:spPr>
              <a:xfrm>
                <a:off x="5487480" y="3612960"/>
                <a:ext cx="3326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80"/>
              <p:cNvSpPr/>
              <p:nvPr/>
            </p:nvSpPr>
            <p:spPr>
              <a:xfrm>
                <a:off x="5242320" y="3293640"/>
                <a:ext cx="36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81"/>
              <p:cNvSpPr/>
              <p:nvPr/>
            </p:nvSpPr>
            <p:spPr>
              <a:xfrm>
                <a:off x="5242320" y="3080520"/>
                <a:ext cx="36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82"/>
              <p:cNvSpPr/>
              <p:nvPr/>
            </p:nvSpPr>
            <p:spPr>
              <a:xfrm>
                <a:off x="5242320" y="2866320"/>
                <a:ext cx="308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83"/>
              <p:cNvSpPr/>
              <p:nvPr/>
            </p:nvSpPr>
            <p:spPr>
              <a:xfrm>
                <a:off x="5242320" y="3506040"/>
                <a:ext cx="306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84"/>
              <p:cNvSpPr/>
              <p:nvPr/>
            </p:nvSpPr>
            <p:spPr>
              <a:xfrm>
                <a:off x="5242320" y="2653560"/>
                <a:ext cx="308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85"/>
              <p:cNvSpPr/>
              <p:nvPr/>
            </p:nvSpPr>
            <p:spPr>
              <a:xfrm>
                <a:off x="5179320" y="243936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86"/>
              <p:cNvSpPr/>
              <p:nvPr/>
            </p:nvSpPr>
            <p:spPr>
              <a:xfrm>
                <a:off x="5179320" y="217404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87"/>
              <p:cNvSpPr/>
              <p:nvPr/>
            </p:nvSpPr>
            <p:spPr>
              <a:xfrm>
                <a:off x="5179320" y="1959480"/>
                <a:ext cx="42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8"/>
              <p:cNvSpPr/>
              <p:nvPr/>
            </p:nvSpPr>
            <p:spPr>
              <a:xfrm>
                <a:off x="5179320" y="1799280"/>
                <a:ext cx="42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9"/>
              <p:cNvSpPr/>
              <p:nvPr/>
            </p:nvSpPr>
            <p:spPr>
              <a:xfrm>
                <a:off x="4688640" y="1427040"/>
                <a:ext cx="184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Szintek (kvantálási lépcsők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90"/>
              <p:cNvSpPr/>
              <p:nvPr/>
            </p:nvSpPr>
            <p:spPr>
              <a:xfrm>
                <a:off x="8690040" y="3345840"/>
                <a:ext cx="36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91"/>
              <p:cNvSpPr/>
              <p:nvPr/>
            </p:nvSpPr>
            <p:spPr>
              <a:xfrm flipV="1">
                <a:off x="6041880" y="1906560"/>
                <a:ext cx="0" cy="17060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92"/>
              <p:cNvSpPr/>
              <p:nvPr/>
            </p:nvSpPr>
            <p:spPr>
              <a:xfrm flipV="1">
                <a:off x="6535080" y="1906560"/>
                <a:ext cx="0" cy="17060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93"/>
              <p:cNvSpPr/>
              <p:nvPr/>
            </p:nvSpPr>
            <p:spPr>
              <a:xfrm flipV="1">
                <a:off x="8012520" y="1906560"/>
                <a:ext cx="0" cy="17060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94"/>
              <p:cNvSpPr/>
              <p:nvPr/>
            </p:nvSpPr>
            <p:spPr>
              <a:xfrm flipV="1">
                <a:off x="7028280" y="1906560"/>
                <a:ext cx="0" cy="17060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95"/>
              <p:cNvSpPr/>
              <p:nvPr/>
            </p:nvSpPr>
            <p:spPr>
              <a:xfrm flipV="1">
                <a:off x="7521480" y="1906560"/>
                <a:ext cx="0" cy="170604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6"/>
              <p:cNvSpPr/>
              <p:nvPr/>
            </p:nvSpPr>
            <p:spPr>
              <a:xfrm>
                <a:off x="5857200" y="3612960"/>
                <a:ext cx="4323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7"/>
              <p:cNvSpPr/>
              <p:nvPr/>
            </p:nvSpPr>
            <p:spPr>
              <a:xfrm>
                <a:off x="6350400" y="3612960"/>
                <a:ext cx="429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8"/>
              <p:cNvSpPr/>
              <p:nvPr/>
            </p:nvSpPr>
            <p:spPr>
              <a:xfrm>
                <a:off x="6843600" y="3612960"/>
                <a:ext cx="429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9"/>
              <p:cNvSpPr/>
              <p:nvPr/>
            </p:nvSpPr>
            <p:spPr>
              <a:xfrm>
                <a:off x="7336800" y="3612960"/>
                <a:ext cx="429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100"/>
              <p:cNvSpPr/>
              <p:nvPr/>
            </p:nvSpPr>
            <p:spPr>
              <a:xfrm>
                <a:off x="7827840" y="3612960"/>
                <a:ext cx="429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01"/>
              <p:cNvSpPr/>
              <p:nvPr/>
            </p:nvSpPr>
            <p:spPr>
              <a:xfrm>
                <a:off x="8012520" y="3612960"/>
                <a:ext cx="166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Mintavételi időponto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02"/>
              <p:cNvSpPr/>
              <p:nvPr/>
            </p:nvSpPr>
            <p:spPr>
              <a:xfrm>
                <a:off x="5672520" y="2339640"/>
                <a:ext cx="2587320" cy="1011960"/>
              </a:xfrm>
              <a:custGeom>
                <a:avLst/>
                <a:gdLst>
                  <a:gd name="textAreaLeft" fmla="*/ 0 w 2587320"/>
                  <a:gd name="textAreaRight" fmla="*/ 2587680 w 2587320"/>
                  <a:gd name="textAreaTop" fmla="*/ 0 h 1011960"/>
                  <a:gd name="textAreaBottom" fmla="*/ 1012320 h 1011960"/>
                </a:gdLst>
                <a:ahLst/>
                <a:rect l="textAreaLeft" t="textAreaTop" r="textAreaRight" b="textAreaBottom"/>
                <a:pathLst>
                  <a:path w="1191" h="538">
                    <a:moveTo>
                      <a:pt x="0" y="538"/>
                    </a:moveTo>
                    <a:cubicBezTo>
                      <a:pt x="52" y="462"/>
                      <a:pt x="104" y="387"/>
                      <a:pt x="170" y="368"/>
                    </a:cubicBezTo>
                    <a:cubicBezTo>
                      <a:pt x="236" y="349"/>
                      <a:pt x="321" y="472"/>
                      <a:pt x="397" y="425"/>
                    </a:cubicBezTo>
                    <a:cubicBezTo>
                      <a:pt x="473" y="378"/>
                      <a:pt x="544" y="151"/>
                      <a:pt x="624" y="85"/>
                    </a:cubicBezTo>
                    <a:cubicBezTo>
                      <a:pt x="704" y="19"/>
                      <a:pt x="785" y="0"/>
                      <a:pt x="879" y="28"/>
                    </a:cubicBezTo>
                    <a:cubicBezTo>
                      <a:pt x="973" y="56"/>
                      <a:pt x="1082" y="155"/>
                      <a:pt x="1191" y="255"/>
                    </a:cubicBez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103"/>
              <p:cNvSpPr/>
              <p:nvPr/>
            </p:nvSpPr>
            <p:spPr>
              <a:xfrm>
                <a:off x="6015600" y="3009240"/>
                <a:ext cx="583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104"/>
              <p:cNvSpPr/>
              <p:nvPr/>
            </p:nvSpPr>
            <p:spPr>
              <a:xfrm>
                <a:off x="6507000" y="3107160"/>
                <a:ext cx="583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105"/>
              <p:cNvSpPr/>
              <p:nvPr/>
            </p:nvSpPr>
            <p:spPr>
              <a:xfrm>
                <a:off x="6995880" y="2476800"/>
                <a:ext cx="583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106"/>
              <p:cNvSpPr/>
              <p:nvPr/>
            </p:nvSpPr>
            <p:spPr>
              <a:xfrm>
                <a:off x="7489080" y="2356560"/>
                <a:ext cx="583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107"/>
              <p:cNvSpPr/>
              <p:nvPr/>
            </p:nvSpPr>
            <p:spPr>
              <a:xfrm>
                <a:off x="7979760" y="2589480"/>
                <a:ext cx="583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108"/>
              <p:cNvSpPr/>
              <p:nvPr/>
            </p:nvSpPr>
            <p:spPr>
              <a:xfrm>
                <a:off x="7988400" y="2623680"/>
                <a:ext cx="583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109"/>
              <p:cNvSpPr/>
              <p:nvPr/>
            </p:nvSpPr>
            <p:spPr>
              <a:xfrm>
                <a:off x="7484400" y="2301840"/>
                <a:ext cx="583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110"/>
              <p:cNvSpPr/>
              <p:nvPr/>
            </p:nvSpPr>
            <p:spPr>
              <a:xfrm>
                <a:off x="6991200" y="2410560"/>
                <a:ext cx="583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111"/>
              <p:cNvSpPr/>
              <p:nvPr/>
            </p:nvSpPr>
            <p:spPr>
              <a:xfrm>
                <a:off x="6510960" y="3159360"/>
                <a:ext cx="5904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12"/>
              <p:cNvSpPr/>
              <p:nvPr/>
            </p:nvSpPr>
            <p:spPr>
              <a:xfrm>
                <a:off x="6011280" y="3056400"/>
                <a:ext cx="583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13"/>
              <p:cNvSpPr/>
              <p:nvPr/>
            </p:nvSpPr>
            <p:spPr>
              <a:xfrm>
                <a:off x="5659560" y="2277000"/>
                <a:ext cx="2587320" cy="1012320"/>
              </a:xfrm>
              <a:custGeom>
                <a:avLst/>
                <a:gdLst>
                  <a:gd name="textAreaLeft" fmla="*/ 0 w 2587320"/>
                  <a:gd name="textAreaRight" fmla="*/ 2587680 w 2587320"/>
                  <a:gd name="textAreaTop" fmla="*/ 0 h 1012320"/>
                  <a:gd name="textAreaBottom" fmla="*/ 1012680 h 1012320"/>
                </a:gdLst>
                <a:ahLst/>
                <a:rect l="textAreaLeft" t="textAreaTop" r="textAreaRight" b="textAreaBottom"/>
                <a:pathLst>
                  <a:path w="1191" h="538">
                    <a:moveTo>
                      <a:pt x="0" y="538"/>
                    </a:moveTo>
                    <a:cubicBezTo>
                      <a:pt x="52" y="462"/>
                      <a:pt x="104" y="387"/>
                      <a:pt x="170" y="368"/>
                    </a:cubicBezTo>
                    <a:cubicBezTo>
                      <a:pt x="236" y="349"/>
                      <a:pt x="321" y="472"/>
                      <a:pt x="397" y="425"/>
                    </a:cubicBezTo>
                    <a:cubicBezTo>
                      <a:pt x="473" y="378"/>
                      <a:pt x="544" y="151"/>
                      <a:pt x="624" y="85"/>
                    </a:cubicBezTo>
                    <a:cubicBezTo>
                      <a:pt x="704" y="19"/>
                      <a:pt x="785" y="0"/>
                      <a:pt x="879" y="28"/>
                    </a:cubicBezTo>
                    <a:cubicBezTo>
                      <a:pt x="973" y="56"/>
                      <a:pt x="1082" y="155"/>
                      <a:pt x="1191" y="255"/>
                    </a:cubicBezTo>
                  </a:path>
                </a:pathLst>
              </a:custGeom>
              <a:noFill/>
              <a:ln w="3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14"/>
              <p:cNvSpPr/>
              <p:nvPr/>
            </p:nvSpPr>
            <p:spPr>
              <a:xfrm>
                <a:off x="5676840" y="2401200"/>
                <a:ext cx="2587320" cy="1012320"/>
              </a:xfrm>
              <a:custGeom>
                <a:avLst/>
                <a:gdLst>
                  <a:gd name="textAreaLeft" fmla="*/ 0 w 2587320"/>
                  <a:gd name="textAreaRight" fmla="*/ 2587680 w 2587320"/>
                  <a:gd name="textAreaTop" fmla="*/ 0 h 1012320"/>
                  <a:gd name="textAreaBottom" fmla="*/ 1012680 h 1012320"/>
                </a:gdLst>
                <a:ahLst/>
                <a:rect l="textAreaLeft" t="textAreaTop" r="textAreaRight" b="textAreaBottom"/>
                <a:pathLst>
                  <a:path w="1191" h="538">
                    <a:moveTo>
                      <a:pt x="0" y="538"/>
                    </a:moveTo>
                    <a:cubicBezTo>
                      <a:pt x="52" y="462"/>
                      <a:pt x="104" y="387"/>
                      <a:pt x="170" y="368"/>
                    </a:cubicBezTo>
                    <a:cubicBezTo>
                      <a:pt x="236" y="349"/>
                      <a:pt x="321" y="472"/>
                      <a:pt x="397" y="425"/>
                    </a:cubicBezTo>
                    <a:cubicBezTo>
                      <a:pt x="473" y="378"/>
                      <a:pt x="544" y="151"/>
                      <a:pt x="624" y="85"/>
                    </a:cubicBezTo>
                    <a:cubicBezTo>
                      <a:pt x="704" y="19"/>
                      <a:pt x="785" y="0"/>
                      <a:pt x="879" y="28"/>
                    </a:cubicBezTo>
                    <a:cubicBezTo>
                      <a:pt x="973" y="56"/>
                      <a:pt x="1082" y="155"/>
                      <a:pt x="1191" y="255"/>
                    </a:cubicBezTo>
                  </a:path>
                </a:pathLst>
              </a:custGeom>
              <a:noFill/>
              <a:ln w="3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AutoShape 116"/>
          <p:cNvSpPr/>
          <p:nvPr/>
        </p:nvSpPr>
        <p:spPr>
          <a:xfrm>
            <a:off x="762120" y="3733920"/>
            <a:ext cx="1828800" cy="533160"/>
          </a:xfrm>
          <a:prstGeom prst="wedgeRoundRectCallout">
            <a:avLst>
              <a:gd name="adj1" fmla="val 194097"/>
              <a:gd name="adj2" fmla="val -179462"/>
              <a:gd name="adj3" fmla="val 16667"/>
            </a:avLst>
          </a:prstGeom>
          <a:solidFill>
            <a:srgbClr val="fdf2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tavé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17"/>
          <p:cNvSpPr/>
          <p:nvPr/>
        </p:nvSpPr>
        <p:spPr>
          <a:xfrm>
            <a:off x="762120" y="5638680"/>
            <a:ext cx="1828800" cy="533520"/>
          </a:xfrm>
          <a:prstGeom prst="wedgeRoundRectCallout">
            <a:avLst>
              <a:gd name="adj1" fmla="val 154425"/>
              <a:gd name="adj2" fmla="val -118453"/>
              <a:gd name="adj3" fmla="val 16667"/>
            </a:avLst>
          </a:prstGeom>
          <a:solidFill>
            <a:srgbClr val="fdf2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ód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8"/>
          <p:cNvSpPr/>
          <p:nvPr/>
        </p:nvSpPr>
        <p:spPr>
          <a:xfrm>
            <a:off x="762120" y="4724280"/>
            <a:ext cx="1828800" cy="533520"/>
          </a:xfrm>
          <a:prstGeom prst="wedgeRoundRectCallout">
            <a:avLst>
              <a:gd name="adj1" fmla="val 154342"/>
              <a:gd name="adj2" fmla="val -108037"/>
              <a:gd name="adj3" fmla="val 16667"/>
            </a:avLst>
          </a:prstGeom>
          <a:solidFill>
            <a:srgbClr val="fdf2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vantá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2AF5-6A2C-4DCD-BDA4-5A38BD856E0C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8D08-16FF-4899-B5D6-C6FF2803683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Vételi módok a digitális műsorszórá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elyhez kötött (fix) vét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kültéri, a föld felett legalább 10 méter magasan, fixen telepített (tető) antennával történik a vétel. A tetőantennás vételhez irányított és nyereséggel rendelkező antennákat haszná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rdozható vét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 földhöz képest legalább 1,5 méter magasságban, viszont ebben az esetben nincs antenna-irányítottság és nyereség. Általában beltéri hordozható vétellel számolnak, vagyis az épület/építmény csillapítását is bele kell venni a számításba, emiatt nagyobb teljesítmény kisugárzásával tudják elérni a megfelelő térerőssé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obil vét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 lehetőségről abban az esetben beszélhetünk, ha a vevő mozgás közben veszi a jelet. Ilyenkor a Doppler-hatást is figyelembe kell venni. A vevőantenna ebben az esetben is 1,5 méterrel a föld felett helyezkedik el. A mobil vétel esetén a sebesség a legkritikusabb paramé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AB, DAB+: mobil és beltéri hordozható vételi módot definiálta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ezek figyelembevételével tervezik a hálózatok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EEB6-78D5-4501-88BC-12619CAE321B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BA3-EEE1-451E-8825-16255143ABB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DAB+ hálóz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FN vagy MFN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yakorlatban megvalósított struktúra az SF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uktúra: nyílt vagy zá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FN-ek általános felépítése az ábrán láthat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1008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05A5-4C47-43FD-99EE-A3D5221E8801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8185-E02A-4DEF-B918-3863564624C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ésleltetések a DAB hálózatok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AB adók szinkronizálása lehetsé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atikus késleltetéss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namikus késleltetéss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tolás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1779480"/>
          </a:xfrm>
          <a:prstGeom prst="rect">
            <a:avLst/>
          </a:prstGeom>
          <a:ln w="0">
            <a:noFill/>
          </a:ln>
        </p:spPr>
      </p:pic>
      <p:sp>
        <p:nvSpPr>
          <p:cNvPr id="1057" name="Rectangle 6"/>
          <p:cNvSpPr/>
          <p:nvPr/>
        </p:nvSpPr>
        <p:spPr>
          <a:xfrm>
            <a:off x="1981080" y="312408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járulékos hálózati (padding) késlelteté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adatátviteli úton keletkező, 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hálózati kompenzáló késlelt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"/>
          <p:cNvSpPr/>
          <p:nvPr/>
        </p:nvSpPr>
        <p:spPr>
          <a:xfrm>
            <a:off x="4495680" y="320040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adóberendezés jelfeldolgozási ide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adók késleltetésének kompenzálás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adók eltolási késlelteté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8"/>
          <p:cNvSpPr/>
          <p:nvPr/>
        </p:nvSpPr>
        <p:spPr>
          <a:xfrm>
            <a:off x="4419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1FEF-28E6-47E7-9C3B-8233CDDCEF7F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6DCB-A796-4B63-AD3C-22DAA6BF45B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DAB és a DAB+ egyfrekvenciás hálózatok szinkronizá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PS alkalmazása, mint pontos idő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időbélyeg alkalmazása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áskeretben használt időbélyegek és a 10 MHz-es referenciajel egymáshoz hango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40"/>
          <p:cNvGrpSpPr/>
          <p:nvPr/>
        </p:nvGrpSpPr>
        <p:grpSpPr>
          <a:xfrm>
            <a:off x="1371600" y="2742840"/>
            <a:ext cx="5943600" cy="3962880"/>
            <a:chOff x="1371600" y="2742840"/>
            <a:chExt cx="5943600" cy="3962880"/>
          </a:xfrm>
        </p:grpSpPr>
        <p:sp>
          <p:nvSpPr>
            <p:cNvPr id="1065" name="AutoShape 4"/>
            <p:cNvSpPr/>
            <p:nvPr/>
          </p:nvSpPr>
          <p:spPr>
            <a:xfrm>
              <a:off x="1828800" y="2971800"/>
              <a:ext cx="4419720" cy="30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Picture 6" descr=""/>
            <p:cNvPicPr/>
            <p:nvPr/>
          </p:nvPicPr>
          <p:blipFill>
            <a:blip r:embed="rId1"/>
            <a:stretch/>
          </p:blipFill>
          <p:spPr>
            <a:xfrm>
              <a:off x="4525920" y="5024520"/>
              <a:ext cx="155880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Text Box 7"/>
            <p:cNvSpPr/>
            <p:nvPr/>
          </p:nvSpPr>
          <p:spPr>
            <a:xfrm>
              <a:off x="2705040" y="3463920"/>
              <a:ext cx="6080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1 p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8"/>
            <p:cNvSpPr/>
            <p:nvPr/>
          </p:nvSpPr>
          <p:spPr>
            <a:xfrm>
              <a:off x="1371600" y="4303800"/>
              <a:ext cx="60660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DAB M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9"/>
            <p:cNvSpPr/>
            <p:nvPr/>
          </p:nvSpPr>
          <p:spPr>
            <a:xfrm>
              <a:off x="2220840" y="4303800"/>
              <a:ext cx="97020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Hálózati illeszt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10"/>
            <p:cNvSpPr/>
            <p:nvPr/>
          </p:nvSpPr>
          <p:spPr>
            <a:xfrm>
              <a:off x="2220840" y="3824280"/>
              <a:ext cx="970200" cy="479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dőbélyeg hozzáadá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11"/>
            <p:cNvSpPr/>
            <p:nvPr/>
          </p:nvSpPr>
          <p:spPr>
            <a:xfrm>
              <a:off x="2705040" y="3463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12"/>
            <p:cNvSpPr/>
            <p:nvPr/>
          </p:nvSpPr>
          <p:spPr>
            <a:xfrm>
              <a:off x="2341440" y="3103560"/>
              <a:ext cx="728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G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13"/>
            <p:cNvSpPr/>
            <p:nvPr/>
          </p:nvSpPr>
          <p:spPr>
            <a:xfrm flipV="1">
              <a:off x="2705040" y="2742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14"/>
            <p:cNvSpPr/>
            <p:nvPr/>
          </p:nvSpPr>
          <p:spPr>
            <a:xfrm flipH="1" flipV="1">
              <a:off x="2584080" y="2742840"/>
              <a:ext cx="12060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15"/>
            <p:cNvSpPr/>
            <p:nvPr/>
          </p:nvSpPr>
          <p:spPr>
            <a:xfrm flipV="1">
              <a:off x="2705040" y="2742840"/>
              <a:ext cx="12240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6"/>
            <p:cNvSpPr/>
            <p:nvPr/>
          </p:nvSpPr>
          <p:spPr>
            <a:xfrm>
              <a:off x="6102360" y="5145120"/>
              <a:ext cx="1212840" cy="4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eljesítmény-erősít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17"/>
            <p:cNvSpPr/>
            <p:nvPr/>
          </p:nvSpPr>
          <p:spPr>
            <a:xfrm>
              <a:off x="5616720" y="3463920"/>
              <a:ext cx="6062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1 p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18"/>
            <p:cNvSpPr/>
            <p:nvPr/>
          </p:nvSpPr>
          <p:spPr>
            <a:xfrm>
              <a:off x="5132520" y="4303800"/>
              <a:ext cx="109044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Hálózati illeszt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9"/>
            <p:cNvSpPr/>
            <p:nvPr/>
          </p:nvSpPr>
          <p:spPr>
            <a:xfrm>
              <a:off x="5132520" y="3824280"/>
              <a:ext cx="1090440" cy="479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ésleltetések kezelé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20"/>
            <p:cNvSpPr/>
            <p:nvPr/>
          </p:nvSpPr>
          <p:spPr>
            <a:xfrm>
              <a:off x="5616720" y="3463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21"/>
            <p:cNvSpPr/>
            <p:nvPr/>
          </p:nvSpPr>
          <p:spPr>
            <a:xfrm>
              <a:off x="5253120" y="3103560"/>
              <a:ext cx="728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G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2"/>
            <p:cNvSpPr/>
            <p:nvPr/>
          </p:nvSpPr>
          <p:spPr>
            <a:xfrm flipV="1">
              <a:off x="5616720" y="2742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3"/>
            <p:cNvSpPr/>
            <p:nvPr/>
          </p:nvSpPr>
          <p:spPr>
            <a:xfrm flipH="1" flipV="1">
              <a:off x="5495760" y="2742840"/>
              <a:ext cx="12096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 flipV="1">
              <a:off x="5616720" y="2742840"/>
              <a:ext cx="1220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25"/>
            <p:cNvSpPr/>
            <p:nvPr/>
          </p:nvSpPr>
          <p:spPr>
            <a:xfrm>
              <a:off x="1978200" y="4545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26"/>
            <p:cNvSpPr/>
            <p:nvPr/>
          </p:nvSpPr>
          <p:spPr>
            <a:xfrm>
              <a:off x="3191040" y="45450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27"/>
            <p:cNvSpPr/>
            <p:nvPr/>
          </p:nvSpPr>
          <p:spPr>
            <a:xfrm>
              <a:off x="4929120" y="45450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8"/>
            <p:cNvSpPr/>
            <p:nvPr/>
          </p:nvSpPr>
          <p:spPr>
            <a:xfrm>
              <a:off x="6345360" y="4303800"/>
              <a:ext cx="96984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OFDM processz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29"/>
            <p:cNvSpPr/>
            <p:nvPr/>
          </p:nvSpPr>
          <p:spPr>
            <a:xfrm>
              <a:off x="6222960" y="454500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30"/>
            <p:cNvSpPr/>
            <p:nvPr/>
          </p:nvSpPr>
          <p:spPr>
            <a:xfrm>
              <a:off x="6829560" y="47847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>
              <a:off x="6829560" y="5624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32"/>
            <p:cNvSpPr/>
            <p:nvPr/>
          </p:nvSpPr>
          <p:spPr>
            <a:xfrm flipH="1">
              <a:off x="5738760" y="6705720"/>
              <a:ext cx="10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33"/>
            <p:cNvSpPr/>
            <p:nvPr/>
          </p:nvSpPr>
          <p:spPr>
            <a:xfrm>
              <a:off x="3676680" y="6345360"/>
              <a:ext cx="9698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DAB vev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34"/>
            <p:cNvSpPr/>
            <p:nvPr/>
          </p:nvSpPr>
          <p:spPr>
            <a:xfrm flipV="1">
              <a:off x="4160880" y="598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35"/>
            <p:cNvSpPr/>
            <p:nvPr/>
          </p:nvSpPr>
          <p:spPr>
            <a:xfrm flipH="1" flipV="1">
              <a:off x="4039920" y="5984640"/>
              <a:ext cx="12060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6" name="Picture 36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>
              <a:off x="3392640" y="4064040"/>
              <a:ext cx="1598400" cy="10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Line 37"/>
            <p:cNvSpPr/>
            <p:nvPr/>
          </p:nvSpPr>
          <p:spPr>
            <a:xfrm flipV="1">
              <a:off x="4160880" y="5984640"/>
              <a:ext cx="1220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38"/>
            <p:cNvSpPr/>
            <p:nvPr/>
          </p:nvSpPr>
          <p:spPr>
            <a:xfrm>
              <a:off x="3635280" y="4224240"/>
              <a:ext cx="10922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lsődleges távközlési hálóz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D367-EFA3-46BE-BD46-B12ACBC618D1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F171-161E-4759-B174-067DD2EE4D8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DAB és a DAB+ egyfrekvenciás hálózatok szinkronizá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nem elérhető a GPS-jel, akkor kristály oszcillátorok (OXCO*, vagy TXCO**) alk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ontosabb eszközöknél n+1 meleg-tartalékolást alkalmazna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. GPS-vevő, multiplexálásért felelős eszközö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41"/>
          <p:cNvSpPr/>
          <p:nvPr/>
        </p:nvSpPr>
        <p:spPr>
          <a:xfrm>
            <a:off x="609480" y="5486400"/>
            <a:ext cx="78487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*OXCO: Oven-Controlled Crystal Oscillator, melegítéssel szabályzott kristály oszcillátor. A környezeti tényezőktől elzárt, hőfokszabályozott kamrában működtetett kvarckristály oszcillátor típus, ezért a rövidtávú stabilitásuk a 10-12 nagyságrendet is elérhet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**TXCO: Temperature Compensated Oscillator, hőkompenzált oszcillátor. Ezeknél az oszcillátoroknál hőfok-kiegyenlítést alkalmaznak. Olcsóbb eszközök, mint az OXCO-k, de a stabilitásuk rosszab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D23-55F3-4ECF-838E-DA9BA1617AB6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A472-09A7-4C02-A676-5F1B63519E5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Antenna Hungária Zrt. hálóz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505320" cy="2469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2"/>
          <a:stretch/>
        </p:blipFill>
        <p:spPr>
          <a:xfrm>
            <a:off x="3733920" y="2819520"/>
            <a:ext cx="5257800" cy="3625560"/>
          </a:xfrm>
          <a:prstGeom prst="rect">
            <a:avLst/>
          </a:prstGeom>
          <a:ln w="0">
            <a:noFill/>
          </a:ln>
        </p:spPr>
      </p:pic>
      <p:sp>
        <p:nvSpPr>
          <p:cNvPr id="1109" name="Text Box 5"/>
          <p:cNvSpPr/>
          <p:nvPr/>
        </p:nvSpPr>
        <p:spPr>
          <a:xfrm>
            <a:off x="152280" y="43275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PS tartaléko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6"/>
          <p:cNvSpPr/>
          <p:nvPr/>
        </p:nvSpPr>
        <p:spPr>
          <a:xfrm>
            <a:off x="3733920" y="22701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GIDIA általános hálózati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E2E-4257-4F6E-BCCA-38FBC3866151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6CB5-8C57-4F89-90D6-5F348BF7392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149-54A0-471C-9C61-2F4F726D8780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DCE5-5BA9-4847-9EF7-3CECDAD6F15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vant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vantálás egy szeletének kinagyítá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892080" y="1689120"/>
            <a:ext cx="7531200" cy="4332240"/>
            <a:chOff x="892080" y="1689120"/>
            <a:chExt cx="7531200" cy="4332240"/>
          </a:xfrm>
        </p:grpSpPr>
        <p:sp>
          <p:nvSpPr>
            <p:cNvPr id="322" name="Line 5"/>
            <p:cNvSpPr/>
            <p:nvPr/>
          </p:nvSpPr>
          <p:spPr>
            <a:xfrm>
              <a:off x="979560" y="2916360"/>
              <a:ext cx="7362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 flipV="1">
              <a:off x="1006560" y="3409920"/>
              <a:ext cx="73357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>
              <a:off x="979560" y="3890880"/>
              <a:ext cx="73627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990720" y="4408560"/>
              <a:ext cx="7351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 flipV="1">
              <a:off x="1060560" y="4906440"/>
              <a:ext cx="72817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892080" y="5396040"/>
              <a:ext cx="7531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 flipV="1">
              <a:off x="6391440" y="2415960"/>
              <a:ext cx="4680" cy="31986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 flipV="1">
              <a:off x="2541600" y="2624040"/>
              <a:ext cx="14400" cy="31831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V="1">
              <a:off x="4470480" y="2271600"/>
              <a:ext cx="22320" cy="350856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2435400" y="3583080"/>
              <a:ext cx="228600" cy="23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4368960" y="2994120"/>
              <a:ext cx="228600" cy="237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6"/>
            <p:cNvSpPr/>
            <p:nvPr/>
          </p:nvSpPr>
          <p:spPr>
            <a:xfrm>
              <a:off x="6265800" y="4129200"/>
              <a:ext cx="231840" cy="23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7"/>
            <p:cNvSpPr/>
            <p:nvPr/>
          </p:nvSpPr>
          <p:spPr>
            <a:xfrm>
              <a:off x="6273720" y="4289400"/>
              <a:ext cx="230400" cy="236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4370400" y="2786040"/>
              <a:ext cx="228600" cy="23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"/>
            <p:cNvSpPr/>
            <p:nvPr/>
          </p:nvSpPr>
          <p:spPr>
            <a:xfrm>
              <a:off x="2435400" y="3297240"/>
              <a:ext cx="231480" cy="236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1298520" y="2832120"/>
              <a:ext cx="6007320" cy="2679840"/>
            </a:xfrm>
            <a:custGeom>
              <a:avLst/>
              <a:gdLst>
                <a:gd name="textAreaLeft" fmla="*/ 0 w 6007320"/>
                <a:gd name="textAreaRight" fmla="*/ 6007680 w 60073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2214" h="1006">
                  <a:moveTo>
                    <a:pt x="0" y="1006"/>
                  </a:moveTo>
                  <a:cubicBezTo>
                    <a:pt x="103" y="783"/>
                    <a:pt x="207" y="561"/>
                    <a:pt x="294" y="424"/>
                  </a:cubicBezTo>
                  <a:cubicBezTo>
                    <a:pt x="381" y="287"/>
                    <a:pt x="431" y="250"/>
                    <a:pt x="522" y="184"/>
                  </a:cubicBezTo>
                  <a:cubicBezTo>
                    <a:pt x="613" y="118"/>
                    <a:pt x="749" y="56"/>
                    <a:pt x="840" y="28"/>
                  </a:cubicBezTo>
                  <a:cubicBezTo>
                    <a:pt x="931" y="0"/>
                    <a:pt x="987" y="7"/>
                    <a:pt x="1068" y="16"/>
                  </a:cubicBezTo>
                  <a:cubicBezTo>
                    <a:pt x="1149" y="25"/>
                    <a:pt x="1233" y="41"/>
                    <a:pt x="1326" y="82"/>
                  </a:cubicBezTo>
                  <a:cubicBezTo>
                    <a:pt x="1419" y="123"/>
                    <a:pt x="1516" y="181"/>
                    <a:pt x="1626" y="262"/>
                  </a:cubicBezTo>
                  <a:cubicBezTo>
                    <a:pt x="1736" y="343"/>
                    <a:pt x="1888" y="481"/>
                    <a:pt x="1986" y="568"/>
                  </a:cubicBezTo>
                  <a:cubicBezTo>
                    <a:pt x="2084" y="655"/>
                    <a:pt x="2149" y="719"/>
                    <a:pt x="2214" y="784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1362240" y="3341520"/>
              <a:ext cx="6005520" cy="2679840"/>
            </a:xfrm>
            <a:custGeom>
              <a:avLst/>
              <a:gdLst>
                <a:gd name="textAreaLeft" fmla="*/ 0 w 6005520"/>
                <a:gd name="textAreaRight" fmla="*/ 6005880 w 60055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2214" h="1006">
                  <a:moveTo>
                    <a:pt x="0" y="1006"/>
                  </a:moveTo>
                  <a:cubicBezTo>
                    <a:pt x="103" y="783"/>
                    <a:pt x="207" y="561"/>
                    <a:pt x="294" y="424"/>
                  </a:cubicBezTo>
                  <a:cubicBezTo>
                    <a:pt x="381" y="287"/>
                    <a:pt x="431" y="250"/>
                    <a:pt x="522" y="184"/>
                  </a:cubicBezTo>
                  <a:cubicBezTo>
                    <a:pt x="613" y="118"/>
                    <a:pt x="749" y="56"/>
                    <a:pt x="840" y="28"/>
                  </a:cubicBezTo>
                  <a:cubicBezTo>
                    <a:pt x="931" y="0"/>
                    <a:pt x="987" y="7"/>
                    <a:pt x="1068" y="16"/>
                  </a:cubicBezTo>
                  <a:cubicBezTo>
                    <a:pt x="1149" y="25"/>
                    <a:pt x="1233" y="41"/>
                    <a:pt x="1326" y="82"/>
                  </a:cubicBezTo>
                  <a:cubicBezTo>
                    <a:pt x="1419" y="123"/>
                    <a:pt x="1516" y="181"/>
                    <a:pt x="1626" y="262"/>
                  </a:cubicBezTo>
                  <a:cubicBezTo>
                    <a:pt x="1736" y="343"/>
                    <a:pt x="1888" y="481"/>
                    <a:pt x="1986" y="568"/>
                  </a:cubicBezTo>
                  <a:cubicBezTo>
                    <a:pt x="2084" y="655"/>
                    <a:pt x="2149" y="719"/>
                    <a:pt x="2214" y="784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1343160" y="3038400"/>
              <a:ext cx="6005520" cy="2679840"/>
            </a:xfrm>
            <a:custGeom>
              <a:avLst/>
              <a:gdLst>
                <a:gd name="textAreaLeft" fmla="*/ 0 w 6005520"/>
                <a:gd name="textAreaRight" fmla="*/ 6005880 w 60055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2214" h="1006">
                  <a:moveTo>
                    <a:pt x="0" y="1006"/>
                  </a:moveTo>
                  <a:cubicBezTo>
                    <a:pt x="103" y="783"/>
                    <a:pt x="207" y="561"/>
                    <a:pt x="294" y="424"/>
                  </a:cubicBezTo>
                  <a:cubicBezTo>
                    <a:pt x="381" y="287"/>
                    <a:pt x="431" y="250"/>
                    <a:pt x="522" y="184"/>
                  </a:cubicBezTo>
                  <a:cubicBezTo>
                    <a:pt x="613" y="118"/>
                    <a:pt x="749" y="56"/>
                    <a:pt x="840" y="28"/>
                  </a:cubicBezTo>
                  <a:cubicBezTo>
                    <a:pt x="931" y="0"/>
                    <a:pt x="987" y="7"/>
                    <a:pt x="1068" y="16"/>
                  </a:cubicBezTo>
                  <a:cubicBezTo>
                    <a:pt x="1149" y="25"/>
                    <a:pt x="1233" y="41"/>
                    <a:pt x="1326" y="82"/>
                  </a:cubicBezTo>
                  <a:cubicBezTo>
                    <a:pt x="1419" y="123"/>
                    <a:pt x="1516" y="181"/>
                    <a:pt x="1626" y="262"/>
                  </a:cubicBezTo>
                  <a:cubicBezTo>
                    <a:pt x="1736" y="343"/>
                    <a:pt x="1888" y="481"/>
                    <a:pt x="1986" y="568"/>
                  </a:cubicBezTo>
                  <a:cubicBezTo>
                    <a:pt x="2084" y="655"/>
                    <a:pt x="2149" y="719"/>
                    <a:pt x="2214" y="784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 flipH="1" flipV="1">
              <a:off x="3193560" y="2774520"/>
              <a:ext cx="793800" cy="3240"/>
            </a:xfrm>
            <a:prstGeom prst="line">
              <a:avLst/>
            </a:prstGeom>
            <a:ln w="9360">
              <a:solidFill>
                <a:srgbClr val="0b7f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H="1" flipV="1">
              <a:off x="3214440" y="3347640"/>
              <a:ext cx="787320" cy="3240"/>
            </a:xfrm>
            <a:prstGeom prst="line">
              <a:avLst/>
            </a:prstGeom>
            <a:ln w="9360">
              <a:solidFill>
                <a:srgbClr val="0b7f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3276720" y="2787480"/>
              <a:ext cx="0" cy="559080"/>
            </a:xfrm>
            <a:prstGeom prst="line">
              <a:avLst/>
            </a:prstGeom>
            <a:ln w="9360">
              <a:solidFill>
                <a:srgbClr val="0b7f11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26"/>
            <p:cNvSpPr/>
            <p:nvPr/>
          </p:nvSpPr>
          <p:spPr>
            <a:xfrm>
              <a:off x="2575080" y="2870280"/>
              <a:ext cx="685800" cy="405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zp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27"/>
            <p:cNvSpPr/>
            <p:nvPr/>
          </p:nvSpPr>
          <p:spPr>
            <a:xfrm>
              <a:off x="2717640" y="1790640"/>
              <a:ext cx="1765440" cy="596880"/>
            </a:xfrm>
            <a:prstGeom prst="wedgeRoundRectCallout">
              <a:avLst>
                <a:gd name="adj1" fmla="val 10250"/>
                <a:gd name="adj2" fmla="val 114629"/>
                <a:gd name="adj3" fmla="val 1666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 flipH="1">
              <a:off x="3276360" y="2768760"/>
              <a:ext cx="7110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9"/>
            <p:cNvSpPr/>
            <p:nvPr/>
          </p:nvSpPr>
          <p:spPr>
            <a:xfrm>
              <a:off x="2706840" y="1792440"/>
              <a:ext cx="1765080" cy="596880"/>
            </a:xfrm>
            <a:prstGeom prst="wedgeRoundRectCallout">
              <a:avLst>
                <a:gd name="adj1" fmla="val 33990"/>
                <a:gd name="adj2" fmla="val 212500"/>
                <a:gd name="adj3" fmla="val 1666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2857680" y="186696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Zajamplitúdó csúcs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1"/>
            <p:cNvSpPr/>
            <p:nvPr/>
          </p:nvSpPr>
          <p:spPr>
            <a:xfrm>
              <a:off x="4559400" y="4280040"/>
              <a:ext cx="1612800" cy="787320"/>
            </a:xfrm>
            <a:prstGeom prst="wedgeRoundRectCallout">
              <a:avLst>
                <a:gd name="adj1" fmla="val -52263"/>
                <a:gd name="adj2" fmla="val -189314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32"/>
            <p:cNvSpPr/>
            <p:nvPr/>
          </p:nvSpPr>
          <p:spPr>
            <a:xfrm>
              <a:off x="5168880" y="1689120"/>
              <a:ext cx="1765440" cy="596880"/>
            </a:xfrm>
            <a:prstGeom prst="wedgeRoundRectCallout">
              <a:avLst>
                <a:gd name="adj1" fmla="val -86870"/>
                <a:gd name="adj2" fmla="val 142287"/>
                <a:gd name="adj3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4686480" y="4406760"/>
              <a:ext cx="132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Tényleges jelsz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5257800" y="18669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Kvantált jelsz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EF8F-830E-4DFB-A4F7-C10C1F0B0D9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500C-CE7F-4B55-AB9F-11F224D6206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nformáció mennyisége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egyes rendszerekné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"/>
              <p:cNvSpPr txBox="1"/>
              <p:nvPr/>
            </p:nvSpPr>
            <p:spPr>
              <a:xfrm>
                <a:off x="914400" y="2057400"/>
                <a:ext cx="78328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e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aj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6"/>
              <p:cNvSpPr txBox="1"/>
              <p:nvPr/>
            </p:nvSpPr>
            <p:spPr>
              <a:xfrm>
                <a:off x="914400" y="4191120"/>
                <a:ext cx="7443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e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aj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átviendő információ mennyisége a Shannon-tétel szer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no rádiómű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(B=15 kHz, D=80 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zámításnál minden jelszint mindig azonos valószínűséggel fordulhat elő, ezért a kvantálási szint a legkisebb, a zajból még éppen kihallható jelszi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tereo rádiómű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(B=16 kHz, D=96 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D minőségű sztereo mű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990720" y="5638680"/>
                <a:ext cx="4171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Rectangle 10"/>
          <p:cNvSpPr/>
          <p:nvPr/>
        </p:nvSpPr>
        <p:spPr>
          <a:xfrm>
            <a:off x="914400" y="2057400"/>
            <a:ext cx="8001000" cy="990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838080" y="4191120"/>
            <a:ext cx="7543800" cy="990360"/>
          </a:xfrm>
          <a:prstGeom prst="rect">
            <a:avLst/>
          </a:prstGeom>
          <a:solidFill>
            <a:srgbClr val="ffff99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átum hely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ABDF-A8E0-47E6-A5A1-81FA821B63B9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B25-9E7F-4466-BC99-7D27C63986E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gyenlő lépésközű kvant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okásos mintavételi frekvenciák és 16 bites felbontással számol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44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44,1 kHz - 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48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DAB rendszer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5480" y="2362320"/>
            <a:ext cx="5194440" cy="1371600"/>
          </a:xfrm>
          <a:prstGeom prst="rect">
            <a:avLst/>
          </a:prstGeom>
          <a:solidFill>
            <a:srgbClr val="fdf2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2979720" y="2362320"/>
                <a:ext cx="46911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5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6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bi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</m:d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1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bi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</m:d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7" name="Rectangle 6"/>
          <p:cNvSpPr/>
          <p:nvPr/>
        </p:nvSpPr>
        <p:spPr>
          <a:xfrm>
            <a:off x="2895480" y="4724280"/>
            <a:ext cx="5067360" cy="1295640"/>
          </a:xfrm>
          <a:prstGeom prst="rect">
            <a:avLst/>
          </a:prstGeom>
          <a:solidFill>
            <a:srgbClr val="fdf2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7"/>
              <p:cNvSpPr txBox="1"/>
              <p:nvPr/>
            </p:nvSpPr>
            <p:spPr>
              <a:xfrm>
                <a:off x="3019320" y="4724280"/>
                <a:ext cx="43750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8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bi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</m:d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36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bi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</m:d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9" name="AutoShape 8"/>
          <p:cNvSpPr/>
          <p:nvPr/>
        </p:nvSpPr>
        <p:spPr>
          <a:xfrm>
            <a:off x="220968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df2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>
            <a:off x="22096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df2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1:10:10Z</dcterms:created>
  <dc:creator>Virágh Péter</dc:creator>
  <dc:description/>
  <dc:language>en-US</dc:language>
  <cp:lastModifiedBy>Administrator</cp:lastModifiedBy>
  <dcterms:modified xsi:type="dcterms:W3CDTF">2012-12-04T17:06:28Z</dcterms:modified>
  <cp:revision>41</cp:revision>
  <dc:subject/>
  <dc:title>A DAB+ rendszer Egyfrekvenciás hálózatok</dc:title>
</cp:coreProperties>
</file>