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5BB2-8D09-458A-A227-5F15FBA7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3640" y="365148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0A7D-C80E-416B-8D2A-4CF168E3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A01E-39DE-42BC-BA1C-A8FCD97A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92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56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364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92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56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C4A7-E24E-46A1-B361-109C5133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4715B-1E7A-4FA4-9609-4C14E2CD27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0364D-14FE-4CD3-9509-BC7FE24A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5FF84-364E-4DDE-876F-85476989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98B59-55AD-478A-BE45-C5513333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03C32-52FE-45E5-B072-0C4B0360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84360" y="189000"/>
            <a:ext cx="7772400" cy="24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359FA-6F54-4DFE-9E94-22B6B752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05750-C5AB-407E-9F22-2AB6FA24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37C2-3C67-49D8-B097-DE2446BE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456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3664F-9E19-438F-96A6-04C2C290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05633-1290-4BC1-AC96-1E135CEE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640" y="365148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8C4A1-5DA6-4B39-B72A-E6939B70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456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42ECE-B561-4FD5-9D3F-69CE2BDA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2092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1856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364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2092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1856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6FE51-9C84-4F74-8D22-E920B6C53C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7E4D-A7D8-44B7-9877-09E39AC3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C462-3C75-4CDB-A5B4-C2BA7AF5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8056-E760-42CC-9F0C-2B0D2421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360" y="189000"/>
            <a:ext cx="7772400" cy="24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CB47-D3AE-4195-BCC5-AEF42F73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E8B5-4248-433B-AA19-ACBF6154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9029-DE82-45F6-9366-FB6D9078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C654-AC40-4EBF-A0B2-23578A29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F1DE-3206-4A95-9016-A2E5D517202B}" type="datetime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E7A3-6CB7-4989-B3ED-A289B055FF6A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9ca"/>
            </a:gs>
            <a:gs pos="50000">
              <a:srgbClr val="dadbef"/>
            </a:gs>
            <a:gs pos="100000">
              <a:srgbClr val="8489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480" y="6381720"/>
            <a:ext cx="9137520" cy="29196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50000">
                <a:srgbClr val="ffffff"/>
              </a:gs>
              <a:gs pos="100000">
                <a:srgbClr val="cccccc"/>
              </a:gs>
            </a:gsLst>
            <a:lin ang="2700000"/>
          </a:gradFill>
          <a:ln w="12600">
            <a:solidFill>
              <a:srgbClr val="8489ca"/>
            </a:solidFill>
            <a:miter/>
          </a:ln>
          <a:effectLst>
            <a:outerShdw dist="53966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0" y="6308640"/>
            <a:ext cx="9143640" cy="388800"/>
            <a:chOff x="0" y="6308640"/>
            <a:chExt cx="9143640" cy="388800"/>
          </a:xfrm>
        </p:grpSpPr>
        <p:sp>
          <p:nvSpPr>
            <p:cNvPr id="43" name="Freeform 4"/>
            <p:cNvSpPr/>
            <p:nvPr/>
          </p:nvSpPr>
          <p:spPr>
            <a:xfrm>
              <a:off x="0" y="630864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644112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657324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0" y="631656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0" y="644904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658152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0"/>
          <p:cNvGrpSpPr/>
          <p:nvPr/>
        </p:nvGrpSpPr>
        <p:grpSpPr>
          <a:xfrm>
            <a:off x="0" y="6200640"/>
            <a:ext cx="1440720" cy="654840"/>
            <a:chOff x="0" y="6200640"/>
            <a:chExt cx="1440720" cy="654840"/>
          </a:xfrm>
        </p:grpSpPr>
        <p:sp>
          <p:nvSpPr>
            <p:cNvPr id="50" name="Rectangle 11"/>
            <p:cNvSpPr/>
            <p:nvPr/>
          </p:nvSpPr>
          <p:spPr>
            <a:xfrm>
              <a:off x="83880" y="6200640"/>
              <a:ext cx="1275480" cy="646920"/>
            </a:xfrm>
            <a:prstGeom prst="rect">
              <a:avLst/>
            </a:prstGeom>
            <a:gradFill rotWithShape="0">
              <a:gsLst>
                <a:gs pos="0">
                  <a:srgbClr val="cccccc"/>
                </a:gs>
                <a:gs pos="50000">
                  <a:srgbClr val="ffffff"/>
                </a:gs>
                <a:gs pos="100000">
                  <a:srgbClr val="cccccc"/>
                </a:gs>
              </a:gsLst>
              <a:lin ang="5400000"/>
            </a:gradFill>
            <a:ln w="12600">
              <a:solidFill>
                <a:srgbClr val="dadada"/>
              </a:solidFill>
              <a:miter/>
            </a:ln>
            <a:effectLst>
              <a:outerShdw dist="28496" dir="1777448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0" y="6249240"/>
              <a:ext cx="14407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00000"/>
                  </a:solidFill>
                  <a:latin typeface="Book Antiqua"/>
                </a:rPr>
                <a:t>Honfy Józse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Book Antiqua"/>
                </a:rPr>
                <a:t>egyetemi adjunktu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Book Antiqua"/>
                </a:rPr>
                <a:t>SZÉCHENYI I. EGYET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Book Antiqua"/>
                </a:rPr>
                <a:t>Távközlési Tanszé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86e7b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86e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4479840" y="3108240"/>
            <a:ext cx="52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4724280" y="3200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259D-9169-4693-8856-3B4BEAAB9EF3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9445-9335-4E2B-958E-E056DC8A4BB8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9"/>
          <p:cNvGrpSpPr/>
          <p:nvPr/>
        </p:nvGrpSpPr>
        <p:grpSpPr>
          <a:xfrm>
            <a:off x="0" y="6469200"/>
            <a:ext cx="9143640" cy="388440"/>
            <a:chOff x="0" y="6469200"/>
            <a:chExt cx="9143640" cy="388440"/>
          </a:xfrm>
        </p:grpSpPr>
        <p:sp>
          <p:nvSpPr>
            <p:cNvPr id="59" name="Freeform 20"/>
            <p:cNvSpPr/>
            <p:nvPr/>
          </p:nvSpPr>
          <p:spPr>
            <a:xfrm>
              <a:off x="0" y="646920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0" y="660132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0" y="673380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47712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0" y="660960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0" y="674172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26"/>
          <p:cNvGrpSpPr/>
          <p:nvPr/>
        </p:nvGrpSpPr>
        <p:grpSpPr>
          <a:xfrm>
            <a:off x="0" y="6200640"/>
            <a:ext cx="1440720" cy="648000"/>
            <a:chOff x="0" y="6200640"/>
            <a:chExt cx="1440720" cy="648000"/>
          </a:xfrm>
        </p:grpSpPr>
        <p:sp>
          <p:nvSpPr>
            <p:cNvPr id="66" name="Rectangle 27"/>
            <p:cNvSpPr/>
            <p:nvPr/>
          </p:nvSpPr>
          <p:spPr>
            <a:xfrm>
              <a:off x="83880" y="6200640"/>
              <a:ext cx="1275480" cy="648000"/>
            </a:xfrm>
            <a:prstGeom prst="rect">
              <a:avLst/>
            </a:prstGeom>
            <a:gradFill rotWithShape="0">
              <a:gsLst>
                <a:gs pos="0">
                  <a:srgbClr val="cccccc"/>
                </a:gs>
                <a:gs pos="50000">
                  <a:srgbClr val="ffffff"/>
                </a:gs>
                <a:gs pos="100000">
                  <a:srgbClr val="cccccc"/>
                </a:gs>
              </a:gsLst>
              <a:lin ang="5400000"/>
            </a:gradFill>
            <a:ln w="12600">
              <a:solidFill>
                <a:srgbClr val="dadada"/>
              </a:solidFill>
              <a:miter/>
            </a:ln>
            <a:effectLst>
              <a:outerShdw dist="28496" dir="1777448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8"/>
            <p:cNvSpPr/>
            <p:nvPr/>
          </p:nvSpPr>
          <p:spPr>
            <a:xfrm>
              <a:off x="0" y="6249240"/>
              <a:ext cx="14407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Arial Narrow"/>
                </a:rPr>
                <a:t>Vári Pé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Arial Narrow"/>
                </a:rPr>
                <a:t>Külső oktató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Arial Narrow"/>
                </a:rPr>
                <a:t>SZÉCHENYI I. EGYET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Arial Narrow"/>
                </a:rPr>
                <a:t>Távközlési Tanszé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8c90be">
                <a:alpha val="50000"/>
              </a:srgbClr>
            </a:outerShdw>
          </a:effectLst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Adóberendezése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81185" dir="18521970" blurRad="0" rotWithShape="0">
              <a:srgbClr val="8c90be">
                <a:alpha val="50000"/>
              </a:srgbClr>
            </a:outerShdw>
          </a:effectLst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Győ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B33B-0689-4FAB-8A7D-F36ED1CD87C0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3807-07A6-4B79-B968-08D88ACAC36F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Sávhatárolás (Solt)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559640" cy="53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19EB-6DD7-4FFC-92C1-C623BC8025FF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7777-CBCC-4B31-97D1-0F4622458021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Kompressziós limiter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sávhatárolás után gondoskodni kell, hogy a moduláló jel dinamikáját olyan mértéken tartsuk, hogy ne vezéreljük túl az adót. E célt szolgálja a kompressziós limiter (szabályzott erősítő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Gyakorlatban alkalmazott limiterek megszólalási ideje T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= 0,1 msec, elengedési ideje T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= 1 sec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(Lassú szintváltozás következhet be a modulációs vonalon vagy egy stúdió átkapcsolásnál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2340000" y="3213000"/>
            <a:ext cx="38163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4536-B95F-44AD-822F-B3F78959C236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C0E1-6645-4303-ACE2-C0A6E296F4F5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Kompressziós limiter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Rövididejű meredek beütések a limiteren túl tudnak jutni, adót túlvezérelhetik. </a:t>
            </a:r>
            <a:r>
              <a:rPr b="1" lang="hu-H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Csúcslimiter alkalmazás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súcslimiter = vágóáramkör, mely akár 20 % torzítást okozhat. Az alapfeladata a túlmodulálás elkerülése, a berendezésvédelm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4DD8-15E1-46DC-84D5-CB256102C9F1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22FF-787F-4F01-8665-8A15381001D8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HF végerősítő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lasszikus megoldás ellenütemű transzformátoros „B” osztályú beállításban dolgozik. A kimenő transzformátor a modulátor transzformátor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lektroncső: általában trióda, tetród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Solti csövek5"/>
          <p:cNvPicPr/>
          <p:nvPr/>
        </p:nvPicPr>
        <p:blipFill>
          <a:blip r:embed="rId1"/>
          <a:stretch/>
        </p:blipFill>
        <p:spPr>
          <a:xfrm>
            <a:off x="1763640" y="2349360"/>
            <a:ext cx="48481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B619-F09B-4692-B815-A0C376484AE9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1534-0BCC-4D21-9BAF-148C62E13999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Modulátor fokozat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isteljesítményű adóknál előfordul kisszintű moduláció is de lényeges, hogy a modulált RF fokozat utáni erősítés linerási legyen (A,B osztál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özepes teljesítményeknél előfordul a végfokozat rácsmodulációja is, de általánosan a végfokozat anódmodulációjú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Nagy teljesítményű adók kizárólag a végfokozat anódmodulációjával dolgozna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imenő áramkörök: felharmonikus szűrő, illesztő körök, kombinát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3B58-8458-4603-93B6-E2C5E4C58B37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AA0E-F413-4338-95B2-D6A0C0357025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Rádiófrekvenciás erősítő fokozato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is teljesítményű fokozatok félvezetőse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özepes, nagy teljesítményűek elektroncsövek, vagy félvezetős blokko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angolt erősítők „C” osztályú beállítás a jellemző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Kép 5" descr="J:\Péter\Fotok\SZE\SZE kirándulás Lakihegy OMK Solt 2008\img_0176.jpg"/>
          <p:cNvPicPr/>
          <p:nvPr/>
        </p:nvPicPr>
        <p:blipFill>
          <a:blip r:embed="rId1"/>
          <a:stretch/>
        </p:blipFill>
        <p:spPr>
          <a:xfrm>
            <a:off x="108000" y="3141720"/>
            <a:ext cx="4968720" cy="3014640"/>
          </a:xfrm>
          <a:prstGeom prst="rect">
            <a:avLst/>
          </a:prstGeom>
          <a:ln w="0">
            <a:noFill/>
          </a:ln>
        </p:spPr>
      </p:pic>
      <p:pic>
        <p:nvPicPr>
          <p:cNvPr id="167" name="Kép 6" descr="nx 400.jpg"/>
          <p:cNvPicPr/>
          <p:nvPr/>
        </p:nvPicPr>
        <p:blipFill>
          <a:blip r:embed="rId2"/>
          <a:stretch/>
        </p:blipFill>
        <p:spPr>
          <a:xfrm>
            <a:off x="5651640" y="3789360"/>
            <a:ext cx="33699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B677-4DB1-4C3E-995E-5D2AEE6318BB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805E-DC0B-4960-A912-8C5A56C9C947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Járulékos berendezése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Főbb segédüzemi berendezése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ezérlés, automatika, véde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ápellátás, tápegysége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Hálózati energia ellátá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Hűtőrendszere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eljesítményösszegz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ápvonal, tápvonal illesztőrendsz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oduláló hálóz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érő, ellenőrző rendszer (üzemi mérése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2AAF-613B-4D5D-948C-794BB08DED44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68E3-9CC5-4DC4-8464-52AD95326721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Vezérlés, automatika, védelem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Vezérlési feladatok AM adóba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Indítás, leállítás (hűtés, fűtés, előfeszültség, anódfeszültség, moduláció) 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Üzemi jellemzők beállítása, tartás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Frekvencia beállítása (RH külö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Rezgőkörök lehangol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erhelésoptimalizálása, illeszté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oduláció ellenőrzé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Üzemi jellemzők ellenőrzése (csőáramok, köráramok, állóhullámarán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űtőrendszer ellenőrzé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nergiaellátás ellenőrzé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artalékolási feladat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5629-46B1-4ABA-838A-96FEEECF70F5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0BCF-DE27-48EA-981A-40A8CC2DE43C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Vezérlés, automatika, védelem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179" name="Picture 4" descr="P7160008"/>
          <p:cNvPicPr/>
          <p:nvPr/>
        </p:nvPicPr>
        <p:blipFill>
          <a:blip r:embed="rId1"/>
          <a:stretch/>
        </p:blipFill>
        <p:spPr>
          <a:xfrm>
            <a:off x="826920" y="83664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9EB0-4659-4348-9F39-241A8B85E4E8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70BC-6D64-44C8-BD54-F16D3B290CC9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Védelmi berendezése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Életvéde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terlock rendsz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Berendezésvéde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últerhelé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úlá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úlfeszültsé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llesztetlensé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Gyors és lassú védelme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499C-118A-4F7F-B520-85EE4501CB2C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1856-9EBF-432D-A5A1-110BFC672219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AM adó blokkvázlat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20908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FF52-D3D4-4FC5-8E2F-71F0D11B5CA0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F4CE-EDAA-45F8-B3FE-0B9DF0B73D1E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Frekvenciaváltás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peciális eset az RH, mert naponta többször váltanak frekvenciát. Okai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áltoznak az átviteli út viszonya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z adásidők a hallgatók szokásaihoz alkalmazkodna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áltakoznak a célterülete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rekvenciaváltás: Adó leállítása, antennacsere, újraindítás, lehangolás, beállítás, modulálás. Régen 15-20 perc ma 20 se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ávvezérlési lehetőség, felügyeletnélküli üz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angolá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rezgőkörök behangolása történhe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nódáram minimumr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nód váltófeszültség maximumár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Be és kimenő feszültségek közötti 180 fokos fáziskülönbség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9A9B-400C-43DA-B3B2-E5B30DC19F41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CEAA-EFDA-48B3-B5D4-A4E9EBB81BF1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Az adó és a vezérlőrendszer követelménye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rádiófrekvenciás fokozatok számát minimalizálni kell, hogy minél kevesebb szabályozásra legyen szükség. (Tetródák, szélessávú kisteljesítményű fokozato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Állóhullámarány 2:1arányon belül korrigálható kell legy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abályozá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urva: Az alkatrészeket a helyes üzemi helyzethez legközelebb beállítani, tárolni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inom: a pontos üzemi jellemzőket beállítani és üzemközben tartani (folyamatos szabályozás fázis vagy teljesítmény-diszkriminátorokkal.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08ED-5AE6-4151-9513-EBDFE64FC73B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32B4-82B5-4273-B712-56EA13EC3B2C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Műantenná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Feladat: beállítás, mérés (teljesítményméré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övetelmények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Lehetőleg tisztán Ohm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teljesítményt biztonsággal vegye f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érési feladatokra alkalmas legy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ugárzásmentes legy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ódaoldat oszlop. Hőmérséklete, cirkuláris sebessége szabályozot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B22C-58B7-4E2C-A777-22EB2C49AEEE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9F08-0D0E-41CE-AE3B-53807E4BDBF9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Műantenná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199" name="Picture 4" descr="P1030959"/>
          <p:cNvPicPr/>
          <p:nvPr/>
        </p:nvPicPr>
        <p:blipFill>
          <a:blip r:embed="rId1"/>
          <a:stretch/>
        </p:blipFill>
        <p:spPr>
          <a:xfrm>
            <a:off x="826920" y="836640"/>
            <a:ext cx="7272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1CB1-4B8A-4843-866A-C85BFE1D6FE1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50EF-08F3-4122-AAFF-3F69E6EF6934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Energia ellátás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eljesítménytől függőe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is feszültségszinten 0,4 k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özépfeszültségen 10,20,35 k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Nagyfeszültségen 120 k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kétirányú betáplálás az adóállomás megbízhatóságát növel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artalék (szükség) áramforrás (diesel gé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z átváltás automatiku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A9FF-1DE3-4C88-B2A1-8C48333D32C9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3B52-DEA5-4F49-A24E-25630F57EE97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Szükség áramforrás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207" name="Picture 4" descr="Komádidízel"/>
          <p:cNvPicPr/>
          <p:nvPr/>
        </p:nvPicPr>
        <p:blipFill>
          <a:blip r:embed="rId1"/>
          <a:stretch/>
        </p:blipFill>
        <p:spPr>
          <a:xfrm>
            <a:off x="900000" y="78264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9F77-0417-44C7-AD87-3AC0818601B0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4AA3-40C4-4043-ADCB-A37417725BD7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Szükség áramforrás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211" name="Picture 4" descr="P1002412"/>
          <p:cNvPicPr/>
          <p:nvPr/>
        </p:nvPicPr>
        <p:blipFill>
          <a:blip r:embed="rId1"/>
          <a:stretch/>
        </p:blipFill>
        <p:spPr>
          <a:xfrm>
            <a:off x="1116000" y="83664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C510-3EDB-4AB4-951E-F6AC70F1CA54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0533-6211-4C07-B363-68153660F1EB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Adóberendezések hűtése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ermészetes léghű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100 kW kimenő teljesítmény alatt. Hűtőrések, kürtők segítségével segítik elő a légáramlást. (Függőleges bordáza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Forszírozott léghű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100 W-50 (100) k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elépítése </a:t>
            </a:r>
            <a:r>
              <a:rPr b="1" lang="hu-H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4440-477F-44D7-B654-690AF1B3C66F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AA19-FA18-4ACE-874F-F829956443B1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Forszírozott léghűtés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71380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9F82-CA21-473A-8823-FAF0D9F9BF1D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0E90-0FBF-49F2-AAC5-52D7D6A8974F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Adóberendezések hűtése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ízhűtés- ma már a múlté, de feltámadt az új TV adóknál 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lgőzölögtető hűtés, az adócső anódfelületén a víz felforr és elpárolog, a keletkező gőzt elvezetik és lecsapatjá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611280" y="1927080"/>
            <a:ext cx="828180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61A0-3434-4D1D-AC6C-0F0EE83C5ED2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D842-3217-4D7B-BBB4-AA4E82B29F84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Adó berendezése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Hang műsorszóró adók felépíté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Hangfrekvenciás egysége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egédüzemi berendezése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ezér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utoma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éde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űterhe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ápellátás DC, 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t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eljesítmény összegzés (tartalékolás, teljesítménynövelés, közös antennás üz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43C2-5F82-4A76-9DC1-09784B7F7A58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870E-0667-4635-A9AE-966C6CA057BE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Adóberendezések hűtése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obléma, hogy az anódfelületén képződő gőzbuborékok alkotta réteg hőszigetelő, és ez lerontja a hűtés hatásfoká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egoldás: az anódfazékban a víz-gőz elegyet kényszer áramoltatni kell szivattyúva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DEB7-058A-477D-8637-BFFDEAB591A8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9C0D-0E9E-4FF2-A957-22D9A49D769D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Autómosó ?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232" name="Picture 4" descr="DCP_0903"/>
          <p:cNvPicPr/>
          <p:nvPr/>
        </p:nvPicPr>
        <p:blipFill>
          <a:blip r:embed="rId1"/>
          <a:stretch/>
        </p:blipFill>
        <p:spPr>
          <a:xfrm>
            <a:off x="826920" y="836640"/>
            <a:ext cx="712980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D165-3053-40CE-BB6A-7BA1A8291DBC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3605-6E1F-44CB-9A06-3BA346AD52FA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Adóberendezések tartalékolása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eladat: az üzembiztonság növelése 99,99 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artalékolá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asszív 1+1,n+1 rendszerű berendezés tartalé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ktív összegzett teljesítményű üzem (pl. AM két adó, URH-nál adón belül fokoza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eljesítmény összegzés feltételei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rekvencia azonossá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mplitúdó azonossá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ázis azonossá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z utóbbi kettő egész spektrumban értendő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5364000" y="3933720"/>
            <a:ext cx="35719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365A-CDBF-4E08-97A8-0B0BCA67BFEC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0595-A009-4E9D-8B55-8298D677A694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Közös antennás üzem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egvalósítá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zelektív váltószűrőkk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813744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6403-5FE9-42F8-B6AC-69DD5240E72B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C525-A69D-4148-9E29-A39374ED737B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Közös antennás üzem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zélessávú hibridekk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3924360" y="907920"/>
            <a:ext cx="4968720" cy="3159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5791320" cy="1695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3"/>
          <a:stretch/>
        </p:blipFill>
        <p:spPr>
          <a:xfrm>
            <a:off x="179280" y="5013360"/>
            <a:ext cx="58327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5B9D-93B5-41B7-B378-B22F0E531CAE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3582-B865-41C9-B015-BFC02F249BEF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Diplexer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6769080" cy="1179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"/>
          <p:cNvPicPr/>
          <p:nvPr/>
        </p:nvPicPr>
        <p:blipFill>
          <a:blip r:embed="rId2"/>
          <a:stretch/>
        </p:blipFill>
        <p:spPr>
          <a:xfrm>
            <a:off x="2124000" y="2220840"/>
            <a:ext cx="67960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79E5-1538-4B37-A52D-AB17C2E6736B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9011-6429-4CA0-9814-A55CFD3666A3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Félvezetős korszerű adó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élvezetős korszerű megoldások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M adó (Harris) DAX%2520Reprint%255Ffinal50603.pd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M adó (Harris) z10%20data%20sheet%5B1%5D.pd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ZD20ECM%5B1%5D.pd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arris_Z_Brochure.pd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7828-E625-4A19-8998-B5E8A21E2FC4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AAF4-E617-452D-9DCC-458C64014A5C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Hangfrekvenciás egysége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zepes és nagyteljesítményű AM adók általában (B osztályú ellenütemű transzformátoros modulátor erősítővel épült  adók) végfokozatban anódmoduláltak ezért a moduláló hangfrekvenciás teljesítmény létrehozásához hangfrekvenciás erősítők egész lánca szükség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ngfrekvenciás lánc felosztás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steljesítményű egysége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zépteljesítményű fokozat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agyteljesítményű (vég)fokozat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2934-B1B4-4BEF-B709-781CAFC8FFEC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6088-3F29-4254-AE48-8E8D1C3C6C16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Kisteljesítményű fokozato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eladata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oduláló vonal fogadá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zimmetrikus, asszimmetrikus átalakítá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zintszabályozá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ávhatárolá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rapézmoduláció (beszédre, zenében torzí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úlmoduláció megakadályozá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eszültségerősíté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odulációs vonal lehe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ezetékes alapsávi kiegyenlített, vagy kettős szimmetrik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ezetékes zenevivőrendszere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ikrohullámú rádiócsatorna (TV + 4 hang) (URH mod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allemphang, professzionális vev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elyi moduláció - szükségstúdi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5392-9E17-4CEA-A85B-C1C3F813B7C2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51C4-8EB1-476B-9BC4-0650A1746999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Kisteljesítményű fokozato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z adó bemenet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600 Ohm, szimmetriku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emenő jelszint 0 dBm (100 %-os modulációs kivezérléshez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z illesztést és ha szükséges a szimmetrizálást 1:1 áttételű vonaltranszformátor végz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modulációs vonal szintingadozása miatt gondoskodni kell a szint szabályzásról. (Durva szabályozás 10 dB-ként, finom szabályozás 1 dB-ként) (A csillapító szimmetrikus Ohmos ellenállásokból kiképzett négypólus.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odulációs vonal átviteli karakterisztikájának egyenletlensége miatt áthidalható vonalkorrektort használnak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8891-60AC-4D0D-B002-739AABF4D1B6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96CB-DFAC-424D-8B93-BEC8AAC1A4A3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Kisteljesítményű fokozato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onalerősítő feladata az adóberendezés teljes kimodulálásához szükséges jelszint biztosítása, bizonyos mértékben a modulációs vonaltól független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2803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F2BD-A1C6-4596-8D6D-EBBCC05BD58B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D4D0-DFFC-4C7B-BDF1-3434EFFF1F87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Kisteljesítményű fokozato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Régi adóknál szimmetrikus erősítőket használtak, mert az adó ellenütemű transzformátoros B osztályú erősítő vol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ai adóknál asszimetrikusak a hangfrekvenciás fokozatok. (alkatrész és energia takarékosabb megoldá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is teljesítményszinten félvezetős, közepes és nagy teljesítményeknél elektroncsöv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F tartományban a linearitás nagyon fontos paramét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z előerősítő fokozatok után következik a sávszűré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e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Nagyteljesítményű AM adóknál 9 kHz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e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teljesítményű AM adóknál 18 kHz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lulról is korlátozni kell a modulálójel frekvenciáját mert feleslegesen terheljük az adónkat, vevőoldalt sem okoz többlet élményt a hallgatónak. Másrészt a vivőkörnyezetében járulékos inormációátvitelre van lehetőség. Konstruktőri oldalról könnyen megvalósítható 50 Hz felül-, 4,5kHz aluláteresztő szűrő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329E-A6DA-49A3-81F1-8A86B9BC8C6F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91FF-8E0A-4DF1-AEBB-E6325B1B73D9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Sávhatárolás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ávhatárolás 3 illetve 2 szűrővel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2723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9T19:07:52Z</dcterms:created>
  <dc:creator>Honfy József, egyetemi adjunktus</dc:creator>
  <dc:description/>
  <dc:language>en-US</dc:language>
  <cp:lastModifiedBy>Administrator</cp:lastModifiedBy>
  <dcterms:modified xsi:type="dcterms:W3CDTF">2012-10-16T12:26:05Z</dcterms:modified>
  <cp:revision>34</cp:revision>
  <dc:subject/>
  <dc:title>1. dia</dc:title>
</cp:coreProperties>
</file>