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3.jpeg" ContentType="image/jpeg"/>
  <Override PartName="/ppt/media/image3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TELEX.WAV" ContentType="audio/x-wav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DOB.WAV" ContentType="audio/x-wav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F75E-8BE1-43B3-B5D4-1B2B83FFAB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17DD-4A0F-4D13-A9EE-C89BD069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7E9F-5FCF-480D-AD16-CB2F442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35D2-BB22-4452-A44C-D77DE0FEB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7CBC-7782-46E1-BF31-612B1357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357B-88E0-487C-B9B5-C33B43AB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2FEA-A82E-4914-A878-C30AB6B2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1F7D-0C30-4820-9A55-E5FC5913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D84B-9640-494C-8DE3-680CE0B2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F5B4-BCAA-420D-8A00-F9627ED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2043-DA3B-4A4C-8D25-67FAEEB8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7032D-2999-4838-BC37-97613295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aac2f2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1ff71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1ff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1B56-14B6-426D-AA78-A62F1D7C2ED1}" type="slidenum"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18" name="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0" y="6210360"/>
            <a:ext cx="1643760" cy="745920"/>
            <a:chOff x="0" y="6210360"/>
            <a:chExt cx="1643760" cy="745920"/>
          </a:xfrm>
        </p:grpSpPr>
        <p:sp>
          <p:nvSpPr>
            <p:cNvPr id="25" name=""/>
            <p:cNvSpPr/>
            <p:nvPr/>
          </p:nvSpPr>
          <p:spPr>
            <a:xfrm>
              <a:off x="95760" y="6210360"/>
              <a:ext cx="1455120" cy="6476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58960"/>
              <a:ext cx="16437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Honfy József, egyetemi adjunktus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 CE"/>
                </a:rPr>
                <a:t>Vári Péter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LEX.WAV"/><Relationship Id="rId2" Type="http://schemas.openxmlformats.org/officeDocument/2006/relationships/audio" Target="../media/TELEX.WAV"/><Relationship Id="rId3" Type="http://schemas.openxmlformats.org/officeDocument/2006/relationships/audio" Target="../media/TELEX.WAV"/><Relationship Id="rId4" Type="http://schemas.openxmlformats.org/officeDocument/2006/relationships/audio" Target="../media/TELEX.WAV"/><Relationship Id="rId5" Type="http://schemas.openxmlformats.org/officeDocument/2006/relationships/audio" Target="../media/TELEX.WAV"/><Relationship Id="rId6" Type="http://schemas.openxmlformats.org/officeDocument/2006/relationships/audio" Target="../media/TELEX.WAV"/><Relationship Id="rId7" Type="http://schemas.openxmlformats.org/officeDocument/2006/relationships/audio" Target="../media/TELEX.WAV"/><Relationship Id="rId8" Type="http://schemas.openxmlformats.org/officeDocument/2006/relationships/audio" Target="../media/TELEX.WAV"/><Relationship Id="rId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TELEX.WAV"/><Relationship Id="rId4" Type="http://schemas.openxmlformats.org/officeDocument/2006/relationships/audio" Target="../media/DOB.WAV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OB.WAV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ELEX.WAV"/><Relationship Id="rId2" Type="http://schemas.openxmlformats.org/officeDocument/2006/relationships/audio" Target="../media/TELEX.WAV"/><Relationship Id="rId3" Type="http://schemas.openxmlformats.org/officeDocument/2006/relationships/audio" Target="../media/TELEX.WAV"/><Relationship Id="rId4" Type="http://schemas.openxmlformats.org/officeDocument/2006/relationships/audio" Target="../media/TELEX.WAV"/><Relationship Id="rId5" Type="http://schemas.openxmlformats.org/officeDocument/2006/relationships/audio" Target="../media/TELEX.WAV"/><Relationship Id="rId6" Type="http://schemas.openxmlformats.org/officeDocument/2006/relationships/audio" Target="../media/TELEX.WAV"/><Relationship Id="rId7" Type="http://schemas.openxmlformats.org/officeDocument/2006/relationships/audio" Target="../media/TELEX.WAV"/><Relationship Id="rId8" Type="http://schemas.openxmlformats.org/officeDocument/2006/relationships/audio" Target="../media/TELEX.WAV"/><Relationship Id="rId9" Type="http://schemas.openxmlformats.org/officeDocument/2006/relationships/audio" Target="../media/TELEX.WAV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7000" y="317160"/>
            <a:ext cx="77155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NTENNÁKKAL KAPCSOLATOS FONTOSABB FOGALMA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2200" y="1773360"/>
            <a:ext cx="8553600" cy="29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NYERESÉG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IRÁNYKARAKTERISZTIKA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UGÁRZÁSI ELLENÁLLÁS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HATÁSOS HOSSZ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HATÁSOS FELÜLET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NTENNA RECIPROCITÁS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EGYÉB JELLEMZŐK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TELEX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4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4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4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2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4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6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4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3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4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43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4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dó és vevőantenná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z adóantenna az antennától divergáló gömbhullámokat sugároz a térbe, a vevőantenna viszont síkhullámokat vesz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 vevőantennánál olyan paramétereket is figyelembe kell venni, amelyek az adóantennánál érdektelenek voltak. Pl.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a vett hullámokhoz képest hová van irányítva az antenna,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a vett hullámok és az antenna polarizációja megegyező, vagy eltérő-e,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az antenna kapcsainak lezárása mennyire illesztett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Ha az antenna táppontját valamilyen terheléssel lezárjuk áram fog folyni az antennán és a terhelő ellenálláson is. Ez egyrészt a terhelésen teljesítményelnyeléssel jár, másrészt az antennában folyó áramok sugárzó mezőt keltenek, ami az antenna által vett teljesítmény egy részének újra kisugárzását eredményezi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dó és vevőantenná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3863880"/>
            <a:ext cx="8569080" cy="22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ntenna által elnyelt teljesítmény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z antenna abszorpciós felülete, amely akkor a legnagyobb, ha a terhelés reflexió mentesen illesztett az antennához. Ez esetben az abszorpciós felület megegyezik az antenna korábban definiált hatásos felületével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 visszasugárzott (visszavert) teljesítmény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021040" y="808200"/>
          <a:ext cx="5767200" cy="29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1040" y="808200"/>
                    <a:ext cx="5767200" cy="29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648320" y="3873600"/>
                <a:ext cx="15746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613480" y="5059440"/>
                <a:ext cx="1477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NTENNA RECIPROCIT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Az adó és vevőantennából álló rendszer helyettesítő képe: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415120" y="1150920"/>
            <a:ext cx="3441600" cy="28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0593"/>
                </a:solidFill>
                <a:latin typeface="Arial"/>
              </a:rPr>
              <a:t>Reciprocitási szabály: Ha egy lineáris, passzív áramkör valamely pontjára U feszültséget kapcsolunk és egy tetszőleges más ponton I áramot mérünk, akkor az U/I viszony (transzfer impedancia) amplitúdóban és fázisban változatlan marad, ha az U és az I pozícióját felcseréljük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4419720"/>
            <a:ext cx="4952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Alkalmazzuk a szabályt az antennákra: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és, ha                                           akkor</a:t>
            </a:r>
            <a:endParaRPr b="0" lang="en-US" sz="1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556272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z antenna adó és vevő szerepe megfordítható!</a:t>
            </a:r>
            <a:endParaRPr b="0" lang="en-US" sz="20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ármely antenna adási és vételi karakterisztikája azonos.</a:t>
            </a:r>
            <a:endParaRPr b="0" lang="en-US" sz="20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62120"/>
          <a:ext cx="620856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620856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858000" y="4419720"/>
                <a:ext cx="1066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438280" y="4952880"/>
                <a:ext cx="1524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952880" y="4952880"/>
                <a:ext cx="990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27000" bIns="27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z antennareciprocitás segítségével bizonyítható, hogy bármely antenna nyeresége és hatásos felületének hányadosa azonosan állandó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58360" y="2259000"/>
            <a:ext cx="628668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0593"/>
                </a:solidFill>
                <a:latin typeface="Arial"/>
              </a:rPr>
              <a:t>A hullámhosszhoz képest rövid antennára a korábbiak alapján: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4267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vagyis: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692520" y="1523880"/>
                <a:ext cx="36640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038480" y="3232080"/>
                <a:ext cx="7430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267160" y="3289320"/>
                <a:ext cx="1467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π</m:t>
                        </m:r>
                      </m:den>
                    </m:f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038480" y="4572000"/>
                <a:ext cx="20574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96080" y="6477120"/>
            <a:ext cx="838440" cy="1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176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c0593"/>
                </a:solidFill>
                <a:latin typeface="Arial"/>
              </a:rPr>
              <a:t>Vége</a:t>
            </a:r>
            <a:endParaRPr b="0" lang="en-US" sz="7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O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EGYÉB JELLEMZŐK: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6280" y="3111480"/>
            <a:ext cx="54468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0593"/>
                </a:solidFill>
                <a:latin typeface="Arial"/>
              </a:rPr>
              <a:t>EFFEKTÍV KISUGÁRZOTT TELJESÍTMÉNY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42640" y="114300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99360" indent="-9936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AZ ANTENNA NYOMATÉKA: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9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99360" indent="-9936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Izotrópra: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9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9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99360" indent="-9936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G nyereségű antennára: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215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5105520"/>
            <a:ext cx="4952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0593"/>
                </a:solidFill>
                <a:latin typeface="Arial"/>
              </a:rPr>
              <a:t>ELŐRE/HÁTRA VISZONY</a:t>
            </a:r>
            <a:endParaRPr b="0" lang="en-US" sz="1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91120" y="4038480"/>
                <a:ext cx="3809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R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dBW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dBW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91120" y="1676520"/>
                <a:ext cx="22096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P</m:t>
                                </m:r>
                              </m:e>
                            </m:rad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G</m:t>
                                </m:r>
                              </m:e>
                            </m:rad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191120" y="5562720"/>
                <a:ext cx="22096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91520" y="6400800"/>
            <a:ext cx="99036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00" spc="-1" strike="noStrike">
                <a:solidFill>
                  <a:srgbClr val="0c0593"/>
                </a:solidFill>
                <a:latin typeface="Arial"/>
              </a:rPr>
              <a:t>Folyt.köv.</a:t>
            </a:r>
            <a:endParaRPr b="0" lang="en-US" sz="7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AUTA 1 DVB-T</a:t>
            </a:r>
            <a:br>
              <a:rPr sz="2400"/>
            </a:b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TV antenna digitális és analóg adás vételére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TV adás vételére gépkocsiban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Kiszajú erősítő az antennába integrálva</a:t>
            </a:r>
            <a:br>
              <a:rPr sz="1400"/>
            </a:br>
            <a:br>
              <a:rPr sz="1400"/>
            </a:b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Beépített szűrő a GSM zajok kiszűrésére</a:t>
            </a:r>
            <a:br>
              <a:rPr sz="1400"/>
            </a:br>
            <a:br>
              <a:rPr sz="1400"/>
            </a:b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Az erősítő tápellátása a koaxon  vagy külön</a:t>
            </a:r>
            <a:br>
              <a:rPr sz="1400"/>
            </a:b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vezetéken keresztül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Egyszerűen az üvegre vagy egyéb nem fémes </a:t>
            </a:r>
            <a:br>
              <a:rPr sz="1400"/>
            </a:b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felületre ragasztható</a:t>
            </a:r>
            <a:br>
              <a:rPr sz="1400"/>
            </a:br>
            <a:br>
              <a:rPr sz="1400"/>
            </a:b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Technikai adatok: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Frekvenciasáv: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  VHF: 174-230 MHz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Nyereség: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  9 dB typ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Frekvenciasáv: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  UHF: 470-862 MHz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Nyereség: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  15 dB typ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Tápfeszültség: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  +5 V DC a koaxon keresztül, vagy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  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+12 V DC a tápvezetéken keresztül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Méret: 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  60 x 125 x 7,5mm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Csatlakozó vezeték:  5000 mm RG 174; 5000 mm FLK 0,5mm2</a:t>
            </a:r>
            <a:br>
              <a:rPr sz="1400"/>
            </a:b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Csatlakozó: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   F dugó (IEC 169-24)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940360" y="1038240"/>
            <a:ext cx="2819520" cy="1085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965920" y="2286000"/>
            <a:ext cx="2819160" cy="723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943600" y="3340080"/>
            <a:ext cx="2905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FESA 805 U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12" name="" descr="FESA 805 U"/>
          <p:cNvPicPr/>
          <p:nvPr/>
        </p:nvPicPr>
        <p:blipFill>
          <a:blip r:embed="rId1"/>
          <a:stretch/>
        </p:blipFill>
        <p:spPr>
          <a:xfrm>
            <a:off x="6454800" y="1646280"/>
            <a:ext cx="2492280" cy="379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425520" y="1033560"/>
          <a:ext cx="6029280" cy="5030640"/>
        </p:xfrm>
        <a:graphic>
          <a:graphicData uri="http://schemas.openxmlformats.org/drawingml/2006/table">
            <a:tbl>
              <a:tblPr/>
              <a:tblGrid>
                <a:gridCol w="4119480"/>
                <a:gridCol w="19098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Csatornák: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21-68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Nyereség [dB]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10-13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Előre-hátra viszony [dB]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20-23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Horizontális nyílásszög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50°-37°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Vertikális nyílásszög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40°-28°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Méret (m)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0,62 x 0,8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Árbócátmérő (mm)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max. 54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Szélterhelés horizontálisan (N)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46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Szélterhelés vertikálisan (N)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46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Tömeg (kg)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c0593"/>
                          </a:solidFill>
                          <a:latin typeface="Times New Roman"/>
                        </a:rPr>
                        <a:t>2,1 </a:t>
                      </a:r>
                      <a:endParaRPr b="0" lang="en-US" sz="24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Példá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Mekkora az antenna hatásos felülete 10 GHz-en, ha a nyeresége 40dB?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Mekkora az izotróp antenna hatásos felülete, ha 100MHz-en dolgozik?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G=1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Mekkora a h=0,1λ magasságú monopol sugárzási ellenállása?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041480" y="2095560"/>
                <a:ext cx="1415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32120" y="2179800"/>
                <a:ext cx="14907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724280" y="2109960"/>
                <a:ext cx="35416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65160" y="3728880"/>
                <a:ext cx="6691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,1</m:t>
                                </m:r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Példá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vevőantennánk legyen egy félhullámú dipólus. A vétel helyén ismerjük az elektromos térerősség értékét, ez: </a:t>
            </a:r>
            <a:r>
              <a:rPr b="1" i="1" lang="hu-HU" sz="1800" spc="-1" strike="noStrike">
                <a:solidFill>
                  <a:srgbClr val="0c0593"/>
                </a:solidFill>
                <a:latin typeface="Arial"/>
              </a:rPr>
              <a:t>E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[</a:t>
            </a:r>
            <a:r>
              <a:rPr b="1" i="1" lang="hu-HU" sz="1800" spc="-1" strike="noStrike">
                <a:solidFill>
                  <a:srgbClr val="0c0593"/>
                </a:solidFill>
                <a:latin typeface="Arial"/>
              </a:rPr>
              <a:t>μV/m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]. Kérdés, hogy mekkora az üresjárási feszültség a vevőantenna kapcsain és mekkora a feszültség a vevőkészülék bemenetén, ha az illesztett lezárást ad az antennának?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félhullámú dipólus hatásos hossza a jegyzet (82) szerinti kifejezését használva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most kiszámolt  az antenna fél hossza, szimmetrikus dipólus esetén a tényleges hatásos hossz ennek kétszerese !!!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Ha a hullámhossz helyébe a frekvenciát helyettesítjük, akkor a kifejezés felírható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108160" y="2751120"/>
                <a:ext cx="307512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120760" y="4300560"/>
                <a:ext cx="31845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060720" y="5524560"/>
                <a:ext cx="35542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</m:e>
                            </m:d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Példá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dipólus üresjárási kapocsfeszültsége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Illesztett esetben a dipólus a vett teljesítmény felét visszasugározza a térbe. Az antenna üresjárási kapocsfeszültségének a fele jut tehát csak a vevőkészülék bemenetére Ezzel az vevő bemeneti kapcsain megjelenő feszültség értéke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89040" y="1274760"/>
                <a:ext cx="4491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ü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μV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μV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81160" y="3322800"/>
                <a:ext cx="6583320" cy="89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μV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μV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μV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</m:sub>
                    </m:sSub>
                    <m:f>
                      <m:num>
                        <m:r>
                          <m:t xml:space="preserve">λ</m:t>
                        </m:r>
                        <m:sSub>
                          <m:e>
                            <m:r>
                              <m:t xml:space="preserve">⋅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μV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NTENNANYERESÉG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1600" y="1041120"/>
            <a:ext cx="5319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Definició: Az antenna adott irányú sugárzáskoncentráló képességének mértéke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1840" y="3393720"/>
            <a:ext cx="3722760" cy="5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Referencia antennák: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440" y="4686480"/>
            <a:ext cx="5562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0593"/>
                </a:solidFill>
                <a:latin typeface="Arial"/>
              </a:rPr>
              <a:t>HERTZ dipólus:Ennek az antennának már van bizonyos irányítottsága (a tengelye irányában nem sugároz, arra merőlegesen viszont maximális a sugárzás intenzitása) 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5240" y="5676840"/>
            <a:ext cx="433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0593"/>
                </a:solidFill>
                <a:latin typeface="Arial"/>
              </a:rPr>
              <a:t>Félhullámú dipólus: később, leggyakoribb építő elem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848040"/>
            <a:ext cx="527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c0593"/>
                </a:solidFill>
                <a:latin typeface="Arial"/>
              </a:rPr>
              <a:t>Izotróp antenna: Olyan antenna , amelyik a teljesítményt a tér minden irányában egyenletesen sugározza 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594560" y="2023920"/>
                <a:ext cx="990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095880" y="3683160"/>
                <a:ext cx="15242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562720" y="4740120"/>
                <a:ext cx="914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934320" y="4762440"/>
                <a:ext cx="1752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410080" y="5905440"/>
                <a:ext cx="1054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934320" y="5905440"/>
                <a:ext cx="1530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82520" y="1844640"/>
            <a:ext cx="7354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S</a:t>
            </a:r>
            <a:r>
              <a:rPr b="1" lang="en-US" sz="900" spc="-1" strike="noStrike">
                <a:solidFill>
                  <a:srgbClr val="0c0593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 a vizsgált antennától eredő, a felületegységen áthaladó teljesítmény az antenna távolterében, a P pontban.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S</a:t>
            </a:r>
            <a:r>
              <a:rPr b="1" lang="en-US" sz="900" spc="-1" strike="noStrike">
                <a:solidFill>
                  <a:srgbClr val="0c0593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 a viszonyítási alapként használt antenna teljesítménysűrűsége ugyanabban a P pontban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IRÁNYKARAKTERISZTIK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1880" y="1460160"/>
            <a:ext cx="5319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Definició: Az antenna által létrehozott sugárzás intenzitás térbeli eloszlása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7840" y="2209680"/>
            <a:ext cx="673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Teljesítmény irránykarakterisztika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(nyereségfüggvény)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a tér különböző irányaiban az antennától azonos távolságban mért teljesítménysűrűség viszonya a fő sugárzási irány teljesítménysűrűség értékéhez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6880" y="3162240"/>
            <a:ext cx="629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Térerősség iránykarakterisztika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a térerősség térbeli iránytól való függése. Viszonyítási alap a fő sugárzási irány térerőssége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711840" y="2158920"/>
                <a:ext cx="22543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ϑ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781680" y="3162240"/>
                <a:ext cx="2133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ϑ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35040" y="4127400"/>
            <a:ext cx="629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593"/>
                </a:solidFill>
                <a:latin typeface="Arial"/>
              </a:rPr>
              <a:t>Mivel a térerősség a teljesítménysűrűség négyzetgyökével arányos, a térerősség-, illetve a teljesítmény-iránykarakterisztika közötti összefüggés az alábbi: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832440" y="4443480"/>
                <a:ext cx="1940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ϑ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78160" y="1346040"/>
            <a:ext cx="4714920" cy="482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79640" y="1486080"/>
            <a:ext cx="3314520" cy="939600"/>
          </a:xfrm>
          <a:prstGeom prst="wedgeRoundRectCallout">
            <a:avLst>
              <a:gd name="adj1" fmla="val 83476"/>
              <a:gd name="adj2" fmla="val 76689"/>
              <a:gd name="adj3" fmla="val 16667"/>
            </a:avLst>
          </a:prstGeom>
          <a:solidFill>
            <a:srgbClr val="ff9999"/>
          </a:solidFill>
          <a:ln w="12600">
            <a:solidFill>
              <a:srgbClr val="0c0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92240" y="5029200"/>
            <a:ext cx="2590920" cy="1054080"/>
          </a:xfrm>
          <a:prstGeom prst="wedgeRoundRectCallout">
            <a:avLst>
              <a:gd name="adj1" fmla="val 109314"/>
              <a:gd name="adj2" fmla="val -110694"/>
              <a:gd name="adj3" fmla="val 16667"/>
            </a:avLst>
          </a:prstGeom>
          <a:solidFill>
            <a:srgbClr val="ff9999"/>
          </a:solidFill>
          <a:ln w="12600">
            <a:solidFill>
              <a:srgbClr val="0c0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7734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Iránykarakterisztik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5319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Ábrázolás: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93760" y="529596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Derékszögű koordináta rendszerben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93760" y="177804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Polárkoordinátarendszerben: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98640" y="2647800"/>
            <a:ext cx="15192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Hertz dipólus esetén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32040" y="785880"/>
          <a:ext cx="57690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2040" y="785880"/>
                    <a:ext cx="57690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73600" y="3695760"/>
          <a:ext cx="504828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3600" y="3695760"/>
                    <a:ext cx="50482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-2443320" y="122040"/>
            <a:ext cx="6478560" cy="6442560"/>
            <a:chOff x="-2443320" y="122040"/>
            <a:chExt cx="6478560" cy="6442560"/>
          </a:xfrm>
        </p:grpSpPr>
        <p:sp>
          <p:nvSpPr>
            <p:cNvPr id="103" name=""/>
            <p:cNvSpPr/>
            <p:nvPr/>
          </p:nvSpPr>
          <p:spPr>
            <a:xfrm flipV="1">
              <a:off x="1977480" y="2629800"/>
              <a:ext cx="0" cy="17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46000" y="4021200"/>
              <a:ext cx="175932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77280" y="3970800"/>
              <a:ext cx="1761840" cy="9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5840" y="2879280"/>
              <a:ext cx="2322720" cy="27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96320" y="2879280"/>
              <a:ext cx="2323440" cy="36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752400">
              <a:off x="718920" y="2496960"/>
              <a:ext cx="2083680" cy="105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01" y="1227"/>
                  </a:moveTo>
                  <a:arcTo wR="10800" hR="10800" stAng="-7054505" swAng="7054505"/>
                  <a:lnTo>
                    <a:pt x="10800" y="10800"/>
                  </a:lnTo>
                  <a:close/>
                </a:path>
                <a:path fill="none" w="21600" h="21600">
                  <a:moveTo>
                    <a:pt x="5801" y="1227"/>
                  </a:moveTo>
                  <a:arcTo wR="10800" hR="10800" stAng="-7054505" swAng="7054505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006280" y="2927160"/>
              <a:ext cx="895320" cy="11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625400">
              <a:off x="-771120" y="1738800"/>
              <a:ext cx="4161240" cy="306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13" y="57"/>
                  </a:moveTo>
                  <a:arcTo wR="10800" hR="10800" stAng="-5045139" swAng="50451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13" y="57"/>
                  </a:moveTo>
                  <a:arcTo wR="10800" hR="10800" stAng="-5045139" swAng="5045139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267200">
              <a:off x="-308880" y="2596680"/>
              <a:ext cx="2713320" cy="360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346" y="304"/>
                  </a:moveTo>
                  <a:arcTo wR="10800" hR="10800" stAng="-4581914" swAng="4497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346" y="304"/>
                  </a:moveTo>
                  <a:arcTo wR="10800" hR="10800" stAng="-4581914" swAng="4497318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77480" y="4070160"/>
              <a:ext cx="542880" cy="125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415960" y="2869920"/>
              <a:ext cx="533160" cy="6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387160" y="3260160"/>
              <a:ext cx="685440" cy="28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15960" y="3546360"/>
              <a:ext cx="104760" cy="447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7200" y="3860640"/>
              <a:ext cx="0" cy="438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 rot="1982400">
              <a:off x="-1983960" y="1367640"/>
              <a:ext cx="5559840" cy="333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02" y="517"/>
                  </a:moveTo>
                  <a:arcTo wR="10800" hR="10800" stAng="-4331713" swAng="2536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02" y="517"/>
                  </a:moveTo>
                  <a:arcTo wR="10800" hR="10800" stAng="-4331713" swAng="253699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108600">
              <a:off x="1239480" y="2711880"/>
              <a:ext cx="1313640" cy="205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60" y="714"/>
                  </a:moveTo>
                  <a:arcTo wR="10800" hR="10800" stAng="-4143406" swAng="3328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60" y="714"/>
                  </a:moveTo>
                  <a:arcTo wR="10800" hR="10800" stAng="-4143406" swAng="332841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720440" y="38700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49520" y="4289400"/>
              <a:ext cx="32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3840" y="38606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3920" y="2527200"/>
              <a:ext cx="2613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c0593"/>
                  </a:solidFill>
                  <a:latin typeface="Times New Roman"/>
                </a:rPr>
                <a:t>z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2920" y="4093920"/>
              <a:ext cx="2858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c0593"/>
                  </a:solidFill>
                  <a:latin typeface="Times New Roman"/>
                </a:rPr>
                <a:t>y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4080" y="4713840"/>
              <a:ext cx="2570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c0593"/>
                  </a:solidFill>
                  <a:latin typeface="Times New Roman"/>
                </a:rPr>
                <a:t>x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6160" y="39560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593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15640" y="3590280"/>
              <a:ext cx="2664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593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8280" y="4808880"/>
              <a:ext cx="3286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593"/>
                  </a:solidFill>
                  <a:latin typeface="Symbol"/>
                  <a:ea typeface="Symbol"/>
                </a:rPr>
                <a:t></a:t>
              </a:r>
              <a:endParaRPr b="0" lang="en-US" sz="12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0120" y="267480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593"/>
                  </a:solidFill>
                  <a:latin typeface="Symbol"/>
                  <a:ea typeface="Symbol"/>
                </a:rPr>
                <a:t></a:t>
              </a:r>
              <a:endParaRPr b="0" lang="en-US" sz="12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2800" y="2637000"/>
              <a:ext cx="385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c0593"/>
                  </a:solidFill>
                  <a:latin typeface="Times New Roman"/>
                </a:rPr>
                <a:t>E</a:t>
              </a:r>
              <a:r>
                <a:rPr b="0" lang="hu-HU" sz="1200" spc="-1" strike="noStrike" baseline="-25000">
                  <a:solidFill>
                    <a:srgbClr val="0c0593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2040" y="3079440"/>
              <a:ext cx="3898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593"/>
                  </a:solidFill>
                  <a:latin typeface="Times New Roman"/>
                </a:rPr>
                <a:t>H</a:t>
              </a:r>
              <a:r>
                <a:rPr b="0" lang="en-US" sz="1200" spc="-1" strike="noStrike" baseline="-25000">
                  <a:solidFill>
                    <a:srgbClr val="0c0593"/>
                  </a:solidFill>
                  <a:latin typeface="Symbol"/>
                  <a:ea typeface="Symbol"/>
                </a:rPr>
                <a:t></a:t>
              </a:r>
              <a:endParaRPr b="0" lang="en-US" sz="12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72840" y="3813120"/>
              <a:ext cx="375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593"/>
                  </a:solidFill>
                  <a:latin typeface="Times New Roman"/>
                </a:rPr>
                <a:t>E</a:t>
              </a:r>
              <a:r>
                <a:rPr b="0" lang="en-US" sz="1200" spc="-1" strike="noStrike" baseline="-25000">
                  <a:solidFill>
                    <a:srgbClr val="0c0593"/>
                  </a:solidFill>
                  <a:latin typeface="Symbol"/>
                  <a:ea typeface="Symbol"/>
                </a:rPr>
                <a:t></a:t>
              </a:r>
              <a:endParaRPr b="0" lang="en-US" sz="12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2920" y="5604120"/>
              <a:ext cx="8665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7200" y="4041720"/>
              <a:ext cx="3902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0593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Tipikus sugárzási formák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11560" y="2924280"/>
            <a:ext cx="2981160" cy="31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b) Kollineár antenna:azonos sugárzókból egy tengelyirányú sort hozunk létre, amely hullámhosszban elég hosszú, és az elemei azonos fázisban rezegnek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c) Keret antenna: hullámhosszhoz képest kis lineáris méretű keretantenna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d) vízszintes síkban két függőleges antennával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e) sorban elhelyezett négy függőleges antennával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239760"/>
          <a:ext cx="6284880" cy="63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9760"/>
                    <a:ext cx="6284880" cy="63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SUGÁRZÁSI ELLENÁLL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3040" y="939600"/>
            <a:ext cx="7290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Definició: A sugárzási ellenállás az a képzeletbeli ellenállás, amelyet az antenna helyére kapcsolva a kisugárzott teljesítményt elfogyasztaná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960" y="25779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Az antenna valóságban veszteséges, a veszteségi teljesítmény: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0560" y="372096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Az antenna teljes valós ellenállása: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440" y="467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Az antenna tulajdonképpen transzformátor, az energiaforrás és a tér közötti illesztést végzi el. Hatásfoka: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461360" y="838080"/>
                <a:ext cx="16826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038480" y="2895480"/>
                <a:ext cx="22100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114800" y="4191120"/>
                <a:ext cx="182880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78160" y="5079960"/>
                <a:ext cx="297180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477200" y="1700280"/>
                <a:ext cx="1666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19040" y="1866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Szabad térbe sugárzó (önmagában szabadon álló) áramelem sugárzási ellenállása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ELE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c05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HATÁSOS FELÜLE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2200" y="1290240"/>
            <a:ext cx="847584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Definició: A sugárzási irányra merőleges képzeletbeli felület, amelyen át ugyanakkora teljesítmény áramlik, mint amekkorát optimális illesztés (!) esetén  az antenna felvenne a térből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2200" y="4107960"/>
            <a:ext cx="831528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Másként: Az antennának az a hatásos  tartománya, amelyből az energiáját veszi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Hertz dipólus esetén: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60640" y="2336760"/>
                <a:ext cx="11052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00040" y="3257640"/>
            <a:ext cx="8315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P</a:t>
            </a:r>
            <a:r>
              <a:rPr b="1" lang="hu-HU" sz="1000" spc="-1" strike="noStrike">
                <a:solidFill>
                  <a:srgbClr val="0c0593"/>
                </a:solidFill>
                <a:latin typeface="Arial"/>
              </a:rPr>
              <a:t>v</a:t>
            </a: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 = a vevőantenna által felvett teljesítmény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S</a:t>
            </a:r>
            <a:r>
              <a:rPr b="1" lang="hu-HU" sz="1000" spc="-1" strike="noStrike">
                <a:solidFill>
                  <a:srgbClr val="0c0593"/>
                </a:solidFill>
                <a:latin typeface="Arial"/>
              </a:rPr>
              <a:t>1</a:t>
            </a: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 = a vevőantenna helyén a teljesítménysűrűség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441600" y="4522680"/>
                <a:ext cx="336240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0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06840" y="5118120"/>
            <a:ext cx="1244520" cy="825480"/>
          </a:xfrm>
          <a:prstGeom prst="wedgeRoundRectCallout">
            <a:avLst>
              <a:gd name="adj1" fmla="val 138648"/>
              <a:gd name="adj2" fmla="val -76152"/>
              <a:gd name="adj3" fmla="val 16667"/>
            </a:avLst>
          </a:prstGeom>
          <a:solidFill>
            <a:srgbClr val="f6fa44"/>
          </a:solidFill>
          <a:ln w="12600">
            <a:solidFill>
              <a:srgbClr val="0c05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HATÁSOS HOSSZ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5480" y="95220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Definició: Annak az elméleti (ideális) antennának a hossza, amelynek áramnyomatéka megegyezik a tényleges antenna áramnyomatékával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45338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Hertz dipólra és rövid dipólra: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03320" y="1477800"/>
          <a:ext cx="342108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477800"/>
                    <a:ext cx="342108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18040" y="2184480"/>
                <a:ext cx="914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695760" y="5194440"/>
                <a:ext cx="99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5219640" y="3263760"/>
          <a:ext cx="3421080" cy="28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3263760"/>
                    <a:ext cx="3421080" cy="28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7" dur="1" fill="hold"/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19:09:54Z</dcterms:created>
  <dc:creator>HONFY</dc:creator>
  <dc:description/>
  <cp:keywords/>
  <dc:language>en-US</dc:language>
  <cp:lastModifiedBy>Vári Péter</cp:lastModifiedBy>
  <dcterms:modified xsi:type="dcterms:W3CDTF">2007-09-25T11:40:52Z</dcterms:modified>
  <cp:revision>82</cp:revision>
  <dc:subject/>
  <dc:title>MOBIL TÁVKÖZLÉS ANTENNA RENDSZEREI</dc:title>
</cp:coreProperties>
</file>