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1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TELEX.WAV" ContentType="audio/x-wav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.wmf" ContentType="image/x-wmf"/>
  <Override PartName="/ppt/media/image9.wmf" ContentType="image/x-wmf"/>
  <Override PartName="/ppt/media/image4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9CEF-6851-4E88-AFF2-FF61BB93D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AFBA-0AF6-4D7F-88BD-5747FA5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0E61-91FD-4865-82F1-0BB9BD0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E8D3-548F-41BA-9CD1-5886A311C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EA2C-59B1-40E9-A55F-C7BF5AA2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BAA5-88F1-49D2-8D8F-42177448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5D29-FD21-41B5-9BFE-3E57D2B0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FDAA-E2E0-4BEF-A619-E0C8B686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56FF-3CCA-45AB-A7B0-1DD2641D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838C-7C42-4322-A46B-4B3DD989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D5AD-6752-4DA1-B0A4-5EF8880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DE0A-D73F-4E54-BFE8-13BB6F5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3B0-CCE5-491C-8CCA-718BE66F2269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audio" Target="../media/TELEX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TELEX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TELEX.WAV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0" y="711360"/>
            <a:ext cx="271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651480"/>
            <a:ext cx="87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c0593"/>
              </a:buClr>
              <a:buFont typeface="Arial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93"/>
                </a:solidFill>
                <a:latin typeface="Arial CE"/>
              </a:rPr>
              <a:t>Fejezet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93"/>
                </a:solidFill>
                <a:latin typeface="Arial CE"/>
              </a:rPr>
              <a:t>ELEKTROMÁGNESES HULLÁMOK ÉS JELLEMZŐIK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143000" y="533520"/>
          <a:ext cx="7950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7950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9920" y="1449360"/>
          <a:ext cx="7337520" cy="357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1449360"/>
                    <a:ext cx="733752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143000" y="228600"/>
          <a:ext cx="64771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"/>
                    <a:ext cx="6477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143000" y="2819520"/>
          <a:ext cx="6858000" cy="374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19520"/>
                    <a:ext cx="68580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638680" y="380880"/>
            <a:ext cx="3276720" cy="26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4788000" y="3429000"/>
          <a:ext cx="4356000" cy="31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88000" y="3429000"/>
                    <a:ext cx="43560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061040" y="4927680"/>
            <a:ext cx="7621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 CE"/>
              </a:rPr>
              <a:t>Ez=E0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5867280"/>
            <a:ext cx="2514600" cy="368280"/>
          </a:xfrm>
          <a:prstGeom prst="rect">
            <a:avLst/>
          </a:prstGeom>
          <a:solidFill>
            <a:srgbClr val="0c0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alra forgó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1800" y="189000"/>
            <a:ext cx="773460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EM hullámok energiáj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1160" y="640044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6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c0593"/>
                </a:solidFill>
                <a:latin typeface="Arial"/>
              </a:rPr>
              <a:t>Folyt.</a:t>
            </a:r>
            <a:endParaRPr b="1" lang="en-US" sz="700" spc="-1" strike="noStrike">
              <a:solidFill>
                <a:srgbClr val="0c0593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89120" y="1295280"/>
          <a:ext cx="6756480" cy="44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295280"/>
                    <a:ext cx="675648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Teljesítménysűrűség</a:t>
            </a:r>
            <a:br>
              <a:rPr sz="2800"/>
            </a:b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1371600"/>
          <a:ext cx="83055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83055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Elektromágneses hullámok gerjesz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zabadtérben önmagában álló áramelem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hullámhosszhoz képest igen rövid  vezetékdarab ,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két végén elektromos töltések tudnak felhalmozódni (elektromos dipólus),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rezgés közben létrejövő áram a vezeték hosszában állandónak tekinthető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94440" y="2666880"/>
          <a:ext cx="437328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4440" y="2666880"/>
                    <a:ext cx="4373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426360" y="1270080"/>
                <a:ext cx="6094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30120" y="3009960"/>
                <a:ext cx="5797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ϑ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ϑ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2760" y="3773520"/>
                <a:ext cx="50608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" y="5294160"/>
                <a:ext cx="6186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ϑ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59990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tagok a sugárzási mezőnek,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tag az induktív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tag a statikus közelhatási mezőknek felelnek meg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04800" y="2362320"/>
                <a:ext cx="3510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60240" y="2705040"/>
                <a:ext cx="3510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85800" y="3052800"/>
                <a:ext cx="3078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65160" y="1066680"/>
                <a:ext cx="7399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ϑ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ϑ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454560" y="812880"/>
            <a:ext cx="3111480" cy="151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600" y="3847680"/>
            <a:ext cx="833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  <a:ea typeface="Times New Roman"/>
              </a:rPr>
              <a:t>sugárzási mező akkor lesz nagyobb a közelhatási (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    ) mezőnél, ha 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azaz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	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Az ún. távoli zóna ott kezdődik, ahol a sugárzási mező mellett a közelhatási mező elhanyagolható, vagyis 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499520" y="3987720"/>
                <a:ext cx="365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425680" y="4218120"/>
                <a:ext cx="917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114800" y="4216320"/>
                <a:ext cx="9874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569360" y="5029200"/>
                <a:ext cx="1000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8160" y="495360"/>
            <a:ext cx="51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593"/>
                </a:solidFill>
                <a:latin typeface="Arial"/>
              </a:rPr>
              <a:t>Speciális megoldás a SÍKHULLÁMOK</a:t>
            </a:r>
            <a:endParaRPr b="0" lang="en-US" sz="20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00280" y="1333440"/>
          <a:ext cx="75438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333440"/>
                    <a:ext cx="7543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98600" y="2529000"/>
          <a:ext cx="4562640" cy="37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8600" y="2529000"/>
                    <a:ext cx="45626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SÍKHULLÁM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22440" y="1019160"/>
          <a:ext cx="718812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019160"/>
                    <a:ext cx="71881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643120" y="2095560"/>
          <a:ext cx="650088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095560"/>
                    <a:ext cx="6500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57b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SÍKHULLÁMOK POLARIZÁCIÓJ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z em. hullámot polarizáltnak tekintjük, ha a villamos térerősség vektorának rezgési állapota törvényszerűen meghatározott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680" y="1752120"/>
            <a:ext cx="392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z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 E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vektor az y-z, a 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H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vektor a x-z sikban helyezkedik el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 hullámot a haladási iránnyal szembe nézve vizsgáljuk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 hullám E vektorának végpontját a haladási irányra merőleges síkra vetítjük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 kapott alakzat az E vektor rezgési állapotára jellemző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Jelen esetben ez egy függőleges egyenes, ezért a polarizációt lineáris polarizációnak, az egyenes iránya alapján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függőleges polarizációnak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nevezzük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16320" y="2247840"/>
            <a:ext cx="426744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59320" y="2971800"/>
            <a:ext cx="0" cy="250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499600" y="4170240"/>
            <a:ext cx="42840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88840" y="1574640"/>
            <a:ext cx="2743200" cy="4483440"/>
          </a:xfrm>
          <a:prstGeom prst="ellipse">
            <a:avLst/>
          </a:prstGeom>
          <a:solidFill>
            <a:srgbClr val="fc527a"/>
          </a:solidFill>
          <a:ln w="12600">
            <a:solidFill>
              <a:srgbClr val="0c0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Lineáris polarizáci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Legyen most az EM hullám az alábbi egyenlettel leírható: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6240" y="1515960"/>
            <a:ext cx="486108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z Ey és az Ez vektorok a haladási irányra merőleges síkban helyezkednek el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Merőlegesek egymásra és időfázisban vannak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Ebből következik hogy az E vektor iránya állandó a hullámfront előrehaladtával, a hullám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lineárisan polarizált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73120" y="2959200"/>
                <a:ext cx="16002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3886200" y="4191120"/>
          <a:ext cx="336564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91120"/>
                    <a:ext cx="33656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72400" y="6400800"/>
            <a:ext cx="8380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c0593"/>
                </a:solidFill>
                <a:latin typeface="Arial"/>
              </a:rPr>
              <a:t>Folyt.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724280" y="4800600"/>
            <a:ext cx="1676520" cy="91440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4800" y="201780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593"/>
                </a:solidFill>
                <a:latin typeface="Arial CE"/>
              </a:rPr>
              <a:t>Szinuszos</a:t>
            </a: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593"/>
                </a:solidFill>
                <a:latin typeface="Arial CE"/>
              </a:rPr>
              <a:t>gerjesztés</a:t>
            </a: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593"/>
                </a:solidFill>
                <a:latin typeface="Arial CE"/>
              </a:rPr>
              <a:t>esetén</a:t>
            </a: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95256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Az EM. hullám polarizációját aszerint  különböztetjük meg, hogy  az E vektor végpontja a hullám haladási irányára merőleges síkra milyen vetületet rajzol.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1680" y="2428920"/>
            <a:ext cx="8464680" cy="17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Ha feltételezzük, hogy a síkhullámot egyetlen sugárzó állítja elő ugyan, de az y, illetve a z irányú összetevők között valamilyen oknál fogva fáziskülönbség keletkezik, akkor a villamos (mágneses) térerősség összetevők eredője nem állandó irányú a hullámfront előrehaladtával, hanem valamilyen irányba forog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5a0f"/>
                </a:solidFill>
                <a:latin typeface="Arial"/>
              </a:rPr>
              <a:t>Általános esetben: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98680" y="838080"/>
          <a:ext cx="6781680" cy="52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838080"/>
                    <a:ext cx="678168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POLARIZÁCIÓS ELLIPSZI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1800" y="449280"/>
          <a:ext cx="7159680" cy="64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49280"/>
                    <a:ext cx="715968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irkuláris polarizáci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9040" y="482760"/>
          <a:ext cx="8140680" cy="384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482760"/>
                    <a:ext cx="814068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7-09-13T11:21:01Z</dcterms:modified>
  <cp:revision>84</cp:revision>
  <dc:subject/>
  <dc:title>MOBIL TÁVKÖZLÉS ANTENNA RENDSZEREI</dc:title>
</cp:coreProperties>
</file>