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29720" y="875016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C83D-2E0D-4362-8601-8EEC98ACF411}" type="slidenum">
              <a:rPr b="0" lang="hu-HU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 fázisközp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E szögtartományon belül a rendszert nem-izotróp pontforrásnak tekinthetjük, amely a fázisközéppontban helyezkedik el, és amelynek sugárzási karakterisztikáját teljes mértékben meghatározhatjuk csupán az amplitúdó sugárzási karakterisztikábó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pólt és reflektorokat használó rendszerekben a fázisközéppont általában a dipól bemenő csatlakozói és a reflektor közötti zónában van, és leggyakrabban a dipól csatlakozók közelé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 antenna-rendszer esetén a fázisközzéppont pontos helyét, mérésekre alapozva, a gyártó jelöli m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vel a panelek többsége viszonylag nagy sávszélességben tud működni a gyártó dolga a mérések elvégzése és a működési sáv különböző frekvenciáinak fázisközéppontjának megtalálása. Ezen mérésekből meghatározható egy olyan görbe, ami a fázisközéppont geometriai pozíciójának változásait mutatja a frekvencia függvényében. A gyártó gyakran elkészíti azon görbék csoportját is, amelyek a különböző frekvenciák mellett megadják a fázis karakterisztikát. Ezen görbék alkalmasak arra is, hogy megállapítsuk azon feltételezés valódiságát, hogy a fázisközpont használható-e a pontforrás pozíciójaként az említett sáv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kban a helyzetekben, amikor a fázisközéppont nem ismert a dipól antennaelem csatlakozóihoz helyezzü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Ezen a grafikonoknak a megszerkesztésében és használatában az a nehéz, hogy bármilyen kis területen, bármilyen időtartam alatt a térerősség jelentős mértékben eltérhet két különböző ponton, és bárhol, bármikor meg is változhat. A változást a terület felszíne okozza, továbbá a troposzféra refraktív indexének váratlan-folyamatos változásai. A grafikonokat ezért ajánlatos főleg tervezési célokra használni, mivel azok a térerősség értékét úgy adják meg, ahogy az egy bizonyos időszázalékban a területek egy 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yos százalékán létezik. A leghasználhatóbb a lefedettségi terület előrejelzésére a medián idő-hely érték, amely azt adja meg, hogy a kérdéses térerő a terület 50%-ánál nagyobb területen az adott időtartam 50%-ánál nagyobb ideig megjelenik-e. Egy adó 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ettségi területén belül általában ajánlatos feltételezni, hogy a kívánt jel változékonysága idővel elhanyagolhatóvá válhat. Ugyanakkor nagyobb távolságok esetén ez az időbeli változékonyság nagy fontosságú, mikoris az adót tekinthetjük interferencia p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iális forrásának, amely más, ugyanazt, vagy majdnem ugyanazt a frekvenciát használó állomások működését zavar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zámos korrekciós faktort dolgoztak ki, hogy javítsák ezen grafikonok előrejelzéseinek pontosság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vel a függőleges karakterisztika alakja közvetlenül befolyásolja a térerősség-eloszlást a besugárzott területen, a kifejlesztett szintézismódszerek főképp a függőleges karakterisztika alakjának optimalizálásával foglal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ugárzás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gárzásdöntés nemcsak a vízszintes sík fölé kisugárzott teljesítmény mennyiségének csökkentésére szolgál, hanem arra is, hogy a Föld felszíne felé irányítsuk a maximális teljesímény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lajdonképpen a Föld görbületének köszönhetően egy sugárzásdöntés nélküli antennarendszer maximális sugárzása sosem érné el a Föld felszíné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y, a felszín felett 300 méteren elhelyezett antenna sugárzását több mint 0,5 fokkal kell megdönteni, hogy a maximális sugárzás a Föld felszínét elérhes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s sugárzásdöntési szögek (1 – 3 fokosak) könnyen elérhetők az antennaelemek síkjának egyszerű mechanikai döntésével. Nagyobb mechanikai dőlésszögeket ritkán használnak, az ezzel járó mechanikai és környezeti nehézségek miat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gárzásdöntést elérhetjük a sorolt antennaelemeket tápláló áram fázisának megfelelő ellenőrzésével is. Ez az ellenőrzés megvalósítható vagy úgy, hogy az antennaelemek csoportjának alsó felét tápláló áramok fázisát ugyanakkora mértékkel eltolják a felsőkéhez képest; vagy pedig úgy, hogy ahogy egymás után következnek az antennaelemek, mindegyiküknél fokozatos fáziseltolást alkalmazna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egnagyobb sugárzásdöntési szögeket általában mechanikai és elektronikai döntések megfelelő kombinációjával érik el. Meg kell jegyeznünk, hogy az antennaelemeknél egy nem egyenletes fáziseloszlás  kompenzációs veszteséghez vezet az egyenletes teljesítmény- és ugyanakkora fázis-eloszláshoz képe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Nulla-kizár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kívánt besugárzási területnek megfelelő szögtartományban a függőleges karakterisztika nem tartalmazhat nullákat, mivel azok jelenléte elméletileg nulla jelerősséget okozna azokon a területeken, amelyek egybeesnek a nullák előfordulásának szögeivel. A gyakorlatban a vett jel erőssége jelentősen gyengébb lesz a szükségesnél a nulla területen kívüli ellenőrizhetetlen tükröződések eredményeké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080720" y="3880440"/>
            <a:ext cx="7791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80720" y="388044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073120" y="388044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14840" y="104112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49320" y="104112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080720" y="388044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14840" y="388044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349320" y="3880440"/>
            <a:ext cx="2508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06360" y="0"/>
            <a:ext cx="771552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80720" y="388044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3120" y="388044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73120" y="1041120"/>
            <a:ext cx="380196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0720" y="3880440"/>
            <a:ext cx="779148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d31a15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b1bde1"/>
                </a:gs>
                <a:gs pos="100000">
                  <a:srgbClr val="0027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d31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33480" y="6424560"/>
            <a:ext cx="111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afd00"/>
                </a:solidFill>
                <a:latin typeface="Arial"/>
              </a:rPr>
              <a:t>Honfy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FE0A-7DED-48A3-A993-72AEDC49DE83}" type="datetime">
              <a:rPr b="0" lang="hu-HU" sz="1000" spc="-1" strike="noStrike">
                <a:solidFill>
                  <a:srgbClr val="fafd00"/>
                </a:solidFill>
                <a:latin typeface="Arial"/>
              </a:rPr>
              <a:t>26.07.30.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8562960" y="6556320"/>
            <a:ext cx="58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1B52-690F-4AA4-893F-0982DA7D548E}" type="slidenum">
              <a:rPr b="0" lang="en-US" sz="1000" spc="-1" strike="noStrike">
                <a:solidFill>
                  <a:srgbClr val="c4ff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480" y="2158920"/>
            <a:ext cx="7873920" cy="2540160"/>
          </a:xfrm>
          <a:prstGeom prst="rect">
            <a:avLst/>
          </a:prstGeom>
          <a:noFill/>
          <a:ln w="0">
            <a:noFill/>
          </a:ln>
          <a:effectLst>
            <a:outerShdw dist="120672" dir="20493904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57b49"/>
                </a:solidFill>
                <a:latin typeface="Arial"/>
              </a:rPr>
              <a:t>ANTENNÁK-HULLÁMTERJEDÉS</a:t>
            </a:r>
            <a:br>
              <a:rPr sz="4000"/>
            </a:br>
            <a:r>
              <a:rPr b="1" lang="en-US" sz="4000" spc="-1" strike="noStrike">
                <a:solidFill>
                  <a:srgbClr val="d43414"/>
                </a:solidFill>
                <a:latin typeface="Arial"/>
              </a:rPr>
              <a:t>IV.</a:t>
            </a:r>
            <a:br>
              <a:rPr sz="4000"/>
            </a:br>
            <a:endParaRPr b="1" lang="en-US" sz="40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34960" y="509220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102388" dir="19816807" blurRad="0" rotWithShape="0">
              <a:srgbClr val="232323"/>
            </a:outerShdw>
          </a:effectLst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43414"/>
                </a:solidFill>
                <a:latin typeface="Arial"/>
              </a:rPr>
              <a:t>ANTENNARENDSZEREK TEVEZÉSI SZEMPONTJAI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Fázisközéppont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1080" y="698400"/>
            <a:ext cx="4479840" cy="577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Ha egyetlen izotróp pontforrást tekintünk, a vett jel térbeli eloszlása teljes mértékben megfeleltethető a relatív amplitúdó karakte-risztikának, vagyis a hozzá társított fázis karakterisztika nem szolgáltat további használ-ható információt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Ha a rendszer véges méretű forrásokat használ, a tényleges sugárzási karakterisztikát a relatív amplitúdó karakterisztika és a társított fázis karakterisztika felhasználásával kell meghatározni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Gyakorlatban egyetlen sugárzási karakterisztikát célszerű használunk.  Ehhez a sugárzás referencia pontja átvihető egy “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fázisközéppont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” vagy “elektromos centrum” elnevezésű pontba, ahol a karakterisztika a legszélesebb szögtartományon belül a legkisebb változást mutatja. Ez a pont a sugárzott hullámfront geometriai középpontja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 fázisközpont a pontforrás pozícióját adja az antenna üzemi frekvenciasávjában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40560" y="531720"/>
            <a:ext cx="2079720" cy="2200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11680" y="3978360"/>
            <a:ext cx="3532320" cy="2531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rot="20306400">
            <a:off x="5198760" y="2239560"/>
            <a:ext cx="2151000" cy="285840"/>
          </a:xfrm>
          <a:prstGeom prst="rightArrow">
            <a:avLst>
              <a:gd name="adj1" fmla="val 50000"/>
              <a:gd name="adj2" fmla="val 188130"/>
            </a:avLst>
          </a:prstGeom>
          <a:solidFill>
            <a:srgbClr val="b760f9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Vertikális karakterisztik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1080" y="1041120"/>
            <a:ext cx="381960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Kűlönböző táplálási lehetőségek a karakterisztika formáláshoz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7720" y="1584360"/>
            <a:ext cx="3083040" cy="4790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129200" y="1657440"/>
            <a:ext cx="4143240" cy="2511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192560" y="4352760"/>
            <a:ext cx="391176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Vertikális karakterisztik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1080" y="1041120"/>
            <a:ext cx="381960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eljesítményosztók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98600" y="1603440"/>
            <a:ext cx="3927600" cy="2414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837400" y="1619280"/>
            <a:ext cx="3127320" cy="2368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544920" y="4127400"/>
            <a:ext cx="3314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ÖSSZETETT ANTENNARENDSZER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1080" y="1041120"/>
            <a:ext cx="381960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ÁPLÁLÁSI VÁZLAT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546120"/>
            <a:ext cx="4476960" cy="613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ANTENNARENDSZEREK TERVEZÉSI SZEMPONTJAI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8480" y="1041480"/>
            <a:ext cx="7804080" cy="565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ARAKTERISZTIKA SZINTÉZI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 karakterisztika szintézist úgy definiálhatjuk, mint egy antennarendszer néhány vagy összes paraméterének azonosítására szolgáló eljárást, amely antennarendszer karakterisztikája megfelel pár előre meghatározott korlátozásnak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 VHF és az UHF műsorszórás területén a korlátozások meghatározhatók egy, az adott sugárzási területre vonatkozó, optimális karakterisztika-alak formájában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 kívánt karakterisztika-alak általában leírható specifikus azimut, vagy elevációs szögekhez tartozó relatív amplitúdó értékek formájában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agyon gyakran minden leírt értékhez egy “súlyozó” összetevő társul, hogy lehetővé váljon a szintézis pontosságának megváltoztatása bizonyos szögtartományokon belül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Minden korszerű karakterisztika szintézis módszer segítségül hívja a számítástechnikát a többdimenziós, iteratív optimalizációs számítások elvégzéséhez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z egyszerűség kedvéért a szintézishez a vízszintes karakterisztikát állapítjuk meg előbb, ezt követik azon eljárások, melyek során optimalizáljuk a függőleges karakterisztikát, amely a szolgáltatás megbízhatóságát tekintve nagy fontosságú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SZOLGÁLTATÁS ELLÁTOTTSÁG TERVEZÉSI SZEMPONTJAI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 TÉRERŐSSÉG BECSLÉSÉRE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két fő módszert különböztetünk meg (a CCIR 715-ös jelentése bővebb leírást ad róluk):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Az első térerő–távolság  grafikonokat vizsgál, ezek a grafikonok a térerő csökkenését mutatják a távolság növekedésével. Ezek több ezer mérés statisztikai analízisén alapszanak, egyszerűen és könnyen interpretálhatóak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d31a15"/>
              </a:buClr>
              <a:buSzPct val="65000"/>
              <a:buFont typeface="Monotype Sorts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A második módszer számításai minden terjedési irány esetében az egyedi területi jellemzőket veszik figyelembe. Általában optikai elméletekre épülő számolásokat használnak, és az terjedési csillapítás részletes becsléseit adják. Az elsőnél ez a második módszer általában sokkal pontosabb, de frekvenciatervezési célokra használva sokkal több adatra van szükség hozzá, hogy teljesen hatékony legyen, és általában számítógépet igénylő, bonyolult számításokkal dolgozik.*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ULLÁMTERJEDÉSI GÖRBÉ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A CCIR 370-es ajánlása szól a fent említett térerő-távolság grafikonokról, amelyek olyan paramétereket használnak, mint a frekvencia, adó- és vevőantenna magassága, stb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A térerősség értékét úgy adják meg, ahogy az egy bizonyos időszázalékban a területek egy bizonyos százalékán létezik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EGYSZERŰSITETT MÓDSZEREK: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lehetséges az antennarendszer teljesítményét előzetesen megbecsülni, ez a második módszeren alapszik, amely igazolja az első Fresnel-zóna tisztaságát és lokalizálja a fő reflexiós pontot a megadott terepprofil esetén. Az eredményeket azután ellenőrizni kell területi mérésekkel is. 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Először is jó tudni, hogy feltételezhetünk-e szabadtéri terjedést. Általában ez az eset akkor fordul elő, ha a terjedési irány kikerüli az összes akadályt az első Fresnel-zónának megfelelő vételhatárral, ahogy azt az optikai elméletből jól tudjuk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6840" y="511200"/>
            <a:ext cx="90471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39808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31a15"/>
                </a:solidFill>
                <a:latin typeface="Arial"/>
              </a:rPr>
              <a:t>Egy budapesti helyszín 1kW ERP-re vonatkozó lefedettségi terve körsugárzó antennakarakterisztikával</a:t>
            </a:r>
            <a:r>
              <a:rPr b="1" lang="hu-HU" sz="2000" spc="-1" strike="noStrike">
                <a:solidFill>
                  <a:srgbClr val="d31a1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d31a15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8480" y="846000"/>
            <a:ext cx="6012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DIVERSITY ANTENNÁ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versiti vétel a különféle terjedési egyenetlenségek miatti jelszint csökkenés elkerülése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ekvencia diversiti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ér diversiti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olarizációs diversiti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2622600"/>
            <a:ext cx="3429000" cy="4000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19840" y="2620800"/>
            <a:ext cx="347652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ANTENNARENDSZEREK SZERELVÉNYEI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ZIMMETRIZÁL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ELJESÍTMÉNYÖSSZEGZŐ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ELJESÍTMÉNYOSZT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ÁZISTOL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ZŰRŐK, DIPLEXERE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ÁBELE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SATLAKO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ANTENNARENDSZEREK TERVEZÉSI SZEMPONTJAI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orizontális karakterisztika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sugárzási követelménye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őr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zektor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Élesen irányított 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ertikális karakterisztika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ázisközéppont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ullhely feltölté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yaláb dőlé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AZ ANTENNÁK ZAJ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z antenna termikus zaja (Johnson zaj)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z antenna által vett zaj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MÉRÉSEK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RÁNYKARAKTERISZTIKA MÉRÉS (Nyereség , ellátottság ellenőrzése)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ázisközéppont meghatározása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MPEDANCIA MÉRÉ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FLEXIÓS JELLEMZŐ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LLESZTÉS, HANGOLÁ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940280" y="1778040"/>
            <a:ext cx="382428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95520" y="1703520"/>
            <a:ext cx="4152960" cy="3450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365640" y="2755800"/>
            <a:ext cx="18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31a15"/>
                </a:solidFill>
                <a:latin typeface="Arial"/>
              </a:rPr>
              <a:t>VÉ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ANTENNÁK POLARIZÁCIÓJ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791480" cy="543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INEÁRIS POLARIZÁCIÓ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IRKULÁRIS POLARIZÁCIÓ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VERT POLARIZÁCIÓ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Kevert polarizáció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1080" y="1041120"/>
            <a:ext cx="3819600" cy="54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Mobil vétel érdekében gyakorta alkalmazzák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0520" y="2031840"/>
            <a:ext cx="5616720" cy="3692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Horizontális karakterisztik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8120" y="926640"/>
            <a:ext cx="7791480" cy="203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sugárzási követelménye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ör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zektor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760f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Élesen irányított sugárzók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95760" y="3251160"/>
            <a:ext cx="2544840" cy="297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6680" y="3236760"/>
            <a:ext cx="2243160" cy="298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408720" y="3238560"/>
            <a:ext cx="25592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Vertikalis karakterisztik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1080" y="1041120"/>
            <a:ext cx="732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 besugárzott terület minden pontján ugyanakkora térerősségre van szükség, ehhez a sugárzási karakterisztika alakja koszinuszos függvény  kell legyen: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51280" y="2336760"/>
            <a:ext cx="5292720" cy="408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42960" y="1974960"/>
                <a:ext cx="10288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{  {1}  over  {</m:t>
                    </m:r>
                    <m: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Θ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157400" y="2463840"/>
            <a:ext cx="2549520" cy="408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gy antennarendszer függőleges karakterisztikájának az elméleti optimális alakját állapítjuk meg először, majd megadjuk az ennek eléréséhez szükséges lehetséges technológiák leírását.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Nyaláb döntés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720" y="1041120"/>
            <a:ext cx="7172280" cy="102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Tulajdonképpen a Föld görbületének köszönhetően egy sugárzásdöntés nélküli antennarendszer maximális sugárzása sosem érné el a Föld felszínét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79720" y="2386080"/>
            <a:ext cx="5548320" cy="430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sp>
        <p:nvSpPr>
          <p:cNvPr id="98" name=""/>
          <p:cNvSpPr/>
          <p:nvPr/>
        </p:nvSpPr>
        <p:spPr>
          <a:xfrm>
            <a:off x="1246320" y="1663560"/>
            <a:ext cx="6410160" cy="171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A sugárzásdöntés nemcsak a vízszintes sík fölé kisugárzott teljesítmény mennyiségének csökkentésére szolgál, hanem arra is, hogy a Föld felszíne felé irányítsuk a maximális teljesíményt.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Vertikalis karakterisztik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1080" y="1041480"/>
            <a:ext cx="7184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éhány példa a vertikális karakterisztika kialakítására, a nullhely feltöltés érdekében.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8280" y="1909800"/>
            <a:ext cx="3616560" cy="2539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56200" y="1913040"/>
            <a:ext cx="329076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311640" y="4511520"/>
            <a:ext cx="32572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360" y="0"/>
            <a:ext cx="771552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1a15"/>
                </a:solidFill>
                <a:latin typeface="Arial"/>
              </a:rPr>
              <a:t>Vertikalis karakterisztika</a:t>
            </a:r>
            <a:endParaRPr b="1" lang="en-US" sz="2400" spc="-1" strike="noStrike">
              <a:solidFill>
                <a:srgbClr val="d31a1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1800" y="990720"/>
            <a:ext cx="77058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32323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d31a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 vertikális karakterisztika alakításának az előzőtől részben különböző lehetőségei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360" y="1494000"/>
            <a:ext cx="3027240" cy="2968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33960" y="1363680"/>
            <a:ext cx="2811600" cy="3083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603520" y="4489560"/>
            <a:ext cx="46990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5T19:09:54Z</dcterms:created>
  <dc:creator>HONFY</dc:creator>
  <dc:description/>
  <cp:keywords/>
  <dc:language>en-US</dc:language>
  <cp:lastModifiedBy>Vári Péter</cp:lastModifiedBy>
  <dcterms:modified xsi:type="dcterms:W3CDTF">2009-11-16T15:08:25Z</dcterms:modified>
  <cp:revision>91</cp:revision>
  <dc:subject/>
  <dc:title>MOBIL TÁVKÖZLÉS ANTENNA RENDSZEREI</dc:title>
</cp:coreProperties>
</file>