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1.docx" ContentType="application/vnd.openxmlformats-officedocument.wordprocessingml.document"/>
  <Override PartName="/ppt/media/image27.wmf" ContentType="image/x-wmf"/>
  <Override PartName="/ppt/media/image26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53.png" ContentType="image/png"/>
  <Override PartName="/ppt/media/image24.wmf" ContentType="image/x-wmf"/>
  <Override PartName="/ppt/media/image1.wmf" ContentType="image/x-wmf"/>
  <Override PartName="/ppt/media/image28.png" ContentType="image/png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png" ContentType="image/png"/>
  <Override PartName="/ppt/media/image5.png" ContentType="image/png"/>
  <Override PartName="/ppt/media/image43.jpeg" ContentType="image/jpeg"/>
  <Override PartName="/ppt/media/image30.wmf" ContentType="image/x-wmf"/>
  <Override PartName="/ppt/media/image45.png" ContentType="image/png"/>
  <Override PartName="/ppt/media/image34.wmf" ContentType="image/x-wmf"/>
  <Override PartName="/ppt/media/image42.jpeg" ContentType="image/jpeg"/>
  <Override PartName="/ppt/media/image35.wmf" ContentType="image/x-wmf"/>
  <Override PartName="/ppt/media/image52.png" ContentType="image/png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44.png" ContentType="image/png"/>
  <Override PartName="/ppt/media/image33.wmf" ContentType="image/x-wmf"/>
  <Override PartName="/ppt/media/image38.wmf" ContentType="image/x-wmf"/>
  <Override PartName="/ppt/media/image8.wmf" ContentType="image/x-wmf"/>
  <Override PartName="/ppt/media/image13.png" ContentType="image/png"/>
  <Override PartName="/ppt/media/image46.png" ContentType="image/png"/>
  <Override PartName="/ppt/media/image11.png" ContentType="image/png"/>
  <Override PartName="/ppt/media/image29.wmf" ContentType="image/x-wmf"/>
  <Override PartName="/ppt/media/image48.wmf" ContentType="image/x-wmf"/>
  <Override PartName="/ppt/media/image50.wmf" ContentType="image/x-wmf"/>
  <Override PartName="/ppt/media/image6.wmf" ContentType="image/x-wmf"/>
  <Override PartName="/ppt/media/image36.wmf" ContentType="image/x-wmf"/>
  <Override PartName="/ppt/media/image4.png" ContentType="image/png"/>
  <Override PartName="/ppt/media/image47.wmf" ContentType="image/x-wmf"/>
  <Override PartName="/ppt/media/image10.wmf" ContentType="image/x-wmf"/>
  <Override PartName="/ppt/media/image51.png" ContentType="image/png"/>
  <Override PartName="/ppt/media/image12.wmf" ContentType="image/x-wmf"/>
  <Override PartName="/ppt/media/image49.wmf" ContentType="image/x-wmf"/>
  <Override PartName="/ppt/media/image7.wmf" ContentType="image/x-wmf"/>
  <Override PartName="/ppt/media/image3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1a15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129720" y="875016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1C13-53A2-4B77-B655-24E4D711AD0B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c68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" Target="../slides/slide19.xml"/><Relationship Id="rId3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../slides/slide26.xml"/><Relationship Id="rId3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etszőleges hosszúságú dipólusra a következő határfeltételekkel határozzuk meg a térerőssé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ávolteret számolju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Színuszos árameloszlást tételezünk fe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antenna félhosszát „l”-lel jelöljü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kapott eredmények ebben az esetben felhasználható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szabad térben álló dipólusra, illet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földelt táplálású függőleges antennára, a monopólra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iránykarakterisztika  tehát azonos formulából számolható, 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földelt táplálású függőleges antenna csak a felső féltérbe sugároz, annyit, mint -azonos antennaáram esetén- a szimmetrikus, szabad térben álló dipólus az egyik féltér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bből következik, hogy a monopól sugárzási ellenállása éppen a fele a szabad térben álló dipólus sugárzási ellenállásán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etszőleges hosszúságú ddipólus iránykarakterisztiká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4"/>
              <p:cNvSpPr txBox="1"/>
              <p:nvPr/>
            </p:nvSpPr>
            <p:spPr>
              <a:xfrm>
                <a:off x="2514600" y="7772400"/>
                <a:ext cx="2438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ϑ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ϑ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βl</m:t>
                        </m:r>
                        <m:r>
                          <m:rPr>
                            <m:lit/>
                            <m:nor/>
                          </m:rPr>
                          <m:t xml:space="preserve">*cos</m:t>
                        </m:r>
                        <m:r>
                          <m:t xml:space="preserve">ϑ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l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etszőleges hosszúságú dipólusra a következő határfeltételekkel határozzuk meg a térerőssé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ávolteret számolju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Színuszos árameloszlást tételezünk fe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antenna félhosszát „l”-lel jelöljü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kapott eredmények ebben az esetben felhasználható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szabad térben álló dipólusra, illet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földelt táplálású függőleges antennára, a monopólra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iránykarakterisztika  tehát azonos formulából számolható, 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földelt táplálású függőleges antenna csak a felső féltérbe sugároz, annyit, mint -azonos antennaáram esetén- a szimmetrikus, szabad térben álló dipólus az egyik féltér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bből következik, hogy a monopól sugárzási ellenállása éppen a fele a szabad térben álló dipólus sugárzási ellenállásán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etszőleges hosszúságú dipólus iránykarakterisztiká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4"/>
              <p:cNvSpPr txBox="1"/>
              <p:nvPr/>
            </p:nvSpPr>
            <p:spPr>
              <a:xfrm>
                <a:off x="2514600" y="7772400"/>
                <a:ext cx="2438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ϑ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ϑ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βl</m:t>
                        </m:r>
                        <m:r>
                          <m:rPr>
                            <m:lit/>
                            <m:nor/>
                          </m:rPr>
                          <m:t xml:space="preserve">*cos</m:t>
                        </m:r>
                        <m:r>
                          <m:t xml:space="preserve">ϑ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l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56160" cy="3416400"/>
          </a:xfrm>
          <a:prstGeom prst="rect">
            <a:avLst/>
          </a:prstGeom>
          <a:ln w="0">
            <a:noFill/>
          </a:ln>
        </p:spPr>
      </p:sp>
      <p:pic>
        <p:nvPicPr>
          <p:cNvPr id="434" name="Picture 4" descr="MONOPOL"/>
          <p:cNvPicPr/>
          <p:nvPr/>
        </p:nvPicPr>
        <p:blipFill>
          <a:blip r:embed="rId1"/>
          <a:stretch/>
        </p:blipFill>
        <p:spPr>
          <a:xfrm>
            <a:off x="1219320" y="4343400"/>
            <a:ext cx="4417920" cy="411480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etszőleges hosszúságú, középen táplált vékony dipólus sugárzási ellenállását többféle modell alapján is elvégezhetjük( Poynting módszer, vagy az indukált térfeszültség módszere), de maga a számítás meglehetősen bonyolult, a végeredmények az un.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Integrálfüggvényekkel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ejezhetők k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lvégezve a számításokat l=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/4 esetre (monopól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4"/>
              <p:cNvSpPr txBox="1"/>
              <p:nvPr/>
            </p:nvSpPr>
            <p:spPr>
              <a:xfrm>
                <a:off x="1143000" y="5562720"/>
                <a:ext cx="40892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βl</m:t>
                            </m:r>
                            <m:r>
                              <m:t xml:space="preserve">−</m:t>
                            </m:r>
                            <m:r>
                              <m:t xml:space="preserve">βz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sSub>
                                      <m:e>
                                        <m:r>
                                          <m:t xml:space="preserve">β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sSub>
                                      <m:e>
                                        <m:r>
                                          <m:t xml:space="preserve">βr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l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sSub>
                                      <m:e>
                                        <m:r>
                                          <m:t xml:space="preserve">β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βl</m:t>
                            </m:r>
                            <m:r>
                              <m:t xml:space="preserve">−</m:t>
                            </m:r>
                            <m:r>
                              <m:t xml:space="preserve">βz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sSub>
                                      <m:e>
                                        <m:r>
                                          <m:t xml:space="preserve">β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sSub>
                                      <m:e>
                                        <m:r>
                                          <m:t xml:space="preserve">βr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l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sSub>
                                      <m:e>
                                        <m:r>
                                          <m:t xml:space="preserve">β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5"/>
              <p:cNvSpPr txBox="1"/>
              <p:nvPr/>
            </p:nvSpPr>
            <p:spPr>
              <a:xfrm>
                <a:off x="2743200" y="7010280"/>
                <a:ext cx="152388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A számításnál a rövidülést figyelmen kívül hagyjuk és a nyitott végtől 0,25</a:t>
            </a:r>
            <a:r>
              <a:rPr b="0" lang="hu-HU" sz="1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távolságra vesszük fel a megfelelő l/</a:t>
            </a:r>
            <a:r>
              <a:rPr b="0" lang="hu-HU" sz="1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viszonylagos hosszúságú antennához (dipólushoz ) tartozó R</a:t>
            </a:r>
            <a:r>
              <a:rPr b="0" lang="hu-HU" sz="1000" spc="-1" strike="noStrike" baseline="-25000">
                <a:solidFill>
                  <a:srgbClr val="000000"/>
                </a:solidFill>
                <a:latin typeface="Arial"/>
              </a:rPr>
              <a:t>sa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értéket, mint koncentrált soros terhelést.Számítás helyett poláris impedanciadiagramot is használhatun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Az ábrán az antenna nyitott végének az A pont felel me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Innen </a:t>
            </a:r>
            <a:r>
              <a:rPr b="0" lang="hu-HU" sz="1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/4 távolságra (B) az áramh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helyén tüntetjük fel az R</a:t>
            </a:r>
            <a:r>
              <a:rPr b="0" lang="hu-HU" sz="1000" spc="-1" strike="noStrike" baseline="-25000">
                <a:solidFill>
                  <a:srgbClr val="000000"/>
                </a:solidFill>
                <a:latin typeface="Arial"/>
              </a:rPr>
              <a:t>sa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=R</a:t>
            </a:r>
            <a:r>
              <a:rPr b="0" lang="hu-HU" sz="1000" spc="-1" strike="noStrike" baseline="-25000">
                <a:solidFill>
                  <a:srgbClr val="000000"/>
                </a:solidFill>
                <a:latin typeface="Arial"/>
              </a:rPr>
              <a:t>sa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/Z</a:t>
            </a:r>
            <a:r>
              <a:rPr b="0" lang="hu-HU" sz="1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nor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malizált ellenállást (C). A C pontbó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oncentrikus kört rajzolunk és a k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rületen felmérjük az A ponttól l/</a:t>
            </a:r>
            <a:r>
              <a:rPr b="0" lang="hu-HU" sz="1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tá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volságra a D pontot (a betáp ponto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A D pontból húzott sugár és a kon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entrikus kör metszéspontja adja 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P pontot és a  P ponton áthaladó R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és X’ körök  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’</a:t>
            </a:r>
            <a:r>
              <a:rPr b="1" lang="hu-HU" sz="10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hu-HU" sz="1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és 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X’</a:t>
            </a:r>
            <a:r>
              <a:rPr b="1" lang="hu-HU" sz="1000" spc="-1" strike="noStrike" baseline="-25000">
                <a:solidFill>
                  <a:srgbClr val="000000"/>
                </a:solidFill>
                <a:latin typeface="Arial"/>
              </a:rPr>
              <a:t>be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értéké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Természetesen az R</a:t>
            </a:r>
            <a:r>
              <a:rPr b="0" lang="hu-HU" sz="1000" spc="-1" strike="noStrike" baseline="-25000">
                <a:solidFill>
                  <a:srgbClr val="000000"/>
                </a:solidFill>
                <a:latin typeface="Arial"/>
              </a:rPr>
              <a:t>sa</a:t>
            </a:r>
            <a:r>
              <a:rPr b="1" lang="hu-HU" sz="1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értékét ismer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nünk kel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s"/>
          <p:cNvPicPr/>
          <p:nvPr/>
        </p:nvPicPr>
        <p:blipFill>
          <a:blip r:embed="rId1"/>
          <a:stretch/>
        </p:blipFill>
        <p:spPr>
          <a:xfrm>
            <a:off x="3124080" y="5410080"/>
            <a:ext cx="2876760" cy="296244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A geometriai és az elektromos hossz akkor egyezne meg, ha a szabad térben álló sugárzó átmérője végtelenül kicsi len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Egy vezető kapacitása függ az átmérőjétől.(Vastagabb vezető kapacitása nagyobb, mint egy ugyanolyan hosszú, de vékonyabb vezető kapacitása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Ha a rezgőkörben a kapacitást növeljük, a rezonancia frekvencia az alacsonyabb frekvenciák irányába tolódik el. A dipólok rövidülése erősen függ a vastagságuktól. Ennek kifejezésére alkalmazzuk a karcsúsági tényezőt: 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l/a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Viszonylag vastag dipólnak általában azokat tekintjük, amelyeknél a karcsúsági tényező l/a&gt;80…1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4" descr="hullhossz"/>
          <p:cNvPicPr/>
          <p:nvPr/>
        </p:nvPicPr>
        <p:blipFill>
          <a:blip r:embed="rId1"/>
          <a:stretch/>
        </p:blipFill>
        <p:spPr>
          <a:xfrm>
            <a:off x="1371600" y="5867280"/>
            <a:ext cx="3733920" cy="260028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antennán a sugárzási csillapítás miatt a terjedési sebesség nem csökken. A rezonanciahossz megrövidülését az antenna hosszában változó kapacitás- és induktivitás eloszlás okozza. Az antennán változatlan hosszegységenkénti kapacitás és önindukció csak ellipszoid alakú antennánál lehetséges, amelynek rezonanciahossza nem is tér el a szabadtéri félhullámhossztól (2l= 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hu-HU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/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engeres antenna a végek felé mind jobban eltér az ellipszoid felülettől és ez okozza a végek kapacitásnövekedését és önindukció csökkenését, miáltal az antennán mért hullámhossz is rövidebb lesz a szabadtérinél. Ezt közelítőleg úgy juttatjuk kifejezésre, hogy az antennán a fázistényezőt  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hu-HU" sz="1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=2 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hu-HU" sz="1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- nak vesszük, ahol  a 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hu-HU" sz="1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az antennán mért hullámhoss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antennán a sugárzási csillapítás miatt a terjedési sebesség nem csökken. A rezonanciahossz megrövidülését az antenna hosszában változó kapacitás- és induktivitás eloszlás okozza. Az antennán változatlan hosszegységenkénti kapacitás és önindukció csak ellipszoid alakú antennánál lehetséges, amelynek rezonanciahossza nem is tér el a szabadtéri félhullámhossztól (2l= 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hu-HU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/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engeres antenna a végek felé mind jobban eltér az ellipszoid felülettől és ez okozza a végek kapacitásnövekedését és önindukció csökkenését, miáltal az antennán mért hullámhossz is rövidebb lesz a szabadtérinél. Ezt közelítőleg úgy juttatjuk kifejezésre, hogy az antennán a fázistényezőt  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hu-HU" sz="1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=2 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hu-HU" sz="1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- nak vesszük, ahol  a 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hu-HU" sz="1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az antennán mért hullámhoss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deális, veszteségmentes e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1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hu-HU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hu-HU" sz="1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hu-HU" sz="1200" spc="-1" strike="noStrike">
                <a:solidFill>
                  <a:srgbClr val="000000"/>
                </a:solidFill>
                <a:latin typeface="Times New Roman"/>
              </a:rPr>
              <a:t> hullámhossz hosszúságú monopól (ostor-) 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hogy az az ábrán is látszik, az </a:t>
            </a:r>
            <a:r>
              <a:rPr b="0" lang="hu-HU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hu-HU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hullámhossz hosszúságú monopóll antennák vízszintes irányítottsága összehasonlíthatóan nagyobb. Így az </a:t>
            </a:r>
            <a:r>
              <a:rPr b="0" lang="hu-HU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hu-HU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hullámhossz hosszúságú monopól antennát gyakran nagynyereségű antennaként használják a vízszintes síkban körsugárzóként. Az antenna szál általában rugalmas anyagból készül, ezért hívják </a:t>
            </a:r>
            <a:r>
              <a:rPr b="0" lang="hu-HU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hu-HU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hullám-hosszúságú monopól ostorantennának. Amiért az nyeresége nagyobb egy ¼ hullámhossz hosszúságú monopól antennáénál (3,5 dBi), annak oka az, hogy az ostorantenna hossza nagyobb, sugárnyalábjának emelkedési szöge pedig a véges kiterjedésű vízszintes sík miatt kisebb, mint az ¼ hullámhossz hosszúságú monopól antennáé. Az ábra mutatja a tipikus antennaszerkezetet is. Az </a:t>
            </a:r>
            <a:r>
              <a:rPr b="0" lang="hu-HU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hu-HU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hullámhossz hosszúságú monopól antennaelem és a vízszintes sík közé elhelyezett soros kapcsolású tekercs effektív hossza </a:t>
            </a:r>
            <a:r>
              <a:rPr b="0" lang="hu-HU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hu-HU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hullámhossz, az antenna bemenő impedanciája pedig durván 50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alsó ábra ostorantennája már tulajdonképpen egy kollineár vevőantenna, egy negyed és egy félhullámú antennaelem kapcsolódik sorba egymással egy illesztő tekercsen keresztül. Nyeresége 5 dBi (3 dBd).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gészhullámú rés aszimmetrikusan táplálható egy 50 ohmos koaxiális tápvonall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 az antenna teljesítménykoncentráló képessége (nyereség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antenna azért kezelhető pontforrásként, mert egy adott elemi kis térszög alatt ugyanúgy viselkedik, mint egy izotróp anten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antennától elég távolságra a sugárnyaláb párhuzamosnak is tekinthető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specifikus n összetevő, amelyet néha alaktényezőként emlegetünk, az ábra szerint határozható meg. Egy adott 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szög mellett, a megfigyelt tartományban jelölje OA a pontforrás E(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) relatív amplitúdójú karakterisztika értékét, OB pedig egy olyan pontforrás relatív amplitúdójú karakterisztika értékét, amelynek cos 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alakja v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a az E(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) pontforrást cos</a:t>
            </a:r>
            <a:r>
              <a:rPr b="0" lang="hu-HU" sz="1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-nel közelítjük, a következőt kapju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(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)= cos</a:t>
            </a:r>
            <a:r>
              <a:rPr b="0" lang="hu-HU" sz="1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ogaritmusát vé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og (E(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)) = n log(cos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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redmén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 = log (E(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)) / log(cos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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lletve geometriailag (az ábra szerint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 = log (OA) / log(O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/10 méret nevezetes méret az antennatechnikában, mert , ha egy vezetőanyagból készült rács rácsrúdjainak távolsága d &lt; </a:t>
            </a:r>
            <a:r>
              <a:rPr b="0" lang="hu-HU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/10 a rácsfelületet fémesen összefüggőnek látja az elektromágneses hullá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3808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rezgőkör jóságát az L/C viszony határozza me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agy L/C viszony..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eskenysávú          </a:t>
            </a:r>
            <a:r>
              <a:rPr b="0" lang="hu-HU" sz="1200" spc="-1" strike="noStrike">
                <a:solidFill>
                  <a:srgbClr val="fc0128"/>
                </a:solidFill>
                <a:latin typeface="Arial"/>
              </a:rPr>
              <a:t>VÉKONY DIPÓ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iscsi L/C viszony..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szélessávú            </a:t>
            </a:r>
            <a:r>
              <a:rPr b="0" lang="hu-HU" sz="1200" spc="-1" strike="noStrike">
                <a:solidFill>
                  <a:srgbClr val="fc0128"/>
                </a:solidFill>
                <a:latin typeface="Arial"/>
              </a:rPr>
              <a:t>VASTAG DIPÓ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4"/>
              <p:cNvSpPr txBox="1"/>
              <p:nvPr/>
            </p:nvSpPr>
            <p:spPr>
              <a:xfrm>
                <a:off x="2971800" y="4572000"/>
                <a:ext cx="8110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5" name="AutoShape 5"/>
          <p:cNvSpPr/>
          <p:nvPr/>
        </p:nvSpPr>
        <p:spPr>
          <a:xfrm>
            <a:off x="3276720" y="5791320"/>
            <a:ext cx="228600" cy="75960"/>
          </a:xfrm>
          <a:prstGeom prst="rightArrow">
            <a:avLst>
              <a:gd name="adj1" fmla="val 50000"/>
              <a:gd name="adj2" fmla="val 7523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426" name="AutoShape 6"/>
          <p:cNvSpPr/>
          <p:nvPr/>
        </p:nvSpPr>
        <p:spPr>
          <a:xfrm flipV="1">
            <a:off x="3200400" y="6247800"/>
            <a:ext cx="228600" cy="75960"/>
          </a:xfrm>
          <a:prstGeom prst="rightArrow">
            <a:avLst>
              <a:gd name="adj1" fmla="val 50000"/>
              <a:gd name="adj2" fmla="val 7523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779148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080720" y="3880440"/>
            <a:ext cx="779148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380196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3120" y="1041120"/>
            <a:ext cx="380196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80720" y="3880440"/>
            <a:ext cx="380196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073120" y="3880440"/>
            <a:ext cx="380196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250848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14840" y="1041120"/>
            <a:ext cx="250848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49320" y="1041120"/>
            <a:ext cx="250848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1080720" y="3880440"/>
            <a:ext cx="250848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714840" y="3880440"/>
            <a:ext cx="250848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349320" y="3880440"/>
            <a:ext cx="250848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080720" y="1041120"/>
            <a:ext cx="779148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779148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380196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73120" y="1041120"/>
            <a:ext cx="380196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206360" y="0"/>
            <a:ext cx="7715520" cy="32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380196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73120" y="1041120"/>
            <a:ext cx="380196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80720" y="3880440"/>
            <a:ext cx="380196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380196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73120" y="1041120"/>
            <a:ext cx="380196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73120" y="3880440"/>
            <a:ext cx="380196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380196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73120" y="1041120"/>
            <a:ext cx="380196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80720" y="3880440"/>
            <a:ext cx="779148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68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80720" y="1041120"/>
            <a:ext cx="7791480" cy="543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d31a15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1a15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grpSp>
        <p:nvGrpSpPr>
          <p:cNvPr id="2" name="Group 35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b2bee2"/>
                </a:gs>
                <a:gs pos="100000">
                  <a:srgbClr val="00279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c68f6"/>
                </a:solidFill>
                <a:latin typeface="Arial"/>
              </a:endParaRPr>
            </a:p>
          </p:txBody>
        </p:sp>
        <p:grpSp>
          <p:nvGrpSpPr>
            <p:cNvPr id="4" name="Group 34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5" name="Rectangle 5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7" name="Rectangle 7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8" name="Rectangle 8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c68f6"/>
                  </a:solidFill>
                  <a:latin typeface="Arial"/>
                </a:endParaRPr>
              </a:p>
            </p:txBody>
          </p:sp>
        </p:grpSp>
      </p:grpSp>
      <p:sp>
        <p:nvSpPr>
          <p:cNvPr id="34" name="Rectangle 36"/>
          <p:cNvSpPr/>
          <p:nvPr/>
        </p:nvSpPr>
        <p:spPr>
          <a:xfrm>
            <a:off x="33480" y="6424560"/>
            <a:ext cx="1110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afd00"/>
                </a:solidFill>
                <a:latin typeface="Arial"/>
              </a:rPr>
              <a:t>Honfy  </a:t>
            </a:r>
            <a:endParaRPr b="0" lang="en-US" sz="1000" spc="-1" strike="noStrike">
              <a:solidFill>
                <a:srgbClr val="4c68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C860-63A0-4532-9823-0E892B9A03F5}" type="datetime">
              <a:rPr b="0" lang="hu-HU" sz="1000" spc="-1" strike="noStrike">
                <a:solidFill>
                  <a:srgbClr val="fafd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35" name="Rectangle 37"/>
          <p:cNvSpPr/>
          <p:nvPr/>
        </p:nvSpPr>
        <p:spPr>
          <a:xfrm>
            <a:off x="8562960" y="6556320"/>
            <a:ext cx="58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1D48-D542-4A60-9C9C-77CC97417A9E}" type="slidenum">
              <a:rPr b="0" lang="hu-HU" sz="1000" spc="-1" strike="noStrike">
                <a:solidFill>
                  <a:srgbClr val="c4ff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c68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68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0672" dir="20493904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57b49"/>
                </a:solidFill>
                <a:latin typeface="Arial"/>
              </a:rPr>
              <a:t>ANTENNÁK-HULLÁMTERJEDÉS</a:t>
            </a:r>
            <a:br>
              <a:rPr sz="4000"/>
            </a:br>
            <a:r>
              <a:rPr b="1" lang="hu-HU" sz="4000" spc="-1" strike="noStrike">
                <a:solidFill>
                  <a:srgbClr val="f57b49"/>
                </a:solidFill>
                <a:latin typeface="Arial"/>
              </a:rPr>
              <a:t>II.</a:t>
            </a:r>
            <a:br>
              <a:rPr sz="4000"/>
            </a:br>
            <a:br>
              <a:rPr sz="1400"/>
            </a:br>
            <a:endParaRPr b="1" lang="en-US" sz="40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232323">
                <a:alpha val="50000"/>
              </a:srgbClr>
            </a:outerShdw>
          </a:effectLst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d31a15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d31a15"/>
                </a:solidFill>
                <a:latin typeface="Arial"/>
              </a:rPr>
              <a:t>ELEMI ANTENNÁ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103" descr="viz"/>
          <p:cNvPicPr/>
          <p:nvPr/>
        </p:nvPicPr>
        <p:blipFill>
          <a:blip r:embed="rId1"/>
          <a:stretch/>
        </p:blipFill>
        <p:spPr>
          <a:xfrm>
            <a:off x="4649760" y="2647800"/>
            <a:ext cx="4025880" cy="40449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4109"/>
          <p:cNvSpPr/>
          <p:nvPr/>
        </p:nvSpPr>
        <p:spPr>
          <a:xfrm>
            <a:off x="790560" y="5295960"/>
            <a:ext cx="2857680" cy="1257120"/>
          </a:xfrm>
          <a:prstGeom prst="wedgeEllipseCallout">
            <a:avLst>
              <a:gd name="adj1" fmla="val 98333"/>
              <a:gd name="adj2" fmla="val -41412"/>
            </a:avLst>
          </a:prstGeom>
          <a:solidFill>
            <a:srgbClr val="c4ff89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SZIMMETRIKUS-, vagy REZONÁNS DIPÓLUS</a:t>
            </a:r>
            <a:br>
              <a:rPr sz="2400"/>
            </a:b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105"/>
              <p:cNvSpPr txBox="1"/>
              <p:nvPr/>
            </p:nvSpPr>
            <p:spPr>
              <a:xfrm>
                <a:off x="523800" y="4378320"/>
                <a:ext cx="3807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ϑ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37" name="Object 4100"/>
          <p:cNvGraphicFramePr/>
          <p:nvPr/>
        </p:nvGraphicFramePr>
        <p:xfrm>
          <a:off x="523800" y="1477800"/>
          <a:ext cx="4238640" cy="335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410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3800" y="1477800"/>
                    <a:ext cx="4238640" cy="33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4101"/>
          <p:cNvSpPr/>
          <p:nvPr/>
        </p:nvSpPr>
        <p:spPr>
          <a:xfrm>
            <a:off x="1081080" y="876240"/>
            <a:ext cx="779148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Önmagában szabadon álló dipól:</a:t>
            </a: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107"/>
              <p:cNvSpPr txBox="1"/>
              <p:nvPr/>
            </p:nvSpPr>
            <p:spPr>
              <a:xfrm>
                <a:off x="1177920" y="5505480"/>
                <a:ext cx="2101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ϑ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0800" y="343080"/>
            <a:ext cx="771516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SZIMMETRIKUS-, vagy REZONÁNS DIPÓLUS</a:t>
            </a:r>
            <a:br>
              <a:rPr sz="2400"/>
            </a:b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8880" y="939600"/>
            <a:ext cx="7791480" cy="261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Tetszőleges „l” hosszúságú monopól  és pozitív tükörképe együtt a „2l” hosszúságú szimmetrikus dipólus. Ezért azonos formulából számítható a térerősségük, iránykarakterisztikájuk, de bizonyos megfontolásokkal: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a monopól csak a felső féltérbe sugároz, annyit, mint -azonos antennaáram esetén- a szabad térben álló dipólus az egyik féltérbe. 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a monopól sugárzási ellenállása éppen a fele a szabad térben álló dipólus sugárzási ellenállásának.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43" name="Picture 1029" descr="Ant"/>
          <p:cNvPicPr/>
          <p:nvPr/>
        </p:nvPicPr>
        <p:blipFill>
          <a:blip r:embed="rId1"/>
          <a:stretch/>
        </p:blipFill>
        <p:spPr>
          <a:xfrm>
            <a:off x="5143680" y="3346560"/>
            <a:ext cx="372096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Object 1028"/>
          <p:cNvGraphicFramePr/>
          <p:nvPr/>
        </p:nvGraphicFramePr>
        <p:xfrm>
          <a:off x="1108080" y="3503520"/>
          <a:ext cx="4238640" cy="335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Object 10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08080" y="3503520"/>
                    <a:ext cx="4238640" cy="33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030"/>
          <p:cNvGraphicFramePr/>
          <p:nvPr/>
        </p:nvGraphicFramePr>
        <p:xfrm>
          <a:off x="3838680" y="4773600"/>
          <a:ext cx="4238640" cy="335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Object 103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38680" y="4773600"/>
                    <a:ext cx="4238640" cy="33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0800" y="343080"/>
            <a:ext cx="771516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SZIMMETRIKUS-, vagy REZONÁNS DIPÓLUS</a:t>
            </a:r>
            <a:br>
              <a:rPr sz="2400"/>
            </a:b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8880" y="939960"/>
            <a:ext cx="77914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Különböző „l” hosszúságú dipólok (monopólok) sugárzási karakterisztikái (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a monopól csak a felső féltérbe sugároz, annyit, mint -azonos antennaáram esetén- a szabad térben álló dipólus az egyik féltérbe). 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0" y="1814400"/>
          <a:ext cx="4238640" cy="33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14400"/>
                    <a:ext cx="4238640" cy="33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8" descr="dip"/>
          <p:cNvPicPr/>
          <p:nvPr/>
        </p:nvPicPr>
        <p:blipFill>
          <a:blip r:embed="rId3"/>
          <a:stretch/>
        </p:blipFill>
        <p:spPr>
          <a:xfrm>
            <a:off x="3556080" y="2746440"/>
            <a:ext cx="55879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Különböző „l” hosszúságú dipólok (monopólok) sugárzási karakterisztikái(1)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1"/>
          <a:stretch/>
        </p:blipFill>
        <p:spPr>
          <a:xfrm>
            <a:off x="1193760" y="1041480"/>
            <a:ext cx="3592440" cy="2641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</p:pic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5132520" y="1041480"/>
            <a:ext cx="3660480" cy="2641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</p:pic>
      <p:pic>
        <p:nvPicPr>
          <p:cNvPr id="156" name="Picture 11" descr=""/>
          <p:cNvPicPr/>
          <p:nvPr/>
        </p:nvPicPr>
        <p:blipFill>
          <a:blip r:embed="rId3"/>
          <a:srcRect l="0" t="0" r="2854" b="0"/>
          <a:stretch/>
        </p:blipFill>
        <p:spPr>
          <a:xfrm>
            <a:off x="1170000" y="3835440"/>
            <a:ext cx="3641760" cy="2641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</p:pic>
      <p:pic>
        <p:nvPicPr>
          <p:cNvPr id="157" name="Picture 12" descr=""/>
          <p:cNvPicPr/>
          <p:nvPr/>
        </p:nvPicPr>
        <p:blipFill>
          <a:blip r:embed="rId4"/>
          <a:srcRect l="0" t="0" r="2798" b="0"/>
          <a:stretch/>
        </p:blipFill>
        <p:spPr>
          <a:xfrm>
            <a:off x="5130720" y="3835440"/>
            <a:ext cx="3664080" cy="2641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</p:pic>
      <p:sp>
        <p:nvSpPr>
          <p:cNvPr id="158" name="Text Box 13"/>
          <p:cNvSpPr/>
          <p:nvPr/>
        </p:nvSpPr>
        <p:spPr>
          <a:xfrm>
            <a:off x="4000680" y="114300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c68f6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8153280" y="121932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c68f6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4114800" y="40006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c68f6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8001000" y="4076640"/>
            <a:ext cx="6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c68f6"/>
                </a:solidFill>
                <a:latin typeface="Arial"/>
              </a:rPr>
              <a:t>d.</a:t>
            </a: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77151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Különböző „l” hosszúságú dipólok (monopólok) sugárzási karakterisztikái(2)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1081080" y="2124000"/>
            <a:ext cx="3819600" cy="327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</p:pic>
      <p:pic>
        <p:nvPicPr>
          <p:cNvPr id="164" name="Picture 8" descr=""/>
          <p:cNvPicPr/>
          <p:nvPr/>
        </p:nvPicPr>
        <p:blipFill>
          <a:blip r:embed="rId2"/>
          <a:stretch/>
        </p:blipFill>
        <p:spPr>
          <a:xfrm>
            <a:off x="5057640" y="2168640"/>
            <a:ext cx="3810240" cy="3181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</p:pic>
      <p:sp>
        <p:nvSpPr>
          <p:cNvPr id="165" name="Text Box 9"/>
          <p:cNvSpPr/>
          <p:nvPr/>
        </p:nvSpPr>
        <p:spPr>
          <a:xfrm>
            <a:off x="4165560" y="2247840"/>
            <a:ext cx="6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c68f6"/>
                </a:solidFill>
                <a:latin typeface="Arial"/>
              </a:rPr>
              <a:t>e.</a:t>
            </a: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8204040" y="2235240"/>
            <a:ext cx="5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c68f6"/>
                </a:solidFill>
                <a:latin typeface="Arial"/>
              </a:rPr>
              <a:t>f.</a:t>
            </a: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80800" y="343080"/>
            <a:ext cx="771516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Különböző „l” hosszúságú dipólok (monopólok) sugárzási karakterisztikái(3)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720" y="1091880"/>
            <a:ext cx="7791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Tipikus sugárzási karakterisztikák és a nyereség az antenna méretének függvényében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fc0128"/>
                </a:solidFill>
                <a:latin typeface="Arial"/>
              </a:rPr>
              <a:t>(a képen egy vízszintes, önmagában szabadon álló dipólus E síkú karakterisztikái szerepelnek:</a:t>
            </a:r>
            <a:endParaRPr b="0" lang="en-US" sz="1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69" name="Picture 4" descr="DIPABRA"/>
          <p:cNvPicPr/>
          <p:nvPr/>
        </p:nvPicPr>
        <p:blipFill>
          <a:blip r:embed="rId1"/>
          <a:stretch/>
        </p:blipFill>
        <p:spPr>
          <a:xfrm>
            <a:off x="345960" y="2098800"/>
            <a:ext cx="8623440" cy="3876480"/>
          </a:xfrm>
          <a:prstGeom prst="rect">
            <a:avLst/>
          </a:prstGeom>
          <a:ln w="0">
            <a:noFill/>
          </a:ln>
        </p:spPr>
      </p:pic>
      <p:sp>
        <p:nvSpPr>
          <p:cNvPr id="170" name="Line 5"/>
          <p:cNvSpPr/>
          <p:nvPr/>
        </p:nvSpPr>
        <p:spPr>
          <a:xfrm>
            <a:off x="5702400" y="5079960"/>
            <a:ext cx="368280" cy="0"/>
          </a:xfrm>
          <a:prstGeom prst="line">
            <a:avLst/>
          </a:prstGeom>
          <a:ln w="57240">
            <a:solidFill>
              <a:srgbClr val="d31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5194440" y="5079960"/>
            <a:ext cx="368280" cy="0"/>
          </a:xfrm>
          <a:prstGeom prst="line">
            <a:avLst/>
          </a:prstGeom>
          <a:ln w="57240">
            <a:solidFill>
              <a:srgbClr val="d31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4965840" y="2946240"/>
            <a:ext cx="1180800" cy="673200"/>
          </a:xfrm>
          <a:prstGeom prst="rect">
            <a:avLst/>
          </a:prstGeom>
          <a:solidFill>
            <a:srgbClr val="c4ff89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343080"/>
            <a:ext cx="771516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SZIMMETRIKUS-, vagy REZONÁNS DIPÓLUS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31480" y="964800"/>
            <a:ext cx="779148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 fontScale="72000"/>
          </a:bodyPr>
          <a:p>
            <a:pPr marL="246960" indent="-246960"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Hatásos hossza 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(az áramnyomatékok egyenlőségéből):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1" marL="534960" indent="-205560">
              <a:spcBef>
                <a:spcPts val="349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A kifejezés akkor használható, ha az áramhas az antennán megtalálható, továbbá színuszos árameloszlást  tételezünk fel.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1" marL="534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1" marL="534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1" marL="534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1" marL="534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1" marL="534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246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3905280" y="1847880"/>
                <a:ext cx="24717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l</m:t>
                        </m:r>
                      </m:num>
                      <m:den>
                        <m:r>
                          <m:t xml:space="preserve">β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Rectangle 6"/>
          <p:cNvSpPr/>
          <p:nvPr/>
        </p:nvSpPr>
        <p:spPr>
          <a:xfrm>
            <a:off x="1068480" y="2311560"/>
            <a:ext cx="762624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Néhány tipikus dipól (monopól) hatásos hossza:</a:t>
            </a: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8"/>
              <p:cNvSpPr txBox="1"/>
              <p:nvPr/>
            </p:nvSpPr>
            <p:spPr>
              <a:xfrm>
                <a:off x="5137200" y="2960640"/>
                <a:ext cx="798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AutoShape 9"/>
          <p:cNvSpPr/>
          <p:nvPr/>
        </p:nvSpPr>
        <p:spPr>
          <a:xfrm>
            <a:off x="1371600" y="2895480"/>
            <a:ext cx="3327480" cy="774720"/>
          </a:xfrm>
          <a:prstGeom prst="rightArrowCallout">
            <a:avLst>
              <a:gd name="adj1" fmla="val 11890"/>
              <a:gd name="adj2" fmla="val 47949"/>
              <a:gd name="adj3" fmla="val 58202"/>
              <a:gd name="adj4" fmla="val 71185"/>
            </a:avLst>
          </a:prstGeom>
          <a:solidFill>
            <a:srgbClr val="c4ff89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179" name="AutoShape 11"/>
          <p:cNvSpPr/>
          <p:nvPr/>
        </p:nvSpPr>
        <p:spPr>
          <a:xfrm>
            <a:off x="1346040" y="3860640"/>
            <a:ext cx="3327480" cy="774720"/>
          </a:xfrm>
          <a:prstGeom prst="rightArrowCallout">
            <a:avLst>
              <a:gd name="adj1" fmla="val 11890"/>
              <a:gd name="adj2" fmla="val 47949"/>
              <a:gd name="adj3" fmla="val 58202"/>
              <a:gd name="adj4" fmla="val 71185"/>
            </a:avLst>
          </a:prstGeom>
          <a:solidFill>
            <a:srgbClr val="c4ff89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1359000" y="4826160"/>
            <a:ext cx="3327480" cy="774720"/>
          </a:xfrm>
          <a:prstGeom prst="rightArrowCallout">
            <a:avLst>
              <a:gd name="adj1" fmla="val 11890"/>
              <a:gd name="adj2" fmla="val 47949"/>
              <a:gd name="adj3" fmla="val 58202"/>
              <a:gd name="adj4" fmla="val 71185"/>
            </a:avLst>
          </a:prstGeom>
          <a:solidFill>
            <a:srgbClr val="c4ff89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1384200" y="5791320"/>
            <a:ext cx="3327480" cy="774720"/>
          </a:xfrm>
          <a:prstGeom prst="rightArrowCallout">
            <a:avLst>
              <a:gd name="adj1" fmla="val 11890"/>
              <a:gd name="adj2" fmla="val 47949"/>
              <a:gd name="adj3" fmla="val 58202"/>
              <a:gd name="adj4" fmla="val 71185"/>
            </a:avLst>
          </a:prstGeom>
          <a:solidFill>
            <a:srgbClr val="c4ff89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4978440" y="3873600"/>
            <a:ext cx="1181160" cy="672840"/>
          </a:xfrm>
          <a:prstGeom prst="rect">
            <a:avLst/>
          </a:prstGeom>
          <a:solidFill>
            <a:srgbClr val="c4ff89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4991040" y="4851360"/>
            <a:ext cx="1181160" cy="673200"/>
          </a:xfrm>
          <a:prstGeom prst="rect">
            <a:avLst/>
          </a:prstGeom>
          <a:solidFill>
            <a:srgbClr val="c4ff89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4978440" y="5842080"/>
            <a:ext cx="1181160" cy="673200"/>
          </a:xfrm>
          <a:prstGeom prst="rect">
            <a:avLst/>
          </a:prstGeom>
          <a:solidFill>
            <a:srgbClr val="c4ff89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1535040" y="4084560"/>
                <a:ext cx="19717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λ</m:t>
                    </m:r>
                    <m:r>
                      <m:t xml:space="preserve">⇒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βl</m:t>
                    </m:r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8"/>
              <p:cNvSpPr txBox="1"/>
              <p:nvPr/>
            </p:nvSpPr>
            <p:spPr>
              <a:xfrm>
                <a:off x="1427040" y="3067200"/>
                <a:ext cx="221472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λ</m:t>
                    </m:r>
                    <m:r>
                      <m:t xml:space="preserve">⇒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β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9"/>
              <p:cNvSpPr txBox="1"/>
              <p:nvPr/>
            </p:nvSpPr>
            <p:spPr>
              <a:xfrm>
                <a:off x="5149800" y="3913200"/>
                <a:ext cx="798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0"/>
              <p:cNvSpPr txBox="1"/>
              <p:nvPr/>
            </p:nvSpPr>
            <p:spPr>
              <a:xfrm>
                <a:off x="1365120" y="4946760"/>
                <a:ext cx="2260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λ</m:t>
                    </m:r>
                    <m:r>
                      <m:t xml:space="preserve">⇒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β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1"/>
              <p:cNvSpPr txBox="1"/>
              <p:nvPr/>
            </p:nvSpPr>
            <p:spPr>
              <a:xfrm>
                <a:off x="5094360" y="4903920"/>
                <a:ext cx="9097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2"/>
              <p:cNvSpPr txBox="1"/>
              <p:nvPr/>
            </p:nvSpPr>
            <p:spPr>
              <a:xfrm>
                <a:off x="1730520" y="6002280"/>
                <a:ext cx="16826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3"/>
              <p:cNvSpPr txBox="1"/>
              <p:nvPr/>
            </p:nvSpPr>
            <p:spPr>
              <a:xfrm>
                <a:off x="5184720" y="5932440"/>
                <a:ext cx="7794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Rectangle 25"/>
          <p:cNvSpPr/>
          <p:nvPr/>
        </p:nvSpPr>
        <p:spPr>
          <a:xfrm>
            <a:off x="6516720" y="5130720"/>
            <a:ext cx="2373120" cy="13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Vigyázat! 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Az antenna teljes hossza 2l, ezzel a kifejezés használható dipólra és  monopólra is. </a:t>
            </a: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</p:txBody>
      </p:sp>
      <p:graphicFrame>
        <p:nvGraphicFramePr>
          <p:cNvPr id="193" name="Object 26"/>
          <p:cNvGraphicFramePr/>
          <p:nvPr/>
        </p:nvGraphicFramePr>
        <p:xfrm>
          <a:off x="5754600" y="2055960"/>
          <a:ext cx="445788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54600" y="2055960"/>
                    <a:ext cx="445788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fd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80800" y="343080"/>
            <a:ext cx="771516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SZIMMETRIKUS-, vagy REZONÁNS DIPÓLUS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80720" y="1015920"/>
            <a:ext cx="779148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Hatásos felülete 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( a korábbiak alapján ):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3720960" y="1555920"/>
                <a:ext cx="1841760" cy="15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4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Rectangle 5"/>
          <p:cNvSpPr/>
          <p:nvPr/>
        </p:nvSpPr>
        <p:spPr>
          <a:xfrm>
            <a:off x="1093680" y="3301920"/>
            <a:ext cx="779148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A félhullámú dipólus hatásos felülete geometriailag ellipszis amelynek paraméterei: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</p:txBody>
      </p:sp>
      <p:graphicFrame>
        <p:nvGraphicFramePr>
          <p:cNvPr id="199" name="Object 6"/>
          <p:cNvGraphicFramePr/>
          <p:nvPr/>
        </p:nvGraphicFramePr>
        <p:xfrm>
          <a:off x="3348000" y="3860640"/>
          <a:ext cx="375120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3860640"/>
                    <a:ext cx="375120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8"/>
          <p:cNvSpPr/>
          <p:nvPr/>
        </p:nvSpPr>
        <p:spPr>
          <a:xfrm>
            <a:off x="1085760" y="5702400"/>
            <a:ext cx="7791480" cy="71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Különböző antennák elhelyezésénél a hatásos felületek ne takarják ki egymást!</a:t>
            </a: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31a1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0800" y="343080"/>
            <a:ext cx="771516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SZIMMETRIKUS-, vagy REZONÁNS DIPÓLUS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80720" y="1091880"/>
            <a:ext cx="779148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Sugárzási ellenállása: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Szabadtérben álló rövid dipólusra az áramelem analíziséből: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093680" y="3581280"/>
            <a:ext cx="779148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Rezonancia esetére  kiszámolva a félhullámú dipólus sugárzási impedanciája:</a:t>
            </a: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2l=</a:t>
            </a:r>
            <a:r>
              <a:rPr b="0" lang="hu-HU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/2,  </a:t>
            </a:r>
            <a:r>
              <a:rPr b="0" lang="hu-HU" sz="1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l=</a:t>
            </a:r>
            <a:r>
              <a:rPr b="0" lang="hu-HU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/2:</a:t>
            </a: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085760" y="4432320"/>
            <a:ext cx="779148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Monopólra:</a:t>
            </a: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heff=</a:t>
            </a:r>
            <a:r>
              <a:rPr b="0" lang="hu-HU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/4, </a:t>
            </a:r>
            <a:r>
              <a:rPr b="0" lang="hu-HU" sz="1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h=</a:t>
            </a:r>
            <a:r>
              <a:rPr b="0" lang="hu-HU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/2</a:t>
            </a: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047600" y="5232240"/>
            <a:ext cx="779148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Rezonáns dipólus esetén az áramhas a táplálási pontra esik, ezért:</a:t>
            </a: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9"/>
              <p:cNvSpPr txBox="1"/>
              <p:nvPr/>
            </p:nvSpPr>
            <p:spPr>
              <a:xfrm>
                <a:off x="1393920" y="1994040"/>
                <a:ext cx="21668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f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208" name="Object 10"/>
          <p:cNvGraphicFramePr/>
          <p:nvPr/>
        </p:nvGraphicFramePr>
        <p:xfrm>
          <a:off x="2641680" y="170172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1680" y="170172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11"/>
          <p:cNvGraphicFramePr/>
          <p:nvPr/>
        </p:nvGraphicFramePr>
        <p:xfrm>
          <a:off x="6400800" y="1841400"/>
          <a:ext cx="274320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8414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2" name="Object 12"/>
              <p:cNvSpPr txBox="1"/>
              <p:nvPr/>
            </p:nvSpPr>
            <p:spPr>
              <a:xfrm>
                <a:off x="4865760" y="2108160"/>
                <a:ext cx="22352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f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4"/>
              <p:cNvSpPr txBox="1"/>
              <p:nvPr/>
            </p:nvSpPr>
            <p:spPr>
              <a:xfrm>
                <a:off x="4243320" y="4863960"/>
                <a:ext cx="2482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5"/>
              <p:cNvSpPr txBox="1"/>
              <p:nvPr/>
            </p:nvSpPr>
            <p:spPr>
              <a:xfrm>
                <a:off x="4254480" y="5664240"/>
                <a:ext cx="12272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6"/>
              <p:cNvSpPr txBox="1"/>
              <p:nvPr/>
            </p:nvSpPr>
            <p:spPr>
              <a:xfrm>
                <a:off x="4235400" y="4165560"/>
                <a:ext cx="2370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Rectangle 17"/>
          <p:cNvSpPr/>
          <p:nvPr/>
        </p:nvSpPr>
        <p:spPr>
          <a:xfrm>
            <a:off x="7207200" y="6375240"/>
            <a:ext cx="1479600" cy="25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20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afd00"/>
                </a:solidFill>
                <a:latin typeface="Arial"/>
              </a:rPr>
              <a:t>Folyt. Köv.</a:t>
            </a:r>
            <a:endParaRPr b="0" lang="en-US" sz="800" spc="-1" strike="noStrike">
              <a:solidFill>
                <a:srgbClr val="4c68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fd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fd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fd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fd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31a1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0800" y="343080"/>
            <a:ext cx="771516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SZIMMETRIKUS-, vagy REZONÁNS DIPÓLUS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06640" y="1320480"/>
            <a:ext cx="7829280" cy="128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Bemenő impedancia, vagy tápponti impedancia ismerete az antennák tervezésénél lényeges,mert szükséges a csatoló és illesztő áramkörök méretezéséhez, továbbá a tápponti feszültség és áram meghatározásához.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623880" indent="-239760">
              <a:spcBef>
                <a:spcPts val="349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Számítására többféle módszer is létezik.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Rövid antennákra (</a:t>
            </a:r>
            <a:r>
              <a:rPr b="0" lang="hu-HU" sz="1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l=120..130 elektromos fokig):</a:t>
            </a: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5"/>
              <p:cNvSpPr txBox="1"/>
              <p:nvPr/>
            </p:nvSpPr>
            <p:spPr>
              <a:xfrm>
                <a:off x="4591080" y="3073320"/>
                <a:ext cx="1155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βl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β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Rectangle 6"/>
          <p:cNvSpPr/>
          <p:nvPr/>
        </p:nvSpPr>
        <p:spPr>
          <a:xfrm>
            <a:off x="1081080" y="4280040"/>
            <a:ext cx="7829640" cy="7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Pontosabb módszer a tápvonal elméletet alkalmazza, úgy hogy az antennát veszteség nélküli Z</a:t>
            </a:r>
            <a:r>
              <a:rPr b="0" lang="hu-HU" sz="14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 hullámellenállású vonalnak tekintjük és a sugárzási terhelést az áramhasba koncentráljuk. Ekkor:</a:t>
            </a: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7"/>
              <p:cNvSpPr txBox="1"/>
              <p:nvPr/>
            </p:nvSpPr>
            <p:spPr>
              <a:xfrm>
                <a:off x="3860640" y="5221440"/>
                <a:ext cx="30290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l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06360" y="22860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AZ ANTENNA A MOBIL TÁVKÖZLŐ RENDSZER RÉSZE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720" y="1625760"/>
            <a:ext cx="779148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Az antenna olyan transzformátor, amely a rádió berendezést illeszti a szabad térhez. Az összeköttetés mindkét oldalán szükség van illesztésre.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BÁZISÁLLOMÁSOK ANTENNÁI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Általában vízszintes irányban körsugárzó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MOBILOK ANTENNÁI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Kőrsugárzók?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GÉPJÁRMŰVEK ANTENNÁI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Kőrsugárzók?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ALAGUTAK (METRÓ) SUGÁRZÓI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Speciális sugárzó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MIKROHULLÁMÚ ÁTVITELI LÁNCOK ANTENNÁI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Élesen irányított pontsugárzó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SUGÁRZÁSI ELLENÁLLÁS SZÁMÍTÁSA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81080" y="1041120"/>
            <a:ext cx="7477200" cy="543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7.2.8.1. A Poynting módszerrel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A Poynting módszer lényege, hogy meghatározzuk az antenna által a térbe kisugárzott összes teljesítményt, majd feltételezzük, hogy ez a teljesítmény teljes egészében a sugárzási ellenálláson disszipálódik. Ezek után, ha az antenna árameloszlását ismerjük, kiszámolhatjuk a sugárzási ellenállását: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511280" y="3984480"/>
                <a:ext cx="68040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⋅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l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l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β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l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4</m:t>
                                    </m:r>
                                    <m:r>
                                      <m:t xml:space="preserve">β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l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l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l</m:t>
                                </m:r>
                              </m:e>
                            </m:d>
                          </m:e>
                        </m:d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Rectangle 10"/>
          <p:cNvSpPr/>
          <p:nvPr/>
        </p:nvSpPr>
        <p:spPr>
          <a:xfrm>
            <a:off x="1387440" y="4964760"/>
            <a:ext cx="41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immetrikus, rezonáns dipólus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9"/>
              <p:cNvSpPr txBox="1"/>
              <p:nvPr/>
            </p:nvSpPr>
            <p:spPr>
              <a:xfrm>
                <a:off x="2111400" y="5194440"/>
                <a:ext cx="89208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/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8"/>
              <p:cNvSpPr txBox="1"/>
              <p:nvPr/>
            </p:nvSpPr>
            <p:spPr>
              <a:xfrm>
                <a:off x="3419640" y="5183280"/>
                <a:ext cx="12952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7"/>
              <p:cNvSpPr txBox="1"/>
              <p:nvPr/>
            </p:nvSpPr>
            <p:spPr>
              <a:xfrm>
                <a:off x="5159520" y="5207040"/>
                <a:ext cx="1485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Rectangle 13"/>
          <p:cNvSpPr/>
          <p:nvPr/>
        </p:nvSpPr>
        <p:spPr>
          <a:xfrm>
            <a:off x="1565280" y="5726880"/>
            <a:ext cx="436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zekkel az értékekkel számolva a (98) a következő eredményt adja:</a:t>
            </a:r>
            <a:endParaRPr b="0" lang="en-US" sz="12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6"/>
              <p:cNvSpPr txBox="1"/>
              <p:nvPr/>
            </p:nvSpPr>
            <p:spPr>
              <a:xfrm>
                <a:off x="1609560" y="6291360"/>
                <a:ext cx="49071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C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3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,</m:t>
                    </m:r>
                    <m:r>
                      <m:t xml:space="preserve">6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h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Rectangle 14"/>
          <p:cNvSpPr/>
          <p:nvPr/>
        </p:nvSpPr>
        <p:spPr>
          <a:xfrm>
            <a:off x="2367000" y="5046120"/>
            <a:ext cx="113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c6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100" spc="-1" strike="noStrike">
                <a:solidFill>
                  <a:srgbClr val="4c68f6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5"/>
              <p:cNvSpPr txBox="1"/>
              <p:nvPr/>
            </p:nvSpPr>
            <p:spPr>
              <a:xfrm>
                <a:off x="1262160" y="2500200"/>
                <a:ext cx="18619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Rectangle 1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7"/>
              <p:cNvSpPr txBox="1"/>
              <p:nvPr/>
            </p:nvSpPr>
            <p:spPr>
              <a:xfrm>
                <a:off x="4051440" y="2576520"/>
                <a:ext cx="39052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SUGÁRZÁSI ELLENÁLLÁS SZÁMÍTÁSA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81080" y="1041120"/>
            <a:ext cx="7362720" cy="289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7.2.8.2. Az indukált feszültség módszere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Az indukált feszültség módszere a komplex sugárzási impedancia meghatározására alkalmas eljárás. Az eljárás szerint kiszámoljuk az antenna saját töltéseiből eredő elektromos térerősség </a:t>
            </a: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„z”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irányú komponensét, </a:t>
            </a: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Ez–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t az antenna valamely pontjára. Miután az antennát </a:t>
            </a: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„z”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irányúnak vesszük, az eredő mező is </a:t>
            </a: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„z”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irányú lesz Az indukált térerősség az antenna referencia pontjától mért </a:t>
            </a: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„z”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távolság függvénye, így célszerűbb jelölése </a:t>
            </a: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Ez(z)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. A </a:t>
            </a: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dz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, elemi hosszúságú antenna-vezetőre jutó feszültség </a:t>
            </a: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Ez(z)dz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. Az antenna áramát ezen feszültséggel szemben kell áthajtani. Ha az antenna </a:t>
            </a: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„z”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pontjában az áram </a:t>
            </a: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Iz(z)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, akkor a komplex teljesítmény: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1530360" y="3675240"/>
                <a:ext cx="2190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6"/>
              <p:cNvSpPr txBox="1"/>
              <p:nvPr/>
            </p:nvSpPr>
            <p:spPr>
              <a:xfrm>
                <a:off x="1511280" y="4106880"/>
                <a:ext cx="66578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r>
                              <m:t xml:space="preserve">z</m:t>
                            </m:r>
                          </m:e>
                        </m:d>
                      </m:e>
                    </m:nary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Rectangle 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8"/>
              <p:cNvSpPr txBox="1"/>
              <p:nvPr/>
            </p:nvSpPr>
            <p:spPr>
              <a:xfrm>
                <a:off x="1498680" y="4748040"/>
                <a:ext cx="7353360" cy="8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r>
                              <m:t xml:space="preserve">z</m:t>
                            </m:r>
                          </m:e>
                        </m:d>
                      </m:e>
                    </m:nary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10"/>
              <p:cNvSpPr txBox="1"/>
              <p:nvPr/>
            </p:nvSpPr>
            <p:spPr>
              <a:xfrm>
                <a:off x="2806560" y="5905440"/>
                <a:ext cx="3640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,</m:t>
                    </m:r>
                    <m:r>
                      <m:t xml:space="preserve">5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h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BEMENŐ IMPEDANCIA 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81080" y="1041120"/>
            <a:ext cx="3819600" cy="543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Az antennát veszteségmentes, </a:t>
            </a: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Z0 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hullámellenállású, </a:t>
            </a: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hosszúságú tápvonalnak tekintjük. Az adott hullámhosszra normalizált </a:t>
            </a: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l/λ 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méretű vonal bemeneti impedanciája: 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Z</a:t>
            </a:r>
            <a:r>
              <a:rPr b="0" i="1" lang="hu-HU" sz="1600" spc="-1" strike="noStrike" baseline="-25000">
                <a:solidFill>
                  <a:srgbClr val="fafd00"/>
                </a:solidFill>
                <a:latin typeface="Arial"/>
              </a:rPr>
              <a:t>t 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a vonal végére képzelt, egyenlőre ismeretlen egyenértékű terhelés: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hu-HU" sz="1600" spc="-1" strike="noStrike" baseline="-25000">
                <a:solidFill>
                  <a:srgbClr val="fafd00"/>
                </a:solidFill>
                <a:latin typeface="Arial"/>
              </a:rPr>
              <a:t>sa</a:t>
            </a:r>
            <a:r>
              <a:rPr b="0" lang="hu-HU" sz="16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értékét ismertnek tételezzük fel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A tápvonal nyitott végétől </a:t>
            </a: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0,25λ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távolságra kell felvennünk az </a:t>
            </a: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l/λ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normalizált hosszúságú antennához (dipólushoz) tartozó </a:t>
            </a: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hu-HU" sz="1600" spc="-1" strike="noStrike" baseline="-25000">
                <a:solidFill>
                  <a:srgbClr val="fafd00"/>
                </a:solidFill>
                <a:latin typeface="Arial"/>
              </a:rPr>
              <a:t>sa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értéket, mint koncentrált terhelést  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1521000" y="2506680"/>
                <a:ext cx="3060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graphicFrame>
        <p:nvGraphicFramePr>
          <p:cNvPr id="250" name="Object 8"/>
          <p:cNvGraphicFramePr/>
          <p:nvPr/>
        </p:nvGraphicFramePr>
        <p:xfrm>
          <a:off x="4740120" y="787320"/>
          <a:ext cx="4403880" cy="22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787320"/>
                    <a:ext cx="440388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11"/>
          <p:cNvSpPr/>
          <p:nvPr/>
        </p:nvSpPr>
        <p:spPr>
          <a:xfrm>
            <a:off x="4910040" y="3542040"/>
            <a:ext cx="404352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  <a:ea typeface="Times New Roman"/>
              </a:rPr>
              <a:t>Az áramhastól a nyitott végig terjedő tápvonalszakasz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  <a:ea typeface="Times New Roman"/>
              </a:rPr>
              <a:t>negyedhullámú transzformátor, ezért az </a:t>
            </a:r>
            <a:r>
              <a:rPr b="0" i="1" lang="hu-HU" sz="1600" spc="-1" strike="noStrike">
                <a:solidFill>
                  <a:srgbClr val="fafd00"/>
                </a:solidFill>
                <a:latin typeface="Arial"/>
                <a:ea typeface="Times New Roman"/>
              </a:rPr>
              <a:t>R</a:t>
            </a:r>
            <a:r>
              <a:rPr b="0" i="1" lang="hu-HU" sz="1600" spc="-1" strike="noStrike" baseline="-30000">
                <a:solidFill>
                  <a:srgbClr val="fafd00"/>
                </a:solidFill>
                <a:latin typeface="Arial"/>
                <a:ea typeface="Times New Roman"/>
              </a:rPr>
              <a:t>sa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  <a:ea typeface="Times New Roman"/>
              </a:rPr>
              <a:t> terhelés a vonal végén:</a:t>
            </a: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762120" y="3566520"/>
            <a:ext cx="25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c6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hu-HU" sz="11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13"/>
              <p:cNvSpPr txBox="1"/>
              <p:nvPr/>
            </p:nvSpPr>
            <p:spPr>
              <a:xfrm>
                <a:off x="6070680" y="4597560"/>
                <a:ext cx="10335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Rectangle 1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15"/>
              <p:cNvSpPr txBox="1"/>
              <p:nvPr/>
            </p:nvSpPr>
            <p:spPr>
              <a:xfrm>
                <a:off x="5181480" y="5656320"/>
                <a:ext cx="35085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A feladat megoldása Smith diagram segítségével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pic>
        <p:nvPicPr>
          <p:cNvPr id="259" name="Picture 4" descr="Smith"/>
          <p:cNvPicPr/>
          <p:nvPr/>
        </p:nvPicPr>
        <p:blipFill>
          <a:blip r:embed="rId1"/>
          <a:stretch/>
        </p:blipFill>
        <p:spPr>
          <a:xfrm>
            <a:off x="216000" y="952560"/>
            <a:ext cx="4684680" cy="4608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</p:pic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129280" y="1755360"/>
            <a:ext cx="3819600" cy="510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232323"/>
                </a:solidFill>
                <a:latin typeface="Arial"/>
              </a:rPr>
              <a:t>Az antenna nyitott végének az </a:t>
            </a:r>
            <a:r>
              <a:rPr b="1" i="1" lang="hu-HU" sz="1600" spc="-1" strike="noStrike">
                <a:solidFill>
                  <a:srgbClr val="232323"/>
                </a:solidFill>
                <a:latin typeface="Arial"/>
              </a:rPr>
              <a:t>A</a:t>
            </a:r>
            <a:r>
              <a:rPr b="1" lang="hu-HU" sz="1600" spc="-1" strike="noStrike">
                <a:solidFill>
                  <a:srgbClr val="232323"/>
                </a:solidFill>
                <a:latin typeface="Arial"/>
              </a:rPr>
              <a:t> pont felel meg. Innen </a:t>
            </a:r>
            <a:r>
              <a:rPr b="1" i="1" lang="hu-HU" sz="1600" spc="-1" strike="noStrike">
                <a:solidFill>
                  <a:srgbClr val="232323"/>
                </a:solidFill>
                <a:latin typeface="Arial"/>
              </a:rPr>
              <a:t>λ/4</a:t>
            </a:r>
            <a:r>
              <a:rPr b="1" lang="hu-HU" sz="1600" spc="-1" strike="noStrike">
                <a:solidFill>
                  <a:srgbClr val="232323"/>
                </a:solidFill>
                <a:latin typeface="Arial"/>
              </a:rPr>
              <a:t> távolságban</a:t>
            </a:r>
            <a:r>
              <a:rPr b="1" i="1" lang="hu-HU" sz="1600" spc="-1" strike="noStrike">
                <a:solidFill>
                  <a:srgbClr val="232323"/>
                </a:solidFill>
                <a:latin typeface="Arial"/>
              </a:rPr>
              <a:t> , </a:t>
            </a:r>
            <a:r>
              <a:rPr b="1" lang="hu-HU" sz="1600" spc="-1" strike="noStrike">
                <a:solidFill>
                  <a:srgbClr val="232323"/>
                </a:solidFill>
                <a:latin typeface="Arial"/>
              </a:rPr>
              <a:t>a</a:t>
            </a:r>
            <a:r>
              <a:rPr b="1" i="1" lang="hu-HU" sz="1600" spc="-1" strike="noStrike">
                <a:solidFill>
                  <a:srgbClr val="232323"/>
                </a:solidFill>
                <a:latin typeface="Arial"/>
              </a:rPr>
              <a:t> B</a:t>
            </a:r>
            <a:r>
              <a:rPr b="1" lang="hu-HU" sz="1600" spc="-1" strike="noStrike">
                <a:solidFill>
                  <a:srgbClr val="232323"/>
                </a:solidFill>
                <a:latin typeface="Arial"/>
              </a:rPr>
              <a:t> pontban található az áramhas. Az </a:t>
            </a:r>
            <a:r>
              <a:rPr b="1" i="1" lang="hu-HU" sz="1600" spc="-1" strike="noStrike">
                <a:solidFill>
                  <a:srgbClr val="232323"/>
                </a:solidFill>
                <a:latin typeface="Arial"/>
              </a:rPr>
              <a:t>Rsa/Z0</a:t>
            </a:r>
            <a:r>
              <a:rPr b="1" lang="hu-HU" sz="1600" spc="-1" strike="noStrike">
                <a:solidFill>
                  <a:srgbClr val="232323"/>
                </a:solidFill>
                <a:latin typeface="Arial"/>
              </a:rPr>
              <a:t>  normalizált ellenállásnak a </a:t>
            </a:r>
            <a:r>
              <a:rPr b="1" i="1" lang="hu-HU" sz="1600" spc="-1" strike="noStrike">
                <a:solidFill>
                  <a:srgbClr val="232323"/>
                </a:solidFill>
                <a:latin typeface="Arial"/>
              </a:rPr>
              <a:t>C</a:t>
            </a:r>
            <a:r>
              <a:rPr b="1" lang="hu-HU" sz="1600" spc="-1" strike="noStrike">
                <a:solidFill>
                  <a:srgbClr val="232323"/>
                </a:solidFill>
                <a:latin typeface="Arial"/>
              </a:rPr>
              <a:t> pont felel meg. A </a:t>
            </a:r>
            <a:r>
              <a:rPr b="1" i="1" lang="hu-HU" sz="1600" spc="-1" strike="noStrike">
                <a:solidFill>
                  <a:srgbClr val="232323"/>
                </a:solidFill>
                <a:latin typeface="Arial"/>
              </a:rPr>
              <a:t>C</a:t>
            </a:r>
            <a:r>
              <a:rPr b="1" lang="hu-HU" sz="1600" spc="-1" strike="noStrike">
                <a:solidFill>
                  <a:srgbClr val="232323"/>
                </a:solidFill>
                <a:latin typeface="Arial"/>
              </a:rPr>
              <a:t> pontból koncentrikus kört rajzolunk. A kerületen lemérjük az </a:t>
            </a:r>
            <a:r>
              <a:rPr b="1" i="1" lang="hu-HU" sz="1600" spc="-1" strike="noStrike">
                <a:solidFill>
                  <a:srgbClr val="232323"/>
                </a:solidFill>
                <a:latin typeface="Arial"/>
              </a:rPr>
              <a:t>A</a:t>
            </a:r>
            <a:r>
              <a:rPr b="1" lang="hu-HU" sz="1600" spc="-1" strike="noStrike">
                <a:solidFill>
                  <a:srgbClr val="232323"/>
                </a:solidFill>
                <a:latin typeface="Arial"/>
              </a:rPr>
              <a:t> ponttól az </a:t>
            </a:r>
            <a:r>
              <a:rPr b="1" i="1" lang="hu-HU" sz="1600" spc="-1" strike="noStrike">
                <a:solidFill>
                  <a:srgbClr val="232323"/>
                </a:solidFill>
                <a:latin typeface="Arial"/>
              </a:rPr>
              <a:t>l/λ</a:t>
            </a:r>
            <a:r>
              <a:rPr b="1" lang="hu-HU" sz="1600" spc="-1" strike="noStrike">
                <a:solidFill>
                  <a:srgbClr val="232323"/>
                </a:solidFill>
                <a:latin typeface="Arial"/>
              </a:rPr>
              <a:t> távolságot, ez lesz a </a:t>
            </a:r>
            <a:r>
              <a:rPr b="1" i="1" lang="hu-HU" sz="1600" spc="-1" strike="noStrike">
                <a:solidFill>
                  <a:srgbClr val="232323"/>
                </a:solidFill>
                <a:latin typeface="Arial"/>
              </a:rPr>
              <a:t>D</a:t>
            </a:r>
            <a:r>
              <a:rPr b="1" lang="hu-HU" sz="1600" spc="-1" strike="noStrike">
                <a:solidFill>
                  <a:srgbClr val="232323"/>
                </a:solidFill>
                <a:latin typeface="Arial"/>
              </a:rPr>
              <a:t> pont. A </a:t>
            </a:r>
            <a:r>
              <a:rPr b="1" i="1" lang="hu-HU" sz="1600" spc="-1" strike="noStrike">
                <a:solidFill>
                  <a:srgbClr val="232323"/>
                </a:solidFill>
                <a:latin typeface="Arial"/>
              </a:rPr>
              <a:t>D</a:t>
            </a:r>
            <a:r>
              <a:rPr b="1" lang="hu-HU" sz="1600" spc="-1" strike="noStrike">
                <a:solidFill>
                  <a:srgbClr val="232323"/>
                </a:solidFill>
                <a:latin typeface="Arial"/>
              </a:rPr>
              <a:t> ponthoz húzott sugár és a koncentrikus kör metszéspontja adja a </a:t>
            </a:r>
            <a:r>
              <a:rPr b="1" i="1" lang="hu-HU" sz="1600" spc="-1" strike="noStrike">
                <a:solidFill>
                  <a:srgbClr val="232323"/>
                </a:solidFill>
                <a:latin typeface="Arial"/>
              </a:rPr>
              <a:t>P</a:t>
            </a:r>
            <a:r>
              <a:rPr b="1" lang="hu-HU" sz="1600" spc="-1" strike="noStrike">
                <a:solidFill>
                  <a:srgbClr val="232323"/>
                </a:solidFill>
                <a:latin typeface="Arial"/>
              </a:rPr>
              <a:t> pontot. A </a:t>
            </a:r>
            <a:r>
              <a:rPr b="1" i="1" lang="hu-HU" sz="1600" spc="-1" strike="noStrike">
                <a:solidFill>
                  <a:srgbClr val="232323"/>
                </a:solidFill>
                <a:latin typeface="Arial"/>
              </a:rPr>
              <a:t>P</a:t>
            </a:r>
            <a:r>
              <a:rPr b="1" lang="hu-HU" sz="1600" spc="-1" strike="noStrike">
                <a:solidFill>
                  <a:srgbClr val="232323"/>
                </a:solidFill>
                <a:latin typeface="Arial"/>
              </a:rPr>
              <a:t> ponton áthaladó </a:t>
            </a:r>
            <a:r>
              <a:rPr b="1" i="1" lang="hu-HU" sz="1600" spc="-1" strike="noStrike">
                <a:solidFill>
                  <a:srgbClr val="232323"/>
                </a:solidFill>
                <a:latin typeface="Arial"/>
              </a:rPr>
              <a:t>R</a:t>
            </a:r>
            <a:r>
              <a:rPr b="1" lang="hu-HU" sz="1600" spc="-1" strike="noStrike">
                <a:solidFill>
                  <a:srgbClr val="232323"/>
                </a:solidFill>
                <a:latin typeface="Arial"/>
              </a:rPr>
              <a:t>’ és </a:t>
            </a:r>
            <a:r>
              <a:rPr b="1" i="1" lang="hu-HU" sz="1600" spc="-1" strike="noStrike">
                <a:solidFill>
                  <a:srgbClr val="232323"/>
                </a:solidFill>
                <a:latin typeface="Arial"/>
              </a:rPr>
              <a:t>X</a:t>
            </a:r>
            <a:r>
              <a:rPr b="1" lang="hu-HU" sz="1600" spc="-1" strike="noStrike">
                <a:solidFill>
                  <a:srgbClr val="232323"/>
                </a:solidFill>
                <a:latin typeface="Arial"/>
              </a:rPr>
              <a:t>’ körök pedig a meghatározzák az </a:t>
            </a:r>
            <a:r>
              <a:rPr b="1" i="1" lang="hu-HU" sz="1600" spc="-1" strike="noStrike">
                <a:solidFill>
                  <a:srgbClr val="232323"/>
                </a:solidFill>
                <a:latin typeface="Arial"/>
              </a:rPr>
              <a:t>R’be</a:t>
            </a:r>
            <a:r>
              <a:rPr b="1" lang="hu-HU" sz="1600" spc="-1" strike="noStrike">
                <a:solidFill>
                  <a:srgbClr val="232323"/>
                </a:solidFill>
                <a:latin typeface="Arial"/>
              </a:rPr>
              <a:t> és </a:t>
            </a:r>
            <a:r>
              <a:rPr b="1" i="1" lang="hu-HU" sz="1600" spc="-1" strike="noStrike">
                <a:solidFill>
                  <a:srgbClr val="232323"/>
                </a:solidFill>
                <a:latin typeface="Arial"/>
              </a:rPr>
              <a:t>X’be</a:t>
            </a:r>
            <a:r>
              <a:rPr b="1" lang="hu-HU" sz="1600" spc="-1" strike="noStrike">
                <a:solidFill>
                  <a:srgbClr val="232323"/>
                </a:solidFill>
                <a:latin typeface="Arial"/>
              </a:rPr>
              <a:t> értékét. Az eljárás használhatósága attól függ, milyen pontossággal áll rendelkezésre </a:t>
            </a:r>
            <a:r>
              <a:rPr b="1" i="1" lang="hu-HU" sz="1600" spc="-1" strike="noStrike">
                <a:solidFill>
                  <a:srgbClr val="232323"/>
                </a:solidFill>
                <a:latin typeface="Arial"/>
              </a:rPr>
              <a:t>Rsa</a:t>
            </a:r>
            <a:r>
              <a:rPr b="1" lang="hu-HU" sz="1600" spc="-1" strike="noStrike">
                <a:solidFill>
                  <a:srgbClr val="23232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80800" y="343080"/>
            <a:ext cx="771516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SZIMMETRIKUS-, vagy REZONÁNS DIPÓLUS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80720" y="1091880"/>
            <a:ext cx="77914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Hullámellenállása: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a bemenő impedancia számításához szükséges ismerni: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Párhuzamos vezetékpár esetén: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4921200" y="2190600"/>
                <a:ext cx="131148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64" name="Object 6"/>
          <p:cNvGraphicFramePr/>
          <p:nvPr/>
        </p:nvGraphicFramePr>
        <p:xfrm>
          <a:off x="5791320" y="160020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6002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Rectangle 7"/>
          <p:cNvSpPr/>
          <p:nvPr/>
        </p:nvSpPr>
        <p:spPr>
          <a:xfrm>
            <a:off x="1081080" y="3340080"/>
            <a:ext cx="779148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Szimmetrikus dipólusra, ha l/</a:t>
            </a:r>
            <a:r>
              <a:rPr b="0" lang="hu-HU" sz="1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&gt;0,1:</a:t>
            </a: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1131840" y="4521240"/>
            <a:ext cx="779148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Szimmetrikus dipólusra, ha l=</a:t>
            </a:r>
            <a:r>
              <a:rPr b="0" lang="hu-HU" sz="1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/4:</a:t>
            </a: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1149480" y="5473800"/>
            <a:ext cx="779148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Szimmetrikus dipólusra, ha l=</a:t>
            </a:r>
            <a:r>
              <a:rPr b="0" lang="hu-HU" sz="1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/2:</a:t>
            </a: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10"/>
              <p:cNvSpPr txBox="1"/>
              <p:nvPr/>
            </p:nvSpPr>
            <p:spPr>
              <a:xfrm>
                <a:off x="5054760" y="3645000"/>
                <a:ext cx="20397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1"/>
              <p:cNvSpPr txBox="1"/>
              <p:nvPr/>
            </p:nvSpPr>
            <p:spPr>
              <a:xfrm>
                <a:off x="5218200" y="4876920"/>
                <a:ext cx="16621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2"/>
              <p:cNvSpPr txBox="1"/>
              <p:nvPr/>
            </p:nvSpPr>
            <p:spPr>
              <a:xfrm>
                <a:off x="5425920" y="5803920"/>
                <a:ext cx="13986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0800" y="343080"/>
            <a:ext cx="771516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SZIMMETRIKUS-, vagy REZONÁNS DIPÓLUS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80720" y="1091880"/>
            <a:ext cx="494676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Kölcsönös impedancia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Az 1 antenna kisugárzott teljesítményének egy részét veszi a 2 antenna és illesztett lezárás esetén a vett teljesítmény felét visszasugározza a térbe.Ezt viszont az 1 antenna veszi és ismét felezve visszasugározza a térbe, stb.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A viszonyokat négypólusként kezelhetjük.             Az </a:t>
            </a:r>
            <a:r>
              <a:rPr b="1" lang="hu-HU" sz="14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hu-HU" sz="1400" spc="-1" strike="noStrike">
                <a:solidFill>
                  <a:srgbClr val="fafd00"/>
                </a:solidFill>
                <a:latin typeface="Arial"/>
              </a:rPr>
              <a:t>antenna komplex teljesítménye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74" name="Object 5"/>
          <p:cNvGraphicFramePr/>
          <p:nvPr/>
        </p:nvGraphicFramePr>
        <p:xfrm>
          <a:off x="6222960" y="119376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2960" y="119376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6" name="Object 6"/>
              <p:cNvSpPr txBox="1"/>
              <p:nvPr/>
            </p:nvSpPr>
            <p:spPr>
              <a:xfrm>
                <a:off x="3862440" y="3568680"/>
                <a:ext cx="2340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7" name="AutoShape 7"/>
          <p:cNvSpPr/>
          <p:nvPr/>
        </p:nvSpPr>
        <p:spPr>
          <a:xfrm>
            <a:off x="2311560" y="3009960"/>
            <a:ext cx="1841400" cy="304920"/>
          </a:xfrm>
          <a:prstGeom prst="wedgeRoundRectCallout">
            <a:avLst>
              <a:gd name="adj1" fmla="val 76810"/>
              <a:gd name="adj2" fmla="val 130731"/>
              <a:gd name="adj3" fmla="val 16667"/>
            </a:avLst>
          </a:prstGeom>
          <a:solidFill>
            <a:srgbClr val="c4ff89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2222640" y="3060720"/>
            <a:ext cx="191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c0128"/>
                </a:solidFill>
                <a:latin typeface="Arial"/>
              </a:rPr>
              <a:t>Saját sugárzási teljesítmény</a:t>
            </a:r>
            <a:endParaRPr b="0" lang="en-US" sz="8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279" name="AutoShape 9"/>
          <p:cNvSpPr/>
          <p:nvPr/>
        </p:nvSpPr>
        <p:spPr>
          <a:xfrm>
            <a:off x="6438960" y="3200400"/>
            <a:ext cx="2171520" cy="469800"/>
          </a:xfrm>
          <a:prstGeom prst="wedgeRoundRectCallout">
            <a:avLst>
              <a:gd name="adj1" fmla="val -85745"/>
              <a:gd name="adj2" fmla="val 39865"/>
              <a:gd name="adj3" fmla="val 16667"/>
            </a:avLst>
          </a:prstGeom>
          <a:solidFill>
            <a:srgbClr val="c4ff89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6235560" y="3301920"/>
            <a:ext cx="26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c0128"/>
                </a:solidFill>
                <a:latin typeface="Arial"/>
              </a:rPr>
              <a:t>A második antenna kölcsönhatásából eredő teljesítmény</a:t>
            </a:r>
            <a:endParaRPr b="0" lang="en-US" sz="8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1144440" y="4317840"/>
            <a:ext cx="7728120" cy="63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Hasonlóképpen írható fel a </a:t>
            </a:r>
            <a:r>
              <a:rPr b="1" lang="hu-HU" sz="1400" spc="-1" strike="noStrike">
                <a:solidFill>
                  <a:srgbClr val="fafd00"/>
                </a:solidFill>
                <a:latin typeface="Arial"/>
              </a:rPr>
              <a:t>2 antenna komplex teljesítménye 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is. .Az antenna reciprocitás miatt fennáll:</a:t>
            </a: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1246320" y="5892840"/>
            <a:ext cx="7727760" cy="63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A kölcsönös impedancia kizárólag a hullámhosszban mért geometriai méretektől függ. Számítása az integrálfüggvények segítségével történik.</a:t>
            </a:r>
            <a:r>
              <a:rPr b="1" lang="hu-HU" sz="1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3"/>
              <p:cNvSpPr txBox="1"/>
              <p:nvPr/>
            </p:nvSpPr>
            <p:spPr>
              <a:xfrm>
                <a:off x="4691160" y="4826160"/>
                <a:ext cx="17762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4" name="AutoShape 15"/>
          <p:cNvSpPr/>
          <p:nvPr/>
        </p:nvSpPr>
        <p:spPr>
          <a:xfrm>
            <a:off x="5486400" y="5270400"/>
            <a:ext cx="2336760" cy="393840"/>
          </a:xfrm>
          <a:prstGeom prst="roundRect">
            <a:avLst>
              <a:gd name="adj" fmla="val 16667"/>
            </a:avLst>
          </a:prstGeom>
          <a:solidFill>
            <a:srgbClr val="c4ff89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5638680" y="5346720"/>
            <a:ext cx="212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4c68f6"/>
                </a:solidFill>
                <a:latin typeface="Arial"/>
              </a:rPr>
              <a:t>Saját sugárzási impedancia</a:t>
            </a:r>
            <a:endParaRPr b="0" lang="en-US" sz="12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286" name="AutoShape 17"/>
          <p:cNvSpPr/>
          <p:nvPr/>
        </p:nvSpPr>
        <p:spPr>
          <a:xfrm>
            <a:off x="6515280" y="4749840"/>
            <a:ext cx="2019240" cy="393840"/>
          </a:xfrm>
          <a:prstGeom prst="roundRect">
            <a:avLst>
              <a:gd name="adj" fmla="val 16667"/>
            </a:avLst>
          </a:prstGeom>
          <a:solidFill>
            <a:srgbClr val="c4ff89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6629400" y="4813200"/>
            <a:ext cx="181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4c68f6"/>
                </a:solidFill>
                <a:latin typeface="Arial"/>
              </a:rPr>
              <a:t>Kölcsönös impedancia</a:t>
            </a:r>
            <a:endParaRPr b="0" lang="en-US" sz="1200" spc="-1" strike="noStrike">
              <a:solidFill>
                <a:srgbClr val="4c68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80800" y="343080"/>
            <a:ext cx="771516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SZIMMETRIKUS-, vagy REZONÁNS DIPÓLUS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81080" y="1092240"/>
            <a:ext cx="5797440" cy="12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Rövidülés: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a 2l=</a:t>
            </a:r>
            <a:r>
              <a:rPr b="0" lang="hu-HU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/2 geometriai (mechanikai) hosszúságú antenna sugárzási impedanciája induktív reaktanciájú: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6400800" y="154944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54944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2" name="Object 6"/>
              <p:cNvSpPr txBox="1"/>
              <p:nvPr/>
            </p:nvSpPr>
            <p:spPr>
              <a:xfrm>
                <a:off x="5340240" y="2273400"/>
                <a:ext cx="18525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Rectangle 7"/>
          <p:cNvSpPr/>
          <p:nvPr/>
        </p:nvSpPr>
        <p:spPr>
          <a:xfrm>
            <a:off x="1144440" y="2616120"/>
            <a:ext cx="635652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ha 2l=</a:t>
            </a:r>
            <a:r>
              <a:rPr b="0" lang="hu-HU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/2 geometriai (mechanikai) hosszúságú antenna  rezonanciában volna akkor a sugárzási impedanciája ohmos kellene legyen!</a:t>
            </a: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1208160" y="3530520"/>
            <a:ext cx="6381720" cy="214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A rezonancia elérésére az antenna geometriai méreteit csökkenteni kell.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(Tápvonal elmélet: A végén nyitott </a:t>
            </a:r>
            <a:r>
              <a:rPr b="0" lang="hu-HU" sz="1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/4-nél hosszabb tápvonal induktív, a  </a:t>
            </a:r>
            <a:r>
              <a:rPr b="0" lang="hu-HU" sz="1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/4- nél rövidebb kapacitív jellegű.)</a:t>
            </a: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Különbséget kell tenni tehát a geometriai és az elektromos (rezonancia) hossz között, ezt fejezi ki a rövidülési tényező (k):</a:t>
            </a: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4184640" y="5600880"/>
                <a:ext cx="160668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eometria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ektromo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7728120" cy="6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SZIMMETRIKUS, vagy REZONÁNS DIPÓLUS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29960" y="1294920"/>
            <a:ext cx="7791480" cy="52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A sugárzási ellenállás az első rezonanciahely közelében: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" name="Rectangle 1028"/>
          <p:cNvSpPr/>
          <p:nvPr/>
        </p:nvSpPr>
        <p:spPr>
          <a:xfrm>
            <a:off x="1042920" y="1866960"/>
            <a:ext cx="7791480" cy="81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299" name="Rectangle 1029"/>
          <p:cNvSpPr/>
          <p:nvPr/>
        </p:nvSpPr>
        <p:spPr>
          <a:xfrm>
            <a:off x="1081080" y="2451240"/>
            <a:ext cx="7791480" cy="81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300" name="Rectangle 1030"/>
          <p:cNvSpPr/>
          <p:nvPr/>
        </p:nvSpPr>
        <p:spPr>
          <a:xfrm>
            <a:off x="1042920" y="2260440"/>
            <a:ext cx="7143840" cy="81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A kifejezésben </a:t>
            </a:r>
            <a:r>
              <a:rPr b="1" lang="hu-HU" sz="16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fajlagos rövidülés.</a:t>
            </a: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Földelt táplálású függőleges antennára a kifejezésben 73,2 helyett 36,6 ohm helyettesítendő.</a:t>
            </a: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032"/>
              <p:cNvSpPr txBox="1"/>
              <p:nvPr/>
            </p:nvSpPr>
            <p:spPr>
              <a:xfrm>
                <a:off x="3697200" y="1866960"/>
                <a:ext cx="2384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δ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2" name="Rectangle 1033"/>
          <p:cNvSpPr/>
          <p:nvPr/>
        </p:nvSpPr>
        <p:spPr>
          <a:xfrm>
            <a:off x="1093680" y="3276720"/>
            <a:ext cx="7791480" cy="81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afd00"/>
                </a:solidFill>
                <a:latin typeface="Arial"/>
              </a:rPr>
              <a:t>A rövidülés magyarázata:az antennán lecsökken a hullámhossz:</a:t>
            </a: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034"/>
              <p:cNvSpPr txBox="1"/>
              <p:nvPr/>
            </p:nvSpPr>
            <p:spPr>
              <a:xfrm>
                <a:off x="3670200" y="3898800"/>
                <a:ext cx="2387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Rectangle 1035"/>
          <p:cNvSpPr/>
          <p:nvPr/>
        </p:nvSpPr>
        <p:spPr>
          <a:xfrm>
            <a:off x="1131840" y="4622760"/>
            <a:ext cx="7791480" cy="81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afd00"/>
                </a:solidFill>
                <a:latin typeface="Arial"/>
              </a:rPr>
              <a:t>A fajlagos rövidülés számítása:</a:t>
            </a: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1036"/>
              <p:cNvSpPr txBox="1"/>
              <p:nvPr/>
            </p:nvSpPr>
            <p:spPr>
              <a:xfrm>
                <a:off x="3568680" y="5232240"/>
                <a:ext cx="1847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6"/>
          <p:cNvSpPr/>
          <p:nvPr/>
        </p:nvSpPr>
        <p:spPr>
          <a:xfrm>
            <a:off x="2362320" y="3543480"/>
            <a:ext cx="5079960" cy="1358640"/>
          </a:xfrm>
          <a:prstGeom prst="rect">
            <a:avLst/>
          </a:prstGeom>
          <a:solidFill>
            <a:srgbClr val="a6dee2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7728120" cy="6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SZIMMETRIKUS, vagy REZONÁNS DIPÓLUS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42920" y="964800"/>
            <a:ext cx="4438800" cy="52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A  dipólus által átvihető frekvenciasáv: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564480" indent="-217080"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A dipólus sugárzási ellenállása: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1042920" y="1866960"/>
            <a:ext cx="7791480" cy="81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7"/>
              <p:cNvSpPr txBox="1"/>
              <p:nvPr/>
            </p:nvSpPr>
            <p:spPr>
              <a:xfrm>
                <a:off x="5796000" y="1143000"/>
                <a:ext cx="27604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6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1" name="Rectangle 8"/>
          <p:cNvSpPr/>
          <p:nvPr/>
        </p:nvSpPr>
        <p:spPr>
          <a:xfrm>
            <a:off x="1081080" y="2158920"/>
            <a:ext cx="5492880" cy="81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A dipólus csillapítása és hullámellenállása:</a:t>
            </a: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1017720" y="5105520"/>
            <a:ext cx="7791480" cy="147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afd00"/>
                </a:solidFill>
                <a:latin typeface="Arial"/>
              </a:rPr>
              <a:t>A dipólus vastagságának növelésekor a hullámellenállás jóval erősebben csökken, mint a sugárzási ellenállás. A vastagabb dipólusok csillapítása nagyobb, mint a vékonyaké, így szélesebb frekvenciasáv átvitelére alkalmasak.</a:t>
            </a: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12"/>
              <p:cNvSpPr txBox="1"/>
              <p:nvPr/>
            </p:nvSpPr>
            <p:spPr>
              <a:xfrm>
                <a:off x="5778360" y="2438280"/>
                <a:ext cx="889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3"/>
              <p:cNvSpPr txBox="1"/>
              <p:nvPr/>
            </p:nvSpPr>
            <p:spPr>
              <a:xfrm>
                <a:off x="6883560" y="2463840"/>
                <a:ext cx="19177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5" name="Rectangle 14"/>
          <p:cNvSpPr/>
          <p:nvPr/>
        </p:nvSpPr>
        <p:spPr>
          <a:xfrm>
            <a:off x="1119240" y="3022560"/>
            <a:ext cx="5492520" cy="81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Néhány jellemző értéket kiszámolva:</a:t>
            </a: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</p:txBody>
      </p:sp>
      <p:graphicFrame>
        <p:nvGraphicFramePr>
          <p:cNvPr id="316" name="Object 15"/>
          <p:cNvGraphicFramePr/>
          <p:nvPr/>
        </p:nvGraphicFramePr>
        <p:xfrm>
          <a:off x="1865160" y="3549600"/>
          <a:ext cx="5869080" cy="153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5160" y="3549600"/>
                    <a:ext cx="586908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fd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fd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fd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31a1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7728120" cy="6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GYAKORLATI DIPÓLUSOK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18880" y="1028880"/>
            <a:ext cx="7791480" cy="410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A dipólus tulajdonságait alapvetően meghatározza a konstrukció.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Lényeges konstrukciós szempontok:</a:t>
            </a: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d31a15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a mechanikai rögzítés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d31a15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a villámvédelem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d31a15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tápponti impedancia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d31a15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koaxiális kábeles (aszimmetrikus) táplálás.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A fentieknek jobban megfelelő megoldások: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d31a15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Hurokdipólus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d31a15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Egészhullámú dipólus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d31a15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Szélessávú dipólus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ANTENNA TÍPUSOK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7791480" cy="543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IZOTRÓP SUGÁRZÓ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LINEÁRIS ANTENNÁ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DIPÓL ANTENNA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d31a15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ELEKTROMOS DIPÓL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Rövid dipól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Rezonáns dipól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Hurokdipól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Monopól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d31a15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MÁGNESES DIPÓL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Keretantenna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Tekercs (ferrit) -antenna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HALADÓHULLÁMÚ VEZETÉ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SUGÁRZÓ RÉS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Lineáris sugárzókból épített ÖSSZETETT RENDSZERE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APERTÚRA SUGÁRZÓ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Tölcsérsugárzó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Parabola tükrö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Összetett APERTÚRA SUGÁRZÓ RENDSZERE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06360" y="33012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Hurokdipólus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80720" y="3288960"/>
            <a:ext cx="7791480" cy="31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Sugárzási jelleggörbéje lényegében megegyezik a félhullámú dipóluséval. Talpponti ellenállása (bemenő ellenállás): </a:t>
            </a:r>
            <a:r>
              <a:rPr b="0" i="1" lang="hu-HU" sz="1800" spc="-1" strike="noStrike">
                <a:solidFill>
                  <a:srgbClr val="fafd00"/>
                </a:solidFill>
                <a:latin typeface="Arial"/>
              </a:rPr>
              <a:t>Rbe</a:t>
            </a: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 félhullámú dipólus  =, valós.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Relatív sávszélessége nagyobb, mint a szimmetrikus, huzalból, vagy rúdból készült dipólusé. 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3365640" y="1511280"/>
          <a:ext cx="3762360" cy="17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5640" y="1511280"/>
                    <a:ext cx="376236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Oval 11"/>
          <p:cNvSpPr/>
          <p:nvPr/>
        </p:nvSpPr>
        <p:spPr>
          <a:xfrm>
            <a:off x="5943600" y="5778360"/>
            <a:ext cx="2400480" cy="7113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326" name="AutoShape 10"/>
          <p:cNvSpPr/>
          <p:nvPr/>
        </p:nvSpPr>
        <p:spPr>
          <a:xfrm>
            <a:off x="1359000" y="5740560"/>
            <a:ext cx="4190760" cy="86328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760f9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SZÁRMAZTATÁSA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80720" y="2324160"/>
            <a:ext cx="7791480" cy="34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A baloldali félhullámú dipólus szimmetrikus táplálású, míg a jobb oldali dipólus a végén táplált félhullámú dipólusként kezelendő. 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Az antennatechnikában az alkalmazott megoldás gyakori, mármint, hogy egy szimmetrikus dipólust aszimmetrikusan az egyik végén táplálunk.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A magyarázat kézenfekvő: nem kell az antenna vezetőjét a közepén galvanikusan megszakítani, így nincs szükség szigetelésre, hiszen ebben a pontban az antennán a feszültség zérus. A sugárzó galvanikusan a tartószerkezethez kapcsolható, egyszerűvé válik a megfogása, rögzítése. 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Azonos  sugárzási teljesítményt feltételezve a hurok-dipólus árama a betáplálási pontban fele akkora, mint az önmagában álló szimmetrikus (félhullámú) dipólus esetén , mert az antenna árama két ágra oszlik. Felírhatjuk a kisugárzott teljesítményeket a félhullámú dipólusra, illetve a hurok-dipólusra. A teljesítmények egyenlősége alapján meghatározhatjuk a sugárzási ellenállást.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Az antennák rezonáns hosszúságúak, azaz geometriai méretük </a:t>
            </a:r>
            <a:r>
              <a:rPr b="0" i="1" lang="hu-HU" sz="1400" spc="-1" strike="noStrike">
                <a:solidFill>
                  <a:srgbClr val="fafd00"/>
                </a:solidFill>
                <a:latin typeface="Arial"/>
              </a:rPr>
              <a:t>kλ/2. 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Ebből következik, hogy az áramhas a táppontra esik, vagyis a sugárzási impedancia valós és megegyezik a tápponti, vagy bemenő ellenállással: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graphicFrame>
        <p:nvGraphicFramePr>
          <p:cNvPr id="330" name="Object 4"/>
          <p:cNvGraphicFramePr/>
          <p:nvPr/>
        </p:nvGraphicFramePr>
        <p:xfrm>
          <a:off x="1955880" y="838080"/>
          <a:ext cx="5695920" cy="14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838080"/>
                    <a:ext cx="569592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6"/>
              <p:cNvSpPr txBox="1"/>
              <p:nvPr/>
            </p:nvSpPr>
            <p:spPr>
              <a:xfrm>
                <a:off x="1523880" y="5765760"/>
                <a:ext cx="30607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dipól</m:t>
                        </m:r>
                      </m:lim>
                    </m:limLow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hurok</m:t>
                        </m:r>
                      </m:lim>
                    </m:limLow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34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8"/>
              <p:cNvSpPr txBox="1"/>
              <p:nvPr/>
            </p:nvSpPr>
            <p:spPr>
              <a:xfrm>
                <a:off x="6292800" y="5945040"/>
                <a:ext cx="18129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Hurokdipólusról néhány gondolat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7791480" cy="543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Az áram és feszültség eloszlásból: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a középen táplált félhullámú dipólus bemenő impedanciája valós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betáplálási pont alacsony feszültségű, ugyanitt van az áram maximuma, így az impedancia végesen alacsony értékű, a vastagságtól függően 60 Ohm körüli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Ha azonban az antennát az egyik végén tápláljuk, a helyzet lényegesen megváltozik, az antenna végén feszültség maximum van, miközben az áram lecsökken zérusra. A nagy feszültség, kis áram relatíve magas impedanciát jelent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A megoldás akkor előnyös, ha több dipólust kell egy tápvonalról párhuzamosan kapcsolva táplálni.( Középen táplált dipólusok esetében a párhuzamos eredő nagyon gyorsan, már néhány (2-4) antenna esetében is lecsökken olyan alacsony értékre, amely nagy tápponti áramot jelentene, így megnövelné a vezetők szükséges keresztmetszetét. Ilyen esetekben költséges impedancia transzformátorokra lenne szükség. Végén táplált rezonáns dipólusok esetén a párhuzamosan kapcsolódó, </a:t>
            </a: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1000-5000 Ohm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körüli impedanciák kedvezőbb eredőt adnak.) </a:t>
            </a:r>
            <a:br>
              <a:rPr sz="1600"/>
            </a:b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A feszültség null-átmenet ugyan a középen van, de az antennánk kapcsain a feszültség a tápvezetékek valós szigetelési távolsága miatt nem lehet zérus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Kettős hurok dipólus (hármas hajlított dipólus) 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80720" y="1104480"/>
            <a:ext cx="3422520" cy="53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A betáplálás szempontjából közömbös, hogy az melyik ágban van. Ha az egyes ágakban az elemek átmérői megegyeznek, akkor az antennaáram a három ágban a három, azonos félhullámú dipóluson oszlik meg, minden dipólus-ágban a teljes bemenő áram harmadrésze folyik. Ezzel a szerkezet sugárzási ellenállása: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A párhuzamos antennaágak száma tetszés szerint növelhető, csak a mechanikai kivitelezhetőség szab korlátot a párhozamosan kapcsolható ágak számának: 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a félhullámú dipólus sugárzási ellenállása,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Rs a félhullámú dipólus sugárzási ellenállása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Rs</a:t>
            </a:r>
            <a:r>
              <a:rPr b="0" lang="hu-HU" sz="1600" spc="-1" strike="noStrike" baseline="30000">
                <a:solidFill>
                  <a:srgbClr val="fafd00"/>
                </a:solidFill>
                <a:latin typeface="Arial"/>
              </a:rPr>
              <a:t>x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az n ágú hurok-dipólus sugárzási ellenállása,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az elemek száma,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a hurkok száma, 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915080" y="1384200"/>
          <a:ext cx="377172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5080" y="1384200"/>
                    <a:ext cx="37717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6"/>
              <p:cNvSpPr txBox="1"/>
              <p:nvPr/>
            </p:nvSpPr>
            <p:spPr>
              <a:xfrm>
                <a:off x="5727600" y="3429000"/>
                <a:ext cx="1400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8"/>
              <p:cNvSpPr txBox="1"/>
              <p:nvPr/>
            </p:nvSpPr>
            <p:spPr>
              <a:xfrm>
                <a:off x="5530680" y="4786200"/>
                <a:ext cx="26575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  <m:sup/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Hurokdipólus_bemenő ellenállásának beállítása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7791480" cy="543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A hurok-dipólus sugárzási ellenállásának módosítására további megoldási lehetőség is létezik, mégpedig az, hogy a hurok egyik elemének a vastagságát változtatjuk. Egy kéthurkú dipólus ágainak átmérője változtatásával, például azzal, hogy az egyik vékonyabb vagy vastagabb a másiknál, elérhetjük, hogy: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Ha            →   nagyobb lesz, mint a normál hurok-dipólusé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ha             →   kisebb lesz, mint a normál hurok-dipólusé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1828800" y="2120760"/>
                <a:ext cx="60948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1" name="Rectangle 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6"/>
              <p:cNvSpPr txBox="1"/>
              <p:nvPr/>
            </p:nvSpPr>
            <p:spPr>
              <a:xfrm>
                <a:off x="1790640" y="2392200"/>
                <a:ext cx="6447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3" name="Rectangle 9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graphicFrame>
        <p:nvGraphicFramePr>
          <p:cNvPr id="354" name="Object 8"/>
          <p:cNvGraphicFramePr/>
          <p:nvPr/>
        </p:nvGraphicFramePr>
        <p:xfrm>
          <a:off x="2882880" y="3282840"/>
          <a:ext cx="42242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2880" y="3282840"/>
                    <a:ext cx="42242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9"/>
          <p:cNvSpPr/>
          <p:nvPr/>
        </p:nvSpPr>
        <p:spPr>
          <a:xfrm>
            <a:off x="6032520" y="1689120"/>
            <a:ext cx="3111480" cy="2197080"/>
          </a:xfrm>
          <a:prstGeom prst="rect">
            <a:avLst/>
          </a:prstGeom>
          <a:solidFill>
            <a:srgbClr val="a6dee2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7728120" cy="6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GYAKORLATI DIPÓLUSOK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69640" y="1054080"/>
            <a:ext cx="77914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EGÉSZHULLÁMÚ DIPÓLUS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579240" indent="-222840"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Mindkét antenna felet azonos fázisban, feszültségmaximumban gerjesztjük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093680" y="4788000"/>
            <a:ext cx="779148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Sugárzási karakterisztikája hasonló a félhullámú dipóluséhoz, de a nyalábja keskenyebb, 65</a:t>
            </a:r>
            <a:r>
              <a:rPr b="0" lang="hu-HU" sz="1600" spc="-1" strike="noStrike" baseline="30000">
                <a:solidFill>
                  <a:srgbClr val="fafd00"/>
                </a:solidFill>
                <a:latin typeface="Arial"/>
              </a:rPr>
              <a:t>0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nyílásszögű.</a:t>
            </a: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afd00"/>
                </a:solidFill>
                <a:latin typeface="Arial"/>
              </a:rPr>
              <a:t>Nyeresége 1,8 dB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a félhullámú dipólusra vonatkoztatva.</a:t>
            </a: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A sávszélessége kb. 1.3 szorosa az azonos karcsúsági tényezőjű félhullámú dipólénak. </a:t>
            </a: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106640" y="4178160"/>
            <a:ext cx="77911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A táplálási pontban nagy feszültség, kis áram nagy bemeneti impedanciát képvisel.</a:t>
            </a: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</p:txBody>
      </p:sp>
      <p:graphicFrame>
        <p:nvGraphicFramePr>
          <p:cNvPr id="361" name="Object 6"/>
          <p:cNvGraphicFramePr/>
          <p:nvPr/>
        </p:nvGraphicFramePr>
        <p:xfrm>
          <a:off x="1222200" y="1339920"/>
          <a:ext cx="4869000" cy="30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2200" y="1339920"/>
                    <a:ext cx="486900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8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graphicFrame>
        <p:nvGraphicFramePr>
          <p:cNvPr id="364" name="Object 7"/>
          <p:cNvGraphicFramePr/>
          <p:nvPr/>
        </p:nvGraphicFramePr>
        <p:xfrm>
          <a:off x="5956200" y="1862280"/>
          <a:ext cx="2886120" cy="18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6200" y="1862280"/>
                    <a:ext cx="288612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06000" y="279000"/>
            <a:ext cx="7728120" cy="6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GYAKORLATI DIPÓLUSOK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8880" y="1028520"/>
            <a:ext cx="7791480" cy="253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SZÉLESSÁVÚ DIPÓLUSOK: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afd00"/>
                </a:solidFill>
                <a:latin typeface="Arial"/>
              </a:rPr>
              <a:t>A sávszélesség az L/C viszonytól függ. Kis L/C nagy sávszélesség, vastag a dipólus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Problémák a vastagság növelésével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d31a15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Nő a súly,</a:t>
            </a:r>
            <a:endParaRPr b="0" lang="en-US" sz="1200" spc="-1" strike="noStrike">
              <a:solidFill>
                <a:srgbClr val="fafd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d31a15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Nő a betáp. pont kapacitása</a:t>
            </a:r>
            <a:endParaRPr b="0" lang="en-US" sz="1200" spc="-1" strike="noStrike">
              <a:solidFill>
                <a:srgbClr val="fafd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Megoldás: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d31a15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Varsa szerkezet,</a:t>
            </a:r>
            <a:endParaRPr b="0" lang="en-US" sz="1200" spc="-1" strike="noStrike">
              <a:solidFill>
                <a:srgbClr val="fafd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d31a15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Kúpos végkialakítás.</a:t>
            </a:r>
            <a:endParaRPr b="0" lang="en-US" sz="1200" spc="-1" strike="noStrike">
              <a:solidFill>
                <a:srgbClr val="fafd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A kúposság néha a teljes hosszra kiterjed: kettőskúpos dipólus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d31a15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fémlemez</a:t>
            </a:r>
            <a:endParaRPr b="0" lang="en-US" sz="1200" spc="-1" strike="noStrike">
              <a:solidFill>
                <a:srgbClr val="fafd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d31a15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huzalrács</a:t>
            </a:r>
            <a:endParaRPr b="0" lang="en-US" sz="1200" spc="-1" strike="noStrike">
              <a:solidFill>
                <a:srgbClr val="fafd00"/>
              </a:solidFill>
              <a:latin typeface="Arial"/>
            </a:endParaRPr>
          </a:p>
          <a:p>
            <a:pPr lvl="1" marL="631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lvl="2" marL="9712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8" name="Object 4"/>
          <p:cNvGraphicFramePr/>
          <p:nvPr/>
        </p:nvGraphicFramePr>
        <p:xfrm>
          <a:off x="5284800" y="1758960"/>
          <a:ext cx="426564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0" y="1758960"/>
                    <a:ext cx="426564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6"/>
          <p:cNvGraphicFramePr/>
          <p:nvPr/>
        </p:nvGraphicFramePr>
        <p:xfrm>
          <a:off x="939960" y="4387680"/>
          <a:ext cx="4735440" cy="199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4387680"/>
                    <a:ext cx="473544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7"/>
          <p:cNvGraphicFramePr/>
          <p:nvPr/>
        </p:nvGraphicFramePr>
        <p:xfrm>
          <a:off x="5094360" y="4387680"/>
          <a:ext cx="4735440" cy="199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4360" y="4387680"/>
                    <a:ext cx="473544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Szélessávú dipólus antennák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pic>
        <p:nvPicPr>
          <p:cNvPr id="375" name="Picture 8" descr="DSCF2962"/>
          <p:cNvPicPr/>
          <p:nvPr/>
        </p:nvPicPr>
        <p:blipFill>
          <a:blip r:embed="rId1"/>
          <a:stretch/>
        </p:blipFill>
        <p:spPr>
          <a:xfrm>
            <a:off x="755640" y="593640"/>
            <a:ext cx="7843680" cy="5883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Szélessávú dipólus antennák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pic>
        <p:nvPicPr>
          <p:cNvPr id="377" name="Picture 6" descr="DSCF2963"/>
          <p:cNvPicPr/>
          <p:nvPr/>
        </p:nvPicPr>
        <p:blipFill>
          <a:blip r:embed="rId1"/>
          <a:stretch/>
        </p:blipFill>
        <p:spPr>
          <a:xfrm>
            <a:off x="1352520" y="1041480"/>
            <a:ext cx="7246800" cy="5435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06360" y="-360"/>
            <a:ext cx="771552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MONOPÓL SUGÁRZÓK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93320" y="1028520"/>
            <a:ext cx="779148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MONOPÓL 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antennákat a dipóloknál alapvetően már megtárgyaltuk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Gyakorlatilag a mobil távközlésben inkább vevőantennaként jelentős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a szerepük: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d31a15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részben a kis méret,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d31a15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részben a kevésbé irányitott sugárzási jellemzők miatt.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80" name="Picture 4" descr="MONOPSUG"/>
          <p:cNvPicPr/>
          <p:nvPr/>
        </p:nvPicPr>
        <p:blipFill>
          <a:blip r:embed="rId1"/>
          <a:stretch/>
        </p:blipFill>
        <p:spPr>
          <a:xfrm>
            <a:off x="1523880" y="3232080"/>
            <a:ext cx="7417080" cy="330192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5"/>
          <p:cNvSpPr/>
          <p:nvPr/>
        </p:nvSpPr>
        <p:spPr>
          <a:xfrm>
            <a:off x="1030320" y="2298600"/>
            <a:ext cx="7791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Jellegzetes sugárzási karakterisztikája az antennamagasság, illetve a földsík (ellensúly) méretének függvényében.</a:t>
            </a: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A monopól antenna körsugárzó.</a:t>
            </a: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4178160" y="3632040"/>
            <a:ext cx="648000" cy="381240"/>
          </a:xfrm>
          <a:prstGeom prst="wedgeRoundRectCallout">
            <a:avLst>
              <a:gd name="adj1" fmla="val -76962"/>
              <a:gd name="adj2" fmla="val 173333"/>
              <a:gd name="adj3" fmla="val 16667"/>
            </a:avLst>
          </a:prstGeom>
          <a:solidFill>
            <a:srgbClr val="a6dee2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4152960" y="372096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232323"/>
                </a:solidFill>
                <a:latin typeface="Arial"/>
              </a:rPr>
              <a:t>h=</a:t>
            </a:r>
            <a:r>
              <a:rPr b="0" lang="hu-HU" sz="1000" spc="-1" strike="noStrike">
                <a:solidFill>
                  <a:srgbClr val="232323"/>
                </a:solidFill>
                <a:latin typeface="Symbol"/>
                <a:ea typeface="Symbol"/>
              </a:rPr>
              <a:t></a:t>
            </a:r>
            <a:r>
              <a:rPr b="0" lang="hu-HU" sz="1000" spc="-1" strike="noStrike">
                <a:solidFill>
                  <a:srgbClr val="232323"/>
                </a:solidFill>
                <a:latin typeface="Arial"/>
              </a:rPr>
              <a:t>/4</a:t>
            </a:r>
            <a:endParaRPr b="0" lang="en-US" sz="1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7975440" y="3403440"/>
            <a:ext cx="67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4c68f6"/>
                </a:solidFill>
                <a:latin typeface="Arial"/>
              </a:rPr>
              <a:t>0,75</a:t>
            </a:r>
            <a:r>
              <a:rPr b="0" lang="hu-HU" sz="800" spc="-1" strike="noStrike">
                <a:solidFill>
                  <a:srgbClr val="4c68f6"/>
                </a:solidFill>
                <a:latin typeface="Symbol"/>
                <a:ea typeface="Symbol"/>
              </a:rPr>
              <a:t></a:t>
            </a:r>
            <a:endParaRPr b="0" lang="en-US" sz="800" spc="-1" strike="noStrike">
              <a:solidFill>
                <a:srgbClr val="4c68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ELEMI SUGÁRZÓK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42560" y="1155600"/>
            <a:ext cx="779148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IZOTRÓP SUGÁRZÓ: olyan képzeletbeli sugárzó, amelynek sugárzási intenzitása minden irányban azonos. 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A létrehozott teljesítménysűrűsége: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Fiktív antenna, az elméleti modellezéshez, összehasonlításhoz használjuk.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2"/>
              <p:cNvSpPr txBox="1"/>
              <p:nvPr/>
            </p:nvSpPr>
            <p:spPr>
              <a:xfrm>
                <a:off x="1835280" y="3041640"/>
                <a:ext cx="21049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W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85" name="Object 3"/>
          <p:cNvGraphicFramePr/>
          <p:nvPr/>
        </p:nvGraphicFramePr>
        <p:xfrm>
          <a:off x="4229280" y="1459080"/>
          <a:ext cx="472248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1459080"/>
                    <a:ext cx="47224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6"/>
          <p:cNvSpPr/>
          <p:nvPr/>
        </p:nvSpPr>
        <p:spPr>
          <a:xfrm>
            <a:off x="7397640" y="6426360"/>
            <a:ext cx="1162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176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fafd00"/>
                </a:solidFill>
                <a:latin typeface="Arial"/>
              </a:rPr>
              <a:t>Folyt. Köv.</a:t>
            </a:r>
            <a:endParaRPr b="0" lang="en-US" sz="700" spc="-1" strike="noStrike">
              <a:solidFill>
                <a:srgbClr val="4c68f6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fd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MONOPÓL ANTENNÁK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332100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Tipikus monopólok: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5/8 </a:t>
            </a:r>
            <a:r>
              <a:rPr b="0" lang="hu-HU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-ás ostorantenna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87" name="Picture 1028" descr="58"/>
          <p:cNvPicPr/>
          <p:nvPr/>
        </p:nvPicPr>
        <p:blipFill>
          <a:blip r:embed="rId1"/>
          <a:stretch/>
        </p:blipFill>
        <p:spPr>
          <a:xfrm>
            <a:off x="5383080" y="123840"/>
            <a:ext cx="3603600" cy="3211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29" descr="ABRA6"/>
          <p:cNvPicPr/>
          <p:nvPr/>
        </p:nvPicPr>
        <p:blipFill>
          <a:blip r:embed="rId2"/>
          <a:stretch/>
        </p:blipFill>
        <p:spPr>
          <a:xfrm>
            <a:off x="5391000" y="3375000"/>
            <a:ext cx="3124440" cy="344340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1032"/>
          <p:cNvSpPr/>
          <p:nvPr/>
        </p:nvSpPr>
        <p:spPr>
          <a:xfrm>
            <a:off x="1106640" y="3720960"/>
            <a:ext cx="461628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nagynyereségű ostorantenna</a:t>
            </a: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RÉS-SUGÁRZÓK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80720" y="685440"/>
            <a:ext cx="7854840" cy="171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SUGÁRZÓ RÉS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Komplementer mezők: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Ha egy elektromágneses erőtérben az elektromos és a mágneses vektort egymással felcseréljük, akkor a komplementer,vagy duál mezőt kapjuk.</a:t>
            </a: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992160" y="4216320"/>
            <a:ext cx="7905600" cy="226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A komplementer mező határfelülete mágneses fal:</a:t>
            </a: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d31a15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amelyeken nem lehet a mágneses térerősségnek tangenciális</a:t>
            </a: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d31a15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az elektromos térnek merőleges komponense.</a:t>
            </a: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d31a15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a komplementer mező +90 fokkal elfordult.</a:t>
            </a:r>
            <a:endParaRPr b="0" lang="en-US" sz="14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Elektromos dipólus komplementer mezőképe a mágneses dipólus (áramhurok, amelynek síkja merőleges a dipólusra) mezőképének felel meg.</a:t>
            </a: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</p:txBody>
      </p:sp>
      <p:graphicFrame>
        <p:nvGraphicFramePr>
          <p:cNvPr id="393" name="Object 2"/>
          <p:cNvGraphicFramePr/>
          <p:nvPr/>
        </p:nvGraphicFramePr>
        <p:xfrm>
          <a:off x="2965320" y="1924200"/>
          <a:ext cx="4508640" cy="22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5320" y="1924200"/>
                    <a:ext cx="4508640" cy="22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ELEMI SUGÁRZÓK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55160" y="825120"/>
            <a:ext cx="77914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Réssugárzóval félhullámú mágnese dipólust úgy valósítunk meg, hogy egy végtelen kiterjedésű vezető felületbe félhullám hosszúságú keskeny rést vágunk és ezt középen táplálju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4932360" y="1614600"/>
          <a:ext cx="4059360" cy="28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614600"/>
                    <a:ext cx="405936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692280" y="1803240"/>
            <a:ext cx="459108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A rés két oldalán ellenkező irányú áramok folynak, amelyek a résen át mágneses mezőt keltenek. A rés középpontja felett és alatt a mágneses mező ellentétes irányú, a mágneses erővonalak tehát úgy záródnak, mint az elektromos dipólnál az elektromos erővonalak.</a:t>
            </a: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Az elektromos erővonalak a dipólra merőleges sikokban félkör alakban záródnak a lemezhez.A lemez két oldalán azonban az </a:t>
            </a:r>
            <a:r>
              <a:rPr b="1" lang="hu-HU" sz="1600" spc="-1" strike="noStrike">
                <a:solidFill>
                  <a:srgbClr val="fafd00"/>
                </a:solidFill>
                <a:latin typeface="Arial"/>
              </a:rPr>
              <a:t>elektromos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hu-HU" sz="1600" spc="-1" strike="noStrike">
                <a:solidFill>
                  <a:srgbClr val="fafd00"/>
                </a:solidFill>
                <a:latin typeface="Arial"/>
              </a:rPr>
              <a:t>erővonalak szembe mutatnak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egymással, a mágneses erővonalak viszont megtartják irányukat.</a:t>
            </a: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Az áram és a feszültségeloszlás cosinus törvényű.</a:t>
            </a: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</p:txBody>
      </p:sp>
      <p:graphicFrame>
        <p:nvGraphicFramePr>
          <p:cNvPr id="400" name="Object 6"/>
          <p:cNvGraphicFramePr/>
          <p:nvPr/>
        </p:nvGraphicFramePr>
        <p:xfrm>
          <a:off x="5175360" y="4375080"/>
          <a:ext cx="3968640" cy="22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75360" y="4375080"/>
                    <a:ext cx="396864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RÉS-SUGÁRZÓK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80720" y="1041480"/>
            <a:ext cx="7791480" cy="63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Réssugárzók bemeneti impedanciája a következők szerint számítható (</a:t>
            </a:r>
            <a:r>
              <a:rPr b="0" i="1" lang="hu-HU" sz="1400" spc="-1" strike="noStrike">
                <a:solidFill>
                  <a:srgbClr val="fafd00"/>
                </a:solidFill>
                <a:latin typeface="Arial"/>
              </a:rPr>
              <a:t>Zr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 a réssugárzó, </a:t>
            </a:r>
            <a:r>
              <a:rPr b="0" i="1" lang="hu-HU" sz="1400" spc="-1" strike="noStrike">
                <a:solidFill>
                  <a:srgbClr val="fafd00"/>
                </a:solidFill>
                <a:latin typeface="Arial"/>
              </a:rPr>
              <a:t>Zd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 a dipólus bemeneti impedanciája és </a:t>
            </a:r>
            <a:r>
              <a:rPr b="0" i="1" lang="hu-HU" sz="1400" spc="-1" strike="noStrike">
                <a:solidFill>
                  <a:srgbClr val="fafd00"/>
                </a:solidFill>
                <a:latin typeface="Arial"/>
              </a:rPr>
              <a:t>η=120π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 pedig a szabad tér specifikus impedanciája) :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1081080" y="2222640"/>
            <a:ext cx="5187960" cy="63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Tipikus réssugárzók bemeneti impedanciája:</a:t>
            </a: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Keskeny félhullámú rés:</a:t>
            </a: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4381560" y="1430280"/>
                <a:ext cx="16794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476</m:t>
                        </m:r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6" name="Rectangle 6"/>
          <p:cNvSpPr/>
          <p:nvPr/>
        </p:nvSpPr>
        <p:spPr>
          <a:xfrm>
            <a:off x="1119240" y="3822840"/>
            <a:ext cx="6064200" cy="5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Viszonylag vastagabb rés, rezonanciára hangolva (l/a=86, </a:t>
            </a:r>
            <a:r>
              <a:rPr b="0" lang="hu-HU" sz="16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=6%) :</a:t>
            </a: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1258920" y="4978440"/>
            <a:ext cx="5187960" cy="63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Viszonylag vastag egészhullámú dipólus:</a:t>
            </a: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7456320" y="6453360"/>
            <a:ext cx="1098720" cy="7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30240" bIns="30240" anchor="t">
            <a:noAutofit/>
          </a:bodyPr>
          <a:p>
            <a:pPr marL="343080" indent="-343080">
              <a:spcBef>
                <a:spcPts val="20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afd00"/>
                </a:solidFill>
                <a:latin typeface="Arial"/>
              </a:rPr>
              <a:t>Folyt. Köv.</a:t>
            </a:r>
            <a:endParaRPr b="0" lang="en-US" sz="8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9"/>
              <p:cNvSpPr txBox="1"/>
              <p:nvPr/>
            </p:nvSpPr>
            <p:spPr>
              <a:xfrm>
                <a:off x="4394160" y="2749680"/>
                <a:ext cx="26956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476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X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476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X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X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11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0"/>
              <p:cNvSpPr txBox="1"/>
              <p:nvPr/>
            </p:nvSpPr>
            <p:spPr>
              <a:xfrm>
                <a:off x="4451400" y="4222800"/>
                <a:ext cx="2216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47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9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1"/>
              <p:cNvSpPr txBox="1"/>
              <p:nvPr/>
            </p:nvSpPr>
            <p:spPr>
              <a:xfrm>
                <a:off x="4394160" y="5505480"/>
                <a:ext cx="18464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47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1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fd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fd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fd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fd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Object 2" descr=""/>
          <p:cNvPicPr/>
          <p:nvPr/>
        </p:nvPicPr>
        <p:blipFill>
          <a:blip r:embed="rId1"/>
          <a:stretch/>
        </p:blipFill>
        <p:spPr>
          <a:xfrm>
            <a:off x="2509920" y="1703520"/>
            <a:ext cx="4152960" cy="345096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4"/>
          <p:cNvSpPr/>
          <p:nvPr/>
        </p:nvSpPr>
        <p:spPr>
          <a:xfrm>
            <a:off x="3189240" y="2755800"/>
            <a:ext cx="2136960" cy="398880"/>
          </a:xfrm>
          <a:prstGeom prst="rect">
            <a:avLst/>
          </a:prstGeom>
          <a:noFill/>
          <a:ln w="12600">
            <a:solidFill>
              <a:srgbClr val="d31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c0128"/>
                </a:solidFill>
                <a:latin typeface="Arial"/>
              </a:rPr>
              <a:t>VÉGE</a:t>
            </a: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ELEMI SUGÁRZÓK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93320" y="1003320"/>
            <a:ext cx="779148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PONTFORRÁS: olyan valóságos sugárzó, amelynek távolterében az antenna elektromágneses mezőit ortogonálisnak tekinthetjük a terjedés irányához képest: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A létrehozott teljesítménysűrűsége: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A gyakorlatban a besugárzott területen minden antenna pontforrásnak tekinthető és általában irányított. 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028"/>
              <p:cNvSpPr txBox="1"/>
              <p:nvPr/>
            </p:nvSpPr>
            <p:spPr>
              <a:xfrm>
                <a:off x="1887480" y="3079800"/>
                <a:ext cx="22813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G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W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91" name="Object 1029"/>
          <p:cNvGraphicFramePr/>
          <p:nvPr/>
        </p:nvGraphicFramePr>
        <p:xfrm>
          <a:off x="4229280" y="1420920"/>
          <a:ext cx="472248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1420920"/>
                    <a:ext cx="47224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Rectangle 1030"/>
          <p:cNvSpPr/>
          <p:nvPr/>
        </p:nvSpPr>
        <p:spPr>
          <a:xfrm>
            <a:off x="7397640" y="6426360"/>
            <a:ext cx="1162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176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fafd00"/>
                </a:solidFill>
                <a:latin typeface="Arial"/>
              </a:rPr>
              <a:t>Folyt. Köv.</a:t>
            </a:r>
            <a:endParaRPr b="0" lang="en-US" sz="700" spc="-1" strike="noStrike">
              <a:solidFill>
                <a:srgbClr val="4c68f6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fd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ELEMI SUGÁRZÓK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0"/>
              <p:cNvSpPr txBox="1"/>
              <p:nvPr/>
            </p:nvSpPr>
            <p:spPr>
              <a:xfrm>
                <a:off x="2552760" y="2247840"/>
                <a:ext cx="876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52960" y="1041120"/>
            <a:ext cx="3819600" cy="543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A pontforrás-rendszerek karakterisztikájának néhány számítása során kényelmesebb a valódi pontforrás karakterisztikáját egy alkalmas cos</a:t>
            </a:r>
            <a:r>
              <a:rPr b="1" lang="hu-HU" sz="12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1" lang="hu-HU" sz="12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lang="hu-HU" sz="1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ábrázolással közelíteni, legalábbis a besugárzás kérdéses szögtartományában.</a:t>
            </a:r>
            <a:endParaRPr b="0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A specifikus </a:t>
            </a:r>
            <a:r>
              <a:rPr b="0" i="1" lang="hu-HU" sz="12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 kitevő, amelyet néha alaktényezőként is emlegetünk, az ábra szerint határozható meg. Egy adott </a:t>
            </a:r>
            <a:r>
              <a:rPr b="0" i="1" lang="el-GR" sz="1200" spc="-1" strike="noStrike">
                <a:solidFill>
                  <a:srgbClr val="fafd00"/>
                </a:solidFill>
                <a:latin typeface="Arial"/>
                <a:ea typeface="Arial"/>
              </a:rPr>
              <a:t>θ</a:t>
            </a:r>
            <a:r>
              <a:rPr b="0" i="1" lang="hu-HU" sz="12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szög mellett, a vizsgált szög-tartományban jelölje </a:t>
            </a:r>
            <a:r>
              <a:rPr b="0" i="1" lang="hu-HU" sz="1200" spc="-1" strike="noStrike">
                <a:solidFill>
                  <a:srgbClr val="fafd00"/>
                </a:solidFill>
                <a:latin typeface="Arial"/>
              </a:rPr>
              <a:t>OA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 a pontforrás </a:t>
            </a:r>
            <a:r>
              <a:rPr b="0" i="1" lang="hu-HU" sz="1200" spc="-1" strike="noStrike">
                <a:solidFill>
                  <a:srgbClr val="fafd00"/>
                </a:solidFill>
                <a:latin typeface="Arial"/>
              </a:rPr>
              <a:t>E(</a:t>
            </a:r>
            <a:r>
              <a:rPr b="0" i="1" lang="el-GR" sz="1200" spc="-1" strike="noStrike">
                <a:solidFill>
                  <a:srgbClr val="fafd00"/>
                </a:solidFill>
                <a:latin typeface="Arial"/>
                <a:ea typeface="Arial"/>
              </a:rPr>
              <a:t>θ</a:t>
            </a:r>
            <a:r>
              <a:rPr b="0" i="1" lang="hu-HU" sz="12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 relatív amplitúdójú karakterisztika értékét, </a:t>
            </a:r>
            <a:r>
              <a:rPr b="0" i="1" lang="hu-HU" sz="1200" spc="-1" strike="noStrike">
                <a:solidFill>
                  <a:srgbClr val="fafd00"/>
                </a:solidFill>
                <a:latin typeface="Arial"/>
              </a:rPr>
              <a:t>OB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 pedig egy olyan pontforrás relatív amplitúdójú karakterisztika értékét, amelynek </a:t>
            </a:r>
            <a:r>
              <a:rPr b="0" i="1" lang="hu-HU" sz="1200" spc="-1" strike="noStrike">
                <a:solidFill>
                  <a:srgbClr val="fafd00"/>
                </a:solidFill>
                <a:latin typeface="Arial"/>
              </a:rPr>
              <a:t>cos </a:t>
            </a:r>
            <a:r>
              <a:rPr b="0" i="1" lang="el-GR" sz="1200" spc="-1" strike="noStrike">
                <a:solidFill>
                  <a:srgbClr val="fafd00"/>
                </a:solidFill>
                <a:latin typeface="Arial"/>
                <a:ea typeface="Arial"/>
              </a:rPr>
              <a:t>θ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 alakja van.</a:t>
            </a:r>
            <a:endParaRPr b="0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Ha az </a:t>
            </a:r>
            <a:r>
              <a:rPr b="0" i="1" lang="hu-HU" sz="1200" spc="-1" strike="noStrike">
                <a:solidFill>
                  <a:srgbClr val="fafd00"/>
                </a:solidFill>
                <a:latin typeface="Arial"/>
              </a:rPr>
              <a:t>E(</a:t>
            </a:r>
            <a:r>
              <a:rPr b="0" i="1" lang="el-GR" sz="1200" spc="-1" strike="noStrike">
                <a:solidFill>
                  <a:srgbClr val="fafd00"/>
                </a:solidFill>
                <a:latin typeface="Arial"/>
                <a:ea typeface="Arial"/>
              </a:rPr>
              <a:t>θ</a:t>
            </a:r>
            <a:r>
              <a:rPr b="0" i="1" lang="hu-HU" sz="12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 pontforrást 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hu-HU" sz="14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hu-HU" sz="14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 -nel közelítjük, a következőt kapjuk:</a:t>
            </a:r>
            <a:endParaRPr b="0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            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E(</a:t>
            </a:r>
            <a:r>
              <a:rPr b="0" lang="hu-HU" sz="14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)= cos</a:t>
            </a:r>
            <a:r>
              <a:rPr b="0" lang="hu-HU" sz="14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hu-HU" sz="14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Logaritmusát véve: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log (E(</a:t>
            </a:r>
            <a:r>
              <a:rPr b="0" lang="hu-HU" sz="14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)) = n log(cos</a:t>
            </a:r>
            <a:r>
              <a:rPr b="0" lang="hu-HU" sz="1400" spc="-1" strike="noStrike">
                <a:solidFill>
                  <a:srgbClr val="fafd00"/>
                </a:solidFill>
                <a:latin typeface="Symbol"/>
                <a:ea typeface="Symbol"/>
              </a:rPr>
              <a:t>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Az eredmény: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n = log (E(</a:t>
            </a:r>
            <a:r>
              <a:rPr b="0" lang="hu-HU" sz="14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)) / log(cos</a:t>
            </a:r>
            <a:r>
              <a:rPr b="0" lang="hu-HU" sz="1400" spc="-1" strike="noStrike">
                <a:solidFill>
                  <a:srgbClr val="fafd00"/>
                </a:solidFill>
                <a:latin typeface="Symbol"/>
                <a:ea typeface="Symbol"/>
              </a:rPr>
              <a:t>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Illetve geometriailag (az ábra szerint): </a:t>
            </a:r>
            <a:endParaRPr b="0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afd00"/>
                </a:solidFill>
                <a:latin typeface="Arial"/>
              </a:rPr>
              <a:t>             </a:t>
            </a:r>
            <a:r>
              <a:rPr b="0" lang="hu-HU" sz="1400" spc="-1" strike="noStrike">
                <a:solidFill>
                  <a:srgbClr val="fafd00"/>
                </a:solidFill>
                <a:latin typeface="Arial"/>
              </a:rPr>
              <a:t>n = log (OA) / log(OB)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97" name="Picture 4" descr="2ABRA"/>
          <p:cNvPicPr/>
          <p:nvPr/>
        </p:nvPicPr>
        <p:blipFill>
          <a:blip r:embed="rId1"/>
          <a:stretch/>
        </p:blipFill>
        <p:spPr>
          <a:xfrm>
            <a:off x="409680" y="1863720"/>
            <a:ext cx="4937040" cy="31575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0" y="0"/>
                <a:ext cx="885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0" y="0"/>
                <a:ext cx="876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AutoShape 15"/>
          <p:cNvSpPr/>
          <p:nvPr/>
        </p:nvSpPr>
        <p:spPr>
          <a:xfrm>
            <a:off x="2438280" y="914400"/>
            <a:ext cx="1676520" cy="749160"/>
          </a:xfrm>
          <a:prstGeom prst="wedgeRoundRectCallout">
            <a:avLst>
              <a:gd name="adj1" fmla="val -30115"/>
              <a:gd name="adj2" fmla="val 254662"/>
              <a:gd name="adj3" fmla="val 16667"/>
            </a:avLst>
          </a:prstGeom>
          <a:solidFill>
            <a:srgbClr val="c4ff89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2514600" y="1003320"/>
            <a:ext cx="1498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c0128"/>
                </a:solidFill>
                <a:latin typeface="Arial"/>
              </a:rPr>
              <a:t>E(</a:t>
            </a:r>
            <a:r>
              <a:rPr b="0" i="1" lang="el-GR" sz="1200" spc="-1" strike="noStrike">
                <a:solidFill>
                  <a:srgbClr val="fc0128"/>
                </a:solidFill>
                <a:latin typeface="Arial"/>
              </a:rPr>
              <a:t>θ</a:t>
            </a:r>
            <a:r>
              <a:rPr b="0" i="1" lang="hu-HU" sz="1200" spc="-1" strike="noStrike">
                <a:solidFill>
                  <a:srgbClr val="fc0128"/>
                </a:solidFill>
                <a:latin typeface="Arial"/>
              </a:rPr>
              <a:t>)</a:t>
            </a:r>
            <a:r>
              <a:rPr b="0" lang="hu-HU" sz="1200" spc="-1" strike="noStrike">
                <a:solidFill>
                  <a:srgbClr val="fc0128"/>
                </a:solidFill>
                <a:latin typeface="Arial"/>
              </a:rPr>
              <a:t> relatív amplitúdójú karakterisztika</a:t>
            </a:r>
            <a:endParaRPr b="0" lang="en-US" sz="1200" spc="-1" strike="noStrike">
              <a:solidFill>
                <a:srgbClr val="4c68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6360" y="-360"/>
            <a:ext cx="771552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ELEMI SUGÁRZÓK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93320" y="1028880"/>
            <a:ext cx="7791480" cy="146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HERTZ dipólus (rövid elektromos dipólus, vagy áramelem)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Az antenna hosszában az áram állandó,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A sugárzó hossza a hullámhosszhoz képest igen rövid ( l</a:t>
            </a:r>
            <a:r>
              <a:rPr b="0" lang="hu-HU" sz="18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&lt; </a:t>
            </a:r>
            <a:r>
              <a:rPr b="0" lang="hu-HU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/10 ),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Polár koordináta rendszerben dolgozunk,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060560" y="2349360"/>
            <a:ext cx="38163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A térerősség összetevők:</a:t>
            </a: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1581120" y="2806560"/>
                <a:ext cx="3237120" cy="17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ϑ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l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j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β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r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t xml:space="preserve">ϑ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ωt</m:t>
                            </m:r>
                            <m:r>
                              <m:t xml:space="preserve">−</m:t>
                            </m:r>
                            <m:r>
                              <m:t xml:space="preserve">βr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l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j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β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t xml:space="preserve">ϑ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ωt</m:t>
                            </m:r>
                            <m:r>
                              <m:t xml:space="preserve">−</m:t>
                            </m:r>
                            <m:r>
                              <m:t xml:space="preserve">βr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l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j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β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r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t xml:space="preserve">ϑ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ωt</m:t>
                            </m:r>
                            <m:r>
                              <m:t xml:space="preserve">−</m:t>
                            </m:r>
                            <m:r>
                              <m:t xml:space="preserve">βr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Rectangle 9"/>
          <p:cNvSpPr/>
          <p:nvPr/>
        </p:nvSpPr>
        <p:spPr>
          <a:xfrm>
            <a:off x="1085760" y="4495680"/>
            <a:ext cx="38163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A kifejezésben:</a:t>
            </a: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r </a:t>
            </a:r>
            <a:r>
              <a:rPr b="0" lang="hu-HU" sz="1600" spc="-1" strike="noStrike" baseline="30000">
                <a:solidFill>
                  <a:srgbClr val="fafd00"/>
                </a:solidFill>
                <a:latin typeface="Arial"/>
              </a:rPr>
              <a:t>-1 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tagok a sugárzási mező</a:t>
            </a: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r </a:t>
            </a:r>
            <a:r>
              <a:rPr b="0" lang="hu-HU" sz="1600" spc="-1" strike="noStrike" baseline="30000">
                <a:solidFill>
                  <a:srgbClr val="fafd00"/>
                </a:solidFill>
                <a:latin typeface="Arial"/>
              </a:rPr>
              <a:t>-2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, r </a:t>
            </a:r>
            <a:r>
              <a:rPr b="0" lang="hu-HU" sz="1600" spc="-1" strike="noStrike" baseline="30000">
                <a:solidFill>
                  <a:srgbClr val="fafd00"/>
                </a:solidFill>
                <a:latin typeface="Arial"/>
              </a:rPr>
              <a:t>-3</a:t>
            </a: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 tagok a közelhatási mező.</a:t>
            </a: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060560" y="5702400"/>
            <a:ext cx="3600360" cy="71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afd00"/>
                </a:solidFill>
                <a:latin typeface="Arial"/>
              </a:rPr>
              <a:t>A távoli zóna ott kezdődik, ahol a sugárzási mező mellett a közelhatási mező elhanyagolható:</a:t>
            </a:r>
            <a:endParaRPr b="0" lang="en-US" sz="1600" spc="-1" strike="noStrike">
              <a:solidFill>
                <a:srgbClr val="4c68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1"/>
              <p:cNvSpPr txBox="1"/>
              <p:nvPr/>
            </p:nvSpPr>
            <p:spPr>
              <a:xfrm>
                <a:off x="5359320" y="5646600"/>
                <a:ext cx="6606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β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  <m:r>
                      <m:t xml:space="preserve">r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Rectangle 12"/>
          <p:cNvSpPr/>
          <p:nvPr/>
        </p:nvSpPr>
        <p:spPr>
          <a:xfrm>
            <a:off x="7588080" y="6515280"/>
            <a:ext cx="1035360" cy="16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 baseline="30000">
                <a:solidFill>
                  <a:srgbClr val="fafd00"/>
                </a:solidFill>
                <a:latin typeface="Arial"/>
              </a:rPr>
              <a:t>Folyt. Köv.</a:t>
            </a:r>
            <a:endParaRPr b="0" lang="en-US" sz="800" spc="-1" strike="noStrike">
              <a:solidFill>
                <a:srgbClr val="4c68f6"/>
              </a:solidFill>
              <a:latin typeface="Arial"/>
            </a:endParaRPr>
          </a:p>
        </p:txBody>
      </p:sp>
      <p:pic>
        <p:nvPicPr>
          <p:cNvPr id="112" name="Picture 13" descr="ARAMELEM"/>
          <p:cNvPicPr/>
          <p:nvPr/>
        </p:nvPicPr>
        <p:blipFill>
          <a:blip r:embed="rId1"/>
          <a:stretch/>
        </p:blipFill>
        <p:spPr>
          <a:xfrm>
            <a:off x="5878440" y="2414520"/>
            <a:ext cx="32655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fd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fd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06360" y="-360"/>
            <a:ext cx="771552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ELEMI SUGÁRZÓK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3320" y="1472760"/>
            <a:ext cx="4692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MÁGNESES dipólus, (vagy áramhurok)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Térerőssége: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5"/>
              <p:cNvSpPr txBox="1"/>
              <p:nvPr/>
            </p:nvSpPr>
            <p:spPr>
              <a:xfrm>
                <a:off x="2368440" y="2584440"/>
                <a:ext cx="26370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t xml:space="preserve">ϑ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−</m:t>
                        </m:r>
                        <m:r>
                          <m:t xml:space="preserve">βr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" name="Rectangle 6"/>
          <p:cNvSpPr/>
          <p:nvPr/>
        </p:nvSpPr>
        <p:spPr>
          <a:xfrm>
            <a:off x="1119240" y="3479760"/>
            <a:ext cx="4476600" cy="195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A mezőkép hasonló az elektromos dipóluséhoz, de az elektromos és a mágneses térerősségek helyet cseréltek.</a:t>
            </a: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</p:txBody>
      </p:sp>
      <p:pic>
        <p:nvPicPr>
          <p:cNvPr id="117" name="Picture 7" descr="ARAMHU~1"/>
          <p:cNvPicPr/>
          <p:nvPr/>
        </p:nvPicPr>
        <p:blipFill>
          <a:blip r:embed="rId1"/>
          <a:stretch/>
        </p:blipFill>
        <p:spPr>
          <a:xfrm>
            <a:off x="5154480" y="2073240"/>
            <a:ext cx="36291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6"/>
          <p:cNvGraphicFramePr/>
          <p:nvPr/>
        </p:nvGraphicFramePr>
        <p:xfrm>
          <a:off x="5154480" y="1468440"/>
          <a:ext cx="3608640" cy="24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4480" y="1468440"/>
                    <a:ext cx="360864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06360" y="202680"/>
            <a:ext cx="771552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SZIMMETRIKUS- , vagy REZONÁNS DIPÓLUS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3680" y="1028880"/>
            <a:ext cx="4197600" cy="13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Adott 2l=</a:t>
            </a:r>
            <a:r>
              <a:rPr b="0" lang="hu-HU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/2 geometriai méret esetén a dipólus rezonanciában van.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22" name="Object 5"/>
          <p:cNvGraphicFramePr/>
          <p:nvPr/>
        </p:nvGraphicFramePr>
        <p:xfrm>
          <a:off x="5192640" y="1481040"/>
          <a:ext cx="3608640" cy="24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2640" y="1481040"/>
                    <a:ext cx="360864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7"/>
          <p:cNvGraphicFramePr/>
          <p:nvPr/>
        </p:nvGraphicFramePr>
        <p:xfrm>
          <a:off x="5192640" y="1494000"/>
          <a:ext cx="3608640" cy="244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92640" y="1494000"/>
                    <a:ext cx="360864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8"/>
          <p:cNvSpPr/>
          <p:nvPr/>
        </p:nvSpPr>
        <p:spPr>
          <a:xfrm>
            <a:off x="1081080" y="2082960"/>
            <a:ext cx="419724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Áram- és feszültségeloszlása szinuszos.</a:t>
            </a: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042920" y="3060720"/>
            <a:ext cx="419724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Elektromos helyettesítő képe: soros rezgőkör.</a:t>
            </a: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</p:txBody>
      </p:sp>
      <p:graphicFrame>
        <p:nvGraphicFramePr>
          <p:cNvPr id="128" name="Object 10"/>
          <p:cNvGraphicFramePr/>
          <p:nvPr/>
        </p:nvGraphicFramePr>
        <p:xfrm>
          <a:off x="1778040" y="3699000"/>
          <a:ext cx="2895480" cy="22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78040" y="3699000"/>
                    <a:ext cx="289548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1"/>
          <p:cNvGraphicFramePr/>
          <p:nvPr/>
        </p:nvGraphicFramePr>
        <p:xfrm>
          <a:off x="4711680" y="3763800"/>
          <a:ext cx="4021200" cy="309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11680" y="3763800"/>
                    <a:ext cx="402120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13"/>
          <p:cNvSpPr/>
          <p:nvPr/>
        </p:nvSpPr>
        <p:spPr>
          <a:xfrm>
            <a:off x="1017720" y="5460840"/>
            <a:ext cx="4197240" cy="101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L/C viszony-sávszélesség!</a:t>
            </a:r>
            <a:endParaRPr b="0" lang="en-US" sz="1800" spc="-1" strike="noStrike">
              <a:solidFill>
                <a:srgbClr val="4c68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5T19:09:54Z</dcterms:created>
  <dc:creator>HONFY</dc:creator>
  <dc:description/>
  <cp:keywords/>
  <dc:language>en-US</dc:language>
  <cp:lastModifiedBy>Administrator</cp:lastModifiedBy>
  <dcterms:modified xsi:type="dcterms:W3CDTF">2013-11-28T14:04:28Z</dcterms:modified>
  <cp:revision>92</cp:revision>
  <dc:subject/>
  <dc:title>MOBIL TÁVKÖZLÉS ANTENNA RENDSZEREI</dc:title>
</cp:coreProperties>
</file>