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1314113" cy="8002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A96-E2FE-407B-B8EF-CB398853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9617040" cy="22896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4818600"/>
            <a:ext cx="9617040" cy="22896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C00-B10A-43DD-86A5-B0BD0BAC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7728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48186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77280" y="48186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76DE-C37A-43B8-A8F7-2B799664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0760" y="23112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52280" y="23112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48186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0760" y="48186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52280" y="48186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35B-5B05-4B9A-B3D2-093E7866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2311200"/>
            <a:ext cx="9617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53C-92BA-48C3-8F6A-9BC03039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9617040" cy="48006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6370-F3CE-4C83-8365-726E002E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4692960" cy="48006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77280" y="2311200"/>
            <a:ext cx="4692960" cy="48006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9A2E-4A7C-4FDB-BF84-050E0A77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9E22-1582-4ADF-8BD5-56238C34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9744-805B-4567-9149-88D905E2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77280" y="2311200"/>
            <a:ext cx="4692960" cy="48006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48186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E93D-7615-443E-A890-11633B49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4692960" cy="48006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7728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77280" y="48186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E08B-E3E6-4200-87E7-D32B4FFE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7728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4818600"/>
            <a:ext cx="9617040" cy="22896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DAD1-DC69-43B7-B3FC-868BCADC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2311200"/>
            <a:ext cx="9617040" cy="48006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marL="395280" indent="-395280"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328680">
              <a:spcBef>
                <a:spcPts val="924"/>
              </a:spcBef>
              <a:buClr>
                <a:srgbClr val="000000"/>
              </a:buClr>
              <a:buFont typeface="Times New Roman"/>
              <a:buChar char="–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7600" indent="-263520"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3" marL="1843200" indent="-262080">
              <a:spcBef>
                <a:spcPts val="924"/>
              </a:spcBef>
              <a:buClr>
                <a:srgbClr val="000000"/>
              </a:buClr>
              <a:buFont typeface="Times New Roman"/>
              <a:buChar char="–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4" marL="2370240" indent="-263520">
              <a:spcBef>
                <a:spcPts val="924"/>
              </a:spcBef>
              <a:buClr>
                <a:srgbClr val="000000"/>
              </a:buClr>
              <a:buFont typeface="Times New Roman"/>
              <a:buChar char="»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5" marL="2370240" indent="-263520">
              <a:spcBef>
                <a:spcPts val="924"/>
              </a:spcBef>
              <a:buClr>
                <a:srgbClr val="000000"/>
              </a:buClr>
              <a:buFont typeface="Times New Roman"/>
              <a:buChar char="»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6" marL="2370240" indent="-263520">
              <a:spcBef>
                <a:spcPts val="924"/>
              </a:spcBef>
              <a:buClr>
                <a:srgbClr val="000000"/>
              </a:buClr>
              <a:buFont typeface="Times New Roman"/>
              <a:buChar char="»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48880" y="7289640"/>
            <a:ext cx="2357640" cy="5335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indent="0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  <a:defRPr b="0" lang="hu-HU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320" y="7289640"/>
            <a:ext cx="3584520" cy="5335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  <a:defRPr b="0" lang="hu-HU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09000" y="7289640"/>
            <a:ext cx="2357280" cy="5335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indent="0" algn="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  <a:defRPr b="0" lang="hu-HU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fld id="{3EE30325-F75D-492B-931D-8A5F6A72968E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4800" y="6502320"/>
            <a:ext cx="2544840" cy="1022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05080" y="7358040"/>
            <a:ext cx="7391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7359480"/>
            <a:ext cx="188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7305840"/>
            <a:ext cx="19875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30640" y="7305840"/>
            <a:ext cx="73515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19480" y="6951600"/>
            <a:ext cx="74739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ÁBELTELEVÍZIÓ RENDSZEREKET GYÁRTÓ ÉS FORGALMAZÓ MAGYAR-AMERIKAI K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HUNGARIAN-AMERICAN LTD COMPANY FOR MANUFACTURE AND SALES OF  CATV EQU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49400" y="760320"/>
            <a:ext cx="899136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0" spc="-1" strike="noStrike">
                <a:solidFill>
                  <a:srgbClr val="000099"/>
                </a:solidFill>
                <a:latin typeface="Times New Roman"/>
              </a:rPr>
              <a:t>Sét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hu-HU" sz="8000" spc="-1" strike="noStrike">
                <a:solidFill>
                  <a:srgbClr val="000099"/>
                </a:solidFill>
                <a:latin typeface="Times New Roman"/>
              </a:rPr>
              <a:t>az adatsebessége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hu-HU" sz="8000" spc="-1" strike="noStrike">
                <a:solidFill>
                  <a:srgbClr val="000099"/>
                </a:solidFill>
                <a:latin typeface="Times New Roman"/>
              </a:rPr>
              <a:t>birodalmáb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43800" y="6172200"/>
            <a:ext cx="3124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Készítette: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Zigó Józs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Készült: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udapest,  2005. márci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4800" y="6502320"/>
            <a:ext cx="2544840" cy="1022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05080" y="7358040"/>
            <a:ext cx="7391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7359480"/>
            <a:ext cx="188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7305840"/>
            <a:ext cx="19875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30640" y="7305840"/>
            <a:ext cx="73515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9480" y="6951600"/>
            <a:ext cx="74739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ÁBELTELEVÍZIÓ RENDSZEREKET GYÁRTÓ ÉS FORGALMAZÓ MAGYAR-AMERIKAI K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HUNGARIAN-AMERICAN LTD COMPANY FOR MANUFACTURE AND SALES OF  CATV EQU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457200"/>
            <a:ext cx="975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Miért kell tisztában lenni az adatsebesség kérdéseive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400" y="1913040"/>
            <a:ext cx="993636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ert a jövőben ez lesz a legfontosabb mérőszám,  ez hozza a bevételt, ez kerül a számla első soráb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ert az saját programcsomag összeállítása, a transport stream remultiplexelése az adatsebesség adatok ismerete nélkül nem megoldhat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ert az adatsebesség adatok ismerete nélkül nem tudunk közlekedni a különböző átviteli közegek (műhold, üvegszál, kábel, ethernet stb.) közöt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4800" y="6502320"/>
            <a:ext cx="2544840" cy="1022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05080" y="7358040"/>
            <a:ext cx="7391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7359480"/>
            <a:ext cx="188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7305840"/>
            <a:ext cx="19875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30640" y="7305840"/>
            <a:ext cx="73515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19480" y="6951600"/>
            <a:ext cx="74739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ÁBELTELEVÍZIÓ RENDSZEREKET GYÁRTÓ ÉS FORGALMAZÓ MAGYAR-AMERIKAI K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HUNGARIAN-AMERICAN LTD COMPANY FOR MANUFACTURE AND SALES OF  CATV EQU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9040" y="457200"/>
            <a:ext cx="102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QPSK  moduláció – műholdas vét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05040" y="1120680"/>
            <a:ext cx="2144520" cy="2106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81400" y="1407960"/>
            <a:ext cx="7199280" cy="4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zimbólumonként két bitet viszünk 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zimbólum sebesség: 27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datsebesség: 27 500 × 2 = 55 Mbit/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Viterbi hibajavító (FEC = 3/4) leszámítása után maradó hasznos adatsebesség: 55 × ¾ = 41,25 Mbit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Reed-Solomon hibajavító leszámítása utáni hasznos adatsebesség: 41,25 × 188 / 204 = 38,014706 Mbit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77760" y="3424320"/>
            <a:ext cx="2414880" cy="13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977760" y="5440320"/>
            <a:ext cx="217836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4800" y="6502320"/>
            <a:ext cx="2544840" cy="1022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05080" y="7358040"/>
            <a:ext cx="7391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7359480"/>
            <a:ext cx="188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7305840"/>
            <a:ext cx="19875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30640" y="7305840"/>
            <a:ext cx="73515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9480" y="6951600"/>
            <a:ext cx="74739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ÁBELTELEVÍZIÓ RENDSZEREKET GYÁRTÓ ÉS FORGALMAZÓ MAGYAR-AMERIKAI K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HUNGARIAN-AMERICAN LTD COMPANY FOR MANUFACTURE AND SALES OF  CATV EQU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9040" y="457200"/>
            <a:ext cx="102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QAM  moduláció – kábeles átvit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81400" y="1407960"/>
            <a:ext cx="719928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zimbólumonként  6  bitet viszünk 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zimbólum sebesség: 6 875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datsebesség: 6 875 000 × 6 = 41,25 Mbit/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Viterbi hibajavító a kábeles átvitelnél nin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Reed-Solomon hibajavító leszámítása utáni hasznos adatsebesség: 41,25 × 188 / 204 = 38,014706 Mbit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77760" y="5440320"/>
            <a:ext cx="2178360" cy="917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977760" y="1263600"/>
            <a:ext cx="2084400" cy="1989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762120" y="3495600"/>
            <a:ext cx="241452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4800" y="6502320"/>
            <a:ext cx="2544840" cy="1022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205080" y="7358040"/>
            <a:ext cx="7391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7359480"/>
            <a:ext cx="188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7305840"/>
            <a:ext cx="19875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30640" y="7305840"/>
            <a:ext cx="73515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19480" y="6951600"/>
            <a:ext cx="74739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ÁBELTELEVÍZIÓ RENDSZEREKET GYÁRTÓ ÉS FORGALMAZÓ MAGYAR-AMERIKAI K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HUNGARIAN-AMERICAN LTD COMPANY FOR MANUFACTURE AND SALES OF  CATV EQU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9040" y="457200"/>
            <a:ext cx="99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OFDM  moduláció – földi vét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81400" y="1192320"/>
            <a:ext cx="7199280" cy="57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2k esetén 1512 db hasznos vivő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8k esetén 6048 db hasznos vivő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2k / 64 QAM esetén vivőnként 6 bit 224 us + Tv idei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8k / 64 QAM esetén vivőnként 6 bit 896 us + Tv idei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Viterbi hibajavító leszámítása a QPSK modulációnál megismertek szerint törté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Reed-Solomon hibajavító leszámítása utáni hasznos adatsebesség:       V × 188 / 204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számítások bonyolultsága miatt táblázat használa-tával gyorsabban jutunk a végeredményh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77760" y="3424320"/>
            <a:ext cx="2414880" cy="13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977760" y="5440320"/>
            <a:ext cx="2178360" cy="917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89040" y="1047600"/>
            <a:ext cx="41623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4800" y="6502320"/>
            <a:ext cx="2544840" cy="1022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05080" y="7358040"/>
            <a:ext cx="7391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7359480"/>
            <a:ext cx="188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7305840"/>
            <a:ext cx="19875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30640" y="7305840"/>
            <a:ext cx="73515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19480" y="6951600"/>
            <a:ext cx="74739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ÁBELTELEVÍZIÓ RENDSZEREKET GYÁRTÓ ÉS FORGALMAZÓ MAGYAR-AMERIKAI K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HUNGARIAN-AMERICAN LTD COMPANY FOR MANUFACTURE AND SALES OF  CATV EQU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57200"/>
            <a:ext cx="975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Az adatsebesség alakulása az OFDM modulációná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226120" y="1623960"/>
          <a:ext cx="5471640" cy="5048280"/>
        </p:xfrm>
        <a:graphic>
          <a:graphicData uri="http://schemas.openxmlformats.org/drawingml/2006/table">
            <a:tbl>
              <a:tblPr/>
              <a:tblGrid>
                <a:gridCol w="546840"/>
                <a:gridCol w="857160"/>
                <a:gridCol w="856800"/>
                <a:gridCol w="822960"/>
                <a:gridCol w="822240"/>
                <a:gridCol w="822600"/>
                <a:gridCol w="216000"/>
                <a:gridCol w="527040"/>
              </a:tblGrid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54080"/>
                          <a:tab algn="l" pos="2108160"/>
                          <a:tab algn="l" pos="3162240"/>
                          <a:tab algn="l" pos="4216320"/>
                          <a:tab algn="l" pos="5270400"/>
                          <a:tab algn="l" pos="6324480"/>
                          <a:tab algn="l" pos="7378560"/>
                          <a:tab algn="l" pos="8432640"/>
                          <a:tab algn="l" pos="9487080"/>
                          <a:tab algn="l" pos="105411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uláci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ódará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T</a:t>
                      </a:r>
                      <a:r>
                        <a:rPr b="0" lang="en-US" sz="11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T</a:t>
                      </a:r>
                      <a:r>
                        <a:rPr b="0" lang="en-US" sz="11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T</a:t>
                      </a:r>
                      <a:r>
                        <a:rPr b="0" lang="en-US" sz="11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/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T</a:t>
                      </a:r>
                      <a:r>
                        <a:rPr b="0" lang="en-US" sz="11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/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9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9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9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9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9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Q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9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Q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9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Q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9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Q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9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Q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9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-Q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9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-Q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9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-Q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9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-Q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9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-Q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9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54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8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hasznos adatsebesség alakulása a DVB-T rendszerben. a kódarány függvényéb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 Reed-Solomon hibajavítás 188/204 arányú  leszámítása után, Mbit/sec-ba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762120" y="1697040"/>
            <a:ext cx="41749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ontos megjegyez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z OFDM moduláció esetében az adatsebesség nagyon kötött, végső (pontos) értékét az adó modulátora határozza m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táblázat a 188 bájtos formá-tumu hasznos adatsebességet (Mbit/s)  mutatja a moduláció jellemzőinek függvényé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4800" y="6502320"/>
            <a:ext cx="2544840" cy="1022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205080" y="7358040"/>
            <a:ext cx="7391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7359480"/>
            <a:ext cx="188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7305840"/>
            <a:ext cx="19875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30640" y="7305840"/>
            <a:ext cx="73515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19480" y="6951600"/>
            <a:ext cx="74739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ÁBELTELEVÍZIÓ RENDSZEREKET GYÁRTÓ ÉS FORGALMAZÓ MAGYAR-AMERIKAI K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HUNGARIAN-AMERICAN LTD COMPANY FOR MANUFACTURE AND SALES OF  CATV EQU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57200"/>
            <a:ext cx="93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A kábeltelevízió üzemeltetők lehetőségei az adatsebességek kialakításáná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7400" y="1839960"/>
            <a:ext cx="100807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Műholdas vétel:  Csak elfogadni tudjuk a tényeket, általában beleszólási jogunk nincs. Aki kombinált műholdas-kábeles szolgáltatást indít, az jól gondolja át ezt a kérdést. Példaként a német D-box említhető a 64 QAM melletti  6,9 MS/s sebességg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földi DVB-T adások adatsebessége több szempontból is igen kötött, az adatsebességet egyéb rendszerépítési kérdések döntik el. A kábeltelevízi-ósok itt is csak elfogadni tudják a tényeket. A DVB-T adatsebessége mindig kisebb, mint az ugyanolyan sávszélességű DVB-C csatorná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kábeltelevízió szakemberének mindegyik témakörhöz értenie kell és minden problémát önállóan kell megolda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4800" y="6502320"/>
            <a:ext cx="2544840" cy="1022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05080" y="7358040"/>
            <a:ext cx="7391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7359480"/>
            <a:ext cx="188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7305840"/>
            <a:ext cx="19875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30640" y="7305840"/>
            <a:ext cx="73515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19480" y="6951600"/>
            <a:ext cx="74739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ÁBELTELEVÍZIÓ RENDSZEREKET GYÁRTÓ ÉS FORGALMAZÓ MAGYAR-AMERIKAI K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HUNGARIAN-AMERICAN LTD COMPANY FOR MANUFACTURE AND SALES OF  CATV EQU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433440"/>
            <a:ext cx="9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A  sávszélesség alakulása a  DVB-C rendszerb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193760" y="1407960"/>
            <a:ext cx="2933640" cy="1155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193760" y="2631960"/>
            <a:ext cx="2933640" cy="1155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193760" y="3929040"/>
            <a:ext cx="293364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193760" y="5224320"/>
            <a:ext cx="2933640" cy="1155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8480" y="1407960"/>
            <a:ext cx="59752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QAM modulált jel sávszélessé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B = S × ( 1 + 0,1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hol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B     – sávszélesség MHz-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     – szimbólum sebesség  MS/s-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0,15 – lekerekítési tényez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leggyakrabban használt jellemzőkk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B = 6,875 × 1,15 = 7,906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B = 6,900 × 1,15 = 7,935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4800" y="6502320"/>
            <a:ext cx="2544840" cy="1022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05080" y="7358040"/>
            <a:ext cx="7391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7359480"/>
            <a:ext cx="188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7305840"/>
            <a:ext cx="19875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30640" y="7305840"/>
            <a:ext cx="73515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19480" y="6951600"/>
            <a:ext cx="74739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ÁBELTELEVÍZIÓ RENDSZEREKET GYÁRTÓ ÉS FORGALMAZÓ MAGYAR-AMERIKAI K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HUNGARIAN-AMERICAN LTD COMPANY FOR MANUFACTURE AND SALES OF  CATV EQU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143000"/>
            <a:ext cx="98298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cc0000"/>
                </a:solidFill>
                <a:latin typeface="Times New Roman"/>
              </a:rPr>
              <a:t>Köszönjük  figyelmüket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z adatsebességet érintő témát számos cikkben érintettük, a legfontosabb kérdéseket elemező cikkek a CableWorld hírek 13, 16. és 17. számában találhatók. Az újság valamennyi száma pdf formátumban letölthető honlapunk szakirodalom rovatábó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33cc"/>
                </a:solidFill>
                <a:latin typeface="Times New Roman"/>
              </a:rPr>
              <a:t>Internet címünk: www.cableworld.h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20:10:12Z</dcterms:created>
  <dc:creator>Zigó József</dc:creator>
  <dc:description/>
  <dc:language>en-US</dc:language>
  <cp:lastModifiedBy>Zigó József</cp:lastModifiedBy>
  <dcterms:modified xsi:type="dcterms:W3CDTF">2005-03-01T20:16:31Z</dcterms:modified>
  <cp:revision>89</cp:revision>
  <dc:subject/>
  <dc:title>Nincs diacím</dc:title>
</cp:coreProperties>
</file>